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A8F-56FC-4C35-B6E4-4442DC26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82B-7BA1-46B0-A13C-7A80A0A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083-543F-43A8-A50C-92D7E3BE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844-B836-43EB-BF09-E0E595B5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0565-91EE-488F-9976-D931CF2C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BE8-AC3C-4D47-AA8E-434024A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2D0-D659-46C3-B903-79B248E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1CA0-7867-4BE8-9040-843EA45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B882-D093-4865-B56A-89F23DB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4515-1BAC-4F8D-AF76-EF2D23E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BD0-7876-4090-A535-2DF9431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B18-2B4D-457D-AA4B-FDA1C9CC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BE9B-C163-4E62-A153-78A6198B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2A00-4FAA-4B67-B45B-4A8F916D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730E-FF99-4F5D-A7E5-D130021E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A784-B3B8-475A-A2EC-48FC9ED5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B95-A6FC-415F-9835-9CA191DE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E41-75ED-4276-BEC3-277B186C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4BC-D9BC-4D99-A16C-A662D16A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3F1-5CCE-4FD3-B257-770928A8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848-F6BF-4ED3-9310-97DA4517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DF9-C929-471B-ABB1-1C4CF38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9A-C80F-4F2A-B3A6-98659E4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4A0-14D9-48D6-8E0A-242FA9A6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66A-D00E-4490-865C-5BE835E3BD4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99E3-CA13-4CF0-BDBB-75BD2AD37A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085-C261-4588-B362-A471F8061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:\枫叶工作室\图片\0000258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32520" y="576360"/>
            <a:ext cx="6782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鱼我所欲也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《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孟子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》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822400" y="112788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舍生取义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80640" y="1981080"/>
            <a:ext cx="851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鱼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熊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设喻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770360" y="1371600"/>
            <a:ext cx="275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正面：不为苟得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患有不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反面：何不用也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何不为也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031360" y="3962520"/>
            <a:ext cx="249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事例一：不接受施舍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事例二：不受“万钟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71640" y="1557360"/>
            <a:ext cx="770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．用类比论证法提出论点。文章一开头，就提出“鱼”和“熊掌”都是好吃的东西，但如果两样不能同时得到，那就舍鱼而取熊掌。接着，提出“生”和“义”两样都很贵重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．  用正反对比的论证方法，显出两类不同的人，有的能保持本心，有的则失去本心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264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045080" y="717480"/>
            <a:ext cx="52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文章是怎样围绕论点逐层论述的</a:t>
            </a:r>
            <a:r>
              <a:rPr b="1" lang="en-US" sz="4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304920" y="2209680"/>
            <a:ext cx="838080" cy="7621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08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276720" y="2209680"/>
            <a:ext cx="914400" cy="7621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053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欲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295280" y="2666880"/>
            <a:ext cx="182880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AutoShape 8"/>
          <p:cNvSpPr/>
          <p:nvPr/>
        </p:nvSpPr>
        <p:spPr>
          <a:xfrm rot="10875600">
            <a:off x="304560" y="2057040"/>
            <a:ext cx="3354120" cy="163440"/>
          </a:xfrm>
          <a:custGeom>
            <a:avLst/>
            <a:gdLst>
              <a:gd name="textAreaLeft" fmla="*/ 586800 w 3354120"/>
              <a:gd name="textAreaRight" fmla="*/ 2431800 w 3354120"/>
              <a:gd name="textAreaTop" fmla="*/ 21600 h 163440"/>
              <a:gd name="textAreaBottom" fmla="*/ 14184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7524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038480" y="2057400"/>
            <a:ext cx="5335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57200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不为苟得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80880" y="4114800"/>
            <a:ext cx="762120" cy="68580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3352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219320" y="4495680"/>
            <a:ext cx="17524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3124080" y="4114800"/>
            <a:ext cx="914400" cy="7621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3526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恶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AutoShape 17"/>
          <p:cNvSpPr/>
          <p:nvPr/>
        </p:nvSpPr>
        <p:spPr>
          <a:xfrm rot="10869000">
            <a:off x="533160" y="3807000"/>
            <a:ext cx="2895480" cy="304560"/>
          </a:xfrm>
          <a:custGeom>
            <a:avLst/>
            <a:gdLst>
              <a:gd name="textAreaLeft" fmla="*/ 506520 w 2895480"/>
              <a:gd name="textAreaRight" fmla="*/ 2099160 w 28954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6765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886200" y="3809880"/>
            <a:ext cx="68580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45720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患有所不避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AutoShape 21"/>
          <p:cNvSpPr/>
          <p:nvPr/>
        </p:nvSpPr>
        <p:spPr>
          <a:xfrm rot="10737000">
            <a:off x="380520" y="3045960"/>
            <a:ext cx="3122640" cy="155520"/>
          </a:xfrm>
          <a:custGeom>
            <a:avLst/>
            <a:gdLst>
              <a:gd name="textAreaLeft" fmla="*/ 546480 w 3122640"/>
              <a:gd name="textAreaRight" fmla="*/ 2264040 w 3122640"/>
              <a:gd name="textAreaTop" fmla="*/ 20880 h 155520"/>
              <a:gd name="textAreaBottom" fmla="*/ 1346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600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莫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4343400" y="2895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凡可以得生者用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AutoShape 25"/>
          <p:cNvSpPr/>
          <p:nvPr/>
        </p:nvSpPr>
        <p:spPr>
          <a:xfrm rot="10873200">
            <a:off x="761400" y="4876560"/>
            <a:ext cx="2514600" cy="30456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17524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莫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Line 27"/>
          <p:cNvSpPr/>
          <p:nvPr/>
        </p:nvSpPr>
        <p:spPr>
          <a:xfrm>
            <a:off x="3809880" y="4952880"/>
            <a:ext cx="7621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4572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凡可以避患者为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正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685800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反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685800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正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68580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反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533520" y="5715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嗟来之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1828800" y="5943600"/>
            <a:ext cx="54100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7104960" y="571500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举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7470720" y="2438280"/>
            <a:ext cx="546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道              理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AutoShape 37"/>
          <p:cNvSpPr/>
          <p:nvPr/>
        </p:nvSpPr>
        <p:spPr>
          <a:xfrm>
            <a:off x="8001000" y="3048120"/>
            <a:ext cx="76320" cy="2971800"/>
          </a:xfrm>
          <a:custGeom>
            <a:avLst/>
            <a:gdLst>
              <a:gd name="textAreaLeft" fmla="*/ 0 w 76320"/>
              <a:gd name="textAreaRight" fmla="*/ 53640 w 7632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AutoShape 38"/>
          <p:cNvSpPr/>
          <p:nvPr/>
        </p:nvSpPr>
        <p:spPr>
          <a:xfrm>
            <a:off x="8153280" y="411480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8597880" y="327672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舍  生  取  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68436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基础知识填空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作者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选自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宋朝朱熹把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孟子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合为“四书”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读准下列各句中加线字的音并解释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①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不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苟得也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                                 )     ⑤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一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箪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食  （                  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②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今为妻妾之奉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之（                    ） ⑥一豆羹    （                  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③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宫室之美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                                 )    ⑦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蹴尔而与之   （        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④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所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恶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                                  )    ⑧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所识穷乏者得我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欤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？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读准下列各句子的节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所欲有甚于生者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如使人之所欲莫甚于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使人之所恶莫甚于死者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向为身死而不受，今为宫室之美为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4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:\枫叶工作室\图片\古代作家\孟子像.bmp"/>
          <p:cNvPicPr/>
          <p:nvPr/>
        </p:nvPicPr>
        <p:blipFill>
          <a:blip r:embed="rId2"/>
          <a:stretch/>
        </p:blipFill>
        <p:spPr>
          <a:xfrm>
            <a:off x="609480" y="685800"/>
            <a:ext cx="2616480" cy="4648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426920" y="685800"/>
            <a:ext cx="335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孟子：名轲，字子舆。战国时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思想家、教育家，儒家的重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代表，被人们称为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亚圣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是记录孟子及其弟子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的言行的著作，也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儒家经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著作之一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3520" y="304920"/>
            <a:ext cx="8229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鱼，我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所欲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也，熊掌，亦我所欲也，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者不可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得兼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舍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鱼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取熊掌者也。生，亦我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所欲也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义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，亦我所欲也，二者不可得兼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舍生而取义者也。生亦我所欲，所欲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甚于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生者，故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为苟得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也。死亦我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所恶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，所恶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甚于死者，故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患有所不避也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771640" y="762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所想要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05960" y="17794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同时得到  舍弃  表并列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089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正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18280" y="3760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重要  比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19400" y="46674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做苟且偷生的事       所厌恶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802240" y="5707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祸患也有（我）不躲避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如使人之所欲莫甚于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凡可以得生者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何不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。使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之所恶莫甚于死者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则凡可以避患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何不为也！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由是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则生而有不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；由是则可以避患而有不为也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是故所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有甚于生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所恶有甚于死者。</a:t>
            </a:r>
            <a:r>
              <a:rPr b="1" lang="zh-CN" sz="2800" spc="-1" strike="noStrike">
                <a:solidFill>
                  <a:srgbClr val="00264c"/>
                </a:solidFill>
                <a:latin typeface="宋体"/>
              </a:rPr>
              <a:t>非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贤者有是心也，人皆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之，贤者能勿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耳。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95280" y="692280"/>
            <a:ext cx="77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假使没有比生命更重要的      什么不可使用呢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1916280"/>
            <a:ext cx="70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那么凡是可用来逼祸的手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11640" y="31417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因此（有的人）明知某种手段能够生存却不使用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11640" y="44370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是因为（他们）所要的东西有比生命更重要的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00000" y="5516640"/>
            <a:ext cx="867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仅仅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丢失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28600" y="533520"/>
            <a:ext cx="8458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一箪食，一豆羹</a:t>
            </a:r>
            <a:r>
              <a:rPr b="1" lang="en-US" sz="3600" spc="-1" strike="noStrike">
                <a:solidFill>
                  <a:srgbClr val="ff0066"/>
                </a:solidFill>
                <a:latin typeface="Arial Unicode MS"/>
              </a:rPr>
              <a:t>gēng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，得之则生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弗得则死。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呼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尔而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之，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行道之人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弗受；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蹴</a:t>
            </a:r>
            <a:r>
              <a:rPr b="1" lang="en-US" sz="3600" spc="-1" strike="noStrike">
                <a:solidFill>
                  <a:srgbClr val="ff0066"/>
                </a:solidFill>
                <a:latin typeface="Arial Unicode MS"/>
              </a:rPr>
              <a:t>c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尔而与之，乞人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不屑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也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878560" y="1295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小筐饭，一小碗汤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24000" y="292428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吆喝    给    饥饿的过路人不接受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02240" y="5078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踢过去          不屑（接受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万钟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则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不辨礼义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而受之，万钟于我何加焉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为宫室之美，妻妾之奉，所识穷乏者得我欤？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向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为身死而不受，今为宫室之美为之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；向为身死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不受，今为妻妾之奉为之；向为身死而不受，今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为所识穷乏者得我而为之：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亦不可以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乎？此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之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谓失其本心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08960" y="4762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很多的俸禄  不分辨是否合乎礼仪   对于好处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16286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宁可      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失去生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也不接受，现在为了宫室的华丽而做了这样的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932360" y="450864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         停止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5373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叫做失掉了他们的本性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35480" y="1295280"/>
            <a:ext cx="478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如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人之所欲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莫甚于生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呼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而与之，行道之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弗受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万钟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则不辨礼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而受之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为所识穷乏者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得我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而为之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321000" y="9144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、孟子在文中论述了什么观点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156760" y="1828800"/>
            <a:ext cx="48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舍生取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当“生”与“义”不可兼得时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136680" y="2743200"/>
            <a:ext cx="23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、孟子怎样提出自己的观点的？又是怎样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论述观点的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21120" y="41148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先用鱼和熊掌设喻引出观点，再正反对比论述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最后用事例进一步论述观点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比喻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“舍鱼而取熊掌” 恰当地说明了在人们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所喜爱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的两件事物不能同时兼得的情况下，就必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须择优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而取。“一箪食，一豆羹” 说明饮食对饥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者虽然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重要，但不合乎礼义也宁死不食，从而证   明了“义”重于“生”，突出了主题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对比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生和义比，义比生更可贵；死与不义比，不义比死更可恶。又用假设方式与事实作对比，赞扬了舍生取义的人。最后用“不食嗟来之食”与“不辩礼义而受万钟”作对比，赞扬了舍生取义的精神，批判了那些只贪图荣华富贵而不顾礼义廉耻的权贵们。这就起到了突出中心思想的作用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排比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通篇皆是。既有助于逐层深入分析，又能增强文章的气势和论辩力量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264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8:46Z</dcterms:created>
  <dc:creator/>
  <dc:description/>
  <dc:language>en-US</dc:language>
  <cp:lastModifiedBy>a</cp:lastModifiedBy>
  <dcterms:modified xsi:type="dcterms:W3CDTF">2015-05-20T04:19:39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