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915-73BA-49E3-BD73-3FCD04F7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EF5-0BAB-4EA2-AED8-5019D37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DD8-836C-4CE9-8CE4-E9011EA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020-B294-4B36-A7B1-2443043D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2C8-4D95-470E-B0AB-759AADA8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2F64-3EFD-4FFC-AF1B-A5DB4CD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19DF-5E8F-4268-817E-05F2B3EC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8FE-0436-4DE4-8976-1409657E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EE8B-5329-4AE5-90D3-9FDF56A5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879B-3DC9-4980-AEC1-8E661EA9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ABC-5F57-4C0D-8D62-3318E6A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262-637C-4A31-948D-10EB98CB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2A49-5E8E-4174-9FE4-2EFCC750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CF83-A8C4-4F10-9403-031A90F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0793-974C-45FE-9102-EE6DC9AD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A144-3FCD-43F1-A9F6-43A038D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906D-490E-4540-8DF4-5FBE3E9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586-41D9-4985-A7C9-EE02746C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1F9-2401-44E9-BE49-5CC48D9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501-798B-471F-BD09-1E184302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3F0-1955-4745-8958-45379F8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B8B-9E3B-4652-8091-E515B6B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EC5-140E-4958-825A-2A22382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467-5041-4C7C-9A64-D7FD0DF5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B53-BCEA-4250-8AF8-9140D8044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A5A-3D4E-4B98-9C4C-E4D7264753B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1448-7277-4DF5-9D49-2800CC52693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25,&#24187;&#28783;&#29255; 25" TargetMode="External"/><Relationship Id="rId3" Type="http://schemas.openxmlformats.org/officeDocument/2006/relationships/hyperlink" Target="256,12,&#24187;&#28783;&#29255; 12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12,&#24187;&#28783;&#29255; 12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7,&#24187;&#28783;&#29255; 37" TargetMode="External"/><Relationship Id="rId3" Type="http://schemas.openxmlformats.org/officeDocument/2006/relationships/hyperlink" Target="256,12,&#24187;&#28783;&#29255; 12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6,20,&#24187;&#28783;&#29255; 20" TargetMode="External"/><Relationship Id="rId2" Type="http://schemas.openxmlformats.org/officeDocument/2006/relationships/hyperlink" Target="256,19,&#24187;&#28783;&#29255; 19" TargetMode="External"/><Relationship Id="rId3" Type="http://schemas.openxmlformats.org/officeDocument/2006/relationships/hyperlink" Target="256,-1,NEXT" TargetMode="External"/><Relationship Id="rId4" Type="http://schemas.openxmlformats.org/officeDocument/2006/relationships/hyperlink" Target="256,-1,NEXT" TargetMode="External"/><Relationship Id="rId5" Type="http://schemas.openxmlformats.org/officeDocument/2006/relationships/hyperlink" Target="260,9,&#26366;&#22269;&#34281;" TargetMode="External"/><Relationship Id="rId6" Type="http://schemas.openxmlformats.org/officeDocument/2006/relationships/hyperlink" Target="261,10,&#26446;&#40511;&#31456;" TargetMode="External"/><Relationship Id="rId7" Type="http://schemas.openxmlformats.org/officeDocument/2006/relationships/hyperlink" Target="262,11,&#24352;&#20043;&#27934;" TargetMode="External"/><Relationship Id="rId8" Type="http://schemas.openxmlformats.org/officeDocument/2006/relationships/hyperlink" Target="256,11,&#24187;&#28783;&#29255; 11" TargetMode="External"/><Relationship Id="rId9" Type="http://schemas.openxmlformats.org/officeDocument/2006/relationships/hyperlink" Target="256,20,&#24187;&#28783;&#29255; 20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263,4,&#24187;&#28783;&#29255; 4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66680" y="1981080"/>
            <a:ext cx="6782040" cy="3230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华文新魏"/>
              </a:rPr>
              <a:t>    </a:t>
            </a:r>
            <a:r>
              <a:rPr b="1" lang="zh-CN" sz="7200" spc="-1" strike="noStrike">
                <a:solidFill>
                  <a:srgbClr val="cc0066"/>
                </a:solidFill>
                <a:latin typeface="华文新魏"/>
              </a:rPr>
              <a:t>第六课   </a:t>
            </a:r>
            <a:endParaRPr b="1" lang="en-US" sz="7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新魏"/>
              </a:rPr>
              <a:t>洋 务 运 动</a:t>
            </a:r>
            <a:endParaRPr b="1" lang="en-US" sz="8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2"/>
          <a:stretch/>
        </p:blipFill>
        <p:spPr>
          <a:xfrm>
            <a:off x="3048120" y="838080"/>
            <a:ext cx="4782960" cy="5176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216800" y="1828800"/>
            <a:ext cx="872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/>
              </a:rPr>
              <a:t>曾  国  藩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曾国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Object 2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4332240" cy="6386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216800" y="2133720"/>
            <a:ext cx="872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李  鸿  章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李鸿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2"/>
          <a:stretch/>
        </p:blipFill>
        <p:spPr>
          <a:xfrm>
            <a:off x="3054240" y="380880"/>
            <a:ext cx="4260960" cy="6019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835920" y="2057400"/>
            <a:ext cx="872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张  之  洞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张之洞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5715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洋务派创办的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近代军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工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11280" y="2060640"/>
          <a:ext cx="8001000" cy="3835440"/>
        </p:xfrm>
        <a:graphic>
          <a:graphicData uri="http://schemas.openxmlformats.org/drawingml/2006/table">
            <a:tbl>
              <a:tblPr/>
              <a:tblGrid>
                <a:gridCol w="2362320"/>
                <a:gridCol w="1533240"/>
                <a:gridCol w="1224000"/>
                <a:gridCol w="1441440"/>
                <a:gridCol w="1440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企业名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时间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地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人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备注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安庆内军械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１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安庆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曾国藩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最早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江南制造总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５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曾国藩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李鸿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最大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船政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６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马尾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左宗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最齐备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机器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７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崇厚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满族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>
            <a:off x="1219320" y="0"/>
            <a:ext cx="17859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资料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Oval 42"/>
          <p:cNvSpPr/>
          <p:nvPr/>
        </p:nvSpPr>
        <p:spPr>
          <a:xfrm>
            <a:off x="8229600" y="6324480"/>
            <a:ext cx="914400" cy="533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bac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825480"/>
            <a:ext cx="5715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洋务派创办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近代民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工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916280"/>
          <a:ext cx="8072280" cy="3852720"/>
        </p:xfrm>
        <a:graphic>
          <a:graphicData uri="http://schemas.openxmlformats.org/drawingml/2006/table">
            <a:tbl>
              <a:tblPr/>
              <a:tblGrid>
                <a:gridCol w="2895480"/>
                <a:gridCol w="1852560"/>
                <a:gridCol w="1306800"/>
                <a:gridCol w="20174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企业名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时间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创办人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备　注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轮船招商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７２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李鸿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中国近代第一家轮船公司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开平矿务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７８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李鸿章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织布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９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郑观应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汉阳铁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９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张之洞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中国近代第一个近代化钢铁工业</a:t>
                      </a:r>
                      <a:endParaRPr b="1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35"/>
          <p:cNvSpPr/>
          <p:nvPr/>
        </p:nvSpPr>
        <p:spPr>
          <a:xfrm>
            <a:off x="1143000" y="152280"/>
            <a:ext cx="18730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资料２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8229600" y="6324480"/>
            <a:ext cx="914400" cy="533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bac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03"/>
          <p:cNvPicPr/>
          <p:nvPr/>
        </p:nvPicPr>
        <p:blipFill>
          <a:blip r:embed="rId2"/>
          <a:stretch/>
        </p:blipFill>
        <p:spPr>
          <a:xfrm>
            <a:off x="7621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3416400" y="58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南洋海军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362200" y="4772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福建海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905000" y="1038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北洋海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828800" y="4343400"/>
            <a:ext cx="48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中国第一艘铁甲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平远号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8558280" y="6095880"/>
            <a:ext cx="585720" cy="762120"/>
          </a:xfrm>
          <a:custGeom>
            <a:avLst/>
            <a:gdLst>
              <a:gd name="textAreaLeft" fmla="*/ 36360 w 585720"/>
              <a:gd name="textAreaRight" fmla="*/ 549360 w 585720"/>
              <a:gd name="textAreaTop" fmla="*/ 36360 h 762120"/>
              <a:gd name="textAreaBottom" fmla="*/ 725760 h 762120"/>
            </a:gdLst>
            <a:ahLst/>
            <a:rect l="textAreaLeft" t="textAreaTop" r="textAreaRight" b="textAreaBottom"/>
            <a:pathLst>
              <a:path w="21600" h="28101">
                <a:moveTo>
                  <a:pt x="0" y="0"/>
                </a:moveTo>
                <a:lnTo>
                  <a:pt x="21600" y="0"/>
                </a:lnTo>
                <a:lnTo>
                  <a:pt x="21600" y="28101"/>
                </a:lnTo>
                <a:lnTo>
                  <a:pt x="0" y="28101"/>
                </a:lnTo>
                <a:close/>
              </a:path>
              <a:path fill="lightenLess" w="21600" h="2810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101">
                <a:moveTo>
                  <a:pt x="21600" y="0"/>
                </a:moveTo>
                <a:lnTo>
                  <a:pt x="21600" y="28101"/>
                </a:lnTo>
                <a:lnTo>
                  <a:pt x="20250" y="26751"/>
                </a:lnTo>
                <a:lnTo>
                  <a:pt x="20250" y="1350"/>
                </a:lnTo>
                <a:close/>
              </a:path>
              <a:path fill="darkenLess" w="21600" h="28101">
                <a:moveTo>
                  <a:pt x="21600" y="28101"/>
                </a:moveTo>
                <a:lnTo>
                  <a:pt x="0" y="28101"/>
                </a:lnTo>
                <a:lnTo>
                  <a:pt x="1350" y="26751"/>
                </a:lnTo>
                <a:lnTo>
                  <a:pt x="20250" y="26751"/>
                </a:lnTo>
                <a:close/>
              </a:path>
              <a:path fill="lighten" w="21600" h="28101">
                <a:moveTo>
                  <a:pt x="0" y="28101"/>
                </a:moveTo>
                <a:lnTo>
                  <a:pt x="0" y="0"/>
                </a:lnTo>
                <a:lnTo>
                  <a:pt x="1350" y="1350"/>
                </a:lnTo>
                <a:lnTo>
                  <a:pt x="1350" y="26751"/>
                </a:lnTo>
                <a:close/>
              </a:path>
              <a:path fill="darken" w="21600" h="28101">
                <a:moveTo>
                  <a:pt x="3756" y="14051"/>
                </a:moveTo>
                <a:lnTo>
                  <a:pt x="17844" y="7007"/>
                </a:lnTo>
                <a:lnTo>
                  <a:pt x="17844" y="210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海军分布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９世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６０－９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年代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洋务派创办的著名新学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66680" y="1752480"/>
          <a:ext cx="7620120" cy="4149720"/>
        </p:xfrm>
        <a:graphic>
          <a:graphicData uri="http://schemas.openxmlformats.org/drawingml/2006/table">
            <a:tbl>
              <a:tblPr/>
              <a:tblGrid>
                <a:gridCol w="1943280"/>
                <a:gridCol w="3809880"/>
                <a:gridCol w="186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创办时间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学堂名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类别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２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京师同文馆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外语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３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上海广方言馆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外语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６６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船政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军事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８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水师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军事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８５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武备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华文新魏"/>
                        </a:rPr>
                        <a:t>军事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７６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福州电气学塾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科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１８８０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天津电报学堂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科技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>
            <a:off x="1143000" y="228600"/>
            <a:ext cx="19051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小资料３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5482800" y="2286000"/>
            <a:ext cx="394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馆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Oval 43"/>
          <p:cNvSpPr/>
          <p:nvPr/>
        </p:nvSpPr>
        <p:spPr>
          <a:xfrm>
            <a:off x="8229600" y="6324480"/>
            <a:ext cx="914400" cy="533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bac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79280" y="692280"/>
            <a:ext cx="8425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的背景、时间起止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派的主张、代表人物（中央、地方）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的前期口号、创办了哪些军事工业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的后期口号、创办了哪些民用工业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筹建了哪几支海军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兴办新式学堂的目的、代表学堂、宗旨、作用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洋务运动破产标志、性质、洋务派目的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评价洋务运动（进步性、局限性）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68360" y="9550440"/>
            <a:ext cx="1800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李鸿章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732720" y="9478800"/>
            <a:ext cx="15112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宗棠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书提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53352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形成背景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9718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忧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96252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平天国运动使清朝统治危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048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患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62520" y="2286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国资本主义侵略使民族危机加深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2362320" y="15238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2362320" y="21337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533520" y="35211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洋务派主张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38480" y="3063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西方先进科学技术，强兵富国，摆脱困境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 flipV="1">
            <a:off x="2286000" y="3715920"/>
            <a:ext cx="1206360" cy="33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37160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的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4114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护清朝统治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2590920" y="54100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43828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前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438280" y="4967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后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733920" y="4876920"/>
            <a:ext cx="5410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筹划海防，建立三支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/>
              </a:rPr>
              <a:t>海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733920" y="572940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创办新式学堂，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派遣留学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3520" y="4191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内容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352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代表人物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352680" y="1157400"/>
            <a:ext cx="3124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中央：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奕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352680" y="1843200"/>
            <a:ext cx="4748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地方：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曾国藩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李鸿章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895480" y="114300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95680" y="2376360"/>
            <a:ext cx="3581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张之洞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左宗棠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981080" y="365760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657600" y="3352680"/>
            <a:ext cx="5867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旗号创办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8"/>
              </a:rPr>
              <a:t>军事工业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3733920" y="4191120"/>
            <a:ext cx="5715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求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旗号创办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9"/>
              </a:rPr>
              <a:t>民用工业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352680" y="441972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533520" y="838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、破产（失败）标志性质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68360" y="1413000"/>
            <a:ext cx="458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甲午中日战争的战败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或北洋舰队覆没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26370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性质    封建统治者的自救运动      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85800" y="4419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b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2286000"/>
            <a:ext cx="6858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2895480" y="3962520"/>
            <a:ext cx="1295640" cy="0"/>
          </a:xfrm>
          <a:prstGeom prst="line">
            <a:avLst/>
          </a:prstGeom>
          <a:ln w="7632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743200" y="3048120"/>
            <a:ext cx="1447920" cy="0"/>
          </a:xfrm>
          <a:prstGeom prst="line">
            <a:avLst/>
          </a:prstGeom>
          <a:ln w="7632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914400"/>
            <a:ext cx="152388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创办近代军事工业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兴办近代民用工业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筹划海防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创办新式学校；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选送留学生出国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267080" y="99072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引进西方国家先进科技，使中国出现第一批近代企业，客观上促进民族资本主义的发展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191120" y="2895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在一定程度上提高了清军的战斗力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038480" y="3962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343400" y="3809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为近代中国培养了一批科技人才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2743200" y="1143000"/>
            <a:ext cx="1447920" cy="1219320"/>
            <a:chOff x="2743200" y="1143000"/>
            <a:chExt cx="1447920" cy="1219320"/>
          </a:xfrm>
        </p:grpSpPr>
        <p:sp>
          <p:nvSpPr>
            <p:cNvPr id="128" name="Line 11"/>
            <p:cNvSpPr/>
            <p:nvPr/>
          </p:nvSpPr>
          <p:spPr>
            <a:xfrm>
              <a:off x="3276720" y="1143000"/>
              <a:ext cx="0" cy="121932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2743200" y="1143000"/>
              <a:ext cx="53352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2743200" y="2362320"/>
              <a:ext cx="53352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3352680" y="1676520"/>
              <a:ext cx="30492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3809880" y="1143000"/>
              <a:ext cx="0" cy="121932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3809880" y="2362320"/>
              <a:ext cx="3812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3809880" y="1143000"/>
              <a:ext cx="3812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>
              <a:off x="3809880" y="1676520"/>
              <a:ext cx="3812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4191120" y="304920"/>
            <a:ext cx="2666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历史进步性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143000" y="228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286000" y="533520"/>
            <a:ext cx="1752480" cy="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295280" y="4648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局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191120" y="4724280"/>
            <a:ext cx="26668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历史局限性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重   军事 ；   轻   政治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1066680" y="5638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失 败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114800" y="59896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2438280" y="5029200"/>
            <a:ext cx="1676520" cy="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2286000" y="6019920"/>
            <a:ext cx="1371600" cy="0"/>
          </a:xfrm>
          <a:prstGeom prst="line">
            <a:avLst/>
          </a:prstGeom>
          <a:ln w="10152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-544320" y="228600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评 价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46" name="Group 29"/>
          <p:cNvGrpSpPr/>
          <p:nvPr/>
        </p:nvGrpSpPr>
        <p:grpSpPr>
          <a:xfrm>
            <a:off x="838080" y="533520"/>
            <a:ext cx="304920" cy="4572000"/>
            <a:chOff x="838080" y="533520"/>
            <a:chExt cx="304920" cy="4572000"/>
          </a:xfrm>
        </p:grpSpPr>
        <p:sp>
          <p:nvSpPr>
            <p:cNvPr id="147" name="Line 30"/>
            <p:cNvSpPr/>
            <p:nvPr/>
          </p:nvSpPr>
          <p:spPr>
            <a:xfrm>
              <a:off x="838080" y="533520"/>
              <a:ext cx="0" cy="457200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>
              <a:off x="838080" y="5335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>
              <a:off x="838080" y="51055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>
              <a:off x="838080" y="137160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838080" y="23623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2" name="Line 35"/>
            <p:cNvSpPr/>
            <p:nvPr/>
          </p:nvSpPr>
          <p:spPr>
            <a:xfrm>
              <a:off x="838080" y="30481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>
              <a:off x="838080" y="3962520"/>
              <a:ext cx="304920" cy="0"/>
            </a:xfrm>
            <a:prstGeom prst="line">
              <a:avLst/>
            </a:prstGeom>
            <a:ln w="1015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4" name="Text Box 38"/>
          <p:cNvSpPr/>
          <p:nvPr/>
        </p:nvSpPr>
        <p:spPr>
          <a:xfrm>
            <a:off x="4503600" y="5846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体西用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革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不除旧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评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endshow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8440 w 762120"/>
              <a:gd name="textAreaRight" fmla="*/ 733680 w 7621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644" y="1350"/>
                </a:lnTo>
                <a:lnTo>
                  <a:pt x="1350" y="135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644" y="20250"/>
                </a:lnTo>
                <a:lnTo>
                  <a:pt x="34644" y="135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4" y="2025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退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16000" y="2133720"/>
            <a:ext cx="66294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有人说，洋务运动是一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失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封建统治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运动。这种说法对不对？为什么？（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联系结果、口号、领导发动者、背景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260280"/>
            <a:ext cx="9143640" cy="4891680"/>
            <a:chOff x="0" y="260280"/>
            <a:chExt cx="9143640" cy="4891680"/>
          </a:xfrm>
        </p:grpSpPr>
        <p:sp>
          <p:nvSpPr>
            <p:cNvPr id="160" name="Text Box 3"/>
            <p:cNvSpPr/>
            <p:nvPr/>
          </p:nvSpPr>
          <p:spPr>
            <a:xfrm>
              <a:off x="0" y="260280"/>
              <a:ext cx="9143640" cy="155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、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中国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文武制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事事远出西人之上，独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火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万不能及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国欲自强，则莫如学习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外国利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欲学习外国利器，则莫如觅制器之器，师其法，而不必尽用其人。”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李鸿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江苏巡抚李鸿章致总理衙门原函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》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0" y="3341520"/>
              <a:ext cx="9143640" cy="1810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材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料中：洋务派李鸿章认为中国的“什么”方面超过外国？“什么”方面不及外国？李鸿章认为只学习外国的“什么”就可以了？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李鸿章的观点正确与否？为什么？如果你处在当时，你认为应学习哪些方面？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62" name="AutoShape 5"/>
          <p:cNvSpPr/>
          <p:nvPr/>
        </p:nvSpPr>
        <p:spPr>
          <a:xfrm rot="17664600">
            <a:off x="8506080" y="6369840"/>
            <a:ext cx="711360" cy="372960"/>
          </a:xfrm>
          <a:custGeom>
            <a:avLst/>
            <a:gdLst>
              <a:gd name="textAreaLeft" fmla="*/ 124200 w 711360"/>
              <a:gd name="textAreaRight" fmla="*/ 515880 w 711360"/>
              <a:gd name="textAreaTop" fmla="*/ 49680 h 372960"/>
              <a:gd name="textAreaBottom" fmla="*/ 323280 h 37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Object 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5410080" cy="4991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990720" y="5029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24280" y="1700280"/>
            <a:ext cx="10108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/>
              </a:rPr>
              <a:t>奕   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奕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2:30:4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03Z</dcterms:modified>
  <cp:revision>1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