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D544-3576-44FD-9400-C2A6CCE7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135-2AB4-4A54-B41D-5282E83A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A842-4A7C-47E7-A72D-4B9773EC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BF0-7B97-4131-B5E2-3ED86AB8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E2F0-0083-476B-AC1F-A649E46C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1A8F-9F70-4BF4-9EB7-B7CF02F2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A813-A693-440C-B890-B71BA151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A5E3-3EB7-460B-9156-01A14EEF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52C7-8A52-4CE2-8CFE-8C963C72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7D83-AC6B-47BD-B84E-11783AB8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387A-EDE7-4970-84C8-A07D0F4A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A73E-F5CE-4D33-8B11-0A729701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C727-4448-4A6B-BAD0-D6852946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43B6-56BF-4466-BDD2-EF1ED88B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0CA6-349E-4F69-8174-8A16970A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5CC6-4543-4675-BE37-4051582E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4111-516B-48B7-9532-D6959316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D7711-45E6-4670-8CA3-12136926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987B0-4D3F-4CB6-81A3-762811A7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12BE3-99FC-4B4C-82E9-BD475F89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1242-7C9B-4562-ACF1-C93F222D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DC1B7-7489-4F63-96D0-4DF7BCF2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F0A1-5EB2-4443-9C7C-969DFFE0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8BFA8-9BDB-4F6D-907F-0DC5AB51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036A1-D7FD-4A47-943C-4C9E3DC9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991E3-EF96-46FF-86C6-2E677196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3209C-C435-4E18-B10F-757084F4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815FD-67DE-4345-9F6D-D5676094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144A7-EC75-421A-9251-185D03D9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5E240-1373-42F6-BE9B-26EC6276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0FE-E187-46D9-8ED4-A7BA5C48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983-7E27-4C50-9664-3D72CA97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6A3-6808-4B86-92C5-00054172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ACE-E941-4825-948E-B190DA4C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4E5-5D39-4B81-A67E-32458A50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40C8-1FF8-41E7-802F-150ADEA1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6E4A-B3C5-4036-85BE-72F98E089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2DE1-F341-4974-8108-35584B398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41B4-A2EE-43F2-A027-65D10E866FA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FA8D-FEE0-48ED-8923-581CDC828D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http://bbs.ruideppt.com/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I:\免费\鲁果原创\素材天下网 sucaitianxia.com-yuanxiaojie4副本.png"/>
          <p:cNvPicPr/>
          <p:nvPr/>
        </p:nvPicPr>
        <p:blipFill>
          <a:blip r:embed="rId2"/>
          <a:stretch/>
        </p:blipFill>
        <p:spPr>
          <a:xfrm>
            <a:off x="2286000" y="1154160"/>
            <a:ext cx="45925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extBox 3" descr=""/>
          <p:cNvPicPr/>
          <p:nvPr/>
        </p:nvPicPr>
        <p:blipFill>
          <a:blip r:embed="rId2"/>
          <a:stretch/>
        </p:blipFill>
        <p:spPr>
          <a:xfrm>
            <a:off x="1755720" y="1828800"/>
            <a:ext cx="5943600" cy="175572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12920" y="4114800"/>
            <a:ext cx="43531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6:12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4:16:12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