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gif" ContentType="image/gif"/>
  <Override PartName="/ppt/media/image3.jpeg" ContentType="image/jpeg"/>
  <Override PartName="/ppt/media/image19.png" ContentType="image/png"/>
  <Override PartName="/ppt/media/image16.gif" ContentType="image/gif"/>
  <Override PartName="/ppt/media/image14.jpeg" ContentType="image/jpeg"/>
  <Override PartName="/ppt/media/image2.jpeg" ContentType="image/jpeg"/>
  <Override PartName="/ppt/media/image5.jpeg" ContentType="image/jpeg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D4B2-58F7-4C60-A17F-5592BABE1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3114-F1DF-4D69-9EC9-36399A1E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512B-96D1-46A9-9612-C3460064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F2E0-9BEB-4704-A45A-AB4FB339E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4BB0-F17C-4DBD-AF29-C2618A577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DCF3-5525-4967-8791-AA2C3780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674E-3722-4A73-8CF1-9E87FB3E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166A-8A74-4026-A5DF-88112898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A6DD-9EEA-4F1D-A70A-7392D4E8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D838-2956-478C-874C-DE0532B5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4789-12E2-4CEE-9854-14F5BE0F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6CF7-43CD-4BAD-8792-FFE91C8B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8FD1-E0CA-4188-9457-72A11A94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B88E-D5A4-4CED-8570-E768E672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A07F-E6C8-40FA-8BFB-B608D98E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6A34-503A-4C18-8133-7AFB88181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78A9-4169-4A02-9511-952F9FC90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3DBC-73D8-4B36-95B0-14C71605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F98F-520E-4256-B736-36A62CEF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8C2A-74B9-4E94-9182-6D2E6E81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4FBA-A57C-4C1F-8D89-0F42778E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8343-28A8-40B5-B943-B5E10B2C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1482-1146-4507-8C9C-D3FC2B88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35FD-493C-4647-AB19-897799E4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632B-D310-45E6-81C0-FE3912299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A8AE-CFB3-4CC4-822E-8F3643FACA9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5EBA-B3F1-4CE1-B52E-4A8DC29EEB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2" descr="oz005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9"/>
          <p:cNvSpPr txBox="1"/>
          <p:nvPr/>
        </p:nvSpPr>
        <p:spPr>
          <a:xfrm>
            <a:off x="914400" y="973080"/>
            <a:ext cx="7315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隶书"/>
              </a:rPr>
              <a:t>用心灵去倾听</a:t>
            </a:r>
            <a:endParaRPr b="1" i="1" lang="en-US" sz="1800" spc="-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20060704125600891"/>
          <p:cNvPicPr/>
          <p:nvPr/>
        </p:nvPicPr>
        <p:blipFill>
          <a:blip r:embed="rId2"/>
          <a:stretch/>
        </p:blipFill>
        <p:spPr>
          <a:xfrm>
            <a:off x="6477120" y="1143000"/>
            <a:ext cx="2286000" cy="36576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5120" y="47239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④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但是我非常想认识苏珊，认识这个从未谋面却如同我第二个母亲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609624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用“如同我第二个母亲”来形容苏珊，看得出“我”对苏珊的爱。苏珊不是“我”的母亲，我们也从没见过面，是电话线把两个人紧紧地连在一起。苏珊就像母亲那样，耐心倾听“我”的心声，困难时给予“我”帮助，痛苦时给予“我”安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12949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中宋"/>
              </a:rPr>
              <a:t>知识延伸</a:t>
            </a:r>
            <a:r>
              <a:rPr b="1" lang="en-US" sz="3600" spc="-1" strike="noStrike">
                <a:solidFill>
                  <a:srgbClr val="008000"/>
                </a:solidFill>
                <a:latin typeface="华文中宋"/>
                <a:ea typeface="华文中宋"/>
              </a:rPr>
              <a:t>——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中宋"/>
              </a:rPr>
              <a:t>前后照应的手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7848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课文多处运用了前后照应的手法，使文章层次分明。你可以找出来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、第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14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自然段“苏珊？你能告诉我‘修理’这个词怎么拼写吗”与第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自然段“‘修理’这个词怎么拼写”照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、第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自然段“她沉默了一会儿，说：‘我希望你的手指已经好了’”与第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自然段“我对小精灵说：‘我一个人在家，我的手指被锤子砸伤了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……’”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照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、最后一段“汤米，我要到另一个世界去歌唱”与第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自然段“你知道吗，这只可爱的小鸟，它要到另一个世界去歌唱”照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14240" y="2133720"/>
            <a:ext cx="3048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课文主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3505320"/>
            <a:ext cx="74678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这是一个真实的故事，记叙了“我”与问讯处工作人员苏珊交往的过程，赞美了苏珊用心灵倾听孩子的心声、用爱心帮助孩子的善良品质，表达了“我”对苏珊的深切怀念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Img219851483"/>
          <p:cNvPicPr/>
          <p:nvPr/>
        </p:nvPicPr>
        <p:blipFill>
          <a:blip r:embed="rId2"/>
          <a:stretch/>
        </p:blipFill>
        <p:spPr>
          <a:xfrm>
            <a:off x="457200" y="14479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34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27" name="Picture 33" descr="050921061731479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WordArt 30"/>
            <p:cNvSpPr txBox="1"/>
            <p:nvPr/>
          </p:nvSpPr>
          <p:spPr>
            <a:xfrm>
              <a:off x="2775600" y="4732920"/>
              <a:ext cx="3183840" cy="135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1" strike="noStrike">
                  <a:ln w="12600">
                    <a:solidFill>
                      <a:srgbClr val="ffcc00"/>
                    </a:solidFill>
                    <a:miter/>
                  </a:ln>
                  <a:solidFill>
                    <a:srgbClr val="ff00ff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华文仿宋"/>
                </a:rPr>
                <a:t>再见</a:t>
              </a:r>
              <a:endParaRPr b="1" i="1" lang="en-US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仿宋"/>
                <a:ea typeface="华文仿宋"/>
              </a:endParaRPr>
            </a:p>
          </p:txBody>
        </p:sp>
      </p:grpSp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9"/>
          <p:cNvSpPr/>
          <p:nvPr/>
        </p:nvSpPr>
        <p:spPr>
          <a:xfrm>
            <a:off x="457200" y="60948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13-t3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572000" y="507960"/>
            <a:ext cx="4267080" cy="2819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200692091959919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6019920" y="3403440"/>
            <a:ext cx="2819160" cy="2514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c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304920" y="3403440"/>
            <a:ext cx="5562360" cy="2514600"/>
          </a:xfrm>
          <a:prstGeom prst="rect">
            <a:avLst/>
          </a:prstGeom>
          <a:ln w="0">
            <a:noFill/>
          </a:ln>
        </p:spPr>
      </p:pic>
      <p:pic>
        <p:nvPicPr>
          <p:cNvPr id="88" name="WordArt 5" descr=""/>
          <p:cNvPicPr/>
          <p:nvPr/>
        </p:nvPicPr>
        <p:blipFill>
          <a:blip r:embed="rId5"/>
          <a:stretch/>
        </p:blipFill>
        <p:spPr>
          <a:xfrm>
            <a:off x="523800" y="4334040"/>
            <a:ext cx="5237280" cy="579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图片2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304920" y="507960"/>
            <a:ext cx="4119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720" y="1523520"/>
            <a:ext cx="487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Arial"/>
                <a:ea typeface="华文中宋"/>
              </a:rPr>
              <a:t>预习课文，积累词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342864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066680" y="2590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着迷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743200" y="26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对人或事物产生难以舍弃的爱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066680" y="3352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密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2743200" y="34290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秘密的通信用语。为了保密，通常用数字、字母、单词等代替真实的通信内容，也叫暗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143000" y="50292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谋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2743200" y="51055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彼此见面，相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" descr="gaoxia8197200651213493812833"/>
          <p:cNvPicPr/>
          <p:nvPr/>
        </p:nvPicPr>
        <p:blipFill>
          <a:blip r:embed="rId2"/>
          <a:stretch/>
        </p:blipFill>
        <p:spPr>
          <a:xfrm>
            <a:off x="7162920" y="4648320"/>
            <a:ext cx="1303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1536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中宋"/>
              </a:rPr>
              <a:t>自由朗读课文，了解课文内容</a:t>
            </a:r>
            <a:br>
              <a:rPr sz="3600"/>
            </a:br>
            <a:br>
              <a:rPr sz="36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说一说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中宋"/>
              </a:rPr>
              <a:t>苏珊给了小时候的</a:t>
            </a:r>
            <a:r>
              <a:rPr b="1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中宋"/>
              </a:rPr>
              <a:t>我</a:t>
            </a:r>
            <a:r>
              <a:rPr b="1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中宋"/>
              </a:rPr>
              <a:t>哪些帮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54100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当“我”的手指被砸伤时，她用悦耳的声音帮助“我”消除恐惧，指导“我”实施自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当“我”因心爱的金丝雀突然死去而伤心时，苏珊宽慰“我”，消除了“我”对死亡的恐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还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zasejinsique_s"/>
          <p:cNvPicPr/>
          <p:nvPr/>
        </p:nvPicPr>
        <p:blipFill>
          <a:blip r:embed="rId2"/>
          <a:stretch/>
        </p:blipFill>
        <p:spPr>
          <a:xfrm>
            <a:off x="7238880" y="3352680"/>
            <a:ext cx="1609920" cy="2524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018r"/>
          <p:cNvPicPr/>
          <p:nvPr/>
        </p:nvPicPr>
        <p:blipFill>
          <a:blip r:embed="rId3"/>
          <a:stretch/>
        </p:blipFill>
        <p:spPr>
          <a:xfrm>
            <a:off x="304920" y="10666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2_248_1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中宋"/>
              </a:rPr>
              <a:t>再读课文，边读边想：</a:t>
            </a:r>
            <a:br>
              <a:rPr sz="48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课文中的哪些内容让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感动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，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感动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你的语句划出来，与大家交流。（特别注意那些描写人物言行、心理的语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6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06" name="Picture 5" descr="%CE%AC%C4%E1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WordArt 4"/>
            <p:cNvSpPr txBox="1"/>
            <p:nvPr/>
          </p:nvSpPr>
          <p:spPr>
            <a:xfrm>
              <a:off x="1469520" y="5312520"/>
              <a:ext cx="6531120" cy="86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79000"/>
                      </a:srgbClr>
                    </a:outerShdw>
                  </a:effectLst>
                  <a:latin typeface="华文中宋"/>
                </a:rPr>
                <a:t>分析例句，体会“感动”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中宋"/>
                <a:ea typeface="华文中宋"/>
              </a:endParaRPr>
            </a:p>
          </p:txBody>
        </p:sp>
      </p:grp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1447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①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我找到了听我说话的人，不由得放声大哭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57400" y="2819160"/>
            <a:ext cx="64771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我</a:t>
            </a:r>
            <a:r>
              <a:rPr b="1" lang="zh-CN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的手指被锤子砸伤了，可是</a:t>
            </a:r>
            <a:r>
              <a:rPr b="1" lang="zh-CN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家里没有人，哭也不会有谁听见</a:t>
            </a:r>
            <a:r>
              <a:rPr b="1" lang="zh-CN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。</a:t>
            </a:r>
            <a:r>
              <a:rPr b="1" lang="zh-CN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我</a:t>
            </a:r>
            <a:r>
              <a:rPr b="1" lang="zh-CN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只好把希望寄托在那个叫</a:t>
            </a:r>
            <a:r>
              <a:rPr b="1" lang="zh-CN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问讯处</a:t>
            </a:r>
            <a:r>
              <a:rPr b="1" lang="zh-CN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的小精灵身上。听到苏珊温柔的嗓音，</a:t>
            </a:r>
            <a:r>
              <a:rPr b="1" lang="zh-CN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我</a:t>
            </a:r>
            <a:r>
              <a:rPr b="1" lang="zh-CN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孤独的心灵一下子得到了抚慰，我终于放声大哭。这既是伤痛带来的痛苦的哭，更是在孤独中找到了希望的幸福的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r_too_sad"/>
          <p:cNvPicPr/>
          <p:nvPr/>
        </p:nvPicPr>
        <p:blipFill>
          <a:blip r:embed="rId2"/>
          <a:stretch/>
        </p:blipFill>
        <p:spPr>
          <a:xfrm>
            <a:off x="533520" y="2819520"/>
            <a:ext cx="1066680" cy="1218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www6Lucn0007"/>
          <p:cNvPicPr/>
          <p:nvPr/>
        </p:nvPicPr>
        <p:blipFill>
          <a:blip r:embed="rId3"/>
          <a:stretch/>
        </p:blipFill>
        <p:spPr>
          <a:xfrm>
            <a:off x="380880" y="4191120"/>
            <a:ext cx="12956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7400" y="14475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华文中宋"/>
              </a:rPr>
              <a:t>②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中宋"/>
              </a:rPr>
              <a:t>小精灵总是耐心地回答我的问题，一遍遍地向我解释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2895120"/>
            <a:ext cx="69343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苏珊面对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我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一个个简单而幼稚的问题，就像一位母亲那样耐心为我解释。在一次次心与心的交流中，两个人的心走到了一起，结成了母子般的情谊。这句话形象地写出了苏珊的爱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20059180627600"/>
          <p:cNvPicPr/>
          <p:nvPr/>
        </p:nvPicPr>
        <p:blipFill>
          <a:blip r:embed="rId2"/>
          <a:stretch/>
        </p:blipFill>
        <p:spPr>
          <a:xfrm>
            <a:off x="457200" y="1219320"/>
            <a:ext cx="1467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480" y="1371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华文中宋"/>
              </a:rPr>
              <a:t>③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中宋"/>
              </a:rPr>
              <a:t>你知道吗，这只可爱的小鸟，它要到另一个世界去歌唱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2895480"/>
            <a:ext cx="7238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心爱的金丝雀突然死了，“我”不仅痛苦，同时对死亡也充满了恐惧。苏珊说小鸟到另外一个世界去唱歌，这是多么美好的事啊！听了这样的话，笼罩在孩子心头的阴影立刻消散了，快乐又回到了孩子的身边。苏珊的善良、乐观由此可见一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yuekejunjinsique_s"/>
          <p:cNvPicPr/>
          <p:nvPr/>
        </p:nvPicPr>
        <p:blipFill>
          <a:blip r:embed="rId2"/>
          <a:stretch/>
        </p:blipFill>
        <p:spPr>
          <a:xfrm>
            <a:off x="380880" y="342900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04:18:18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8:18Z</dcterms:modified>
  <cp:revision>36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