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207-E3B0-48BE-BC90-F0182616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9AE-19E4-4003-93A5-A742487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A8F-0919-44B4-9DAB-6BA9E2BC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9E6-DEA6-41EC-AF50-B6606045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1A94-FE3A-4711-A13E-A54B9E4C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CDA2-47FB-43E3-AD20-732629DF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2A33-B95F-4FA9-AEE0-D945C22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5145-C182-43BB-BE34-94A22320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E0D9-0B7D-46C6-BBA0-E5F72DD3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82E0-3BF4-4359-9A40-2D584353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80FC-7F24-4955-93C4-553E4A9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4CF-67CF-4549-9143-D2955D2B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BA51-8D7C-4C41-90A1-08E6E88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5F6D-49FE-4BBA-89D5-B2BF9F3C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ECC3-071A-4E94-B345-BF6B283F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EBD5-0055-4420-BEFA-E1D51B73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3D13-5065-40D2-A814-E68F6FAE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C62-B206-4C7D-9413-49C5C82C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046-07E3-414E-B143-D8F42952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9BF-3852-4965-B50B-0516415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7FC-864B-44BD-91E5-579B0841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1C5-DCD4-44F7-B5A5-F22BA2B5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893-9CB6-424E-9FB9-FAF77DA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642-AAFA-41EB-9767-F22D9699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624A-D674-4FAB-8E4A-317244A47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5CF7-2E57-4578-B0F9-001F76679184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2604-EA95-4517-B294-DECE8D37E248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000000010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1547640" y="1557360"/>
            <a:ext cx="5688360" cy="24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影子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ic_30345"/>
          <p:cNvPicPr/>
          <p:nvPr/>
        </p:nvPicPr>
        <p:blipFill>
          <a:blip r:embed="rId1"/>
          <a:stretch/>
        </p:blipFill>
        <p:spPr>
          <a:xfrm>
            <a:off x="-6157800" y="0"/>
            <a:ext cx="1530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5" descr="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90" name="Object 57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1086120" cy="1440000"/>
          </a:xfrm>
          <a:prstGeom prst="rect">
            <a:avLst/>
          </a:prstGeom>
          <a:ln w="0">
            <a:noFill/>
          </a:ln>
        </p:spPr>
      </p:pic>
      <p:pic>
        <p:nvPicPr>
          <p:cNvPr id="91" name="Object 59" descr=""/>
          <p:cNvPicPr/>
          <p:nvPr/>
        </p:nvPicPr>
        <p:blipFill>
          <a:blip r:embed="rId3"/>
          <a:stretch/>
        </p:blipFill>
        <p:spPr>
          <a:xfrm>
            <a:off x="5651640" y="333360"/>
            <a:ext cx="1049040" cy="1511280"/>
          </a:xfrm>
          <a:prstGeom prst="rect">
            <a:avLst/>
          </a:prstGeom>
          <a:ln w="0">
            <a:noFill/>
          </a:ln>
        </p:spPr>
      </p:pic>
      <p:pic>
        <p:nvPicPr>
          <p:cNvPr id="92" name="Object 65" descr=""/>
          <p:cNvPicPr/>
          <p:nvPr/>
        </p:nvPicPr>
        <p:blipFill>
          <a:blip r:embed="rId4"/>
          <a:stretch/>
        </p:blipFill>
        <p:spPr>
          <a:xfrm>
            <a:off x="6012000" y="3716280"/>
            <a:ext cx="1193760" cy="1582920"/>
          </a:xfrm>
          <a:prstGeom prst="rect">
            <a:avLst/>
          </a:prstGeom>
          <a:ln w="0">
            <a:noFill/>
          </a:ln>
        </p:spPr>
      </p:pic>
      <p:pic>
        <p:nvPicPr>
          <p:cNvPr id="93" name="Object 70" descr=""/>
          <p:cNvPicPr/>
          <p:nvPr/>
        </p:nvPicPr>
        <p:blipFill>
          <a:blip r:embed="rId5"/>
          <a:stretch/>
        </p:blipFill>
        <p:spPr>
          <a:xfrm>
            <a:off x="3708360" y="3645000"/>
            <a:ext cx="1195560" cy="1584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2052720" y="37893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399564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300720" y="458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995640" y="4005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6372360" y="4149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867280" y="10526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3924360" y="620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ú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5867280" y="6922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ò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763640" y="1197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ject 71" descr=""/>
          <p:cNvPicPr/>
          <p:nvPr/>
        </p:nvPicPr>
        <p:blipFill>
          <a:blip r:embed="rId6"/>
          <a:stretch/>
        </p:blipFill>
        <p:spPr>
          <a:xfrm>
            <a:off x="1692360" y="3716280"/>
            <a:ext cx="1195200" cy="1584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3"/>
          <p:cNvSpPr/>
          <p:nvPr/>
        </p:nvSpPr>
        <p:spPr>
          <a:xfrm>
            <a:off x="2050920" y="4076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9" descr=""/>
          <p:cNvPicPr/>
          <p:nvPr/>
        </p:nvPicPr>
        <p:blipFill>
          <a:blip r:embed="rId7"/>
          <a:stretch/>
        </p:blipFill>
        <p:spPr>
          <a:xfrm>
            <a:off x="1547640" y="2060640"/>
            <a:ext cx="119556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1" descr=""/>
          <p:cNvPicPr/>
          <p:nvPr/>
        </p:nvPicPr>
        <p:blipFill>
          <a:blip r:embed="rId8"/>
          <a:stretch/>
        </p:blipFill>
        <p:spPr>
          <a:xfrm>
            <a:off x="3708360" y="1916280"/>
            <a:ext cx="1195560" cy="1584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3" descr=""/>
          <p:cNvPicPr/>
          <p:nvPr/>
        </p:nvPicPr>
        <p:blipFill>
          <a:blip r:embed="rId9"/>
          <a:stretch/>
        </p:blipFill>
        <p:spPr>
          <a:xfrm>
            <a:off x="7380360" y="333360"/>
            <a:ext cx="108720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5" descr=""/>
          <p:cNvPicPr/>
          <p:nvPr/>
        </p:nvPicPr>
        <p:blipFill>
          <a:blip r:embed="rId10"/>
          <a:stretch/>
        </p:blipFill>
        <p:spPr>
          <a:xfrm>
            <a:off x="5508720" y="1844640"/>
            <a:ext cx="1195200" cy="1584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6" descr=""/>
          <p:cNvPicPr/>
          <p:nvPr/>
        </p:nvPicPr>
        <p:blipFill>
          <a:blip r:embed="rId11"/>
          <a:stretch/>
        </p:blipFill>
        <p:spPr>
          <a:xfrm>
            <a:off x="7308720" y="1916280"/>
            <a:ext cx="1195560" cy="158400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69" descr=""/>
          <p:cNvPicPr/>
          <p:nvPr/>
        </p:nvPicPr>
        <p:blipFill>
          <a:blip r:embed="rId12"/>
          <a:stretch/>
        </p:blipFill>
        <p:spPr>
          <a:xfrm>
            <a:off x="3419640" y="476280"/>
            <a:ext cx="1087200" cy="1440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3780000" y="119700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3708360" y="83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i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8" descr=""/>
          <p:cNvPicPr/>
          <p:nvPr/>
        </p:nvPicPr>
        <p:blipFill>
          <a:blip r:embed="rId13"/>
          <a:stretch/>
        </p:blipFill>
        <p:spPr>
          <a:xfrm>
            <a:off x="5508720" y="1844640"/>
            <a:ext cx="1195200" cy="1584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2"/>
          <p:cNvSpPr/>
          <p:nvPr/>
        </p:nvSpPr>
        <p:spPr>
          <a:xfrm>
            <a:off x="7667640" y="981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1"/>
          <p:cNvSpPr/>
          <p:nvPr/>
        </p:nvSpPr>
        <p:spPr>
          <a:xfrm>
            <a:off x="1763640" y="83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ǐ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2"/>
          <p:cNvSpPr/>
          <p:nvPr/>
        </p:nvSpPr>
        <p:spPr>
          <a:xfrm>
            <a:off x="7596360" y="765000"/>
            <a:ext cx="863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3"/>
          <p:cNvSpPr/>
          <p:nvPr/>
        </p:nvSpPr>
        <p:spPr>
          <a:xfrm>
            <a:off x="1835280" y="2852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5"/>
          <p:cNvSpPr/>
          <p:nvPr/>
        </p:nvSpPr>
        <p:spPr>
          <a:xfrm>
            <a:off x="1908000" y="2565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ē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6"/>
          <p:cNvSpPr/>
          <p:nvPr/>
        </p:nvSpPr>
        <p:spPr>
          <a:xfrm>
            <a:off x="3995640" y="278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7"/>
          <p:cNvSpPr/>
          <p:nvPr/>
        </p:nvSpPr>
        <p:spPr>
          <a:xfrm>
            <a:off x="4067280" y="24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8"/>
          <p:cNvSpPr/>
          <p:nvPr/>
        </p:nvSpPr>
        <p:spPr>
          <a:xfrm>
            <a:off x="5867280" y="23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ē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9"/>
          <p:cNvSpPr/>
          <p:nvPr/>
        </p:nvSpPr>
        <p:spPr>
          <a:xfrm>
            <a:off x="5796000" y="2708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0"/>
          <p:cNvSpPr/>
          <p:nvPr/>
        </p:nvSpPr>
        <p:spPr>
          <a:xfrm>
            <a:off x="7596360" y="2708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狗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1"/>
          <p:cNvSpPr/>
          <p:nvPr/>
        </p:nvSpPr>
        <p:spPr>
          <a:xfrm>
            <a:off x="7667640" y="2421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ǒ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2"/>
          <p:cNvSpPr/>
          <p:nvPr/>
        </p:nvSpPr>
        <p:spPr>
          <a:xfrm>
            <a:off x="1908000" y="450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835280" y="112536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前面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4211640" y="1628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763640" y="2565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后面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995640" y="306864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763640" y="386064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左面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右面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140360" y="4365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4067280" y="5084640"/>
            <a:ext cx="32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164360" y="62784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003640" y="5661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268360" y="5300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716360" y="4581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跟上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276720" y="4149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435640" y="364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7672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932360" y="2637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4500720" y="162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黑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5"/>
          <p:cNvSpPr/>
          <p:nvPr/>
        </p:nvSpPr>
        <p:spPr>
          <a:xfrm>
            <a:off x="3108240" y="2205000"/>
            <a:ext cx="4127760" cy="4464000"/>
          </a:xfrm>
          <a:custGeom>
            <a:avLst/>
            <a:gdLst/>
            <a:ahLst/>
            <a:rect l="l" t="t" r="r" b="b"/>
            <a:pathLst>
              <a:path w="2600" h="2812">
                <a:moveTo>
                  <a:pt x="2600" y="2812"/>
                </a:moveTo>
                <a:cubicBezTo>
                  <a:pt x="2135" y="2699"/>
                  <a:pt x="1671" y="2586"/>
                  <a:pt x="1240" y="2495"/>
                </a:cubicBezTo>
                <a:cubicBezTo>
                  <a:pt x="809" y="2404"/>
                  <a:pt x="30" y="2389"/>
                  <a:pt x="15" y="2268"/>
                </a:cubicBezTo>
                <a:cubicBezTo>
                  <a:pt x="0" y="2147"/>
                  <a:pt x="1051" y="1890"/>
                  <a:pt x="1149" y="1769"/>
                </a:cubicBezTo>
                <a:cubicBezTo>
                  <a:pt x="1247" y="1648"/>
                  <a:pt x="513" y="1633"/>
                  <a:pt x="604" y="1542"/>
                </a:cubicBezTo>
                <a:cubicBezTo>
                  <a:pt x="695" y="1451"/>
                  <a:pt x="1700" y="1331"/>
                  <a:pt x="1693" y="1225"/>
                </a:cubicBezTo>
                <a:cubicBezTo>
                  <a:pt x="1686" y="1119"/>
                  <a:pt x="612" y="1013"/>
                  <a:pt x="559" y="907"/>
                </a:cubicBezTo>
                <a:cubicBezTo>
                  <a:pt x="506" y="801"/>
                  <a:pt x="1338" y="665"/>
                  <a:pt x="1376" y="590"/>
                </a:cubicBezTo>
                <a:cubicBezTo>
                  <a:pt x="1414" y="515"/>
                  <a:pt x="816" y="551"/>
                  <a:pt x="786" y="453"/>
                </a:cubicBezTo>
                <a:cubicBezTo>
                  <a:pt x="756" y="355"/>
                  <a:pt x="1134" y="75"/>
                  <a:pt x="1194" y="0"/>
                </a:cubicBezTo>
              </a:path>
            </a:pathLst>
          </a:custGeom>
          <a:noFill/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3924360" y="1557360"/>
            <a:ext cx="431640" cy="358920"/>
          </a:xfrm>
          <a:custGeom>
            <a:avLst/>
            <a:gdLst>
              <a:gd name="textAreaLeft" fmla="*/ 0 w 431640"/>
              <a:gd name="textAreaRight" fmla="*/ 432000 w 431640"/>
              <a:gd name="textAreaTop" fmla="*/ 93240 h 358920"/>
              <a:gd name="textAreaBottom" fmla="*/ 2656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924360" y="177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P000000083_jpg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ic_30345"/>
          <p:cNvPicPr/>
          <p:nvPr/>
        </p:nvPicPr>
        <p:blipFill>
          <a:blip r:embed="rId1"/>
          <a:stretch/>
        </p:blipFill>
        <p:spPr>
          <a:xfrm>
            <a:off x="-6157800" y="0"/>
            <a:ext cx="1530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403280" y="126828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玩玩写写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到操场上看看自己和别人的影子有什么变化，再做做踩影子的游戏；也可以回到家，在灯下照照自己的影子，看看有什么变化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认认真真地写一写本课的生字，比一比谁写得最棒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P000000673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5"/>
          <p:cNvSpPr txBox="1"/>
          <p:nvPr/>
        </p:nvSpPr>
        <p:spPr>
          <a:xfrm>
            <a:off x="1042920" y="981000"/>
            <a:ext cx="612144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8:39:4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7:19Z</dcterms:modified>
  <cp:revision>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