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4FF-5932-4DDE-9CD2-B6E7D96F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E64-DFE6-4E3B-BAD0-DEEB224F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C1E-6D21-4776-B97D-D300B774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16A-68F1-4B6E-A66B-07656272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0836-BC3A-4A3C-A7D8-225A8F76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23D-B29F-4539-91D2-16E3A965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D4E-3A15-4BF0-A56C-BF6313E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1010-06F3-4A82-8DDC-5798E118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170C-2049-4018-9A50-1C10FB0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0E4-C1C9-4165-A59A-348630B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705-CF2B-46C4-AEA9-6A2BA61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1C0-0AAC-462C-9FD5-AB13A06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1DC-8AB0-4C37-BC47-D782892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5290-8BE9-4412-BFDA-1AA5028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46FC-0F87-4DF8-BD8D-351BF8AD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214A-7162-4A80-8190-CA91B71D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1873-1FBC-4081-8CB4-FE994ADF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0F7-005F-4F1A-B8D2-28F7CC6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8D8-00C5-4A64-876C-5AC95CF7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FA3-8C76-4F26-9F15-37FF791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404-575C-4F7E-B74A-2DED5D2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97F-9752-4031-957E-6E8F1447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320-6965-447F-B455-B9465EC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DE4-B64A-4F37-888C-3435F598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591-5947-4D55-B843-9F1E97A2D4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6739-7D12-486F-922E-73216E5EA9D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hyperlink" Target="324,4,&#24187;&#28783;&#29255; 4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666520" y="4267080"/>
            <a:ext cx="434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ccff"/>
                </a:solidFill>
                <a:latin typeface="Times New Roman"/>
                <a:ea typeface="隶书"/>
              </a:rPr>
              <a:t>徐　志　摩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981080" y="1600200"/>
            <a:ext cx="5181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再别康桥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3520" y="5867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制作人：什邡市马井中学　唐均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609480" y="1523880"/>
            <a:ext cx="7346880" cy="4324680"/>
            <a:chOff x="609480" y="1523880"/>
            <a:chExt cx="7346880" cy="4324680"/>
          </a:xfrm>
        </p:grpSpPr>
        <p:sp>
          <p:nvSpPr>
            <p:cNvPr id="125" name="Text Box 3"/>
            <p:cNvSpPr/>
            <p:nvPr/>
          </p:nvSpPr>
          <p:spPr>
            <a:xfrm>
              <a:off x="609480" y="1523880"/>
              <a:ext cx="266544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轻轻挥别云彩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2698560" y="2100240"/>
              <a:ext cx="100800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金柳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3346200" y="2674800"/>
              <a:ext cx="100836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水草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4066920" y="3324240"/>
              <a:ext cx="100836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浮藻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4786200" y="3971880"/>
              <a:ext cx="107964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星辉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722920" y="4619520"/>
              <a:ext cx="107928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夏虫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6083280" y="5267160"/>
              <a:ext cx="187308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悄悄的走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>
              <a:off x="898560" y="2171520"/>
              <a:ext cx="0" cy="3527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898560" y="5627520"/>
              <a:ext cx="5111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>
              <a:off x="3346200" y="1811160"/>
              <a:ext cx="43927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7738920" y="1811160"/>
              <a:ext cx="0" cy="3456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6" name="Text Box 14"/>
          <p:cNvSpPr/>
          <p:nvPr/>
        </p:nvSpPr>
        <p:spPr>
          <a:xfrm>
            <a:off x="7553880" y="2565360"/>
            <a:ext cx="115524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呼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457200" y="5335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康桥的景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85800" y="31240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河畔金柳倒影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038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青草水底招摇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09480" y="49528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榆阴浮藻清潭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724280" y="144792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撑篙漫溯寻梦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16360" y="25909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黄昏夏虫沉默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716360" y="3733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招手惜别云彩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838080" y="685800"/>
            <a:ext cx="2810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诗中的画境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85800" y="2057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挥手作别云彩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00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19320" y="4114800"/>
            <a:ext cx="2622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19320" y="281952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更加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6360" y="1523880"/>
            <a:ext cx="38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对康桥的永久恋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581280" y="457200"/>
            <a:ext cx="29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86400" y="2971800"/>
            <a:ext cx="267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情绪低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51672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WordArt 9"/>
          <p:cNvSpPr txBox="1"/>
          <p:nvPr/>
        </p:nvSpPr>
        <p:spPr>
          <a:xfrm rot="5400000">
            <a:off x="107640" y="836640"/>
            <a:ext cx="151128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情的起伏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1332000" y="692280"/>
            <a:ext cx="6481800" cy="5414760"/>
          </a:xfrm>
          <a:custGeom>
            <a:avLst/>
            <a:gdLst/>
            <a:ahLst/>
            <a:rect l="l" t="t" r="r" b="b"/>
            <a:pathLst>
              <a:path w="4083" h="3320">
                <a:moveTo>
                  <a:pt x="0" y="3274"/>
                </a:moveTo>
                <a:cubicBezTo>
                  <a:pt x="749" y="1637"/>
                  <a:pt x="1498" y="0"/>
                  <a:pt x="2178" y="8"/>
                </a:cubicBezTo>
                <a:cubicBezTo>
                  <a:pt x="2858" y="16"/>
                  <a:pt x="3470" y="1668"/>
                  <a:pt x="4083" y="332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14400" y="5410080"/>
            <a:ext cx="2819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挥手作别云彩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219320" y="4114800"/>
            <a:ext cx="262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河畔金柳倒影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19320" y="2819520"/>
            <a:ext cx="33098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更加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青草水底招摇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360" y="1523880"/>
            <a:ext cx="38131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对康桥的永久恋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榆阴浮藻清潭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581280" y="457200"/>
            <a:ext cx="295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撑篙漫溯寻梦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486400" y="2971800"/>
            <a:ext cx="3200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情绪低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黄昏夏虫沉默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943600" y="5105520"/>
            <a:ext cx="2590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招手惜别云彩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WordArt 9"/>
          <p:cNvSpPr txBox="1"/>
          <p:nvPr/>
        </p:nvSpPr>
        <p:spPr>
          <a:xfrm rot="5400000">
            <a:off x="-2144520" y="2827080"/>
            <a:ext cx="555300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意境，情趣与意象的融合</a:t>
            </a:r>
            <a:endParaRPr b="0" lang="en-US" sz="4000" spc="-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332000" y="692280"/>
            <a:ext cx="6481800" cy="5414760"/>
          </a:xfrm>
          <a:custGeom>
            <a:avLst/>
            <a:gdLst/>
            <a:ahLst/>
            <a:rect l="l" t="t" r="r" b="b"/>
            <a:pathLst>
              <a:path w="4083" h="3320">
                <a:moveTo>
                  <a:pt x="0" y="3274"/>
                </a:moveTo>
                <a:cubicBezTo>
                  <a:pt x="749" y="1637"/>
                  <a:pt x="1498" y="0"/>
                  <a:pt x="2178" y="8"/>
                </a:cubicBezTo>
                <a:cubicBezTo>
                  <a:pt x="2858" y="16"/>
                  <a:pt x="3470" y="1668"/>
                  <a:pt x="4083" y="332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09480" y="457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构全解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-726840" y="2286000"/>
            <a:ext cx="1642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Times New Roman"/>
              </a:rPr>
              <a:t>再别康桥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838080" y="1295280"/>
            <a:ext cx="457200" cy="434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295280" y="12193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第一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295280" y="30481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第二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295280" y="49528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第三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2895480" y="7621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352680" y="6094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轻轻的我走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352680" y="12952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轻轻的我来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352680" y="19810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轻轻的我招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2895480" y="26668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352680" y="25146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河畔上的金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352680" y="32004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软泥上的青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352680" y="38862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榆阴下的一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2895480" y="46483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3352680" y="44956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悄悄的我走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352680" y="51814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悄悄的我来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352680" y="58672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我挥一挥衣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AutoShape 24"/>
          <p:cNvSpPr/>
          <p:nvPr/>
        </p:nvSpPr>
        <p:spPr>
          <a:xfrm flipH="1">
            <a:off x="5334120" y="7621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AutoShape 25"/>
          <p:cNvSpPr/>
          <p:nvPr/>
        </p:nvSpPr>
        <p:spPr>
          <a:xfrm flipH="1">
            <a:off x="5334120" y="25909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AutoShape 26"/>
          <p:cNvSpPr/>
          <p:nvPr/>
        </p:nvSpPr>
        <p:spPr>
          <a:xfrm flipH="1">
            <a:off x="5334120" y="457200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5638680" y="1066680"/>
            <a:ext cx="137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作别母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生离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5715000" y="2895480"/>
            <a:ext cx="137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泛舟康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来寻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5715000" y="4876920"/>
            <a:ext cx="137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悄悄离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心忧伤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AutoShape 30"/>
          <p:cNvSpPr/>
          <p:nvPr/>
        </p:nvSpPr>
        <p:spPr>
          <a:xfrm flipH="1">
            <a:off x="7162920" y="1219320"/>
            <a:ext cx="380880" cy="4343400"/>
          </a:xfrm>
          <a:custGeom>
            <a:avLst/>
            <a:gdLst>
              <a:gd name="textAreaLeft" fmla="*/ 243720 w 380880"/>
              <a:gd name="textAreaRight" fmla="*/ 381600 w 3808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7772400" y="2819520"/>
            <a:ext cx="137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离愁别绪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7772400" y="3657600"/>
            <a:ext cx="137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恋母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0" y="838080"/>
            <a:ext cx="38862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建筑美—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音乐美—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绘画美—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20040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四行一节，错落排列，字数相近，回环呼应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12408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节奏轻快，韵律柔和，抑扬顿挫，朗朗上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48120" y="4648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云彩、金柳、青荇、水草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星辉、夏虫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4572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思考：本诗表达了诗人怎样的感情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90720" y="1523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首诗运用优美抒情的语言，描述了自己回到母校康桥，在河中泛舟的所见、所思、所感，表达了自己对母校的眷恋和那如烟似波的离情别绪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3429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课后作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289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有感情地朗诵并背诵《再别康桥》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143000" y="4419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完成练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Picture 7" descr="D:\file\杨涛\hehua.jpg"/>
          <p:cNvPicPr/>
          <p:nvPr/>
        </p:nvPicPr>
        <p:blipFill>
          <a:blip r:embed="rId2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D:\file\杨涛\hehua.jpg"/>
          <p:cNvPicPr/>
          <p:nvPr/>
        </p:nvPicPr>
        <p:blipFill>
          <a:blip r:embed="rId3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D:\file\杨涛\hehua.jpg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D:\file\杨涛\hehua.jpg"/>
          <p:cNvPicPr/>
          <p:nvPr/>
        </p:nvPicPr>
        <p:blipFill>
          <a:blip r:embed="rId5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6" descr="D:\file\杨涛\hehua.jpg"/>
          <p:cNvPicPr/>
          <p:nvPr/>
        </p:nvPicPr>
        <p:blipFill>
          <a:blip r:embed="rId2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D:\file\杨涛\hehua.jpg"/>
          <p:cNvPicPr/>
          <p:nvPr/>
        </p:nvPicPr>
        <p:blipFill>
          <a:blip r:embed="rId3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D:\file\杨涛\hehua.jpg"/>
          <p:cNvPicPr/>
          <p:nvPr/>
        </p:nvPicPr>
        <p:blipFill>
          <a:blip r:embed="rId4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D:\file\杨涛\hehua.jpg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2"/>
          <p:cNvSpPr/>
          <p:nvPr/>
        </p:nvSpPr>
        <p:spPr>
          <a:xfrm>
            <a:off x="685800" y="609480"/>
            <a:ext cx="8077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教学目标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1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了解徐志摩及本诗的写作背景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2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欣赏诗歌的音乐美、绘画美、建筑美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3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体会诗的意境，理解诗的主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4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了解现代派诗歌的语言特点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49528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中国现代诗人简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21932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现代诗诞生于五四运动前夕，它不断接受外来影响并溶化在自己民族风格中，涌现了众多艺术流派。 代表作家有郭沫若、闻一多、艾青等。闻一多、臧克家和徐志摩都是我国新诗发展史上的先驱，虽然他们风格迥异，生活道路也各不相同，但都为我国新诗的发展做出了重要贡献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endshow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15124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30248" h="21600">
                <a:moveTo>
                  <a:pt x="15124" y="4133"/>
                </a:moveTo>
                <a:arcTo wR="1803" hR="1803" stAng="16200000" swAng="-5400000"/>
                <a:arcTo wR="1803" hR="1803" stAng="10800000" swAng="-5400000"/>
                <a:arcTo wR="1802" hR="1803" stAng="5400000" swAng="-5400000"/>
                <a:arcTo wR="1802" hR="1803" stAng="0" swAng="-5400000"/>
                <a:close/>
              </a:path>
              <a:path fill="lighten" w="30248" h="21600">
                <a:moveTo>
                  <a:pt x="12534" y="8210"/>
                </a:moveTo>
                <a:lnTo>
                  <a:pt x="16419" y="8210"/>
                </a:lnTo>
                <a:lnTo>
                  <a:pt x="16419" y="15245"/>
                </a:lnTo>
                <a:lnTo>
                  <a:pt x="17714" y="15245"/>
                </a:lnTo>
                <a:lnTo>
                  <a:pt x="17714" y="16173"/>
                </a:lnTo>
                <a:lnTo>
                  <a:pt x="12534" y="16173"/>
                </a:lnTo>
                <a:lnTo>
                  <a:pt x="12534" y="15245"/>
                </a:lnTo>
                <a:lnTo>
                  <a:pt x="13829" y="15245"/>
                </a:lnTo>
                <a:lnTo>
                  <a:pt x="13829" y="9120"/>
                </a:lnTo>
                <a:lnTo>
                  <a:pt x="12534" y="9120"/>
                </a:lnTo>
                <a:close/>
              </a:path>
            </a:pathLst>
          </a:custGeom>
          <a:solidFill>
            <a:srgbClr val="200b5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5" descr="D:\file\杨涛\hehua.jpg"/>
          <p:cNvPicPr/>
          <p:nvPr/>
        </p:nvPicPr>
        <p:blipFill>
          <a:blip r:embed="rId2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:\file\杨涛\hehua.jpg"/>
          <p:cNvPicPr/>
          <p:nvPr/>
        </p:nvPicPr>
        <p:blipFill>
          <a:blip r:embed="rId3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:\file\杨涛\hehua.jpg"/>
          <p:cNvPicPr/>
          <p:nvPr/>
        </p:nvPicPr>
        <p:blipFill>
          <a:blip r:embed="rId4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kq1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05520" y="2666520"/>
            <a:ext cx="40384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英国剑桥大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Picture 5" descr="beginnew"/>
          <p:cNvPicPr/>
          <p:nvPr/>
        </p:nvPicPr>
        <p:blipFill>
          <a:blip r:embed="rId3"/>
          <a:stretch/>
        </p:blipFill>
        <p:spPr>
          <a:xfrm>
            <a:off x="1752480" y="0"/>
            <a:ext cx="528804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作者简介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09480" y="914400"/>
            <a:ext cx="7966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徐志摩在中国新诗史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位毁誉不一的诗人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28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，他三次旅欧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英国伦敦剑桥大学研究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国文学时，曾在康桥河里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船，在康桥上漫步，陶醉在美丽的大自然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抱中。代表诗集《志摩的诗》、《翡冷翠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夜》、《猛虎集》，代表诗作《再别康桥》、《偶然》、《云游》等， 《再别康桥》是徐志摩最重要的代表作，是使诗人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得巨大声誉的诗作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file\杨涛\hehua.jpg"/>
          <p:cNvPicPr/>
          <p:nvPr/>
        </p:nvPicPr>
        <p:blipFill>
          <a:blip r:embed="rId3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file\杨涛\hehua.jpg"/>
          <p:cNvPicPr/>
          <p:nvPr/>
        </p:nvPicPr>
        <p:blipFill>
          <a:blip r:embed="rId4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D:\file\杨涛\hehua.jpg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D:\file\杨涛\hehua.jpg"/>
          <p:cNvPicPr/>
          <p:nvPr/>
        </p:nvPicPr>
        <p:blipFill>
          <a:blip r:embed="rId6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-47160" y="3637800"/>
            <a:ext cx="5965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</a:rPr>
              <a:t>徐志摩作品欣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193680"/>
            <a:ext cx="85345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　　徐志摩生于富商家庭，中学与郁达夫同班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1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考入北京大学，并于同年应父命与年仅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岁的张幼仪成婚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18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赴美国留学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赴英国留学，就读于剑桥大学，攻读博士学位。其间徐志摩于婚外爱恋林徽英，并于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月与元配夫人张幼仪离婚，同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离别剑桥起程回国。历任北京大学，清华大学教授。经常发表诗作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与胡适等成立新月社，为主要成员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4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印度大诗人泰戈尔访华，徐志摩任翻译，后随泰戈尔漫游欧洲。同年认识有夫之妇陆小曼并相恋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月与陆小曼结婚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7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在上海光华大学任教授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3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秋，应胡适之邀，到北京大学任教授。在此期间，徐志摩为了生计，往返于北平和上海之间疲于奔命，但仍旧难以满足早已移情别恋的陆小曼。只是碍于旧情与面子，不好再次离异。他陷入深深的痛苦中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3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日，从南京乘飞机去北平，途中飞机失事，不幸遇难，死于泰山脚下，时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岁。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80880" y="1447920"/>
            <a:ext cx="8534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　　作为中国现代文学史上著名的资产阶级绅士诗人，徐志摩可以说是新诗的诗魂，人称诗哲，诗圣并不过分，他的新诗可堪千古绝唱，他的行为与品格同样受到同人、朋友、学生的赞赏与爱戴，他对爱情的执著追求虽为文坛风流佳话，亦留有诸多遗憾，他那天真无邪，崇尚自由、平等、博爱的人道主义情怀，追求人生真谛的精神是惊天地、泣鬼神的。难怪这位英年早逝的文坛巨星噩耗传来，震惊了海内外，胡适连呼：“天才横死，损失的是中国文学。”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4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8144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1866960" cy="22287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4"/>
          <a:stretch/>
        </p:blipFill>
        <p:spPr>
          <a:xfrm>
            <a:off x="609480" y="3733920"/>
            <a:ext cx="2132280" cy="22096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2004840" cy="243828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11" descr=""/>
          <p:cNvPicPr/>
          <p:nvPr/>
        </p:nvPicPr>
        <p:blipFill>
          <a:blip r:embed="rId6"/>
          <a:stretch/>
        </p:blipFill>
        <p:spPr>
          <a:xfrm>
            <a:off x="2895480" y="914400"/>
            <a:ext cx="320040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2"/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8394"/>
                </a:moveTo>
                <a:lnTo>
                  <a:pt x="8210" y="8394"/>
                </a:lnTo>
                <a:lnTo>
                  <a:pt x="12655" y="3756"/>
                </a:lnTo>
                <a:lnTo>
                  <a:pt x="12655" y="17844"/>
                </a:lnTo>
                <a:lnTo>
                  <a:pt x="8210" y="13206"/>
                </a:lnTo>
                <a:lnTo>
                  <a:pt x="3756" y="13206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17844" y="10800"/>
                </a:lnTo>
              </a:path>
              <a:path fill="darken" w="21600" h="21600">
                <a:moveTo>
                  <a:pt x="14318" y="8394"/>
                </a:moveTo>
                <a:lnTo>
                  <a:pt x="17844" y="5611"/>
                </a:lnTo>
              </a:path>
              <a:path fill="darken" w="21600" h="21600">
                <a:moveTo>
                  <a:pt x="14318" y="13206"/>
                </a:moveTo>
                <a:lnTo>
                  <a:pt x="17844" y="15989"/>
                </a:lnTo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847368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7"/>
              </a:rPr>
              <a:t>内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:\file\杨涛\hehua.jpg"/>
          <p:cNvPicPr/>
          <p:nvPr/>
        </p:nvPicPr>
        <p:blipFill>
          <a:blip r:embed="rId2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:\file\杨涛\hehua.jpg"/>
          <p:cNvPicPr/>
          <p:nvPr/>
        </p:nvPicPr>
        <p:blipFill>
          <a:blip r:embed="rId3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:\file\杨涛\hehua.jpg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D:\file\杨涛\hehua.jpg"/>
          <p:cNvPicPr/>
          <p:nvPr/>
        </p:nvPicPr>
        <p:blipFill>
          <a:blip r:embed="rId5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2438280" y="99072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再别康桥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143000" y="32767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朗读欣赏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29200" y="32767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朗读欣赏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05:35:3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5:39Z</dcterms:modified>
  <cp:revision>1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