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E06-1C34-48A4-9E3E-2F0DC482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483-2861-4474-8804-76DA5D6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ACF-8DBC-4125-8B42-8FFC71B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E6C-8492-4DD1-B323-483BBF1D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27C-2277-4442-8909-88BC0F24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75E4-6FB4-4C32-8C5E-3D8173F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6AD-1AAA-4926-BB5D-E4FAF6E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F25-FD10-4365-8D70-4AEFC1B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1EB0-8240-465B-88F5-38BAE24E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BA2A-892C-431D-A38A-9B0FAD44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72F-F671-4A97-8CC8-BF86692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43B-CF22-479D-B480-F1B48169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8AC-185B-4E27-9C44-D45898B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C270-24C7-4D10-91A3-A9402228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BAB-2395-4861-9EA6-B72B32F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DFD-ADFD-4B9D-8975-57C1528E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387-1845-4110-83E6-3707E8A5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F33-B02D-45C0-B505-BD73642B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55A-FE64-44DA-AF92-34140C3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89C-F39A-4B08-9619-24A8EEFD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202-C5AB-4694-ACB3-3BA5924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4C2-3D21-492E-B1D2-427B3AC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7D3-EFBA-47CD-9A97-563993D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CF7-466E-4D64-A194-32FE8193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ABCB-3830-4C35-BAFF-80CA8C25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31F-E936-4FAA-A451-1A16C3D000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B445-CC55-4253-A171-4C41301FAA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背景红云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2286000" y="1371600"/>
            <a:ext cx="4572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纸船和风筝</a:t>
            </a:r>
            <a:endParaRPr b="0" lang="en-US" sz="2400" spc="1" strike="noStrike">
              <a:ln w="12600">
                <a:solidFill>
                  <a:srgbClr val="99cc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133720" y="4648320"/>
            <a:ext cx="5181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济南南洋学校    石春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8" descr="D:\图库\pic_30539.jpg"/>
          <p:cNvPicPr/>
          <p:nvPr/>
        </p:nvPicPr>
        <p:blipFill>
          <a:blip r:embed="rId1"/>
          <a:srcRect l="24087" t="66558" r="57129" b="6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D:\图库\pic_30539.jpg"/>
          <p:cNvPicPr/>
          <p:nvPr/>
        </p:nvPicPr>
        <p:blipFill>
          <a:blip r:embed="rId2"/>
          <a:srcRect l="63359" t="7666" r="15785" b="71171"/>
          <a:stretch/>
        </p:blipFill>
        <p:spPr>
          <a:xfrm>
            <a:off x="2666880" y="83808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30" descr="D:\图库\pic_30539.jpg"/>
          <p:cNvPicPr/>
          <p:nvPr/>
        </p:nvPicPr>
        <p:blipFill>
          <a:blip r:embed="rId3"/>
          <a:srcRect l="12465" t="72344" r="75024" b="11199"/>
          <a:stretch/>
        </p:blipFill>
        <p:spPr>
          <a:xfrm>
            <a:off x="685800" y="426708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106668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1960" y="2819160"/>
            <a:ext cx="990360" cy="609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39"/>
          <p:cNvSpPr/>
          <p:nvPr/>
        </p:nvSpPr>
        <p:spPr>
          <a:xfrm>
            <a:off x="2971800" y="304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  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41"/>
          <p:cNvSpPr/>
          <p:nvPr/>
        </p:nvSpPr>
        <p:spPr>
          <a:xfrm>
            <a:off x="1937880" y="4724280"/>
            <a:ext cx="7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纸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905120" y="1600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坏人  乐坏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81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吵 架  争  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3828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草  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051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幸福   幸   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105520" y="3962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接受  受气  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105520" y="2787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福气  祝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81480" y="1600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抓住  抓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05520" y="51814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扎针  扎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" descr="D:\图库\实用图案\小花2.jpg"/>
          <p:cNvPicPr/>
          <p:nvPr/>
        </p:nvPicPr>
        <p:blipFill>
          <a:blip r:embed="rId1"/>
          <a:stretch/>
        </p:blipFill>
        <p:spPr>
          <a:xfrm>
            <a:off x="990720" y="609480"/>
            <a:ext cx="121896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D:\图库\实用图案\小花2.jpg"/>
          <p:cNvPicPr/>
          <p:nvPr/>
        </p:nvPicPr>
        <p:blipFill>
          <a:blip r:embed="rId2"/>
          <a:stretch/>
        </p:blipFill>
        <p:spPr>
          <a:xfrm>
            <a:off x="7467480" y="6094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D:\图库\实用图案\小花2.jpg"/>
          <p:cNvPicPr/>
          <p:nvPr/>
        </p:nvPicPr>
        <p:blipFill>
          <a:blip r:embed="rId3"/>
          <a:stretch/>
        </p:blipFill>
        <p:spPr>
          <a:xfrm>
            <a:off x="914400" y="20620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D:\图库\实用图案\小花2.jpg"/>
          <p:cNvPicPr/>
          <p:nvPr/>
        </p:nvPicPr>
        <p:blipFill>
          <a:blip r:embed="rId4"/>
          <a:stretch/>
        </p:blipFill>
        <p:spPr>
          <a:xfrm>
            <a:off x="7543800" y="20620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D:\图库\实用图案\小花2.jpg"/>
          <p:cNvPicPr/>
          <p:nvPr/>
        </p:nvPicPr>
        <p:blipFill>
          <a:blip r:embed="rId5"/>
          <a:stretch/>
        </p:blipFill>
        <p:spPr>
          <a:xfrm>
            <a:off x="838080" y="342900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D:\图库\实用图案\小花2.jpg"/>
          <p:cNvPicPr/>
          <p:nvPr/>
        </p:nvPicPr>
        <p:blipFill>
          <a:blip r:embed="rId6"/>
          <a:stretch/>
        </p:blipFill>
        <p:spPr>
          <a:xfrm>
            <a:off x="7467480" y="34336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D:\图库\实用图案\小花2.jpg"/>
          <p:cNvPicPr/>
          <p:nvPr/>
        </p:nvPicPr>
        <p:blipFill>
          <a:blip r:embed="rId7"/>
          <a:stretch/>
        </p:blipFill>
        <p:spPr>
          <a:xfrm>
            <a:off x="990720" y="4876920"/>
            <a:ext cx="1218960" cy="136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D:\图库\实用图案\小花2.jpg"/>
          <p:cNvPicPr/>
          <p:nvPr/>
        </p:nvPicPr>
        <p:blipFill>
          <a:blip r:embed="rId8"/>
          <a:stretch/>
        </p:blipFill>
        <p:spPr>
          <a:xfrm>
            <a:off x="7696080" y="4724280"/>
            <a:ext cx="12193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D:\图库\背景图片1\BJ1010.jpg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520"/>
            <a:ext cx="5181480" cy="41479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坏    扎    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莓    幸    福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吵    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D:\图库\实用图案\小女孩2.jpg"/>
          <p:cNvPicPr/>
          <p:nvPr/>
        </p:nvPicPr>
        <p:blipFill>
          <a:blip r:embed="rId2"/>
          <a:stretch/>
        </p:blipFill>
        <p:spPr>
          <a:xfrm>
            <a:off x="685800" y="4724280"/>
            <a:ext cx="1343160" cy="17146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 rot="20644800">
            <a:off x="1676160" y="441972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Picture 11" descr="D:\图库\实用图案\SN017草莓.jpg"/>
          <p:cNvPicPr/>
          <p:nvPr/>
        </p:nvPicPr>
        <p:blipFill>
          <a:blip r:embed="rId3"/>
          <a:srcRect l="28439" t="10352" r="17189" b="15641"/>
          <a:stretch/>
        </p:blipFill>
        <p:spPr>
          <a:xfrm>
            <a:off x="457200" y="1676520"/>
            <a:ext cx="259092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D:\图库\背景图片1\BJ1010.jpg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505320" y="438120"/>
            <a:ext cx="5181480" cy="5388480"/>
          </a:xfrm>
          <a:prstGeom prst="rect">
            <a:avLst/>
          </a:pr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顶  山脚  小溪  风筝  纸船  松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草莓  纸条  屋顶  门口  幸福  快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愿意  漂流  飘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D:\图库\实用图案\小女孩2.jpg"/>
          <p:cNvPicPr/>
          <p:nvPr/>
        </p:nvPicPr>
        <p:blipFill>
          <a:blip r:embed="rId2"/>
          <a:stretch/>
        </p:blipFill>
        <p:spPr>
          <a:xfrm>
            <a:off x="609480" y="4114800"/>
            <a:ext cx="1343160" cy="1714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 rot="19013400">
            <a:off x="1371600" y="342864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Picture 9" descr="D:\图库\花\一朵独艳.jpg"/>
          <p:cNvPicPr/>
          <p:nvPr/>
        </p:nvPicPr>
        <p:blipFill>
          <a:blip r:embed="rId3"/>
          <a:srcRect l="0" t="31500" r="28358" b="16002"/>
          <a:stretch/>
        </p:blipFill>
        <p:spPr>
          <a:xfrm>
            <a:off x="762120" y="53352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:\图库\背景图片1\BJ1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" y="2057400"/>
            <a:ext cx="46483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）＋ （不） ＝ 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267080" y="2057400"/>
            <a:ext cx="48006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（    ） ＝ （ 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28600" y="2971800"/>
            <a:ext cx="46483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 （    ） ＝ 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267080" y="2971800"/>
            <a:ext cx="48769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 （    ） ＝ （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752480" y="4800600"/>
            <a:ext cx="6782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       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？</a:t>
            </a:r>
            <a:r>
              <a:rPr b="1" lang="en-US" sz="36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福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514600" y="5105520"/>
            <a:ext cx="1219320" cy="228600"/>
          </a:xfrm>
          <a:prstGeom prst="leftRightArrow">
            <a:avLst>
              <a:gd name="adj1" fmla="val 50000"/>
              <a:gd name="adj2" fmla="val 106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6324480" y="5105520"/>
            <a:ext cx="1219320" cy="228600"/>
          </a:xfrm>
          <a:prstGeom prst="leftRightArrow">
            <a:avLst>
              <a:gd name="adj1" fmla="val 50000"/>
              <a:gd name="adj2" fmla="val 106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7200" y="3962520"/>
            <a:ext cx="51814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漂（         ）        飘（     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1295280" y="762120"/>
            <a:ext cx="236232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000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练一练</a:t>
            </a:r>
            <a:endParaRPr b="0" lang="en-US" sz="2400" spc="-1" strike="noStrike">
              <a:ln w="9360">
                <a:solidFill>
                  <a:srgbClr val="339966"/>
                </a:solidFill>
                <a:miter/>
              </a:ln>
              <a:solidFill>
                <a:srgbClr val="008080"/>
              </a:solidFill>
              <a:latin typeface="隶书"/>
              <a:ea typeface="隶书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733920" y="4876920"/>
            <a:ext cx="838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620120" y="4876920"/>
            <a:ext cx="121896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痛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3:17:3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36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