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C2C-E189-4B3D-80EF-1CBA6FAE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04C-C310-40DA-BD0D-4986578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912-49FB-43C9-B04A-E0737D8B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F37-4962-4A1B-B219-9E5ADE3B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4FFE-1B98-4F0B-B8E9-4ED0D393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5316-B366-4912-B8EA-E40EDE51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8CE0-B57D-4BD1-8D01-592CBC79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91C1-6CFB-40C2-B0F7-70A0E3BC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CC2B-E2B1-4AB1-B898-063B4E87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F0A3-9DCB-4B5D-AFEC-E7F4E85E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7A7F-B796-4EDC-B6CF-C31AEC5D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0D9-AA4A-45A4-905F-D8172A77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12BD-BEA6-4960-B5C8-BAD543B0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AE42-4C2B-4FCE-A006-6785AB8D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AB61-55B2-4EC5-99CD-22278071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186F-8EC6-49BD-B846-AC0E5440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03B8-0A39-4E0F-B7F6-D4B0A970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1FF-6D6E-42F8-B71C-483E4298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BCF-E59C-4E57-8FFB-608B483F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D8C-52DE-4818-8F71-349C8C72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DE3-9C81-435C-903E-0AC8D981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6E4-5DE1-4379-AC71-860E29F8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1EC-E5E9-4831-8CEF-E40B8B8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2BB-D565-426C-881B-E2394EC6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c0c0c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d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0066"/>
                  </a:solidFill>
                  <a:latin typeface="隶书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00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00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3F5E-E930-4C50-83EC-0E6D684E34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d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8eb3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0066"/>
                </a:solidFill>
                <a:latin typeface="隶书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00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00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6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207A-1277-4DA7-93F9-E523A16C7571}" type="slidenum">
              <a:rPr b="0" lang="en-US" sz="1400" spc="-1" strike="noStrike">
                <a:solidFill>
                  <a:srgbClr val="cc006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920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8360" y="1844280"/>
            <a:ext cx="7812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5" name="WordArt 6"/>
          <p:cNvSpPr txBox="1"/>
          <p:nvPr/>
        </p:nvSpPr>
        <p:spPr>
          <a:xfrm rot="5400000">
            <a:off x="2896920" y="2008080"/>
            <a:ext cx="3699000" cy="1644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中餐礼仪</a:t>
            </a:r>
            <a:endParaRPr b="1" i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其他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一般餐桌上会为每位用餐者准备茶水饮料和酒水，通常茶水饮料酒水在右侧，饮用时尽量不要用错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作为主人（特别是陪同人员），宴会进行期间可能为客人斟酒上菜，应该从客人左侧上菜，从客人右侧斟酒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4"/>
          <p:cNvSpPr txBox="1"/>
          <p:nvPr/>
        </p:nvSpPr>
        <p:spPr>
          <a:xfrm rot="5400000">
            <a:off x="2088000" y="2167560"/>
            <a:ext cx="4680000" cy="24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谢谢</a:t>
            </a:r>
            <a:endParaRPr b="0" i="1" lang="en-US" sz="24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66"/>
                </a:solidFill>
                <a:latin typeface="隶书"/>
              </a:rPr>
              <a:t>www.eeppt.com</a:t>
            </a:r>
            <a:endParaRPr b="0" lang="en-US" sz="1400" spc="-1" strike="noStrike">
              <a:solidFill>
                <a:srgbClr val="cc0066"/>
              </a:solidFill>
              <a:latin typeface="隶书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中餐礼仪</a:t>
            </a:r>
            <a:br>
              <a:rPr sz="4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宴会分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餐饮是一种常见的社交活动，中国餐饮文化很丰富，中国人热情好客，很讲究餐饮礼仪。中餐宴会是指具有中国传统民族风格的宴会，遵守中国人的饮食习惯和礼仪规范。宴请活动就其目的性质而言，大约分为三种：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一种是礼仪性质的，如为迎接重要的来宾或政界要员的公务性来访；为庆祝重大的节日或举行一项重要的仪式等举行的宴会，都属于礼仪上的需要，这种宴会要有一定的礼宾规格和程序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另一种是交谊性的，主要是为了沟通感情、表示友好、发展友谊，如：接风、送行、告别、聚会等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再一种是工作性质的，主人或参加宴会的人为解决某项工作而举行的宴请，以便在餐桌上商谈工作。这三种情况又常交相为用兼而有之。宴会的目的形式性质不同，但宾主所遵循的基本礼仪是一致的。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宴会的基本礼仪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座次安排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隶书"/>
                <a:ea typeface="隶书"/>
              </a:rPr>
              <a:t>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座次安排。正式宴会，一般都事先安排座次，以便参加宴会者入席时井然有序，同时也是对客人的一种礼貌，非正式的宴会不必提前安排座次，但通常就坐也要有上下之分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安排座位时应考虑以下几点：一是以主人的位置为中心。如有女主人参加，则以主人和女主人为中心，以靠近主人者为上，依次排列；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二是要把主宾和夫人安排在最主要的位置。通常是以右为上，即主人的右手是最主要的位置。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  <a:ea typeface="隶书"/>
              </a:rPr>
              <a:t>第一主宾就坐于主人右侧，第二主宾在主人左侧或第一主宾右侧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  <a:ea typeface="隶书"/>
              </a:rPr>
              <a:t>变通处理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离门最远的、面对着门的位置是上座，离门最近的、背对着门的位置是下座，上座的右边是第二号位，左边是第三号位，依次类推；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三是在遵从礼宾次序的前提下，尽可能使相邻者便于交谈；四是主人方面的陪客应尽可能插在客人之间，以便与客人交谈，避免自己的人坐在一起。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755640" y="39337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隶书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宴会的基本礼仪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宾主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主人的礼仪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应该说，宴会的成功有赖于主人的热情好客，慷慨招待和细致周到的组织安排。从礼节上讲，主人的职责是使每一位来宾都感到主人对自己的欢迎之意。主人举办宴请，无论是中餐还是西餐，无论是出于什么原因和目的，主人都应提前对客人发出口头或书面邀请，并依照客人的习惯、特点安排好请客时间、地点等事宜。礼仪性宴请礼节更隆重讲究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在宴会开始前，主人应该站立门前笑迎宾客，晚辈在前，长辈居后。对每一位来宾，要依次招呼，待客人大部分到齐之后，再回到宴会场所中来，分头跟客人招呼、应酬（家庭便宴比较随便，主人不一定在门口迎客，可在客人到达时趋前握手招呼）。主人对宾客必须热诚恳切，一视同仁，不可只注意应酬一两个忽略了别的客人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入席前，烟、茶不可全部假手他人或服务员代劳递送，主人应尽可能地亲自递烟倒茶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宴会的基本礼仪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宾主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上菜后，主人要先向客人敬酒，说一些感谢光临的客气话。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  <a:ea typeface="隶书"/>
              </a:rPr>
              <a:t>斟酒上菜由宾客右侧进行，先主宾，后主人，先女宾，后男宾。酒斟八分，不可过满。上菜顺序依然保持传统，先冷后热。热菜应从主宾对面席位的左侧上；上单份菜或配菜席点和小吃先宾后主，上全鸡、全鸭、全鱼等整形菜，不能头尾朝向正主位。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此后每一道菜上来，都要先举杯邀饮，然后请客人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起筷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”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。要照顾到客人的用餐方便，及时调换菜点或转动餐台。遇到有特殊口味的客人要及时调换菜点。席散后，主人要到门口，恭送客人离去。对那些在宴请中照顾不多的客人，应说几句抱歉和感谢之类的话。对走在后面的客人，可略为寒暄几句。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c0066"/>
                </a:solidFill>
                <a:latin typeface="隶书"/>
              </a:rPr>
              <a:t>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宴会的基本礼仪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宾主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隶书"/>
                <a:ea typeface="隶书"/>
              </a:rPr>
              <a:t> </a:t>
            </a: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做客礼仪 </a:t>
            </a:r>
            <a:br>
              <a:rPr sz="1800"/>
            </a:b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作为应邀参加宴会的客人，如时赴约，举止得当，讲究礼节是对主人的尊重。还应注意以下几个问题：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服饰。客人赴宴前应根据宴会的目的、规格、对象、风俗习惯或主人的要求考虑自己的着装，着装不得体会影响宾主的情绪，影响宴会的气氛。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点菜。如果主人安排好了菜，客人就不要再点菜了。如果你参加一个尚未安排好菜的宴会，就要注意点菜的礼节。点菜时，不要选择太贵的菜，同时也不宜点太便宜的菜，太便宜了，主人反而不高兴，认为你看不起他，如果最便宜的菜恰是你真心喜欢的菜，那就要想点办法，尽量说得委婉一些。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进餐。进餐时举止要文明礼貌，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隶书"/>
              </a:rPr>
              <a:t>“</a:t>
            </a: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不马食，不牛饮，不虎咽，不鲸吞，嚼食物，不出声，嘴唇边，不留痕，骨与秽，莫乱扔。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隶书"/>
              </a:rPr>
              <a:t>”</a:t>
            </a: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面对一桌子美味佳肴，不要急于动筷子，须等主人动筷说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隶书"/>
              </a:rPr>
              <a:t>“</a:t>
            </a: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请</a:t>
            </a: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隶书"/>
              </a:rPr>
              <a:t>”</a:t>
            </a:r>
            <a:r>
              <a:rPr b="0" lang="zh-CN" sz="1800" spc="-1" strike="noStrike">
                <a:solidFill>
                  <a:srgbClr val="cc0066"/>
                </a:solidFill>
                <a:latin typeface="隶书"/>
                <a:ea typeface="隶书"/>
              </a:rPr>
              <a:t>之后你才能动筷。主人举杯示意开始，客人才能用餐。如果酒量还能够承受，对主人敬的第一杯酒应喝干。同席的客人可以相互劝酒，但不可以任何方式强迫对方喝酒，否则是失礼。自己不愿或不能喝酒时，可以谢绝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cc0066"/>
                </a:solidFill>
                <a:latin typeface="隶书"/>
              </a:rPr>
              <a:t> 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宴会的基本礼仪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彩云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宾主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Arial"/>
                <a:ea typeface="隶书"/>
              </a:rPr>
              <a:t>夹菜时，一是使用公筷；二是夹菜适量，不要取得过多，吃不了剩下不好。三是在自己跟前取菜，不要伸长胳膊去够远处的菜；四是不能用筷子随意翻动盘中的菜；五是遇到自己不喜欢吃的菜，可很少地夹一点，放在盘中，不要吃掉，当这道菜再传到你面前时，你就可以借口盘中的菜还没有吃完，而不再夹这道菜，最后你应将盘中的菜全部吃净。进食时尽可能不咳嗽、打喷嚏、打呵欠、擤鼻涕，万一不能抑制，要用手帕、餐巾纸遮挡口鼻，转身，脸侧向一方，低头尽量压低声音。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参加宴会最好不中途离去。万不得已时应向同桌的人说声对不起，同时还要郑重地向主人道歉，说明原委。吃完之后，应该等大家都放下筷子，主人示意可以散席，才能离座。宴会完毕，你可以依次走到主人面前，握手并说声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谢谢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”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，向主人告辞，但不要拉着主人的手不停地说话，以免妨碍主人送其他客人。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9464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其他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筷子的用法。筷子虽然用起来简单、方便，但也有很多规矩。比如：不能举着筷子和别人说话，说话时要把筷子放到筷架上，或将筷子并齐放在饭碗旁边。不能用筷子去推饭碗、菜碟，不要用筷子去叉馒头或别的食品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其它用筷忌讳还有：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忌舔筷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不要用舌头去舔筷子上的附着物；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忌迷筷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举着筷子却不知道夹什么，在菜碟间来回游移。更不能用筷子拨盘子里的菜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忌泪筷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夹菜时滴滴哒哒流着菜汁。应该拿着小碟，先把菜夹到小碟里再端过来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忌移筷</a:t>
            </a:r>
            <a:r>
              <a:rPr b="0" lang="en-US" sz="2000" spc="-1" strike="noStrike">
                <a:solidFill>
                  <a:srgbClr val="cc0066"/>
                </a:solidFill>
                <a:latin typeface="隶书"/>
                <a:ea typeface="隶书"/>
              </a:rPr>
              <a:t>--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刚夹了这盘里的菜，又去夹那盘里的菜，应该吃完之后再夹另一盘菜。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   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忌敲筷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0" lang="zh-CN" sz="2000" spc="-1" strike="noStrike">
                <a:solidFill>
                  <a:srgbClr val="cc0066"/>
                </a:solidFill>
                <a:latin typeface="隶书"/>
                <a:ea typeface="隶书"/>
              </a:rPr>
              <a:t>敲筷子是对主人的不尊重。另外，筷子通常应摆放在碗的旁边，不能放在碗上。在用餐时如需临时离开，应把筷子轻轻放在桌子上碗的旁边，切不可插在饭碗里。现在有些宴席实行公筷母匙，那么，你就要记住不能用个人独用的筷子汤匙给别人夹菜舀汤。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d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其他礼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Arial"/>
                <a:ea typeface="隶书"/>
              </a:rPr>
              <a:t>餐巾的用法。如今很多餐厅都为顾客准备了餐巾，通常，要等坐在上座的尊者拿起餐巾后，你才可以取出平铺在腿上，动作要小，不要像斗牛似的在空中抖开。餐巾很大时可以叠起来使用，不要将餐巾别在领上或背心上。餐巾的主要作用是防止食物落在衣服上，所以只能用餐巾的一角来印一印嘴唇，不能拿整块餐巾擦脸、擤鼻涕，也不要用餐巾来擦餐具。如果你是暂时离开座位，请将餐巾叠放在椅背或椅子扶手上。用完餐，将餐巾叠一下放在桌子上，可千万别揉成一团“弃”在那儿，好像一朵被你摧残过的花朵。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3:05:4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9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