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8AB6-55A0-4DDF-BC0F-C4B89F7A1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0407-793D-4017-8116-E1B0BBEB3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329F-6FB2-4DB3-A18F-B3C253B26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E2F5-BE07-43A2-9CB2-0DC0A640D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B1C6A-C6A1-4335-ADE9-68DE71E86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4B2D0-C04D-46DA-95DF-D5E28144F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3D075-07DE-47A4-AB1E-BAD3B8A16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40B11-FFCB-4ED9-AE20-57680BA6D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B806F-09A9-45E6-8202-972C5B757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B85ED-9135-4180-AA9C-7B9A658B6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4C2B6-645D-42AE-887B-84E9CF6AB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F83F-7B09-460C-B4D4-753B18510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7405B-6F56-4BB1-A4A0-FE6D176FB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95E41-35BA-4748-A249-44162D1EB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791A6-A30A-401E-AAF4-92E3C143B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51ADB-E9CA-4B0E-A60F-C4F077221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59EB4-0B3C-4693-816A-D1C0A5997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9F04-3BE8-4B16-9991-E92CF53DC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4CF5-4DD5-40A8-B0EF-195656BA1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884E-3818-464F-BC89-FACEA2E64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A479-0101-41C0-8A8A-E8BDF4F9A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8C63-7222-4E51-B432-07640D285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B662-747E-4414-BB4B-D5B6A2FD4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5AEA-6F09-4664-9754-FFCEADAB5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DCA61-16AD-477B-A149-32AC0A09FC2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F6FC0-9F45-45DF-BBB8-71D17D427C4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47E2A-1602-4ED4-BE31-2738E7B4E54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1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PM_04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WordArt 3"/>
          <p:cNvSpPr txBox="1"/>
          <p:nvPr/>
        </p:nvSpPr>
        <p:spPr>
          <a:xfrm>
            <a:off x="2916360" y="2666880"/>
            <a:ext cx="373356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71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80"/>
                  </a:solidFill>
                  <a:miter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华文彩云"/>
              </a:rPr>
              <a:t>找春天</a:t>
            </a:r>
            <a:endParaRPr b="1" lang="en-US" sz="1800" spc="1" strike="noStrike">
              <a:ln w="12600">
                <a:solidFill>
                  <a:srgbClr val="000080"/>
                </a:solidFill>
                <a:miter/>
              </a:ln>
              <a:solidFill>
                <a:srgbClr val="0000ff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华文彩云"/>
              <a:ea typeface="华文彩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矩形 6"/>
          <p:cNvSpPr/>
          <p:nvPr/>
        </p:nvSpPr>
        <p:spPr>
          <a:xfrm>
            <a:off x="3132000" y="242100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到大自然中去找春天，把你看到的画下来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3" descr="BJ_013"/>
          <p:cNvPicPr/>
          <p:nvPr/>
        </p:nvPicPr>
        <p:blipFill>
          <a:blip r:embed="rId1"/>
          <a:stretch/>
        </p:blipFill>
        <p:spPr>
          <a:xfrm>
            <a:off x="0" y="1828800"/>
            <a:ext cx="91440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说说从哪些地方看出春天来了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PIC_052"/>
          <p:cNvPicPr/>
          <p:nvPr/>
        </p:nvPicPr>
        <p:blipFill>
          <a:blip r:embed="rId1"/>
          <a:stretch/>
        </p:blipFill>
        <p:spPr>
          <a:xfrm>
            <a:off x="0" y="990720"/>
            <a:ext cx="91440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3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说说从哪些地方看出春天来了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PIC_121"/>
          <p:cNvPicPr/>
          <p:nvPr/>
        </p:nvPicPr>
        <p:blipFill>
          <a:blip r:embed="rId1"/>
          <a:stretch/>
        </p:blipFill>
        <p:spPr>
          <a:xfrm>
            <a:off x="0" y="990720"/>
            <a:ext cx="91440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说说从哪些地方看出春天来了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PIC_118"/>
          <p:cNvPicPr/>
          <p:nvPr/>
        </p:nvPicPr>
        <p:blipFill>
          <a:blip r:embed="rId1"/>
          <a:stretch/>
        </p:blipFill>
        <p:spPr>
          <a:xfrm>
            <a:off x="0" y="990720"/>
            <a:ext cx="91440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  <a:ea typeface="楷体_GB2312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PTW_119"/>
          <p:cNvPicPr/>
          <p:nvPr/>
        </p:nvPicPr>
        <p:blipFill>
          <a:blip r:embed="rId1"/>
          <a:stretch/>
        </p:blipFill>
        <p:spPr>
          <a:xfrm>
            <a:off x="609480" y="3809880"/>
            <a:ext cx="4038840" cy="2743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PTW_102"/>
          <p:cNvPicPr/>
          <p:nvPr/>
        </p:nvPicPr>
        <p:blipFill>
          <a:blip r:embed="rId2"/>
          <a:stretch/>
        </p:blipFill>
        <p:spPr>
          <a:xfrm>
            <a:off x="4648320" y="3429000"/>
            <a:ext cx="4495680" cy="3429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RM_0784"/>
          <p:cNvPicPr/>
          <p:nvPr/>
        </p:nvPicPr>
        <p:blipFill>
          <a:blip r:embed="rId3"/>
          <a:stretch/>
        </p:blipFill>
        <p:spPr>
          <a:xfrm>
            <a:off x="4648320" y="0"/>
            <a:ext cx="4495680" cy="3429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RM_0642"/>
          <p:cNvPicPr/>
          <p:nvPr/>
        </p:nvPicPr>
        <p:blipFill>
          <a:blip r:embed="rId4"/>
          <a:stretch/>
        </p:blipFill>
        <p:spPr>
          <a:xfrm>
            <a:off x="0" y="0"/>
            <a:ext cx="46483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8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11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2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30T13:05:47Z</dcterms:created>
  <dc:creator>An</dc:creator>
  <dc:description>ppt模板下载网站 http://www.eeppt.com</dc:description>
  <cp:keywords>ppt模板下载网站 http:/www.eeppt.com</cp:keywords>
  <dc:language>en-US</dc:language>
  <cp:lastModifiedBy/>
  <dcterms:modified xsi:type="dcterms:W3CDTF">2015-05-20T04:17:29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