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9F0-2D03-47D2-919E-C6C59376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A0C-1530-430B-BEFD-08916449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46E-3082-4371-9BF4-1FBC2196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90C-745F-4648-87FF-6278CE75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455F-29B4-4FBE-8E83-9200D77A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1BFA-FBD2-4E07-8E00-349D75D8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16DB-67C6-47E6-83C7-2A5B19C0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D31D-4B42-4F39-9934-E9A1E33F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1957-29BD-4983-B03E-F7879F9E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3F8B-205B-43E9-A440-CD9C76CE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9F80-6F75-4BE6-A8D6-DB785685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A79-91BB-4EAE-9E5D-AE36F76F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4AE0-95D0-412B-9CCE-BF4C0072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9D30-206F-4E00-A9DB-CBA2D400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8549-0AD6-49C4-A4EE-E8377869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F673-9606-4838-8759-76439408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8B1B-06DC-4325-AF0C-1F076099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B41D-B6F9-43A2-AFDF-FF46DC9E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E615-B3F0-4281-83D0-CE5275AC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ABD0-3EEE-4F6D-84A7-3A4FD662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AD93-4E2C-4219-9912-0CB152B7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62678-A367-4148-9CC2-B64F2D2C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687-23A1-43B5-B3D0-483AD443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0915-547F-4C08-81CD-202C4C58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F328-A6B6-47B9-B14E-F8980868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CCA04-934A-4EB5-8FE3-44A6D41D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D7A28-C4C8-4782-8C99-54039223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12DA-BC67-45C3-9DCE-7B8E81EF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5ECF-2837-4628-AC54-4A026F6F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DECC-F20E-4159-B3DE-6417E459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479-8FE0-4E15-BBEF-1E17E00B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101-4C89-4010-9650-5480EB1F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860-D27F-42A3-95A1-4C140278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ABF-56AB-4717-9A65-6AC994AB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93A-30AA-4C94-A3B7-E5A24273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523-7CBC-4B77-A4CC-33D1A6C9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Picture 14" descr="d01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15"/>
            <p:cNvSpPr/>
            <p:nvPr/>
          </p:nvSpPr>
          <p:spPr>
            <a:xfrm>
              <a:off x="380880" y="0"/>
              <a:ext cx="838224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9E84-FFF4-4984-BB33-CDAB5A90E5D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39" descr="f026"/>
          <p:cNvPicPr/>
          <p:nvPr/>
        </p:nvPicPr>
        <p:blipFill>
          <a:blip r:embed="rId2"/>
          <a:stretch/>
        </p:blipFill>
        <p:spPr>
          <a:xfrm>
            <a:off x="460044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40" descr="f0261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Line 1041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f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Line 1042"/>
          <p:cNvSpPr/>
          <p:nvPr/>
        </p:nvSpPr>
        <p:spPr>
          <a:xfrm>
            <a:off x="4572000" y="2637000"/>
            <a:ext cx="0" cy="3097080"/>
          </a:xfrm>
          <a:prstGeom prst="line">
            <a:avLst/>
          </a:prstGeom>
          <a:ln w="57240">
            <a:solidFill>
              <a:srgbClr val="a1d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Line 1043"/>
          <p:cNvSpPr/>
          <p:nvPr/>
        </p:nvSpPr>
        <p:spPr>
          <a:xfrm>
            <a:off x="4572000" y="3141720"/>
            <a:ext cx="0" cy="1800000"/>
          </a:xfrm>
          <a:prstGeom prst="line">
            <a:avLst/>
          </a:prstGeom>
          <a:ln w="57240">
            <a:solidFill>
              <a:srgbClr val="5285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15F2-AB46-439C-898C-8C80383B50D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430D-2F32-4D70-A7CF-636F69D1C47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F606-5892-49B8-AAF0-6910BE1A97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aolijie1@163.com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</a:rPr>
              <a:t>轴对称现象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3429000" y="4648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温州市第二十一中学       廖利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50072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" descr="蝴蝶2"/>
          <p:cNvPicPr/>
          <p:nvPr/>
        </p:nvPicPr>
        <p:blipFill>
          <a:blip r:embed="rId1"/>
          <a:stretch/>
        </p:blipFill>
        <p:spPr>
          <a:xfrm>
            <a:off x="2209680" y="3962520"/>
            <a:ext cx="2895840" cy="22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52" name="Picture 14" descr="蝴蝶12"/>
          <p:cNvPicPr/>
          <p:nvPr/>
        </p:nvPicPr>
        <p:blipFill>
          <a:blip r:embed="rId2"/>
          <a:stretch/>
        </p:blipFill>
        <p:spPr>
          <a:xfrm>
            <a:off x="2133720" y="3962520"/>
            <a:ext cx="3047760" cy="23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3" name="Picture 13" descr="蝴蝶4"/>
          <p:cNvPicPr/>
          <p:nvPr/>
        </p:nvPicPr>
        <p:blipFill>
          <a:blip r:embed="rId3"/>
          <a:stretch/>
        </p:blipFill>
        <p:spPr>
          <a:xfrm>
            <a:off x="1981080" y="1371600"/>
            <a:ext cx="3657600" cy="2529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8"/>
          <p:cNvSpPr txBox="1"/>
          <p:nvPr/>
        </p:nvSpPr>
        <p:spPr>
          <a:xfrm>
            <a:off x="914400" y="68580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703440" y="3962520"/>
            <a:ext cx="1277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Times New Roman"/>
                <a:ea typeface="幼圆"/>
              </a:rPr>
              <a:t>你能想办法将这个蝴蝶风筝修复吗？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Picture 19" descr="蝴蝶"/>
          <p:cNvPicPr/>
          <p:nvPr/>
        </p:nvPicPr>
        <p:blipFill>
          <a:blip r:embed="rId4"/>
          <a:stretch/>
        </p:blipFill>
        <p:spPr>
          <a:xfrm>
            <a:off x="5334120" y="2057400"/>
            <a:ext cx="2319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蝴蝶1"/>
          <p:cNvPicPr/>
          <p:nvPr/>
        </p:nvPicPr>
        <p:blipFill>
          <a:blip r:embed="rId1"/>
          <a:stretch/>
        </p:blipFill>
        <p:spPr>
          <a:xfrm>
            <a:off x="2438280" y="990720"/>
            <a:ext cx="4515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9" descr="Image7944"/>
          <p:cNvPicPr/>
          <p:nvPr/>
        </p:nvPicPr>
        <p:blipFill>
          <a:blip r:embed="rId1"/>
          <a:stretch/>
        </p:blipFill>
        <p:spPr>
          <a:xfrm>
            <a:off x="1905120" y="1219320"/>
            <a:ext cx="5486400" cy="482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9" name="Line 12"/>
          <p:cNvSpPr/>
          <p:nvPr/>
        </p:nvSpPr>
        <p:spPr>
          <a:xfrm>
            <a:off x="1752480" y="3809880"/>
            <a:ext cx="586764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90720" y="1447920"/>
            <a:ext cx="7238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对于两个图形，如果沿某条直线对折后，两个图形能够完全重合，那么这</a:t>
            </a:r>
            <a:r>
              <a:rPr b="1" lang="zh-CN" sz="3600" spc="-1" strike="noStrike">
                <a:solidFill>
                  <a:srgbClr val="e8452a"/>
                </a:solidFill>
                <a:latin typeface="Arial"/>
              </a:rPr>
              <a:t>两个图形成轴对称</a:t>
            </a: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折痕所在的直线叫做</a:t>
            </a:r>
            <a:r>
              <a:rPr b="1" lang="zh-CN" sz="3600" spc="-1" strike="noStrike">
                <a:solidFill>
                  <a:srgbClr val="e8452a"/>
                </a:solidFill>
                <a:latin typeface="Arial"/>
              </a:rPr>
              <a:t>对称轴</a:t>
            </a: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3276720" y="2057400"/>
            <a:ext cx="17524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1523880" y="2590920"/>
            <a:ext cx="16002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1523880" y="3200400"/>
            <a:ext cx="7621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4724280" y="3809880"/>
            <a:ext cx="7621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23520" y="205704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ff7c80"/>
                </a:solidFill>
                <a:latin typeface="Arial"/>
                <a:ea typeface="华文行楷"/>
              </a:rPr>
              <a:t>你能设计一个 轴对称图形吗？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WordArt 7"/>
          <p:cNvSpPr txBox="1"/>
          <p:nvPr/>
        </p:nvSpPr>
        <p:spPr>
          <a:xfrm>
            <a:off x="990720" y="68580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一练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7" name="钢-秋日私语.mp3" descr=""/>
          <p:cNvPicPr/>
          <p:nvPr/>
        </p:nvPicPr>
        <p:blipFill>
          <a:blip r:embed="rId1"/>
          <a:stretch/>
        </p:blipFill>
        <p:spPr>
          <a:xfrm>
            <a:off x="502920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94920" y="23619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8800" spc="-1" strike="noStrike">
                <a:solidFill>
                  <a:srgbClr val="ff7c80"/>
                </a:solidFill>
                <a:latin typeface="Arial"/>
                <a:ea typeface="华文行楷"/>
              </a:rPr>
              <a:t>作品展示</a:t>
            </a:r>
            <a:endParaRPr b="0" lang="en-US" sz="8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990720" y="68580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一练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371600" y="16765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8452a"/>
                </a:solidFill>
                <a:latin typeface="Arial"/>
              </a:rPr>
              <a:t>你能谈谈这节课的感受吗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WordArt 7"/>
          <p:cNvSpPr txBox="1"/>
          <p:nvPr/>
        </p:nvSpPr>
        <p:spPr>
          <a:xfrm>
            <a:off x="990720" y="685800"/>
            <a:ext cx="1371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结：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2" name="WordArt 9"/>
          <p:cNvSpPr txBox="1"/>
          <p:nvPr/>
        </p:nvSpPr>
        <p:spPr>
          <a:xfrm>
            <a:off x="1066680" y="281952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对称的应用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3" name="Picture 10" descr="建筑5"/>
          <p:cNvPicPr/>
          <p:nvPr/>
        </p:nvPicPr>
        <p:blipFill>
          <a:blip r:embed="rId1"/>
          <a:stretch/>
        </p:blipFill>
        <p:spPr>
          <a:xfrm>
            <a:off x="1447920" y="3657600"/>
            <a:ext cx="3033720" cy="22795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74" name="Picture 11" descr="飞机2"/>
          <p:cNvPicPr/>
          <p:nvPr/>
        </p:nvPicPr>
        <p:blipFill>
          <a:blip r:embed="rId2"/>
          <a:stretch/>
        </p:blipFill>
        <p:spPr>
          <a:xfrm>
            <a:off x="4648320" y="3657600"/>
            <a:ext cx="3200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MingLiU"/>
                <a:ea typeface="MingLiU"/>
              </a:rPr>
              <a:t>1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、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</a:rPr>
              <a:t>创作：</a:t>
            </a:r>
            <a:r>
              <a:rPr b="1" lang="zh-CN" sz="2800" spc="-1" strike="noStrike">
                <a:solidFill>
                  <a:srgbClr val="ff7c80"/>
                </a:solidFill>
                <a:latin typeface="Times New Roman"/>
                <a:ea typeface="MingLiU"/>
              </a:rPr>
              <a:t> 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 剪一个轴对称图形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            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折一个轴对称图形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            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画一个轴对称图形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            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用笔尖扎纸孔扎一个轴对称图形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            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用水彩涂染一个轴对称图形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   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以上任选两项完成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MingLiU"/>
                <a:ea typeface="MingLiU"/>
              </a:rPr>
              <a:t>2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、课后上网查找关于轴对称图形的有关资料，写写你的感受寄给老师（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MingLiU"/>
                <a:ea typeface="MingLiU"/>
                <a:hlinkClick r:id="rId1"/>
              </a:rPr>
              <a:t>liaolijie1@163.com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）记得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</a:rPr>
              <a:t>要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写上你的真实姓名哦。</a:t>
            </a:r>
            <a:r>
              <a:rPr b="0" lang="zh-CN" sz="2800" spc="-1" strike="noStrike">
                <a:solidFill>
                  <a:srgbClr val="ff7c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990720" y="83808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：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谢谢指导！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</a:rPr>
              <a:t>轴对称现象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429000" y="4648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温州市第二十一中学       廖利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1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066680" y="10666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看一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7" name="Group 15"/>
          <p:cNvGrpSpPr/>
          <p:nvPr/>
        </p:nvGrpSpPr>
        <p:grpSpPr>
          <a:xfrm>
            <a:off x="1447920" y="2438280"/>
            <a:ext cx="6354720" cy="1855800"/>
            <a:chOff x="1447920" y="2438280"/>
            <a:chExt cx="6354720" cy="1855800"/>
          </a:xfrm>
        </p:grpSpPr>
        <p:pic>
          <p:nvPicPr>
            <p:cNvPr id="138" name="Picture 5" descr="脸谱（不对称的经典）"/>
            <p:cNvPicPr/>
            <p:nvPr/>
          </p:nvPicPr>
          <p:blipFill>
            <a:blip r:embed="rId1"/>
            <a:stretch/>
          </p:blipFill>
          <p:spPr>
            <a:xfrm>
              <a:off x="4724640" y="2514600"/>
              <a:ext cx="1400040" cy="17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脸谱（对称的经典）"/>
            <p:cNvPicPr/>
            <p:nvPr/>
          </p:nvPicPr>
          <p:blipFill>
            <a:blip r:embed="rId2"/>
            <a:stretch/>
          </p:blipFill>
          <p:spPr>
            <a:xfrm>
              <a:off x="1447920" y="2514600"/>
              <a:ext cx="1386000" cy="17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3" descr="脸谱6"/>
            <p:cNvPicPr/>
            <p:nvPr/>
          </p:nvPicPr>
          <p:blipFill>
            <a:blip r:embed="rId3"/>
            <a:stretch/>
          </p:blipFill>
          <p:spPr>
            <a:xfrm>
              <a:off x="6324840" y="2438280"/>
              <a:ext cx="14778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4" descr="脸谱7"/>
            <p:cNvPicPr/>
            <p:nvPr/>
          </p:nvPicPr>
          <p:blipFill>
            <a:blip r:embed="rId4"/>
            <a:stretch/>
          </p:blipFill>
          <p:spPr>
            <a:xfrm>
              <a:off x="3048120" y="2514600"/>
              <a:ext cx="141300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028" descr="20020104001040"/>
          <p:cNvPicPr/>
          <p:nvPr/>
        </p:nvPicPr>
        <p:blipFill>
          <a:blip r:embed="rId1"/>
          <a:stretch/>
        </p:blipFill>
        <p:spPr>
          <a:xfrm>
            <a:off x="2590920" y="1143000"/>
            <a:ext cx="39337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029" descr="E:\My Documents\英国国旗.gif"/>
          <p:cNvPicPr/>
          <p:nvPr/>
        </p:nvPicPr>
        <p:blipFill>
          <a:blip r:embed="rId1"/>
          <a:stretch/>
        </p:blipFill>
        <p:spPr>
          <a:xfrm>
            <a:off x="2133720" y="1981080"/>
            <a:ext cx="4997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30" descr="E:\My Documents\My Picture\剪纸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6220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52" descr="七星瓢虫"/>
          <p:cNvPicPr/>
          <p:nvPr/>
        </p:nvPicPr>
        <p:blipFill>
          <a:blip r:embed="rId1"/>
          <a:stretch/>
        </p:blipFill>
        <p:spPr>
          <a:xfrm>
            <a:off x="2743200" y="1828800"/>
            <a:ext cx="3581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2743200" y="1828800"/>
            <a:ext cx="3451320" cy="3184560"/>
          </a:xfrm>
          <a:prstGeom prst="rect">
            <a:avLst/>
          </a:prstGeom>
          <a:solidFill>
            <a:srgbClr val="ffa7e2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9"/>
          <p:cNvSpPr txBox="1"/>
          <p:nvPr/>
        </p:nvSpPr>
        <p:spPr>
          <a:xfrm>
            <a:off x="990720" y="76212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折一折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3886200" y="2666880"/>
            <a:ext cx="4038480" cy="1752840"/>
          </a:xfrm>
          <a:prstGeom prst="parallelogram">
            <a:avLst>
              <a:gd name="adj" fmla="val 57599"/>
            </a:avLst>
          </a:prstGeom>
          <a:solidFill>
            <a:srgbClr val="aa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Oval 22"/>
          <p:cNvSpPr/>
          <p:nvPr/>
        </p:nvSpPr>
        <p:spPr>
          <a:xfrm>
            <a:off x="1447920" y="2209680"/>
            <a:ext cx="2438280" cy="2362320"/>
          </a:xfrm>
          <a:prstGeom prst="ellipse">
            <a:avLst/>
          </a:prstGeom>
          <a:solidFill>
            <a:srgbClr val="5bd8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AutoShape 26">
            <a:hlinkClick r:id="" action="ppaction://hlinkshowjump?jump=nextslide"/>
          </p:cNvPr>
          <p:cNvSpPr/>
          <p:nvPr/>
        </p:nvSpPr>
        <p:spPr>
          <a:xfrm>
            <a:off x="7236000" y="5300640"/>
            <a:ext cx="1223640" cy="1152720"/>
          </a:xfrm>
          <a:custGeom>
            <a:avLst/>
            <a:gdLst>
              <a:gd name="textAreaLeft" fmla="*/ 72000 w 1223640"/>
              <a:gd name="textAreaRight" fmla="*/ 1151640 w 1223640"/>
              <a:gd name="textAreaTop" fmla="*/ 72000 h 1152720"/>
              <a:gd name="textAreaBottom" fmla="*/ 1080720 h 1152720"/>
            </a:gdLst>
            <a:ahLst/>
            <a:rect l="textAreaLeft" t="textAreaTop" r="textAreaRight" b="textAreaBottom"/>
            <a:pathLst>
              <a:path w="22929" h="21600">
                <a:moveTo>
                  <a:pt x="0" y="0"/>
                </a:moveTo>
                <a:lnTo>
                  <a:pt x="22929" y="0"/>
                </a:lnTo>
                <a:lnTo>
                  <a:pt x="22929" y="21600"/>
                </a:lnTo>
                <a:lnTo>
                  <a:pt x="0" y="21600"/>
                </a:lnTo>
                <a:close/>
              </a:path>
              <a:path fill="lightenLess" w="22929" h="21600">
                <a:moveTo>
                  <a:pt x="0" y="0"/>
                </a:moveTo>
                <a:lnTo>
                  <a:pt x="22929" y="0"/>
                </a:lnTo>
                <a:lnTo>
                  <a:pt x="21579" y="1350"/>
                </a:lnTo>
                <a:lnTo>
                  <a:pt x="1350" y="1350"/>
                </a:lnTo>
                <a:close/>
              </a:path>
              <a:path fill="darken" w="22929" h="21600">
                <a:moveTo>
                  <a:pt x="22929" y="0"/>
                </a:moveTo>
                <a:lnTo>
                  <a:pt x="22929" y="21600"/>
                </a:lnTo>
                <a:lnTo>
                  <a:pt x="21579" y="20250"/>
                </a:lnTo>
                <a:lnTo>
                  <a:pt x="21579" y="1350"/>
                </a:lnTo>
                <a:close/>
              </a:path>
              <a:path fill="darkenLess" w="22929" h="21600">
                <a:moveTo>
                  <a:pt x="2292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579" y="20250"/>
                </a:lnTo>
                <a:close/>
              </a:path>
              <a:path fill="lighten" w="2292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929" h="21600">
                <a:moveTo>
                  <a:pt x="4421" y="3756"/>
                </a:moveTo>
                <a:lnTo>
                  <a:pt x="18508" y="10800"/>
                </a:lnTo>
                <a:lnTo>
                  <a:pt x="4421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19Z</dcterms:created>
  <dc:creator>An</dc:creator>
  <dc:description/>
  <dc:language>en-US</dc:language>
  <cp:lastModifiedBy>a</cp:lastModifiedBy>
  <dcterms:modified xsi:type="dcterms:W3CDTF">2015-05-20T04:19:19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