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62A-6D56-43B5-BF1A-FB2C26C9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6F9-EDC9-4285-B354-A2997F5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B18-E89F-4710-9190-BC39C740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D75-1344-4680-BAFB-426AFEEB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E2F-575C-4542-B48A-FDB58378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2F2-547B-4A37-82E3-0512C297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F87-B79A-48C4-B508-8A6EC41D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582-8C08-4EC7-AA3E-FEC8945D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218-8228-4E1D-B5EE-64761A9B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675-0FE2-4104-8932-AC443DDF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00E-C3DA-4239-B0C1-479866F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31C-AE45-449D-99A1-CFF3A9B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7582-73F4-40EB-8CD3-EE7C60482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15960" y="1125360"/>
            <a:ext cx="626436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最大的“书”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42" name="Picture 7" descr="E:\课件制作DISK2\课件图片素材\按钮图案\n3.jpg"/>
          <p:cNvPicPr/>
          <p:nvPr/>
        </p:nvPicPr>
        <p:blipFill>
          <a:blip r:embed="rId2"/>
          <a:stretch/>
        </p:blipFill>
        <p:spPr>
          <a:xfrm>
            <a:off x="1905120" y="3276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3" name="WordArt 11"/>
          <p:cNvSpPr txBox="1"/>
          <p:nvPr/>
        </p:nvSpPr>
        <p:spPr>
          <a:xfrm>
            <a:off x="533520" y="3124080"/>
            <a:ext cx="121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雨、波痕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4" name="WordArt 12"/>
          <p:cNvSpPr txBox="1"/>
          <p:nvPr/>
        </p:nvSpPr>
        <p:spPr>
          <a:xfrm>
            <a:off x="1219320" y="3657600"/>
            <a:ext cx="838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矿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1676520" y="4191120"/>
            <a:ext cx="838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树叶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209680" y="4572000"/>
            <a:ext cx="838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贝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95480" y="5029200"/>
            <a:ext cx="838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小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8" name="Picture 16" descr="E:\课件制作DISK2\课件图片素材\按钮图案\n3.jpg"/>
          <p:cNvPicPr/>
          <p:nvPr/>
        </p:nvPicPr>
        <p:blipFill>
          <a:blip r:embed="rId3"/>
          <a:stretch/>
        </p:blipFill>
        <p:spPr>
          <a:xfrm>
            <a:off x="2362320" y="3657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E:\课件制作DISK2\课件图片素材\按钮图案\n3.jpg"/>
          <p:cNvPicPr/>
          <p:nvPr/>
        </p:nvPicPr>
        <p:blipFill>
          <a:blip r:embed="rId4"/>
          <a:stretch/>
        </p:blipFill>
        <p:spPr>
          <a:xfrm>
            <a:off x="2895480" y="41148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E:\课件制作DISK2\课件图片素材\按钮图案\n3.jpg"/>
          <p:cNvPicPr/>
          <p:nvPr/>
        </p:nvPicPr>
        <p:blipFill>
          <a:blip r:embed="rId5"/>
          <a:stretch/>
        </p:blipFill>
        <p:spPr>
          <a:xfrm>
            <a:off x="3352680" y="4572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E:\课件制作DISK2\课件图片素材\按钮图案\n3.jpg"/>
          <p:cNvPicPr/>
          <p:nvPr/>
        </p:nvPicPr>
        <p:blipFill>
          <a:blip r:embed="rId6"/>
          <a:stretch/>
        </p:blipFill>
        <p:spPr>
          <a:xfrm>
            <a:off x="3886200" y="5029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E:\课件制作DISK2\课件图片素材\按钮图案\n3.jpg"/>
          <p:cNvPicPr/>
          <p:nvPr/>
        </p:nvPicPr>
        <p:blipFill>
          <a:blip r:embed="rId7"/>
          <a:stretch/>
        </p:blipFill>
        <p:spPr>
          <a:xfrm>
            <a:off x="3962520" y="6019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E:\课件制作DISK2\课件图片素材\按钮图案\n3.jpg"/>
          <p:cNvPicPr/>
          <p:nvPr/>
        </p:nvPicPr>
        <p:blipFill>
          <a:blip r:embed="rId8"/>
          <a:stretch/>
        </p:blipFill>
        <p:spPr>
          <a:xfrm>
            <a:off x="5334120" y="6019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E:\课件制作DISK2\课件图片素材\按钮图案\n3.jpg"/>
          <p:cNvPicPr/>
          <p:nvPr/>
        </p:nvPicPr>
        <p:blipFill>
          <a:blip r:embed="rId9"/>
          <a:stretch/>
        </p:blipFill>
        <p:spPr>
          <a:xfrm>
            <a:off x="6705720" y="60199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5" name="WordArt 23"/>
          <p:cNvSpPr txBox="1"/>
          <p:nvPr/>
        </p:nvSpPr>
        <p:spPr>
          <a:xfrm>
            <a:off x="3200400" y="59436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生词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" name="WordArt 24"/>
          <p:cNvSpPr txBox="1"/>
          <p:nvPr/>
        </p:nvSpPr>
        <p:spPr>
          <a:xfrm>
            <a:off x="4648320" y="59436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识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" name="WordArt 25"/>
          <p:cNvSpPr txBox="1"/>
          <p:nvPr/>
        </p:nvSpPr>
        <p:spPr>
          <a:xfrm>
            <a:off x="6019920" y="59436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其他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9640" y="476280"/>
            <a:ext cx="8317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质            勘探    岩石   一册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厚厚的        脚印    波痕   刨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刨根问底     煤炭    宝藏   趴着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陆地            陆角     铁矿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1403280" y="1197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780000" y="1197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5651640" y="1197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7667640" y="1197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755640" y="2276640"/>
            <a:ext cx="144360" cy="14256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4356000" y="2276640"/>
            <a:ext cx="144720" cy="14256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6156360" y="2205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826920" y="3284640"/>
            <a:ext cx="14472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3924360" y="328464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5796000" y="328464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7380360" y="328464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826920" y="4221000"/>
            <a:ext cx="14472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3851280" y="422100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7236000" y="2276640"/>
            <a:ext cx="144360" cy="14256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>
            <a:off x="5796000" y="4292640"/>
            <a:ext cx="144360" cy="14292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2987640" y="551664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    会    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8305920" y="6019920"/>
            <a:ext cx="45720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476280"/>
            <a:ext cx="806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质    勘    岩    册   厚   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痕   刨     煤    宝   趴  陆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75564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212400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363528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507672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82692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667640" y="1341360"/>
            <a:ext cx="21600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6372360" y="1341360"/>
            <a:ext cx="215640" cy="2160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752472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2050920" y="2637000"/>
            <a:ext cx="217440" cy="21420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70836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07672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755640" y="400536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6443640" y="2637000"/>
            <a:ext cx="216000" cy="215640"/>
          </a:xfrm>
          <a:prstGeom prst="ellipse">
            <a:avLst/>
          </a:prstGeom>
          <a:solidFill>
            <a:srgbClr val="fc06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2987640" y="551664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    会    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9"/>
          <p:cNvSpPr/>
          <p:nvPr/>
        </p:nvSpPr>
        <p:spPr>
          <a:xfrm>
            <a:off x="8381880" y="6019920"/>
            <a:ext cx="45720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黄色的岩石"/>
          <p:cNvPicPr/>
          <p:nvPr/>
        </p:nvPicPr>
        <p:blipFill>
          <a:blip r:embed="rId1"/>
          <a:stretch/>
        </p:blipFill>
        <p:spPr>
          <a:xfrm>
            <a:off x="0" y="0"/>
            <a:ext cx="101887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>
            <a:hlinkClick r:id="" action="ppaction://hlinkshowjump?jump=firstslide"/>
          </p:cNvPr>
          <p:cNvSpPr/>
          <p:nvPr/>
        </p:nvSpPr>
        <p:spPr>
          <a:xfrm>
            <a:off x="8610480" y="6172200"/>
            <a:ext cx="304920" cy="45720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50" y="31025"/>
                </a:lnTo>
                <a:lnTo>
                  <a:pt x="20250" y="135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350" y="31025"/>
                </a:lnTo>
                <a:lnTo>
                  <a:pt x="20250" y="3102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25"/>
                </a:lnTo>
                <a:close/>
              </a:path>
              <a:path fill="darken" w="21600" h="32375">
                <a:moveTo>
                  <a:pt x="14318" y="16187"/>
                </a:moveTo>
                <a:lnTo>
                  <a:pt x="3756" y="23231"/>
                </a:lnTo>
                <a:lnTo>
                  <a:pt x="3756" y="9144"/>
                </a:lnTo>
                <a:close/>
              </a:path>
              <a:path fill="darken" w="21600" h="32375">
                <a:moveTo>
                  <a:pt x="16173" y="9144"/>
                </a:moveTo>
                <a:lnTo>
                  <a:pt x="16173" y="23231"/>
                </a:lnTo>
                <a:lnTo>
                  <a:pt x="17844" y="23231"/>
                </a:lnTo>
                <a:lnTo>
                  <a:pt x="17844" y="9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鱼的化石之三"/>
          <p:cNvPicPr/>
          <p:nvPr/>
        </p:nvPicPr>
        <p:blipFill>
          <a:blip r:embed="rId1"/>
          <a:stretch/>
        </p:blipFill>
        <p:spPr>
          <a:xfrm>
            <a:off x="1835280" y="765000"/>
            <a:ext cx="5041800" cy="50421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" action="ppaction://hlinkshowjump?jump=firstslide"/>
          </p:cNvPr>
          <p:cNvSpPr/>
          <p:nvPr/>
        </p:nvSpPr>
        <p:spPr>
          <a:xfrm>
            <a:off x="8610480" y="6172200"/>
            <a:ext cx="304920" cy="45720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50" y="31025"/>
                </a:lnTo>
                <a:lnTo>
                  <a:pt x="20250" y="135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350" y="31025"/>
                </a:lnTo>
                <a:lnTo>
                  <a:pt x="20250" y="3102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25"/>
                </a:lnTo>
                <a:close/>
              </a:path>
              <a:path fill="darken" w="21600" h="32375">
                <a:moveTo>
                  <a:pt x="14318" y="16187"/>
                </a:moveTo>
                <a:lnTo>
                  <a:pt x="3756" y="23231"/>
                </a:lnTo>
                <a:lnTo>
                  <a:pt x="3756" y="9144"/>
                </a:lnTo>
                <a:close/>
              </a:path>
              <a:path fill="darken" w="21600" h="32375">
                <a:moveTo>
                  <a:pt x="16173" y="9144"/>
                </a:moveTo>
                <a:lnTo>
                  <a:pt x="16173" y="23231"/>
                </a:lnTo>
                <a:lnTo>
                  <a:pt x="17844" y="23231"/>
                </a:lnTo>
                <a:lnTo>
                  <a:pt x="17844" y="9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蜻蜓化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鱼的化石之四"/>
          <p:cNvPicPr/>
          <p:nvPr/>
        </p:nvPicPr>
        <p:blipFill>
          <a:blip r:embed="rId2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三叶虫化石"/>
          <p:cNvPicPr/>
          <p:nvPr/>
        </p:nvPicPr>
        <p:blipFill>
          <a:blip r:embed="rId3"/>
          <a:stretch/>
        </p:blipFill>
        <p:spPr>
          <a:xfrm>
            <a:off x="0" y="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青蛙化石"/>
          <p:cNvPicPr/>
          <p:nvPr/>
        </p:nvPicPr>
        <p:blipFill>
          <a:blip r:embed="rId4"/>
          <a:stretch/>
        </p:blipFill>
        <p:spPr>
          <a:xfrm>
            <a:off x="4317840" y="1341360"/>
            <a:ext cx="4826160" cy="4826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firstslide"/>
          </p:cNvPr>
          <p:cNvSpPr/>
          <p:nvPr/>
        </p:nvSpPr>
        <p:spPr>
          <a:xfrm>
            <a:off x="8610480" y="6172200"/>
            <a:ext cx="304920" cy="45720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50" y="31025"/>
                </a:lnTo>
                <a:lnTo>
                  <a:pt x="20250" y="135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350" y="31025"/>
                </a:lnTo>
                <a:lnTo>
                  <a:pt x="20250" y="3102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25"/>
                </a:lnTo>
                <a:close/>
              </a:path>
              <a:path fill="darken" w="21600" h="32375">
                <a:moveTo>
                  <a:pt x="14318" y="16187"/>
                </a:moveTo>
                <a:lnTo>
                  <a:pt x="3756" y="23231"/>
                </a:lnTo>
                <a:lnTo>
                  <a:pt x="3756" y="9144"/>
                </a:lnTo>
                <a:close/>
              </a:path>
              <a:path fill="darken" w="21600" h="32375">
                <a:moveTo>
                  <a:pt x="16173" y="9144"/>
                </a:moveTo>
                <a:lnTo>
                  <a:pt x="16173" y="23231"/>
                </a:lnTo>
                <a:lnTo>
                  <a:pt x="17844" y="23231"/>
                </a:lnTo>
                <a:lnTo>
                  <a:pt x="17844" y="9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3:32:3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8:02:27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