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新课标第一网" initials="新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<Relationship Id="rId66" Type="http://schemas.openxmlformats.org/officeDocument/2006/relationships/commentAuthors" Target="commentAuthors.xml"/>
</Relationships>
</file>

<file path=ppt/comments/comment5.xml><?xml version="1.0" encoding="utf-8"?>
<p:cmLst xmlns:p="http://schemas.openxmlformats.org/presentationml/2006/main">
  <p:cm authorId="0" dt="2012-03-28T09:25:15.998000000" idx="1">
    <p:pos x="5382" y="250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401760" y="6381720"/>
            <a:ext cx="2822400" cy="347760"/>
          </a:xfrm>
          <a:prstGeom prst="roundRect">
            <a:avLst>
              <a:gd name="adj" fmla="val 16667"/>
            </a:avLst>
          </a:prstGeom>
          <a:solidFill>
            <a:srgbClr val="ffffff">
              <a:alpha val="2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Picture 3" descr="标志"/>
          <p:cNvPicPr/>
          <p:nvPr/>
        </p:nvPicPr>
        <p:blipFill>
          <a:blip r:embed="rId2"/>
          <a:stretch/>
        </p:blipFill>
        <p:spPr>
          <a:xfrm>
            <a:off x="425520" y="6456240"/>
            <a:ext cx="323640" cy="200160"/>
          </a:xfrm>
          <a:prstGeom prst="rect">
            <a:avLst/>
          </a:prstGeom>
          <a:ln w="0">
            <a:noFill/>
          </a:ln>
        </p:spPr>
      </p:pic>
      <p:sp>
        <p:nvSpPr>
          <p:cNvPr id="2" name="Text Box 4"/>
          <p:cNvSpPr/>
          <p:nvPr/>
        </p:nvSpPr>
        <p:spPr>
          <a:xfrm>
            <a:off x="1112760" y="63864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f5f5f"/>
                </a:solidFill>
                <a:latin typeface="华文中宋"/>
                <a:ea typeface="华文中宋"/>
              </a:rPr>
              <a:t>湖南长郡卫星远程学校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7236000" y="6386400"/>
            <a:ext cx="16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黑体"/>
              </a:rPr>
              <a:t>2011</a:t>
            </a:r>
            <a:r>
              <a:rPr b="0" lang="zh-CN" sz="1600" spc="-1" strike="noStrike">
                <a:solidFill>
                  <a:srgbClr val="5f5f5f"/>
                </a:solidFill>
                <a:latin typeface="黑体"/>
              </a:rPr>
              <a:t>年上学期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5724360" y="638640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黑体"/>
              </a:rPr>
              <a:t>制作 </a:t>
            </a:r>
            <a:r>
              <a:rPr b="0" lang="en-US" sz="1600" spc="-1" strike="noStrike">
                <a:solidFill>
                  <a:srgbClr val="5f5f5f"/>
                </a:solidFill>
                <a:latin typeface="黑体"/>
              </a:rPr>
              <a:t>03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24000" y="1797120"/>
            <a:ext cx="9001080" cy="13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9933"/>
                </a:solidFill>
                <a:latin typeface="黑体"/>
              </a:rPr>
              <a:t>曲词</a:t>
            </a:r>
            <a:r>
              <a:rPr b="1" lang="zh-CN" sz="3400" spc="-1" strike="noStrike">
                <a:solidFill>
                  <a:srgbClr val="ffff00"/>
                </a:solidFill>
                <a:latin typeface="黑体"/>
              </a:rPr>
              <a:t>　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</a:rPr>
              <a:t>剧中人物的唱词</a:t>
            </a:r>
            <a:r>
              <a:rPr b="1" lang="zh-CN" sz="3400" spc="-1" strike="noStrike">
                <a:solidFill>
                  <a:srgbClr val="cc3300"/>
                </a:solidFill>
                <a:latin typeface="黑体"/>
              </a:rPr>
              <a:t> 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9933"/>
                </a:solidFill>
                <a:latin typeface="黑体"/>
              </a:rPr>
              <a:t>宾白</a:t>
            </a:r>
            <a:r>
              <a:rPr b="1" lang="en-US" sz="3400" spc="-1" strike="noStrike">
                <a:solidFill>
                  <a:srgbClr val="ffffff"/>
                </a:solidFill>
                <a:latin typeface="黑体"/>
              </a:rPr>
              <a:t>(</a:t>
            </a:r>
            <a:r>
              <a:rPr b="1" lang="zh-CN" sz="3400" spc="-1" strike="noStrike">
                <a:solidFill>
                  <a:srgbClr val="ff9933"/>
                </a:solidFill>
                <a:latin typeface="黑体"/>
              </a:rPr>
              <a:t>唱为主</a:t>
            </a:r>
            <a:r>
              <a:rPr b="1" lang="en-US" sz="3400" spc="-1" strike="noStrike">
                <a:solidFill>
                  <a:srgbClr val="ffffff"/>
                </a:solidFill>
                <a:latin typeface="黑体"/>
              </a:rPr>
              <a:t>,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</a:rPr>
              <a:t>白为宾</a:t>
            </a:r>
            <a:r>
              <a:rPr b="1" lang="en-US" sz="3400" spc="-1" strike="noStrike">
                <a:solidFill>
                  <a:srgbClr val="ffffff"/>
                </a:solidFill>
                <a:latin typeface="黑体"/>
              </a:rPr>
              <a:t>,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</a:rPr>
              <a:t>故曰宾白</a:t>
            </a:r>
            <a:r>
              <a:rPr b="1" lang="en-US" sz="3400" spc="-1" strike="noStrike">
                <a:solidFill>
                  <a:srgbClr val="ffffff"/>
                </a:solidFill>
                <a:latin typeface="黑体"/>
              </a:rPr>
              <a:t>)</a:t>
            </a:r>
            <a:r>
              <a:rPr b="1" lang="en-US" sz="3400" spc="-1" strike="noStrike">
                <a:solidFill>
                  <a:srgbClr val="cc3300"/>
                </a:solidFill>
                <a:latin typeface="黑体"/>
              </a:rPr>
              <a:t> 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</a:rPr>
              <a:t>对白 独白 旁白 带白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1908000" y="692280"/>
            <a:ext cx="5185080" cy="764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行楷"/>
              </a:rPr>
              <a:t>元杂剧的语言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1444680" y="3911760"/>
            <a:ext cx="7392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ff00"/>
                </a:solidFill>
                <a:latin typeface="宋体"/>
                <a:ea typeface="宋体"/>
              </a:rPr>
              <a:t>“</a:t>
            </a:r>
            <a:r>
              <a:rPr b="1" lang="zh-CN" sz="3400" spc="-1" strike="noStrike">
                <a:solidFill>
                  <a:srgbClr val="00ff00"/>
                </a:solidFill>
                <a:latin typeface="黑体"/>
              </a:rPr>
              <a:t>曲白相生，方尽剧情之妙</a:t>
            </a:r>
            <a:r>
              <a:rPr b="1" lang="zh-CN" sz="3400" spc="-1" strike="noStrike">
                <a:solidFill>
                  <a:srgbClr val="00ff00"/>
                </a:solidFill>
                <a:latin typeface="宋体"/>
                <a:ea typeface="宋体"/>
              </a:rPr>
              <a:t>”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324000" y="4822920"/>
            <a:ext cx="8316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9933"/>
                </a:solidFill>
                <a:latin typeface="黑体"/>
              </a:rPr>
              <a:t>科介或科范</a:t>
            </a:r>
            <a:r>
              <a:rPr b="1" lang="zh-CN" sz="3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即舞台说明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（动作、表情、舞台效果）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6804000" y="228600"/>
          <a:ext cx="2046240" cy="633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04000" y="228600"/>
                    <a:ext cx="2046240" cy="63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Rectangle 3"/>
          <p:cNvSpPr/>
          <p:nvPr/>
        </p:nvSpPr>
        <p:spPr>
          <a:xfrm>
            <a:off x="554040" y="1427040"/>
            <a:ext cx="620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窦娥冤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》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元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·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关汉卿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7418520" y="306360"/>
            <a:ext cx="1098360" cy="30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00"/>
                </a:solidFill>
                <a:latin typeface="Times New Roman"/>
                <a:ea typeface="仿宋_GB2312"/>
              </a:rPr>
              <a:t>中国四大古典悲剧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6804000" y="228600"/>
          <a:ext cx="2046240" cy="633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04000" y="228600"/>
                    <a:ext cx="2046240" cy="63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Rectangle 3"/>
          <p:cNvSpPr/>
          <p:nvPr/>
        </p:nvSpPr>
        <p:spPr>
          <a:xfrm>
            <a:off x="554040" y="1427040"/>
            <a:ext cx="620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窦娥冤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》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元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·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关汉卿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554040" y="2436840"/>
            <a:ext cx="592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汉宫秋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》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元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·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马致远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7418520" y="306360"/>
            <a:ext cx="1098360" cy="30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00"/>
                </a:solidFill>
                <a:latin typeface="Times New Roman"/>
                <a:ea typeface="仿宋_GB2312"/>
              </a:rPr>
              <a:t>中国四大古典悲剧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6804000" y="228600"/>
          <a:ext cx="2046240" cy="633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04000" y="228600"/>
                    <a:ext cx="2046240" cy="63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Rectangle 3"/>
          <p:cNvSpPr/>
          <p:nvPr/>
        </p:nvSpPr>
        <p:spPr>
          <a:xfrm>
            <a:off x="554040" y="1427040"/>
            <a:ext cx="620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窦娥冤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》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元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·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关汉卿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554040" y="2436840"/>
            <a:ext cx="592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汉宫秋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》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元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·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马致远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554040" y="3448080"/>
            <a:ext cx="534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梧桐雨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》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元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·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白朴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7418520" y="306360"/>
            <a:ext cx="1098360" cy="30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00"/>
                </a:solidFill>
                <a:latin typeface="Times New Roman"/>
                <a:ea typeface="仿宋_GB2312"/>
              </a:rPr>
              <a:t>中国四大古典悲剧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6804000" y="228600"/>
          <a:ext cx="2046240" cy="633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04000" y="228600"/>
                    <a:ext cx="2046240" cy="63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Rectangle 3"/>
          <p:cNvSpPr/>
          <p:nvPr/>
        </p:nvSpPr>
        <p:spPr>
          <a:xfrm>
            <a:off x="554040" y="1427040"/>
            <a:ext cx="620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窦娥冤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》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元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·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关汉卿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554040" y="2436840"/>
            <a:ext cx="592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汉宫秋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》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元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·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马致远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554040" y="3448080"/>
            <a:ext cx="534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梧桐雨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》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元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·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白朴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554040" y="4459320"/>
            <a:ext cx="678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赵氏孤儿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》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元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·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纪君祥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7418520" y="306360"/>
            <a:ext cx="1098360" cy="30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00"/>
                </a:solidFill>
                <a:latin typeface="Times New Roman"/>
                <a:ea typeface="仿宋_GB2312"/>
              </a:rPr>
              <a:t>中国四大古典悲剧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关汉卿像"/>
          <p:cNvPicPr/>
          <p:nvPr/>
        </p:nvPicPr>
        <p:blipFill>
          <a:blip r:embed="rId1">
            <a:lum bright="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7431120" y="88920"/>
            <a:ext cx="1434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隶书"/>
              </a:rPr>
              <a:t>走</a:t>
            </a:r>
            <a:br>
              <a:rPr sz="7200"/>
            </a:b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隶书"/>
              </a:rPr>
              <a:t>近</a:t>
            </a:r>
            <a:br>
              <a:rPr sz="7200"/>
            </a:b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隶书"/>
              </a:rPr>
              <a:t>关</a:t>
            </a:r>
            <a:br>
              <a:rPr sz="7200"/>
            </a:b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隶书"/>
              </a:rPr>
              <a:t>汉</a:t>
            </a:r>
            <a:br>
              <a:rPr sz="7200"/>
            </a:b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隶书"/>
              </a:rPr>
              <a:t>卿</a:t>
            </a:r>
            <a:endParaRPr b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Line 7"/>
          <p:cNvSpPr/>
          <p:nvPr/>
        </p:nvSpPr>
        <p:spPr>
          <a:xfrm>
            <a:off x="7462800" y="282600"/>
            <a:ext cx="0" cy="355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646200" y="1649520"/>
            <a:ext cx="7311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关汉卿，号已斋叟 ，时称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梨园领袖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。与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郑光祖、白朴、马致远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并称为</a:t>
            </a:r>
            <a:r>
              <a:rPr b="1" lang="zh-CN" sz="3600" spc="-1" strike="noStrike">
                <a:solidFill>
                  <a:srgbClr val="00ff00"/>
                </a:solidFill>
                <a:latin typeface="宋体"/>
                <a:ea typeface="宋体"/>
              </a:rPr>
              <a:t>“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元曲四大家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，中国戏曲的创始人。     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1197000" y="1173240"/>
            <a:ext cx="453564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生而倜傥，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博学能文，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滑稽多智，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蕴藉风流，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为一时之冠。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5" descr="PA00263031"/>
          <p:cNvPicPr/>
          <p:nvPr/>
        </p:nvPicPr>
        <p:blipFill>
          <a:blip r:embed="rId1">
            <a:lum bright="18000"/>
          </a:blip>
          <a:srcRect l="34797" t="8384" r="11666" b="7374"/>
          <a:stretch/>
        </p:blipFill>
        <p:spPr>
          <a:xfrm>
            <a:off x="4865760" y="1504800"/>
            <a:ext cx="3500280" cy="4121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20840" y="5870520"/>
            <a:ext cx="82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课件下载</a:t>
            </a:r>
            <a:r>
              <a:rPr b="1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eeppt.com/moban/kejian/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5"/>
          <p:cNvGrpSpPr/>
          <p:nvPr/>
        </p:nvGrpSpPr>
        <p:grpSpPr>
          <a:xfrm>
            <a:off x="5452920" y="1925640"/>
            <a:ext cx="5000760" cy="360"/>
            <a:chOff x="5452920" y="1925640"/>
            <a:chExt cx="5000760" cy="360"/>
          </a:xfrm>
        </p:grpSpPr>
        <p:sp>
          <p:nvSpPr>
            <p:cNvPr id="96" name="Rectangle 6"/>
            <p:cNvSpPr/>
            <p:nvPr/>
          </p:nvSpPr>
          <p:spPr>
            <a:xfrm>
              <a:off x="5452920" y="1925640"/>
              <a:ext cx="50007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7"/>
            <p:cNvSpPr/>
            <p:nvPr/>
          </p:nvSpPr>
          <p:spPr>
            <a:xfrm>
              <a:off x="5452920" y="1925640"/>
              <a:ext cx="50007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Rectangle 10"/>
          <p:cNvSpPr/>
          <p:nvPr/>
        </p:nvSpPr>
        <p:spPr>
          <a:xfrm>
            <a:off x="1081080" y="246240"/>
            <a:ext cx="6951600" cy="820440"/>
          </a:xfrm>
          <a:prstGeom prst="rect">
            <a:avLst/>
          </a:prstGeom>
          <a:solidFill>
            <a:srgbClr val="8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493560" y="1131840"/>
            <a:ext cx="8123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　　我是个蒸不烂、煮不熟、捶不匾、炒不爆响当当一粒铜豌豆，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恁子弟每谁教你钻入他锄不断、斫不下、解不开、顿不脱慢腾腾千层锦套头。我玩的是梁园月，饮的是东京酒，赏的是洛阳花，攀的是章台柳。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我也会围棋、会蹴踘、会打围、会插科、会歌舞、会吹弹、会咽作、会吟诗、会双陆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你便是落了我牙、歪了我嘴、瘸了我腿、折了我手，天赐与我这几般儿歹症候，尚兀自不肯休。则除是阎王亲自唤，神鬼自来勾，三魂归地府，七魄丧冥幽，天那，那其间才不向烟花路儿上走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!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1798560" y="363600"/>
            <a:ext cx="618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[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南吕 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]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枝花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·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不伏老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Oval 2"/>
          <p:cNvSpPr/>
          <p:nvPr/>
        </p:nvSpPr>
        <p:spPr>
          <a:xfrm>
            <a:off x="611280" y="620640"/>
            <a:ext cx="2376360" cy="947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879480" y="2027160"/>
            <a:ext cx="352728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窦娥冤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》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救风尘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》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望江亭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》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拜月亭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》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单刀会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841320" y="663480"/>
            <a:ext cx="26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隶书"/>
                <a:ea typeface="隶书"/>
              </a:rPr>
              <a:t>代表作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5" descr="20050302172616455"/>
          <p:cNvPicPr/>
          <p:nvPr/>
        </p:nvPicPr>
        <p:blipFill>
          <a:blip r:embed="rId1"/>
          <a:stretch/>
        </p:blipFill>
        <p:spPr>
          <a:xfrm>
            <a:off x="4716360" y="2997360"/>
            <a:ext cx="4059360" cy="2990520"/>
          </a:xfrm>
          <a:prstGeom prst="rect">
            <a:avLst/>
          </a:prstGeom>
          <a:ln w="28440">
            <a:solidFill>
              <a:srgbClr val="cc33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79280" y="1341360"/>
            <a:ext cx="8533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元杂剧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</a:rPr>
              <a:t>一般是</a:t>
            </a:r>
            <a:r>
              <a:rPr b="1" lang="zh-CN" sz="3400" spc="-1" strike="noStrike">
                <a:solidFill>
                  <a:srgbClr val="ff9933"/>
                </a:solidFill>
                <a:latin typeface="黑体"/>
              </a:rPr>
              <a:t>一本四折演一个完整的故事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</a:rPr>
              <a:t>，依次写故事的开端、发展、高潮和结局；个别的有五折、六折或多本连演。如</a:t>
            </a:r>
            <a:r>
              <a:rPr b="1" lang="en-US" sz="3400" spc="-1" strike="noStrike">
                <a:solidFill>
                  <a:srgbClr val="ffffff"/>
                </a:solidFill>
                <a:latin typeface="黑体"/>
              </a:rPr>
              <a:t>《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</a:rPr>
              <a:t>西厢记</a:t>
            </a:r>
            <a:r>
              <a:rPr b="1" lang="en-US" sz="3400" spc="-1" strike="noStrike">
                <a:solidFill>
                  <a:srgbClr val="ffffff"/>
                </a:solidFill>
                <a:latin typeface="黑体"/>
              </a:rPr>
              <a:t>》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</a:rPr>
              <a:t>。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979640" y="476280"/>
            <a:ext cx="5184720" cy="825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行楷"/>
              </a:rPr>
              <a:t>元杂剧的结构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422280" y="1784520"/>
            <a:ext cx="7751880" cy="20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958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，世界和平理事会将其与达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芬奇等人列为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世界文化名人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。 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770120" y="1962000"/>
            <a:ext cx="5894280" cy="436428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4"/>
          <p:cNvSpPr/>
          <p:nvPr/>
        </p:nvSpPr>
        <p:spPr>
          <a:xfrm>
            <a:off x="1469880" y="431640"/>
            <a:ext cx="6384960" cy="1177920"/>
          </a:xfrm>
          <a:custGeom>
            <a:avLst/>
            <a:gdLst>
              <a:gd name="textAreaLeft" fmla="*/ 138600 w 6384960"/>
              <a:gd name="textAreaRight" fmla="*/ 6246360 w 6384960"/>
              <a:gd name="textAreaTop" fmla="*/ 138600 h 1177920"/>
              <a:gd name="textAreaBottom" fmla="*/ 1039320 h 1177920"/>
            </a:gdLst>
            <a:ahLst/>
            <a:rect l="textAreaLeft" t="textAreaTop" r="textAreaRight" b="textAreaBottom"/>
            <a:pathLst>
              <a:path w="11705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13454" y="21600"/>
                </a:lnTo>
                <a:arcTo wR="3600" hR="3600" stAng="10800000" swAng="5400000"/>
                <a:lnTo>
                  <a:pt x="117054" y="3600"/>
                </a:lnTo>
                <a:arcTo wR="3600" hR="3600" stAng="5400000" swAng="5400000"/>
                <a:close/>
              </a:path>
            </a:pathLst>
          </a:custGeom>
          <a:solidFill>
            <a:srgbClr val="ffb87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2424240" y="515880"/>
            <a:ext cx="483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60000"/>
                </a:solidFill>
                <a:latin typeface="Times New Roman"/>
                <a:ea typeface="方正姚体"/>
              </a:rPr>
              <a:t>归纳熟悉剧情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1806480" y="704880"/>
            <a:ext cx="5456160" cy="764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感天动地窦娥冤 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041480" y="2568600"/>
            <a:ext cx="521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9933"/>
                </a:solidFill>
                <a:uFillTx/>
                <a:latin typeface="Times New Roman"/>
              </a:rPr>
              <a:t>楔子：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父将窦娥来抵债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5" descr="明代出版的《窦娥冤》的插图"/>
          <p:cNvPicPr/>
          <p:nvPr/>
        </p:nvPicPr>
        <p:blipFill>
          <a:blip r:embed="rId1"/>
          <a:stretch/>
        </p:blipFill>
        <p:spPr>
          <a:xfrm>
            <a:off x="6532560" y="3257640"/>
            <a:ext cx="2274840" cy="3168720"/>
          </a:xfrm>
          <a:prstGeom prst="rect">
            <a:avLst/>
          </a:prstGeom>
          <a:ln w="19080">
            <a:solidFill>
              <a:srgbClr val="cc3300"/>
            </a:solidFill>
            <a:miter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1093680" y="2292480"/>
            <a:ext cx="5905440" cy="31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 u="sng">
                <a:solidFill>
                  <a:srgbClr val="ff9933"/>
                </a:solidFill>
                <a:uFillTx/>
                <a:latin typeface="Times New Roman"/>
              </a:rPr>
              <a:t>第一折：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　　蔡婆讨债赛卢医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　　恶人赖债害人命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　　张驴父子救蔡婆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　　父子逼人成婚配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806480" y="704880"/>
            <a:ext cx="5456160" cy="764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感天动地窦娥冤 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6" descr="明代出版的《窦娥冤》的插图"/>
          <p:cNvPicPr/>
          <p:nvPr/>
        </p:nvPicPr>
        <p:blipFill>
          <a:blip r:embed="rId1"/>
          <a:stretch/>
        </p:blipFill>
        <p:spPr>
          <a:xfrm>
            <a:off x="6532560" y="3257640"/>
            <a:ext cx="2274840" cy="3168720"/>
          </a:xfrm>
          <a:prstGeom prst="rect">
            <a:avLst/>
          </a:prstGeom>
          <a:ln w="19080">
            <a:solidFill>
              <a:srgbClr val="cc3300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1044720" y="1955880"/>
            <a:ext cx="5467320" cy="38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 u="sng">
                <a:solidFill>
                  <a:srgbClr val="ff9933"/>
                </a:solidFill>
                <a:uFillTx/>
                <a:latin typeface="Times New Roman"/>
              </a:rPr>
              <a:t>第二折：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　　张驴设计害蔡婆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　　张父食毒归西天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　　张驴逼婚挟窦娥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　　张驴诬陷告州官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　　昏官不察定娥罪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806480" y="704880"/>
            <a:ext cx="5456160" cy="764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感天动地窦娥冤 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6" descr="明代出版的《窦娥冤》的插图"/>
          <p:cNvPicPr/>
          <p:nvPr/>
        </p:nvPicPr>
        <p:blipFill>
          <a:blip r:embed="rId1"/>
          <a:stretch/>
        </p:blipFill>
        <p:spPr>
          <a:xfrm>
            <a:off x="6532560" y="3257640"/>
            <a:ext cx="2274840" cy="3168720"/>
          </a:xfrm>
          <a:prstGeom prst="rect">
            <a:avLst/>
          </a:prstGeom>
          <a:ln w="19080">
            <a:solidFill>
              <a:srgbClr val="cc3300"/>
            </a:solidFill>
            <a:miter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1258920" y="2266920"/>
            <a:ext cx="4879800" cy="27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 u="sng">
                <a:solidFill>
                  <a:srgbClr val="ff9933"/>
                </a:solidFill>
                <a:uFillTx/>
                <a:latin typeface="Times New Roman"/>
              </a:rPr>
              <a:t>第三折：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　　窦娥刑场发誓愿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　　三桩誓愿皆应验 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806480" y="704880"/>
            <a:ext cx="5456160" cy="764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感天动地窦娥冤 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7" descr="明代出版的《窦娥冤》的插图"/>
          <p:cNvPicPr/>
          <p:nvPr/>
        </p:nvPicPr>
        <p:blipFill>
          <a:blip r:embed="rId1"/>
          <a:stretch/>
        </p:blipFill>
        <p:spPr>
          <a:xfrm>
            <a:off x="6532560" y="3257640"/>
            <a:ext cx="2274840" cy="3168720"/>
          </a:xfrm>
          <a:prstGeom prst="rect">
            <a:avLst/>
          </a:prstGeom>
          <a:ln w="19080">
            <a:solidFill>
              <a:srgbClr val="cc3300"/>
            </a:solidFill>
            <a:miter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833400" y="2062080"/>
            <a:ext cx="3249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 u="sng">
                <a:solidFill>
                  <a:srgbClr val="ff9933"/>
                </a:solidFill>
                <a:uFillTx/>
                <a:latin typeface="Times New Roman"/>
              </a:rPr>
              <a:t>第四折：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833400" y="2971800"/>
            <a:ext cx="458964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　　三年后窦天章任廉访使至楚州，见窦娥鬼魂出现，于是重审此案，为窦娥申冤。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806480" y="704880"/>
            <a:ext cx="5456160" cy="764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感天动地窦娥冤 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6" descr="明代出版的《窦娥冤》的插图"/>
          <p:cNvPicPr/>
          <p:nvPr/>
        </p:nvPicPr>
        <p:blipFill>
          <a:blip r:embed="rId1"/>
          <a:stretch/>
        </p:blipFill>
        <p:spPr>
          <a:xfrm>
            <a:off x="6532560" y="3257640"/>
            <a:ext cx="2274840" cy="3168720"/>
          </a:xfrm>
          <a:prstGeom prst="rect">
            <a:avLst/>
          </a:prstGeom>
          <a:ln w="19080">
            <a:solidFill>
              <a:srgbClr val="cc3300"/>
            </a:solidFill>
            <a:miter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Object 2" descr=""/>
          <p:cNvPicPr/>
          <p:nvPr/>
        </p:nvPicPr>
        <p:blipFill>
          <a:blip r:embed="rId1"/>
          <a:stretch/>
        </p:blipFill>
        <p:spPr>
          <a:xfrm>
            <a:off x="2268360" y="1751040"/>
            <a:ext cx="4361040" cy="457992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5"/>
          <p:cNvSpPr/>
          <p:nvPr/>
        </p:nvSpPr>
        <p:spPr>
          <a:xfrm>
            <a:off x="1469880" y="431640"/>
            <a:ext cx="6384960" cy="1177920"/>
          </a:xfrm>
          <a:custGeom>
            <a:avLst/>
            <a:gdLst>
              <a:gd name="textAreaLeft" fmla="*/ 138600 w 6384960"/>
              <a:gd name="textAreaRight" fmla="*/ 6246360 w 6384960"/>
              <a:gd name="textAreaTop" fmla="*/ 138600 h 1177920"/>
              <a:gd name="textAreaBottom" fmla="*/ 1039320 h 1177920"/>
            </a:gdLst>
            <a:ahLst/>
            <a:rect l="textAreaLeft" t="textAreaTop" r="textAreaRight" b="textAreaBottom"/>
            <a:pathLst>
              <a:path w="11705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13454" y="21600"/>
                </a:lnTo>
                <a:arcTo wR="3600" hR="3600" stAng="10800000" swAng="5400000"/>
                <a:lnTo>
                  <a:pt x="117054" y="3600"/>
                </a:lnTo>
                <a:arcTo wR="3600" hR="3600" stAng="5400000" swAng="5400000"/>
                <a:close/>
              </a:path>
            </a:pathLst>
          </a:custGeom>
          <a:solidFill>
            <a:srgbClr val="ffb87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2424240" y="515880"/>
            <a:ext cx="483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60000"/>
                </a:solidFill>
                <a:latin typeface="Times New Roman"/>
                <a:ea typeface="方正姚体"/>
              </a:rPr>
              <a:t>把握人物形象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339840" y="903240"/>
            <a:ext cx="829620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剧中有两句唱词：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ffb871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ffb871"/>
                </a:solidFill>
                <a:latin typeface="Times New Roman"/>
                <a:ea typeface="楷体_GB2312"/>
              </a:rPr>
              <a:t>窦娥也，你这命好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苦</a:t>
            </a:r>
            <a:r>
              <a:rPr b="1" lang="zh-CN" sz="3200" spc="-1" strike="noStrike">
                <a:solidFill>
                  <a:srgbClr val="ffb871"/>
                </a:solidFill>
                <a:latin typeface="Times New Roman"/>
                <a:ea typeface="楷体_GB2312"/>
              </a:rPr>
              <a:t>也呵！</a:t>
            </a:r>
            <a:r>
              <a:rPr b="1" lang="zh-CN" sz="3200" spc="-1" strike="noStrike">
                <a:solidFill>
                  <a:srgbClr val="ffb871"/>
                </a:solidFill>
                <a:latin typeface="宋体"/>
                <a:ea typeface="宋体"/>
              </a:rPr>
              <a:t>”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b871"/>
                </a:solidFill>
                <a:latin typeface="Times New Roman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ffb871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ffb871"/>
                </a:solidFill>
                <a:latin typeface="Times New Roman"/>
                <a:ea typeface="楷体_GB2312"/>
              </a:rPr>
              <a:t>打的我肉都飞，血淋漓，腹中冤枉有谁知！</a:t>
            </a:r>
            <a:r>
              <a:rPr b="1" lang="zh-CN" sz="3200" spc="-1" strike="noStrike">
                <a:solidFill>
                  <a:srgbClr val="ffb871"/>
                </a:solidFill>
                <a:latin typeface="宋体"/>
                <a:ea typeface="宋体"/>
              </a:rPr>
              <a:t>”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　　请问窦娥的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苦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冤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究竟有哪些？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　　她是怎样面对这些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苦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冤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？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W020081224309310417740"/>
          <p:cNvPicPr/>
          <p:nvPr/>
        </p:nvPicPr>
        <p:blipFill>
          <a:blip r:embed="rId1"/>
          <a:stretch/>
        </p:blipFill>
        <p:spPr>
          <a:xfrm>
            <a:off x="4910040" y="295200"/>
            <a:ext cx="3973680" cy="642636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6"/>
          <p:cNvSpPr/>
          <p:nvPr/>
        </p:nvSpPr>
        <p:spPr>
          <a:xfrm>
            <a:off x="1541520" y="422280"/>
            <a:ext cx="1430280" cy="5597640"/>
          </a:xfrm>
          <a:custGeom>
            <a:avLst/>
            <a:gdLst>
              <a:gd name="textAreaLeft" fmla="*/ 168480 w 1430280"/>
              <a:gd name="textAreaRight" fmla="*/ 1261800 w 1430280"/>
              <a:gd name="textAreaTop" fmla="*/ 168480 h 5597640"/>
              <a:gd name="textAreaBottom" fmla="*/ 5429160 h 5597640"/>
            </a:gdLst>
            <a:ahLst/>
            <a:rect l="textAreaLeft" t="textAreaTop" r="textAreaRight" b="textAreaBottom"/>
            <a:pathLst>
              <a:path w="21600" h="84519">
                <a:moveTo>
                  <a:pt x="3600" y="0"/>
                </a:moveTo>
                <a:arcTo wR="3600" hR="3600" stAng="0" swAng="5400000"/>
                <a:lnTo>
                  <a:pt x="0" y="80919"/>
                </a:lnTo>
                <a:arcTo wR="3600" hR="3600" stAng="16200000" swAng="5400000"/>
                <a:lnTo>
                  <a:pt x="18000" y="84519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ffb87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819440" y="523800"/>
            <a:ext cx="13204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60000"/>
                </a:solidFill>
                <a:latin typeface="Times New Roman"/>
                <a:ea typeface="方正姚体"/>
              </a:rPr>
              <a:t>重</a:t>
            </a:r>
            <a:br>
              <a:rPr sz="5400"/>
            </a:br>
            <a:r>
              <a:rPr b="1" lang="zh-CN" sz="5400" spc="-1" strike="noStrike">
                <a:solidFill>
                  <a:srgbClr val="e60000"/>
                </a:solidFill>
                <a:latin typeface="Times New Roman"/>
                <a:ea typeface="方正姚体"/>
              </a:rPr>
              <a:t>点</a:t>
            </a:r>
            <a:br>
              <a:rPr sz="5400"/>
            </a:br>
            <a:r>
              <a:rPr b="1" lang="zh-CN" sz="5400" spc="-1" strike="noStrike">
                <a:solidFill>
                  <a:srgbClr val="e60000"/>
                </a:solidFill>
                <a:latin typeface="Times New Roman"/>
                <a:ea typeface="方正姚体"/>
              </a:rPr>
              <a:t>研</a:t>
            </a:r>
            <a:br>
              <a:rPr sz="5400"/>
            </a:br>
            <a:r>
              <a:rPr b="1" lang="zh-CN" sz="5400" spc="-1" strike="noStrike">
                <a:solidFill>
                  <a:srgbClr val="e60000"/>
                </a:solidFill>
                <a:latin typeface="Times New Roman"/>
                <a:ea typeface="方正姚体"/>
              </a:rPr>
              <a:t>读</a:t>
            </a:r>
            <a:br>
              <a:rPr sz="5400"/>
            </a:br>
            <a:r>
              <a:rPr b="1" lang="zh-CN" sz="5400" spc="-1" strike="noStrike">
                <a:solidFill>
                  <a:srgbClr val="e60000"/>
                </a:solidFill>
                <a:latin typeface="Times New Roman"/>
                <a:ea typeface="方正姚体"/>
              </a:rPr>
              <a:t>第</a:t>
            </a:r>
            <a:br>
              <a:rPr sz="5400"/>
            </a:br>
            <a:r>
              <a:rPr b="1" lang="zh-CN" sz="5400" spc="-1" strike="noStrike">
                <a:solidFill>
                  <a:srgbClr val="e60000"/>
                </a:solidFill>
                <a:latin typeface="Times New Roman"/>
                <a:ea typeface="方正姚体"/>
              </a:rPr>
              <a:t>三</a:t>
            </a:r>
            <a:br>
              <a:rPr sz="5400"/>
            </a:br>
            <a:r>
              <a:rPr b="1" lang="zh-CN" sz="5400" spc="-1" strike="noStrike">
                <a:solidFill>
                  <a:srgbClr val="e60000"/>
                </a:solidFill>
                <a:latin typeface="Times New Roman"/>
                <a:ea typeface="方正姚体"/>
              </a:rPr>
              <a:t>折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179280" y="1341360"/>
            <a:ext cx="853308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元杂剧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</a:rPr>
              <a:t>一般是</a:t>
            </a:r>
            <a:r>
              <a:rPr b="1" lang="zh-CN" sz="3400" spc="-1" strike="noStrike">
                <a:solidFill>
                  <a:srgbClr val="ff9933"/>
                </a:solidFill>
                <a:latin typeface="黑体"/>
              </a:rPr>
              <a:t>一本四折演一个完整的故事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</a:rPr>
              <a:t>，依次写故事的开端、发展、高潮和结局；个别的有五折、六折或多本连演。如</a:t>
            </a:r>
            <a:r>
              <a:rPr b="1" lang="en-US" sz="3400" spc="-1" strike="noStrike">
                <a:solidFill>
                  <a:srgbClr val="ffffff"/>
                </a:solidFill>
                <a:latin typeface="黑体"/>
              </a:rPr>
              <a:t>《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</a:rPr>
              <a:t>西厢记</a:t>
            </a:r>
            <a:r>
              <a:rPr b="1" lang="en-US" sz="3400" spc="-1" strike="noStrike">
                <a:solidFill>
                  <a:srgbClr val="ffffff"/>
                </a:solidFill>
                <a:latin typeface="黑体"/>
              </a:rPr>
              <a:t>》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</a:rPr>
              <a:t>。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黑体"/>
              </a:rPr>
              <a:t>　　</a:t>
            </a:r>
            <a:r>
              <a:rPr b="1" lang="en-US" sz="3400" spc="-1" strike="noStrike">
                <a:solidFill>
                  <a:srgbClr val="ffffff"/>
                </a:solidFill>
                <a:latin typeface="黑体"/>
              </a:rPr>
              <a:t>2.</a:t>
            </a:r>
            <a:r>
              <a:rPr b="1" lang="zh-CN" sz="3400" spc="-1" strike="noStrike">
                <a:solidFill>
                  <a:srgbClr val="ff9933"/>
                </a:solidFill>
                <a:latin typeface="黑体"/>
              </a:rPr>
              <a:t>每一折相当于现代戏剧的</a:t>
            </a:r>
            <a:r>
              <a:rPr b="1" lang="zh-CN" sz="3400" spc="-1" strike="noStrike">
                <a:solidFill>
                  <a:srgbClr val="ff9933"/>
                </a:solidFill>
                <a:latin typeface="华文中宋"/>
              </a:rPr>
              <a:t>“</a:t>
            </a:r>
            <a:r>
              <a:rPr b="1" lang="zh-CN" sz="3400" spc="-1" strike="noStrike">
                <a:solidFill>
                  <a:srgbClr val="ff9933"/>
                </a:solidFill>
                <a:latin typeface="黑体"/>
              </a:rPr>
              <a:t>幕</a:t>
            </a:r>
            <a:r>
              <a:rPr b="1" lang="zh-CN" sz="3400" spc="-1" strike="noStrike">
                <a:solidFill>
                  <a:srgbClr val="ff9933"/>
                </a:solidFill>
                <a:latin typeface="华文中宋"/>
              </a:rPr>
              <a:t>”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</a:rPr>
              <a:t>，</a:t>
            </a: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有的杂剧还有</a:t>
            </a:r>
            <a:r>
              <a:rPr b="1" lang="zh-CN" sz="3400" spc="-1" strike="noStrike">
                <a:solidFill>
                  <a:srgbClr val="ffffff"/>
                </a:solidFill>
                <a:latin typeface="宋体"/>
                <a:ea typeface="宋体"/>
              </a:rPr>
              <a:t>“</a:t>
            </a:r>
            <a:r>
              <a:rPr b="1" lang="zh-CN" sz="3400" spc="-1" strike="noStrike">
                <a:solidFill>
                  <a:srgbClr val="ff9933"/>
                </a:solidFill>
                <a:latin typeface="Arial"/>
              </a:rPr>
              <a:t>楔子</a:t>
            </a:r>
            <a:r>
              <a:rPr b="1" lang="zh-CN" sz="3400" spc="-1" strike="noStrike">
                <a:solidFill>
                  <a:srgbClr val="ffffff"/>
                </a:solidFill>
                <a:latin typeface="宋体"/>
                <a:ea typeface="宋体"/>
              </a:rPr>
              <a:t>”</a:t>
            </a: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，楔子，类似现代剧的</a:t>
            </a:r>
            <a:r>
              <a:rPr b="1" lang="zh-CN" sz="3400" spc="-1" strike="noStrike">
                <a:solidFill>
                  <a:srgbClr val="ff9933"/>
                </a:solidFill>
                <a:latin typeface="Arial"/>
              </a:rPr>
              <a:t>序幕</a:t>
            </a: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一般放在第一折之前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但也有放在折与折之间的楔子，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起</a:t>
            </a:r>
            <a:r>
              <a:rPr b="1" lang="zh-CN" sz="3400" spc="-1" strike="noStrike">
                <a:solidFill>
                  <a:srgbClr val="ff9933"/>
                </a:solidFill>
                <a:latin typeface="Arial"/>
              </a:rPr>
              <a:t>承上启下</a:t>
            </a: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的作用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，用来说明情节，介绍人物。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1979640" y="476280"/>
            <a:ext cx="5184720" cy="825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行楷"/>
              </a:rPr>
              <a:t>元杂剧的结构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2195640" y="620640"/>
            <a:ext cx="5184720" cy="764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跌宕有致的情节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3" descr="窦娥冤"/>
          <p:cNvPicPr/>
          <p:nvPr/>
        </p:nvPicPr>
        <p:blipFill>
          <a:blip r:embed="rId1"/>
          <a:stretch/>
        </p:blipFill>
        <p:spPr>
          <a:xfrm>
            <a:off x="7020000" y="4149720"/>
            <a:ext cx="1896840" cy="25160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468360" y="2565360"/>
            <a:ext cx="244944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押赴刑场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指斥天地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2195640" y="620640"/>
            <a:ext cx="5184720" cy="764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跌宕有致的情节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4" descr="窦娥冤"/>
          <p:cNvPicPr/>
          <p:nvPr/>
        </p:nvPicPr>
        <p:blipFill>
          <a:blip r:embed="rId1"/>
          <a:stretch/>
        </p:blipFill>
        <p:spPr>
          <a:xfrm>
            <a:off x="7020000" y="4149720"/>
            <a:ext cx="1896840" cy="25160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468360" y="2565360"/>
            <a:ext cx="244944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押赴刑场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指斥天地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635280" y="3500280"/>
            <a:ext cx="295272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婆媳诀别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言明真相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2484360" y="2997360"/>
            <a:ext cx="1008000" cy="71892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2195640" y="620640"/>
            <a:ext cx="5184720" cy="764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跌宕有致的情节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6" descr="窦娥冤"/>
          <p:cNvPicPr/>
          <p:nvPr/>
        </p:nvPicPr>
        <p:blipFill>
          <a:blip r:embed="rId1"/>
          <a:stretch/>
        </p:blipFill>
        <p:spPr>
          <a:xfrm>
            <a:off x="7020000" y="4149720"/>
            <a:ext cx="1896840" cy="25160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468360" y="2565360"/>
            <a:ext cx="244944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押赴刑场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指斥天地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3635280" y="3500280"/>
            <a:ext cx="295272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婆媳诀别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言明真相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6804000" y="1700280"/>
            <a:ext cx="234000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三桩誓愿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天从人愿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5"/>
          <p:cNvSpPr/>
          <p:nvPr/>
        </p:nvSpPr>
        <p:spPr>
          <a:xfrm>
            <a:off x="2484360" y="2997360"/>
            <a:ext cx="1008000" cy="71892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6"/>
          <p:cNvSpPr/>
          <p:nvPr/>
        </p:nvSpPr>
        <p:spPr>
          <a:xfrm flipV="1">
            <a:off x="5724360" y="2565000"/>
            <a:ext cx="865440" cy="136836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2195640" y="620640"/>
            <a:ext cx="5184720" cy="764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跌宕有致的情节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8" descr="窦娥冤"/>
          <p:cNvPicPr/>
          <p:nvPr/>
        </p:nvPicPr>
        <p:blipFill>
          <a:blip r:embed="rId1"/>
          <a:stretch/>
        </p:blipFill>
        <p:spPr>
          <a:xfrm>
            <a:off x="7020000" y="4149720"/>
            <a:ext cx="1896840" cy="25160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468360" y="2565360"/>
            <a:ext cx="244944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押赴刑场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指斥天地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3635280" y="3500280"/>
            <a:ext cx="295272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婆媳诀别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言明真相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6804000" y="1700280"/>
            <a:ext cx="234000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三桩誓愿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天从人愿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Line 5"/>
          <p:cNvSpPr/>
          <p:nvPr/>
        </p:nvSpPr>
        <p:spPr>
          <a:xfrm>
            <a:off x="2484360" y="2997360"/>
            <a:ext cx="1008000" cy="71892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Line 6"/>
          <p:cNvSpPr/>
          <p:nvPr/>
        </p:nvSpPr>
        <p:spPr>
          <a:xfrm flipV="1">
            <a:off x="5724360" y="2565000"/>
            <a:ext cx="865440" cy="136836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195640" y="620640"/>
            <a:ext cx="5184720" cy="764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跌宕有致的情节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Oval 8"/>
          <p:cNvSpPr/>
          <p:nvPr/>
        </p:nvSpPr>
        <p:spPr>
          <a:xfrm>
            <a:off x="826920" y="3933720"/>
            <a:ext cx="1081080" cy="863640"/>
          </a:xfrm>
          <a:prstGeom prst="ellipse">
            <a:avLst/>
          </a:prstGeom>
          <a:solidFill>
            <a:srgbClr val="6633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怨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9" descr="窦娥冤"/>
          <p:cNvPicPr/>
          <p:nvPr/>
        </p:nvPicPr>
        <p:blipFill>
          <a:blip r:embed="rId1"/>
          <a:stretch/>
        </p:blipFill>
        <p:spPr>
          <a:xfrm>
            <a:off x="7020000" y="4149720"/>
            <a:ext cx="1896840" cy="25160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468360" y="2565360"/>
            <a:ext cx="244944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押赴刑场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指斥天地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635280" y="3500280"/>
            <a:ext cx="295272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婆媳诀别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言明真相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6804000" y="1700280"/>
            <a:ext cx="234000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三桩誓愿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天从人愿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2484360" y="2997360"/>
            <a:ext cx="1008000" cy="71892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6"/>
          <p:cNvSpPr/>
          <p:nvPr/>
        </p:nvSpPr>
        <p:spPr>
          <a:xfrm flipV="1">
            <a:off x="5724360" y="2565000"/>
            <a:ext cx="865440" cy="136836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2195640" y="620640"/>
            <a:ext cx="5184720" cy="764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跌宕有致的情节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Oval 8"/>
          <p:cNvSpPr/>
          <p:nvPr/>
        </p:nvSpPr>
        <p:spPr>
          <a:xfrm>
            <a:off x="826920" y="3933720"/>
            <a:ext cx="1081080" cy="863640"/>
          </a:xfrm>
          <a:prstGeom prst="ellipse">
            <a:avLst/>
          </a:prstGeom>
          <a:solidFill>
            <a:srgbClr val="6633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怨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Oval 9"/>
          <p:cNvSpPr/>
          <p:nvPr/>
        </p:nvSpPr>
        <p:spPr>
          <a:xfrm>
            <a:off x="4067280" y="4797360"/>
            <a:ext cx="1081080" cy="863640"/>
          </a:xfrm>
          <a:prstGeom prst="ellipse">
            <a:avLst/>
          </a:prstGeom>
          <a:solidFill>
            <a:srgbClr val="6633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悲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10" descr="窦娥冤"/>
          <p:cNvPicPr/>
          <p:nvPr/>
        </p:nvPicPr>
        <p:blipFill>
          <a:blip r:embed="rId1"/>
          <a:stretch/>
        </p:blipFill>
        <p:spPr>
          <a:xfrm>
            <a:off x="7020000" y="4149720"/>
            <a:ext cx="1896840" cy="25160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468360" y="2565360"/>
            <a:ext cx="244944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押赴刑场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指斥天地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635280" y="3500280"/>
            <a:ext cx="295272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婆媳诀别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言明真相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6804000" y="1700280"/>
            <a:ext cx="234000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三桩誓愿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天从人愿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2484360" y="2997360"/>
            <a:ext cx="1008000" cy="71892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6"/>
          <p:cNvSpPr/>
          <p:nvPr/>
        </p:nvSpPr>
        <p:spPr>
          <a:xfrm flipV="1">
            <a:off x="5724360" y="2565000"/>
            <a:ext cx="865440" cy="136836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2195640" y="620640"/>
            <a:ext cx="5184720" cy="764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跌宕有致的情节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Oval 8"/>
          <p:cNvSpPr/>
          <p:nvPr/>
        </p:nvSpPr>
        <p:spPr>
          <a:xfrm>
            <a:off x="826920" y="3933720"/>
            <a:ext cx="1081080" cy="863640"/>
          </a:xfrm>
          <a:prstGeom prst="ellipse">
            <a:avLst/>
          </a:prstGeom>
          <a:solidFill>
            <a:srgbClr val="6633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怨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Oval 9"/>
          <p:cNvSpPr/>
          <p:nvPr/>
        </p:nvSpPr>
        <p:spPr>
          <a:xfrm>
            <a:off x="4067280" y="4797360"/>
            <a:ext cx="1081080" cy="863640"/>
          </a:xfrm>
          <a:prstGeom prst="ellipse">
            <a:avLst/>
          </a:prstGeom>
          <a:solidFill>
            <a:srgbClr val="6633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悲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7236000" y="3068640"/>
            <a:ext cx="1081080" cy="863640"/>
          </a:xfrm>
          <a:prstGeom prst="ellipse">
            <a:avLst/>
          </a:prstGeom>
          <a:solidFill>
            <a:srgbClr val="6633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恨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11" descr="窦娥冤"/>
          <p:cNvPicPr/>
          <p:nvPr/>
        </p:nvPicPr>
        <p:blipFill>
          <a:blip r:embed="rId1"/>
          <a:stretch/>
        </p:blipFill>
        <p:spPr>
          <a:xfrm>
            <a:off x="7020000" y="4149720"/>
            <a:ext cx="1896840" cy="25160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2987640" y="765000"/>
            <a:ext cx="3311640" cy="764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三桩誓愿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900000" y="256536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血溅白练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2987640" y="765000"/>
            <a:ext cx="3311640" cy="764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三桩誓愿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900000" y="256536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血溅白练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900000" y="3789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六月飞雪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2987640" y="765000"/>
            <a:ext cx="3311640" cy="764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三桩誓愿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24000" y="1773360"/>
            <a:ext cx="845964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杂剧每折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</a:rPr>
              <a:t>限用</a:t>
            </a:r>
            <a:r>
              <a:rPr b="1" lang="zh-CN" sz="3400" spc="-1" strike="noStrike">
                <a:solidFill>
                  <a:srgbClr val="ff9933"/>
                </a:solidFill>
                <a:latin typeface="黑体"/>
              </a:rPr>
              <a:t>同一宫调的曲牌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</a:rPr>
              <a:t>组成的一套曲子。剧本中每套曲子的</a:t>
            </a:r>
            <a:r>
              <a:rPr b="1" lang="zh-CN" sz="3400" spc="-1" strike="noStrike">
                <a:solidFill>
                  <a:srgbClr val="ff9933"/>
                </a:solidFill>
                <a:latin typeface="黑体"/>
              </a:rPr>
              <a:t>第一支曲子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</a:rPr>
              <a:t>前面都</a:t>
            </a:r>
            <a:r>
              <a:rPr b="1" lang="zh-CN" sz="3400" spc="-1" strike="noStrike">
                <a:solidFill>
                  <a:srgbClr val="ff9933"/>
                </a:solidFill>
                <a:latin typeface="黑体"/>
              </a:rPr>
              <a:t>标明宫调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</a:rPr>
              <a:t>。</a:t>
            </a:r>
            <a:r>
              <a:rPr b="1" lang="zh-CN" sz="3400" spc="-1" strike="noStrike">
                <a:solidFill>
                  <a:srgbClr val="ffff00"/>
                </a:solidFill>
                <a:latin typeface="黑体"/>
              </a:rPr>
              <a:t>    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1763640" y="549360"/>
            <a:ext cx="5184720" cy="825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行楷"/>
              </a:rPr>
              <a:t>元杂剧的结构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900000" y="256536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血溅白练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900000" y="3789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六月飞雪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900000" y="49417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亢旱三年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987640" y="765000"/>
            <a:ext cx="3311640" cy="764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三桩誓愿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900000" y="256536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血溅白练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900000" y="3789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六月飞雪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900000" y="49417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亢旱三年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2987640" y="765000"/>
            <a:ext cx="3311640" cy="764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三桩誓愿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3203640" y="2924280"/>
            <a:ext cx="936720" cy="0"/>
          </a:xfrm>
          <a:prstGeom prst="line">
            <a:avLst/>
          </a:prstGeom>
          <a:ln w="63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4572000" y="2565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明示冤情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900000" y="256536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血溅白练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900000" y="3789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六月飞雪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900000" y="49417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亢旱三年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987640" y="765000"/>
            <a:ext cx="3311640" cy="764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三桩誓愿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Line 6"/>
          <p:cNvSpPr/>
          <p:nvPr/>
        </p:nvSpPr>
        <p:spPr>
          <a:xfrm>
            <a:off x="3203640" y="2924280"/>
            <a:ext cx="936720" cy="0"/>
          </a:xfrm>
          <a:prstGeom prst="line">
            <a:avLst/>
          </a:prstGeom>
          <a:ln w="63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Line 7"/>
          <p:cNvSpPr/>
          <p:nvPr/>
        </p:nvSpPr>
        <p:spPr>
          <a:xfrm>
            <a:off x="3203640" y="4076640"/>
            <a:ext cx="936720" cy="0"/>
          </a:xfrm>
          <a:prstGeom prst="line">
            <a:avLst/>
          </a:prstGeom>
          <a:ln w="63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4572000" y="2565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明示冤情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4572000" y="3753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天地明鉴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900000" y="256536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血溅白练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900000" y="3789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六月飞雪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900000" y="49417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亢旱三年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2987640" y="765000"/>
            <a:ext cx="3311640" cy="764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三桩誓愿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3203640" y="2924280"/>
            <a:ext cx="936720" cy="0"/>
          </a:xfrm>
          <a:prstGeom prst="line">
            <a:avLst/>
          </a:prstGeom>
          <a:ln w="63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Line 7"/>
          <p:cNvSpPr/>
          <p:nvPr/>
        </p:nvSpPr>
        <p:spPr>
          <a:xfrm>
            <a:off x="3203640" y="4076640"/>
            <a:ext cx="936720" cy="0"/>
          </a:xfrm>
          <a:prstGeom prst="line">
            <a:avLst/>
          </a:prstGeom>
          <a:ln w="63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8"/>
          <p:cNvSpPr/>
          <p:nvPr/>
        </p:nvSpPr>
        <p:spPr>
          <a:xfrm>
            <a:off x="3203640" y="5229360"/>
            <a:ext cx="936720" cy="0"/>
          </a:xfrm>
          <a:prstGeom prst="line">
            <a:avLst/>
          </a:prstGeom>
          <a:ln w="63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4572000" y="2565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明示冤情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4572000" y="3753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天地明鉴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11"/>
          <p:cNvSpPr/>
          <p:nvPr/>
        </p:nvSpPr>
        <p:spPr>
          <a:xfrm>
            <a:off x="4572000" y="49417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惩治邪恶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81200" y="5719680"/>
            <a:ext cx="815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说课ppt模板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ttp://www.eeppt.com/moban/kejian/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900000" y="256536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血溅白练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900000" y="3789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六月飞雪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900000" y="49417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亢旱三年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2987640" y="765000"/>
            <a:ext cx="3311640" cy="764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三桩誓愿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6"/>
          <p:cNvSpPr/>
          <p:nvPr/>
        </p:nvSpPr>
        <p:spPr>
          <a:xfrm>
            <a:off x="3203640" y="2924280"/>
            <a:ext cx="936720" cy="0"/>
          </a:xfrm>
          <a:prstGeom prst="line">
            <a:avLst/>
          </a:prstGeom>
          <a:ln w="63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7"/>
          <p:cNvSpPr/>
          <p:nvPr/>
        </p:nvSpPr>
        <p:spPr>
          <a:xfrm>
            <a:off x="3203640" y="4076640"/>
            <a:ext cx="936720" cy="0"/>
          </a:xfrm>
          <a:prstGeom prst="line">
            <a:avLst/>
          </a:prstGeom>
          <a:ln w="63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8"/>
          <p:cNvSpPr/>
          <p:nvPr/>
        </p:nvSpPr>
        <p:spPr>
          <a:xfrm>
            <a:off x="3203640" y="5229360"/>
            <a:ext cx="936720" cy="0"/>
          </a:xfrm>
          <a:prstGeom prst="line">
            <a:avLst/>
          </a:prstGeom>
          <a:ln w="63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4572000" y="2565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明示冤情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4572000" y="3753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天地明鉴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4572000" y="49417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惩治邪恶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AutoShape 12"/>
          <p:cNvSpPr/>
          <p:nvPr/>
        </p:nvSpPr>
        <p:spPr>
          <a:xfrm>
            <a:off x="6877080" y="2781360"/>
            <a:ext cx="287280" cy="2592360"/>
          </a:xfrm>
          <a:custGeom>
            <a:avLst/>
            <a:gdLst>
              <a:gd name="textAreaLeft" fmla="*/ 0 w 287280"/>
              <a:gd name="textAreaRight" fmla="*/ 103680 w 28728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Oval 13"/>
          <p:cNvSpPr/>
          <p:nvPr/>
        </p:nvSpPr>
        <p:spPr>
          <a:xfrm>
            <a:off x="7524720" y="3500280"/>
            <a:ext cx="1116000" cy="954360"/>
          </a:xfrm>
          <a:prstGeom prst="ellipse">
            <a:avLst/>
          </a:prstGeom>
          <a:solidFill>
            <a:srgbClr val="6633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冤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3924360" y="1413000"/>
            <a:ext cx="4392720" cy="764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超现实的情节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rcRect l="0" t="0" r="52" b="0"/>
          <a:stretch/>
        </p:blipFill>
        <p:spPr>
          <a:xfrm>
            <a:off x="395280" y="333360"/>
            <a:ext cx="2600280" cy="3024360"/>
          </a:xfrm>
          <a:prstGeom prst="rect">
            <a:avLst/>
          </a:prstGeom>
          <a:ln w="28440">
            <a:solidFill>
              <a:srgbClr val="cc3300"/>
            </a:solidFill>
            <a:miter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6948360" y="4292640"/>
            <a:ext cx="2195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现实主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浪漫主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3924360" y="1413000"/>
            <a:ext cx="4392720" cy="764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超现实的情节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rcRect l="0" t="0" r="52" b="0"/>
          <a:stretch/>
        </p:blipFill>
        <p:spPr>
          <a:xfrm>
            <a:off x="395280" y="333360"/>
            <a:ext cx="2600280" cy="3024360"/>
          </a:xfrm>
          <a:prstGeom prst="rect">
            <a:avLst/>
          </a:prstGeom>
          <a:ln w="28440">
            <a:solidFill>
              <a:srgbClr val="cc3300"/>
            </a:solidFill>
            <a:miter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1187280" y="371628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·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刻画窦娥强烈的反抗精神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6948360" y="4292640"/>
            <a:ext cx="2195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现实主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浪漫主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924360" y="1413000"/>
            <a:ext cx="4392720" cy="764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超现实的情节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1"/>
          <a:srcRect l="0" t="0" r="52" b="0"/>
          <a:stretch/>
        </p:blipFill>
        <p:spPr>
          <a:xfrm>
            <a:off x="395280" y="333360"/>
            <a:ext cx="2600280" cy="3024360"/>
          </a:xfrm>
          <a:prstGeom prst="rect">
            <a:avLst/>
          </a:prstGeom>
          <a:ln w="28440">
            <a:solidFill>
              <a:srgbClr val="cc3300"/>
            </a:solidFill>
            <a:miter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1187280" y="465300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·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控诉封建法制的腐朽乖谬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187280" y="371628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·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刻画窦娥强烈的反抗精神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6948360" y="4292640"/>
            <a:ext cx="2195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现实主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浪漫主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3924360" y="1413000"/>
            <a:ext cx="4392720" cy="764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超现实的情节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1"/>
          <a:srcRect l="0" t="0" r="52" b="0"/>
          <a:stretch/>
        </p:blipFill>
        <p:spPr>
          <a:xfrm>
            <a:off x="395280" y="333360"/>
            <a:ext cx="2600280" cy="3024360"/>
          </a:xfrm>
          <a:prstGeom prst="rect">
            <a:avLst/>
          </a:prstGeom>
          <a:ln w="28440">
            <a:solidFill>
              <a:srgbClr val="cc3300"/>
            </a:solidFill>
            <a:miter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1187280" y="465300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·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控诉封建法制的腐朽乖谬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187280" y="371628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·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刻画窦娥强烈的反抗精神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1187280" y="558972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·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表达民众惩治歼恶的愿望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6443640" y="4076640"/>
            <a:ext cx="216000" cy="1801800"/>
          </a:xfrm>
          <a:custGeom>
            <a:avLst/>
            <a:gdLst>
              <a:gd name="textAreaLeft" fmla="*/ 0 w 216000"/>
              <a:gd name="textAreaRight" fmla="*/ 78120 w 216000"/>
              <a:gd name="textAreaTop" fmla="*/ 46800 h 1801800"/>
              <a:gd name="textAreaBottom" fmla="*/ 1755000 h 18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6948360" y="4292640"/>
            <a:ext cx="2195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现实主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浪漫主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3924360" y="1413000"/>
            <a:ext cx="4392720" cy="764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超现实的情节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8" descr=""/>
          <p:cNvPicPr/>
          <p:nvPr/>
        </p:nvPicPr>
        <p:blipFill>
          <a:blip r:embed="rId1"/>
          <a:srcRect l="0" t="0" r="52" b="0"/>
          <a:stretch/>
        </p:blipFill>
        <p:spPr>
          <a:xfrm>
            <a:off x="395280" y="333360"/>
            <a:ext cx="2600280" cy="3024360"/>
          </a:xfrm>
          <a:prstGeom prst="rect">
            <a:avLst/>
          </a:prstGeom>
          <a:ln w="28440">
            <a:solidFill>
              <a:srgbClr val="cc33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24000" y="1773360"/>
            <a:ext cx="845964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杂剧每折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</a:rPr>
              <a:t>限用</a:t>
            </a:r>
            <a:r>
              <a:rPr b="1" lang="zh-CN" sz="3400" spc="-1" strike="noStrike">
                <a:solidFill>
                  <a:srgbClr val="ff9933"/>
                </a:solidFill>
                <a:latin typeface="黑体"/>
              </a:rPr>
              <a:t>同一宫调的曲牌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</a:rPr>
              <a:t>组成的一套曲子。剧本中每套曲子的</a:t>
            </a:r>
            <a:r>
              <a:rPr b="1" lang="zh-CN" sz="3400" spc="-1" strike="noStrike">
                <a:solidFill>
                  <a:srgbClr val="ff9933"/>
                </a:solidFill>
                <a:latin typeface="黑体"/>
              </a:rPr>
              <a:t>第一支曲子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</a:rPr>
              <a:t>前面都</a:t>
            </a:r>
            <a:r>
              <a:rPr b="1" lang="zh-CN" sz="3400" spc="-1" strike="noStrike">
                <a:solidFill>
                  <a:srgbClr val="ff9933"/>
                </a:solidFill>
                <a:latin typeface="黑体"/>
              </a:rPr>
              <a:t>标明宫调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</a:rPr>
              <a:t>。</a:t>
            </a:r>
            <a:r>
              <a:rPr b="1" lang="zh-CN" sz="3400" spc="-1" strike="noStrike">
                <a:solidFill>
                  <a:srgbClr val="ffff00"/>
                </a:solidFill>
                <a:latin typeface="黑体"/>
              </a:rPr>
              <a:t>    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763640" y="549360"/>
            <a:ext cx="5184720" cy="825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行楷"/>
              </a:rPr>
              <a:t>元杂剧的结构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324000" y="3933720"/>
            <a:ext cx="8496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　　除楔子中可由次要角色唱以外，一本四折通常由主角（</a:t>
            </a:r>
            <a:r>
              <a:rPr b="1" lang="zh-CN" sz="3200" spc="-1" strike="noStrike">
                <a:solidFill>
                  <a:srgbClr val="ff9933"/>
                </a:solidFill>
                <a:latin typeface="Arial"/>
              </a:rPr>
              <a:t>正末或正旦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一人唱到底，其他角色有白无唱。正末主唱的剧本称</a:t>
            </a:r>
            <a:r>
              <a:rPr b="1" lang="zh-CN" sz="3200" spc="-1" strike="noStrike">
                <a:solidFill>
                  <a:srgbClr val="ff9933"/>
                </a:solidFill>
                <a:latin typeface="Arial"/>
              </a:rPr>
              <a:t>末本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；正旦主唱的剧本称</a:t>
            </a:r>
            <a:r>
              <a:rPr b="1" lang="zh-CN" sz="3200" spc="-1" strike="noStrike">
                <a:solidFill>
                  <a:srgbClr val="ff9933"/>
                </a:solidFill>
                <a:latin typeface="Arial"/>
              </a:rPr>
              <a:t>旦本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7640" y="3621240"/>
            <a:ext cx="8283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pt课件模板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ttp://www.eeppt.com/moban/kejian/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Oval 3"/>
          <p:cNvSpPr/>
          <p:nvPr/>
        </p:nvSpPr>
        <p:spPr>
          <a:xfrm>
            <a:off x="611280" y="620640"/>
            <a:ext cx="2376360" cy="947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1096920" y="663480"/>
            <a:ext cx="233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隶书"/>
                <a:ea typeface="隶书"/>
              </a:rPr>
              <a:t>正音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74840" y="1868400"/>
            <a:ext cx="859140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嫡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亲　　</a:t>
            </a: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儿　　</a:t>
            </a: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孛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老　　绣</a:t>
            </a: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闼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刬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鳏寡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孤独    　燕</a:t>
            </a: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侣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莺</a:t>
            </a: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俦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撚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断　　</a:t>
            </a: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恓惶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祗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候　　桃</a:t>
            </a: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杌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防　　</a:t>
            </a: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埋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怨　　盗</a:t>
            </a: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跖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错</a:t>
            </a: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勘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　　前合后</a:t>
            </a: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偃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　　　　</a:t>
            </a: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嗟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怨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杳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无音信　　　羊</a:t>
            </a: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肚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儿　罪</a:t>
            </a: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愆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湛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湛青天     邹</a:t>
            </a: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衍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亢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旱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Oval 2"/>
          <p:cNvSpPr/>
          <p:nvPr/>
        </p:nvSpPr>
        <p:spPr>
          <a:xfrm>
            <a:off x="611280" y="620640"/>
            <a:ext cx="2376360" cy="947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706320" y="674640"/>
            <a:ext cx="233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隶书"/>
                <a:ea typeface="隶书"/>
              </a:rPr>
              <a:t>字形比较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795240" y="2200320"/>
            <a:ext cx="7191360" cy="19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罪</a:t>
            </a: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愆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　　负屈</a:t>
            </a: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冤　　邹</a:t>
            </a: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衍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斟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酌　　难</a:t>
            </a: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堪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　　桑</a:t>
            </a: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椹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　</a:t>
            </a: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湛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湛青天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395280" y="981000"/>
            <a:ext cx="8317080" cy="53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下列加点字注音正确的一项是（          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错勘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à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古陌荒阡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iān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嗟怨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iē)  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湛湛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hà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前合后偃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yǎ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埋怨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án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罪愆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yǎ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亲眷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uà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尸骸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ái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亢旱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àng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盗跖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uò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苌虹化碧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háng)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662040" y="260280"/>
            <a:ext cx="2158920" cy="70344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检测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395280" y="981000"/>
            <a:ext cx="8317080" cy="53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下列加点字注音正确的一项是（          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错勘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à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古陌荒阡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iān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嗟怨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iē)  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湛湛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hà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前合后偃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yǎ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埋怨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án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罪愆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yǎ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亲眷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uà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尸骸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ái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亢旱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àng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盗跖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uò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苌虹化碧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háng)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6892920" y="104148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B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662040" y="260280"/>
            <a:ext cx="2158920" cy="70344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检测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3"/>
          <p:cNvSpPr/>
          <p:nvPr/>
        </p:nvSpPr>
        <p:spPr>
          <a:xfrm>
            <a:off x="250920" y="692280"/>
            <a:ext cx="874872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下列选项中注释不完全正确的项是（         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行动些（走快些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净（俗称花脸）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　磨旗（摇旗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正旦（扮演女主角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只合（只应该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兀的（突然地）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　卜儿（扮演老妇人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断送出（发送往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旗枪（旗杆头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暑气暄（暖）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　兀那（那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亢旱（大旱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寿延（寿长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错勘（错误地判断）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　一陌儿（一叠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干家缘（操劳家务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250920" y="692280"/>
            <a:ext cx="874872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下列选项中注释不完全正确的项是（         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行动些（走快些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净（俗称花脸）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　磨旗（摇旗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正旦（扮演女主角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只合（只应该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兀的（突然地）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　卜儿（扮演老妇人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断送出（发送往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旗枪（旗杆头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暑气暄（暖）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　兀那（那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亢旱（大旱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寿延（寿长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错勘（错误地判断）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　一陌儿（一叠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干家缘（操劳家务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7485120" y="62064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B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3"/>
          <p:cNvSpPr/>
          <p:nvPr/>
        </p:nvSpPr>
        <p:spPr>
          <a:xfrm>
            <a:off x="468360" y="692280"/>
            <a:ext cx="8136000" cy="31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窦娥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冤在哪里？最能体现课文主题思想的一句唱词是（　　　 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这都是官吏每无心正法，使百姓有口难言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为善的受贫穷更命短，造恶的享富贵又寿延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天地也！做得个怕硬欺软，却原来也这般顺水推船！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这都是我做窦娥的没时运，不明不暗负屈含冤。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468360" y="692280"/>
            <a:ext cx="8136000" cy="31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窦娥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冤在哪里？最能体现课文主题思想的一句唱词是（　　　 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这都是官吏每无心正法，使百姓有口难言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为善的受贫穷更命短，造恶的享富贵又寿延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天地也！做得个怕硬欺软，却原来也这般顺水推船！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这都是我做窦娥的没时运，不明不暗负屈含冤。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5508720" y="112536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200160" y="836640"/>
            <a:ext cx="8582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下列成语典故和传说中的相关的历史人物对应正确的一项是（     　　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　　①望帝啼鹃　　②苌弘化碧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　　③六月飞霜　　④亢旱三年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①邹衍②苌弘③燕惠王④东海孝妇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①邹衍②庄周③燕惠王④窦娥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①杜宇②苌弘③邹衍④东海孝妇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①杜宇②庄周③邹衍④窦娥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3"/>
          <p:cNvSpPr/>
          <p:nvPr/>
        </p:nvSpPr>
        <p:spPr>
          <a:xfrm>
            <a:off x="4680000" y="1325520"/>
            <a:ext cx="13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D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200160" y="836640"/>
            <a:ext cx="8582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下列成语典故和传说中的相关的历史人物对应正确的一项是（     　　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　　①望帝啼鹃　　②苌弘化碧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　　③六月飞霜　　④亢旱三年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①邹衍②苌弘③燕惠王④东海孝妇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①邹衍②庄周③燕惠王④窦娥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①杜宇②苌弘③邹衍④东海孝妇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①杜宇②庄周③邹衍④窦娥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52360" y="1341360"/>
            <a:ext cx="889164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杂剧角色分为末、旦、净三大类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黑体"/>
              </a:rPr>
              <a:t>末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：正末、副末、外末、小末；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黑体"/>
              </a:rPr>
              <a:t>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：正旦、副旦、外旦、小旦；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黑体"/>
              </a:rPr>
              <a:t>净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：俗称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大花脸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黑体"/>
              </a:rPr>
              <a:t>丑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：俗称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小花脸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，大都扮演次要人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男角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黑体"/>
              </a:rPr>
              <a:t>杂角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：徕儿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小厮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、孤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官员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、驾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皇帝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卜儿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老年妇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、孛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老年男子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洁郎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和尚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835280" y="333360"/>
            <a:ext cx="5184720" cy="825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行楷"/>
              </a:rPr>
              <a:t>元杂剧的角色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395280" y="509760"/>
            <a:ext cx="842472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下列加点字的注音完全正确的一项是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         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盗</a:t>
            </a: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跖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hī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     </a:t>
            </a: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嗟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怨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ié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   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前合后</a:t>
            </a: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偃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yǎ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罪</a:t>
            </a: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愆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iā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    </a:t>
            </a: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冤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xiá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 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湛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湛青天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hà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错</a:t>
            </a: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勘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ā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   </a:t>
            </a: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亢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旱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āng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 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苌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弘化碧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háng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埋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怨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ái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   尸</a:t>
            </a: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骸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ǎi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  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哥哥</a:t>
            </a: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行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áng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395280" y="509760"/>
            <a:ext cx="842472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下列加点字的注音完全正确的一项是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         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盗</a:t>
            </a: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跖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hī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     </a:t>
            </a: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嗟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怨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ié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   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前合后</a:t>
            </a: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偃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yǎ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罪</a:t>
            </a: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愆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iā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    </a:t>
            </a: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冤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xiá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 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湛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湛青天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hà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错</a:t>
            </a: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勘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ā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   </a:t>
            </a: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亢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旱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āng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 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苌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弘化碧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háng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埋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怨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ái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   尸</a:t>
            </a: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骸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ǎi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  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哥哥</a:t>
            </a:r>
            <a:r>
              <a:rPr b="1" lang="zh-CN" sz="3200" spc="-1" strike="noStrike" u="sng">
                <a:solidFill>
                  <a:srgbClr val="ffcc66"/>
                </a:solidFill>
                <a:uFillTx/>
                <a:latin typeface="Times New Roman"/>
              </a:rPr>
              <a:t>行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áng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7677000" y="50796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D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24000" y="1797120"/>
            <a:ext cx="9001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9933"/>
                </a:solidFill>
                <a:latin typeface="黑体"/>
              </a:rPr>
              <a:t>曲词</a:t>
            </a:r>
            <a:r>
              <a:rPr b="1" lang="zh-CN" sz="3400" spc="-1" strike="noStrike">
                <a:solidFill>
                  <a:srgbClr val="ffff00"/>
                </a:solidFill>
                <a:latin typeface="黑体"/>
              </a:rPr>
              <a:t>　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</a:rPr>
              <a:t>剧中人物的唱词</a:t>
            </a:r>
            <a:r>
              <a:rPr b="1" lang="zh-CN" sz="3400" spc="-1" strike="noStrike">
                <a:solidFill>
                  <a:srgbClr val="cc3300"/>
                </a:solidFill>
                <a:latin typeface="黑体"/>
              </a:rPr>
              <a:t> 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908000" y="692280"/>
            <a:ext cx="5185080" cy="764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行楷"/>
              </a:rPr>
              <a:t>元杂剧的语言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24000" y="1797120"/>
            <a:ext cx="9001080" cy="13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9933"/>
                </a:solidFill>
                <a:latin typeface="黑体"/>
              </a:rPr>
              <a:t>曲词</a:t>
            </a:r>
            <a:r>
              <a:rPr b="1" lang="zh-CN" sz="3400" spc="-1" strike="noStrike">
                <a:solidFill>
                  <a:srgbClr val="ffff00"/>
                </a:solidFill>
                <a:latin typeface="黑体"/>
              </a:rPr>
              <a:t>　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</a:rPr>
              <a:t>剧中人物的唱词</a:t>
            </a:r>
            <a:r>
              <a:rPr b="1" lang="zh-CN" sz="3400" spc="-1" strike="noStrike">
                <a:solidFill>
                  <a:srgbClr val="cc3300"/>
                </a:solidFill>
                <a:latin typeface="黑体"/>
              </a:rPr>
              <a:t> 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9933"/>
                </a:solidFill>
                <a:latin typeface="黑体"/>
              </a:rPr>
              <a:t>宾白</a:t>
            </a:r>
            <a:r>
              <a:rPr b="1" lang="en-US" sz="3400" spc="-1" strike="noStrike">
                <a:solidFill>
                  <a:srgbClr val="ffffff"/>
                </a:solidFill>
                <a:latin typeface="黑体"/>
              </a:rPr>
              <a:t>(</a:t>
            </a:r>
            <a:r>
              <a:rPr b="1" lang="zh-CN" sz="3400" spc="-1" strike="noStrike">
                <a:solidFill>
                  <a:srgbClr val="ff9933"/>
                </a:solidFill>
                <a:latin typeface="黑体"/>
              </a:rPr>
              <a:t>唱为主</a:t>
            </a:r>
            <a:r>
              <a:rPr b="1" lang="en-US" sz="3400" spc="-1" strike="noStrike">
                <a:solidFill>
                  <a:srgbClr val="ffffff"/>
                </a:solidFill>
                <a:latin typeface="黑体"/>
              </a:rPr>
              <a:t>,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</a:rPr>
              <a:t>白为宾</a:t>
            </a:r>
            <a:r>
              <a:rPr b="1" lang="en-US" sz="3400" spc="-1" strike="noStrike">
                <a:solidFill>
                  <a:srgbClr val="ffffff"/>
                </a:solidFill>
                <a:latin typeface="黑体"/>
              </a:rPr>
              <a:t>,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</a:rPr>
              <a:t>故曰宾白</a:t>
            </a:r>
            <a:r>
              <a:rPr b="1" lang="en-US" sz="3400" spc="-1" strike="noStrike">
                <a:solidFill>
                  <a:srgbClr val="ffffff"/>
                </a:solidFill>
                <a:latin typeface="黑体"/>
              </a:rPr>
              <a:t>)</a:t>
            </a:r>
            <a:r>
              <a:rPr b="1" lang="en-US" sz="3400" spc="-1" strike="noStrike">
                <a:solidFill>
                  <a:srgbClr val="cc3300"/>
                </a:solidFill>
                <a:latin typeface="黑体"/>
              </a:rPr>
              <a:t> 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</a:rPr>
              <a:t>对白 独白 旁白 带白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908000" y="692280"/>
            <a:ext cx="5185080" cy="764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行楷"/>
              </a:rPr>
              <a:t>元杂剧的语言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24000" y="1797120"/>
            <a:ext cx="9001080" cy="13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9933"/>
                </a:solidFill>
                <a:latin typeface="黑体"/>
              </a:rPr>
              <a:t>曲词</a:t>
            </a:r>
            <a:r>
              <a:rPr b="1" lang="zh-CN" sz="3400" spc="-1" strike="noStrike">
                <a:solidFill>
                  <a:srgbClr val="ffff00"/>
                </a:solidFill>
                <a:latin typeface="黑体"/>
              </a:rPr>
              <a:t>　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</a:rPr>
              <a:t>剧中人物的唱词</a:t>
            </a:r>
            <a:r>
              <a:rPr b="1" lang="zh-CN" sz="3400" spc="-1" strike="noStrike">
                <a:solidFill>
                  <a:srgbClr val="cc3300"/>
                </a:solidFill>
                <a:latin typeface="黑体"/>
              </a:rPr>
              <a:t> 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9933"/>
                </a:solidFill>
                <a:latin typeface="黑体"/>
              </a:rPr>
              <a:t>宾白</a:t>
            </a:r>
            <a:r>
              <a:rPr b="1" lang="en-US" sz="3400" spc="-1" strike="noStrike">
                <a:solidFill>
                  <a:srgbClr val="ffffff"/>
                </a:solidFill>
                <a:latin typeface="黑体"/>
              </a:rPr>
              <a:t>(</a:t>
            </a:r>
            <a:r>
              <a:rPr b="1" lang="zh-CN" sz="3400" spc="-1" strike="noStrike">
                <a:solidFill>
                  <a:srgbClr val="ff9933"/>
                </a:solidFill>
                <a:latin typeface="黑体"/>
              </a:rPr>
              <a:t>唱为主</a:t>
            </a:r>
            <a:r>
              <a:rPr b="1" lang="en-US" sz="3400" spc="-1" strike="noStrike">
                <a:solidFill>
                  <a:srgbClr val="ffffff"/>
                </a:solidFill>
                <a:latin typeface="黑体"/>
              </a:rPr>
              <a:t>,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</a:rPr>
              <a:t>白为宾</a:t>
            </a:r>
            <a:r>
              <a:rPr b="1" lang="en-US" sz="3400" spc="-1" strike="noStrike">
                <a:solidFill>
                  <a:srgbClr val="ffffff"/>
                </a:solidFill>
                <a:latin typeface="黑体"/>
              </a:rPr>
              <a:t>,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</a:rPr>
              <a:t>故曰宾白</a:t>
            </a:r>
            <a:r>
              <a:rPr b="1" lang="en-US" sz="3400" spc="-1" strike="noStrike">
                <a:solidFill>
                  <a:srgbClr val="ffffff"/>
                </a:solidFill>
                <a:latin typeface="黑体"/>
              </a:rPr>
              <a:t>)</a:t>
            </a:r>
            <a:r>
              <a:rPr b="1" lang="en-US" sz="3400" spc="-1" strike="noStrike">
                <a:solidFill>
                  <a:srgbClr val="cc3300"/>
                </a:solidFill>
                <a:latin typeface="黑体"/>
              </a:rPr>
              <a:t> 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</a:rPr>
              <a:t>对白 独白 旁白 带白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908000" y="692280"/>
            <a:ext cx="5185080" cy="764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行楷"/>
              </a:rPr>
              <a:t>元杂剧的语言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1444680" y="3911760"/>
            <a:ext cx="7392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ff00"/>
                </a:solidFill>
                <a:latin typeface="宋体"/>
                <a:ea typeface="宋体"/>
              </a:rPr>
              <a:t>“</a:t>
            </a:r>
            <a:r>
              <a:rPr b="1" lang="zh-CN" sz="3400" spc="-1" strike="noStrike">
                <a:solidFill>
                  <a:srgbClr val="00ff00"/>
                </a:solidFill>
                <a:latin typeface="黑体"/>
              </a:rPr>
              <a:t>曲白相生，方尽剧情之妙</a:t>
            </a:r>
            <a:r>
              <a:rPr b="1" lang="zh-CN" sz="3400" spc="-1" strike="noStrike">
                <a:solidFill>
                  <a:srgbClr val="00ff00"/>
                </a:solidFill>
                <a:latin typeface="宋体"/>
                <a:ea typeface="宋体"/>
              </a:rPr>
              <a:t>”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04:18:24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6:47:28Z</dcterms:modified>
  <cp:revision>39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NXTAG2">
    <vt:lpwstr>0008006015000000000001023600</vt:lpwstr>
  </property>
</Properties>
</file>