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6.png" ContentType="image/png"/>
  <Override PartName="/ppt/media/image13.gif" ContentType="image/gi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7E8-682C-46E2-820E-E49F241E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53E-2991-4E10-87AD-5D105B62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32A-1489-41B5-ACB4-C3093AF4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F5E-114B-42B0-8806-180E38FD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2F80-68F6-46C1-BCE3-F993EB64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7B27-E8C8-44E2-9638-972103AB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EF4-1E7F-4E7E-A26F-21E1E7A6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8206-DA8A-417D-8C67-C93FCBD6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E6DB-9505-41EA-BDF0-C53500E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1B1-91E8-4F50-B63B-9794C6DA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6427-DCE4-4760-9F62-0C81B2FE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8C5-4FF0-4C92-8690-163221B9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99CF-1CCB-4556-B1FF-C891CFE9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EC67-9D48-43B7-BF4E-F58F6FA7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E8C5-7CFC-49F8-9811-3BD33FCF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FD57-7243-44B6-BE31-B6A5CACD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C2CC-F22E-4C50-AC9D-46CBB9C5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1611-AA82-46E1-AD53-0D6610D7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85EE-4A92-4D18-9FF2-84FA7E03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3983-2F3A-4AC9-91B1-DB4F585F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ADC9-83EC-4333-8B61-D33094CA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2E40-8FC2-4A42-AE51-411897EB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8E1-49CF-4E9E-9FAF-66E723E5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1970-5518-4816-B86A-A8FFAAD9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0921-72E6-4FD1-9624-2427A56C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7074-F520-459A-AF91-D5ECD99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8409-BBCD-40AE-B838-EA8B76A9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03A3-B627-4D28-83B6-343392A7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88B9-A47D-4177-93F6-15DAF730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3639-048F-4992-8168-576EBCE4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7660-AD83-4B84-9F0A-D2622E66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307F-A8BA-4679-B8C4-B40C85FF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803B-AD46-4FD9-B38C-57FA6AD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3F6-B466-4AEE-BE2C-4BB9A50C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5C1FF-CB86-4BAF-8DEE-FFF9F36F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8BC6-F375-4BAC-97EE-27D6538E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27018-323B-491F-94D7-8ECFDB44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2B6F0-FC2A-4327-9D03-2821803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5013-8092-4F1D-B639-96213C1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0ED00-6602-4FD0-B312-EFD69806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D8C4-5139-4201-B09F-1CBCCDA4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8418-E4C8-43D7-88B7-4D9D1BAC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4FDB-08B0-4937-A300-8B1D912A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89426-7FA6-4660-8030-1ACA12FB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D48-9CE6-44CE-8FFF-97B705EC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33AD-5F07-450E-A9A1-4A27C115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613DE-6620-48D5-BEF7-23A2EEDC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47F83-F8C8-4547-A9F9-CB04085D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16F1A-7343-4256-8544-D2BB8F50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4DCC-CD63-44D0-A03D-8E72040D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E3EC8-F170-4A0B-B213-C3152026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B615D-943D-43F8-8230-2CA7EFF4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133F-D314-45B5-8318-523E3E5D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B131-9D2E-4665-9CF9-F47A53C0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9843-9ED2-45B8-856A-605E784E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A7B-A380-4230-8AEC-692085F4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B18AF-95A5-47F8-9120-307BD26B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4A1-160D-45BC-8B56-529C4A0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D5B-E3EB-43AC-B40B-7BC53925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529-F4F5-4102-9B24-1E3F41B5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2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4.png"/><Relationship Id="rId20" Type="http://schemas.openxmlformats.org/officeDocument/2006/relationships/image" Target="../media/image7.png"/><Relationship Id="rId21" Type="http://schemas.openxmlformats.org/officeDocument/2006/relationships/image" Target="../media/image10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12.png"/><Relationship Id="rId25" Type="http://schemas.openxmlformats.org/officeDocument/2006/relationships/slideLayout" Target="../slideLayouts/slideLayout1.xml"/><Relationship Id="rId26" Type="http://schemas.openxmlformats.org/officeDocument/2006/relationships/slideLayout" Target="../slideLayouts/slideLayout2.xml"/><Relationship Id="rId27" Type="http://schemas.openxmlformats.org/officeDocument/2006/relationships/slideLayout" Target="../slideLayouts/slideLayout3.xml"/><Relationship Id="rId28" Type="http://schemas.openxmlformats.org/officeDocument/2006/relationships/slideLayout" Target="../slideLayouts/slideLayout4.xml"/><Relationship Id="rId29" Type="http://schemas.openxmlformats.org/officeDocument/2006/relationships/slideLayout" Target="../slideLayouts/slideLayout5.xml"/><Relationship Id="rId30" Type="http://schemas.openxmlformats.org/officeDocument/2006/relationships/slideLayout" Target="../slideLayouts/slideLayout6.xml"/><Relationship Id="rId31" Type="http://schemas.openxmlformats.org/officeDocument/2006/relationships/slideLayout" Target="../slideLayouts/slideLayout7.xml"/><Relationship Id="rId32" Type="http://schemas.openxmlformats.org/officeDocument/2006/relationships/slideLayout" Target="../slideLayouts/slideLayout8.xml"/><Relationship Id="rId33" Type="http://schemas.openxmlformats.org/officeDocument/2006/relationships/slideLayout" Target="../slideLayouts/slideLayout9.xml"/><Relationship Id="rId34" Type="http://schemas.openxmlformats.org/officeDocument/2006/relationships/slideLayout" Target="../slideLayouts/slideLayout10.xml"/><Relationship Id="rId35" Type="http://schemas.openxmlformats.org/officeDocument/2006/relationships/slideLayout" Target="../slideLayouts/slideLayout11.xml"/><Relationship Id="rId3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4d95d693377e027f7af48072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BA65-76B3-4936-9827-BFD4B4D7F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6"/>
          <p:cNvSpPr/>
          <p:nvPr/>
        </p:nvSpPr>
        <p:spPr>
          <a:xfrm>
            <a:off x="9612360" y="3068640"/>
            <a:ext cx="565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7"/>
          <p:cNvSpPr/>
          <p:nvPr/>
        </p:nvSpPr>
        <p:spPr>
          <a:xfrm>
            <a:off x="1197000" y="4078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68"/>
          <p:cNvSpPr/>
          <p:nvPr/>
        </p:nvSpPr>
        <p:spPr>
          <a:xfrm flipV="1">
            <a:off x="838080" y="4078080"/>
            <a:ext cx="14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69" descr="竹杆"/>
          <p:cNvPicPr/>
          <p:nvPr/>
        </p:nvPicPr>
        <p:blipFill>
          <a:blip r:embed="rId3"/>
          <a:stretch/>
        </p:blipFill>
        <p:spPr>
          <a:xfrm rot="1086600">
            <a:off x="262080" y="5273640"/>
            <a:ext cx="352440" cy="16574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70" descr="zy-1"/>
          <p:cNvPicPr/>
          <p:nvPr/>
        </p:nvPicPr>
        <p:blipFill>
          <a:blip r:embed="rId4"/>
          <a:stretch/>
        </p:blipFill>
        <p:spPr>
          <a:xfrm rot="16531200">
            <a:off x="85320" y="4866840"/>
            <a:ext cx="295560" cy="5904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71" descr="zy-2"/>
          <p:cNvPicPr/>
          <p:nvPr/>
        </p:nvPicPr>
        <p:blipFill>
          <a:blip r:embed="rId5"/>
          <a:stretch/>
        </p:blipFill>
        <p:spPr>
          <a:xfrm rot="4014000">
            <a:off x="1397160" y="3663000"/>
            <a:ext cx="160560" cy="847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72" descr="zy-4"/>
          <p:cNvPicPr/>
          <p:nvPr/>
        </p:nvPicPr>
        <p:blipFill>
          <a:blip r:embed="rId6"/>
          <a:stretch/>
        </p:blipFill>
        <p:spPr>
          <a:xfrm rot="5685000">
            <a:off x="1788480" y="5430600"/>
            <a:ext cx="331560" cy="6490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73" descr="zy-5"/>
          <p:cNvPicPr/>
          <p:nvPr/>
        </p:nvPicPr>
        <p:blipFill>
          <a:blip r:embed="rId7"/>
          <a:stretch/>
        </p:blipFill>
        <p:spPr>
          <a:xfrm flipH="1" rot="13063800">
            <a:off x="2278080" y="4148640"/>
            <a:ext cx="406440" cy="3862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74" descr="zy-6"/>
          <p:cNvPicPr/>
          <p:nvPr/>
        </p:nvPicPr>
        <p:blipFill>
          <a:blip r:embed="rId8"/>
          <a:stretch/>
        </p:blipFill>
        <p:spPr>
          <a:xfrm rot="1458600">
            <a:off x="549000" y="5157360"/>
            <a:ext cx="780840" cy="36216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75" descr="zy-7"/>
          <p:cNvPicPr/>
          <p:nvPr/>
        </p:nvPicPr>
        <p:blipFill>
          <a:blip r:embed="rId9"/>
          <a:stretch/>
        </p:blipFill>
        <p:spPr>
          <a:xfrm>
            <a:off x="693720" y="5086440"/>
            <a:ext cx="504720" cy="13320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76" descr="zy-31"/>
          <p:cNvPicPr/>
          <p:nvPr/>
        </p:nvPicPr>
        <p:blipFill>
          <a:blip r:embed="rId10"/>
          <a:stretch/>
        </p:blipFill>
        <p:spPr>
          <a:xfrm rot="19454400">
            <a:off x="2278080" y="5446800"/>
            <a:ext cx="504720" cy="25704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77" descr="竹叶"/>
          <p:cNvPicPr/>
          <p:nvPr/>
        </p:nvPicPr>
        <p:blipFill>
          <a:blip r:embed="rId11"/>
          <a:stretch/>
        </p:blipFill>
        <p:spPr>
          <a:xfrm>
            <a:off x="1270080" y="3573360"/>
            <a:ext cx="571320" cy="400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78" descr="竹杆"/>
          <p:cNvPicPr/>
          <p:nvPr/>
        </p:nvPicPr>
        <p:blipFill>
          <a:blip r:embed="rId12"/>
          <a:stretch/>
        </p:blipFill>
        <p:spPr>
          <a:xfrm rot="1086600">
            <a:off x="549360" y="4006440"/>
            <a:ext cx="276120" cy="129708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79" descr="zg8"/>
          <p:cNvPicPr/>
          <p:nvPr/>
        </p:nvPicPr>
        <p:blipFill>
          <a:blip r:embed="rId13"/>
          <a:stretch/>
        </p:blipFill>
        <p:spPr>
          <a:xfrm rot="2103600">
            <a:off x="1053720" y="5662440"/>
            <a:ext cx="227160" cy="126864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80" descr="zg8"/>
          <p:cNvPicPr/>
          <p:nvPr/>
        </p:nvPicPr>
        <p:blipFill>
          <a:blip r:embed="rId14"/>
          <a:stretch/>
        </p:blipFill>
        <p:spPr>
          <a:xfrm rot="1669200">
            <a:off x="1618920" y="4408560"/>
            <a:ext cx="237960" cy="132552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81" descr="竹叶"/>
          <p:cNvPicPr/>
          <p:nvPr/>
        </p:nvPicPr>
        <p:blipFill>
          <a:blip r:embed="rId15"/>
          <a:stretch/>
        </p:blipFill>
        <p:spPr>
          <a:xfrm rot="21444000">
            <a:off x="838080" y="4294080"/>
            <a:ext cx="571680" cy="40032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82" descr="zy-31"/>
          <p:cNvPicPr/>
          <p:nvPr/>
        </p:nvPicPr>
        <p:blipFill>
          <a:blip r:embed="rId16"/>
          <a:stretch/>
        </p:blipFill>
        <p:spPr>
          <a:xfrm>
            <a:off x="909720" y="4613400"/>
            <a:ext cx="504720" cy="25704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83" descr="zy-31"/>
          <p:cNvPicPr/>
          <p:nvPr/>
        </p:nvPicPr>
        <p:blipFill>
          <a:blip r:embed="rId17"/>
          <a:stretch/>
        </p:blipFill>
        <p:spPr>
          <a:xfrm>
            <a:off x="1341360" y="4006800"/>
            <a:ext cx="505080" cy="25740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84" descr="竹叶"/>
          <p:cNvPicPr/>
          <p:nvPr/>
        </p:nvPicPr>
        <p:blipFill>
          <a:blip r:embed="rId18"/>
          <a:stretch/>
        </p:blipFill>
        <p:spPr>
          <a:xfrm rot="775800">
            <a:off x="1846080" y="5230800"/>
            <a:ext cx="571320" cy="399960"/>
          </a:xfrm>
          <a:prstGeom prst="rect">
            <a:avLst/>
          </a:prstGeom>
          <a:ln w="0">
            <a:noFill/>
          </a:ln>
        </p:spPr>
      </p:pic>
      <p:pic>
        <p:nvPicPr>
          <p:cNvPr id="23" name="Picture 85" descr="zy-2"/>
          <p:cNvPicPr/>
          <p:nvPr/>
        </p:nvPicPr>
        <p:blipFill>
          <a:blip r:embed="rId19"/>
          <a:stretch/>
        </p:blipFill>
        <p:spPr>
          <a:xfrm rot="5923800">
            <a:off x="1458360" y="4824360"/>
            <a:ext cx="154080" cy="820800"/>
          </a:xfrm>
          <a:prstGeom prst="rect">
            <a:avLst/>
          </a:prstGeom>
          <a:ln w="0">
            <a:noFill/>
          </a:ln>
        </p:spPr>
      </p:pic>
      <p:pic>
        <p:nvPicPr>
          <p:cNvPr id="24" name="Picture 86" descr="zy-6"/>
          <p:cNvPicPr/>
          <p:nvPr/>
        </p:nvPicPr>
        <p:blipFill>
          <a:blip r:embed="rId20"/>
          <a:stretch/>
        </p:blipFill>
        <p:spPr>
          <a:xfrm rot="201000">
            <a:off x="2061720" y="5662080"/>
            <a:ext cx="781200" cy="362160"/>
          </a:xfrm>
          <a:prstGeom prst="rect">
            <a:avLst/>
          </a:prstGeom>
          <a:ln w="0">
            <a:noFill/>
          </a:ln>
        </p:spPr>
      </p:pic>
      <p:pic>
        <p:nvPicPr>
          <p:cNvPr id="25" name="Picture 87" descr="竹叶"/>
          <p:cNvPicPr/>
          <p:nvPr/>
        </p:nvPicPr>
        <p:blipFill>
          <a:blip r:embed="rId21"/>
          <a:stretch/>
        </p:blipFill>
        <p:spPr>
          <a:xfrm rot="3702000">
            <a:off x="2109240" y="43066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26" name="Picture 88" descr="zy-4"/>
          <p:cNvPicPr/>
          <p:nvPr/>
        </p:nvPicPr>
        <p:blipFill>
          <a:blip r:embed="rId22"/>
          <a:stretch/>
        </p:blipFill>
        <p:spPr>
          <a:xfrm rot="13446000">
            <a:off x="909360" y="5085720"/>
            <a:ext cx="220680" cy="431640"/>
          </a:xfrm>
          <a:prstGeom prst="rect">
            <a:avLst/>
          </a:prstGeom>
          <a:ln w="0">
            <a:noFill/>
          </a:ln>
        </p:spPr>
      </p:pic>
      <p:pic>
        <p:nvPicPr>
          <p:cNvPr id="27" name="Picture 89" descr="zy-4"/>
          <p:cNvPicPr/>
          <p:nvPr/>
        </p:nvPicPr>
        <p:blipFill>
          <a:blip r:embed="rId23"/>
          <a:stretch/>
        </p:blipFill>
        <p:spPr>
          <a:xfrm rot="3600600">
            <a:off x="2130480" y="3865320"/>
            <a:ext cx="295200" cy="578160"/>
          </a:xfrm>
          <a:prstGeom prst="rect">
            <a:avLst/>
          </a:prstGeom>
          <a:ln w="0">
            <a:noFill/>
          </a:ln>
        </p:spPr>
      </p:pic>
      <p:sp>
        <p:nvSpPr>
          <p:cNvPr id="28" name="Line 90"/>
          <p:cNvSpPr/>
          <p:nvPr/>
        </p:nvSpPr>
        <p:spPr>
          <a:xfrm flipV="1">
            <a:off x="622440" y="4726080"/>
            <a:ext cx="21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91"/>
          <p:cNvSpPr/>
          <p:nvPr/>
        </p:nvSpPr>
        <p:spPr>
          <a:xfrm flipV="1">
            <a:off x="981000" y="41493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Line 92"/>
          <p:cNvSpPr/>
          <p:nvPr/>
        </p:nvSpPr>
        <p:spPr>
          <a:xfrm flipV="1">
            <a:off x="1125360" y="3933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Line 93"/>
          <p:cNvSpPr/>
          <p:nvPr/>
        </p:nvSpPr>
        <p:spPr>
          <a:xfrm flipV="1">
            <a:off x="1486080" y="54468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Line 94"/>
          <p:cNvSpPr/>
          <p:nvPr/>
        </p:nvSpPr>
        <p:spPr>
          <a:xfrm>
            <a:off x="1630440" y="5589720"/>
            <a:ext cx="647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Line 95"/>
          <p:cNvSpPr/>
          <p:nvPr/>
        </p:nvSpPr>
        <p:spPr>
          <a:xfrm flipV="1">
            <a:off x="1989000" y="422280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Line 96"/>
          <p:cNvSpPr/>
          <p:nvPr/>
        </p:nvSpPr>
        <p:spPr>
          <a:xfrm flipV="1">
            <a:off x="1989000" y="429408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97" descr="mo"/>
          <p:cNvPicPr/>
          <p:nvPr/>
        </p:nvPicPr>
        <p:blipFill>
          <a:blip r:embed="rId24"/>
          <a:stretch/>
        </p:blipFill>
        <p:spPr>
          <a:xfrm>
            <a:off x="2987640" y="2421000"/>
            <a:ext cx="900000" cy="787320"/>
          </a:xfrm>
          <a:prstGeom prst="rect">
            <a:avLst/>
          </a:prstGeom>
          <a:ln w="0">
            <a:noFill/>
          </a:ln>
        </p:spPr>
      </p:pic>
      <p:sp>
        <p:nvSpPr>
          <p:cNvPr id="36" name="Text Box 99"/>
          <p:cNvSpPr/>
          <p:nvPr/>
        </p:nvSpPr>
        <p:spPr>
          <a:xfrm>
            <a:off x="4140360" y="2244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国画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5"/>
    <p:sldLayoutId id="2147483650" r:id="rId26"/>
    <p:sldLayoutId id="2147483651" r:id="rId27"/>
    <p:sldLayoutId id="2147483652" r:id="rId28"/>
    <p:sldLayoutId id="2147483653" r:id="rId29"/>
    <p:sldLayoutId id="2147483654" r:id="rId30"/>
    <p:sldLayoutId id="2147483655" r:id="rId31"/>
    <p:sldLayoutId id="2147483656" r:id="rId32"/>
    <p:sldLayoutId id="2147483657" r:id="rId33"/>
    <p:sldLayoutId id="2147483658" r:id="rId34"/>
    <p:sldLayoutId id="2147483659" r:id="rId35"/>
    <p:sldLayoutId id="2147483660" r:id="rId3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E709-45E0-4944-99DB-E84E3C20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mo"/>
          <p:cNvPicPr/>
          <p:nvPr/>
        </p:nvPicPr>
        <p:blipFill>
          <a:blip r:embed="rId3"/>
          <a:stretch/>
        </p:blipFill>
        <p:spPr>
          <a:xfrm>
            <a:off x="2987640" y="2421000"/>
            <a:ext cx="900000" cy="787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4140360" y="2244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国画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3492360" y="3068640"/>
            <a:ext cx="565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1D67-3AF9-4500-A0C0-4D9E20FC4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200712419435657_2"/>
          <p:cNvPicPr/>
          <p:nvPr/>
        </p:nvPicPr>
        <p:blipFill>
          <a:blip r:embed="rId3"/>
          <a:stretch/>
        </p:blipFill>
        <p:spPr>
          <a:xfrm flipH="1">
            <a:off x="9467640" y="2205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未标题-1321副本"/>
          <p:cNvPicPr/>
          <p:nvPr/>
        </p:nvPicPr>
        <p:blipFill>
          <a:blip r:embed="rId4"/>
          <a:stretch/>
        </p:blipFill>
        <p:spPr>
          <a:xfrm rot="19677600">
            <a:off x="9612000" y="3284280"/>
            <a:ext cx="647640" cy="57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未标题3-1"/>
          <p:cNvPicPr/>
          <p:nvPr/>
        </p:nvPicPr>
        <p:blipFill>
          <a:blip r:embed="rId5"/>
          <a:stretch/>
        </p:blipFill>
        <p:spPr>
          <a:xfrm>
            <a:off x="-6732720" y="1700280"/>
            <a:ext cx="6524640" cy="1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未标题-1321副本"/>
          <p:cNvPicPr/>
          <p:nvPr/>
        </p:nvPicPr>
        <p:blipFill>
          <a:blip r:embed="rId6"/>
          <a:stretch/>
        </p:blipFill>
        <p:spPr>
          <a:xfrm rot="19677600">
            <a:off x="-324000" y="1268280"/>
            <a:ext cx="648000" cy="57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4743-5612-4E48-84A9-B52AC93CB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未标题3-1"/>
          <p:cNvPicPr/>
          <p:nvPr/>
        </p:nvPicPr>
        <p:blipFill>
          <a:blip r:embed="rId3"/>
          <a:stretch/>
        </p:blipFill>
        <p:spPr>
          <a:xfrm>
            <a:off x="395280" y="1700280"/>
            <a:ext cx="6524640" cy="150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mhd-1"/>
          <p:cNvPicPr/>
          <p:nvPr/>
        </p:nvPicPr>
        <p:blipFill>
          <a:blip r:embed="rId4"/>
          <a:stretch/>
        </p:blipFill>
        <p:spPr>
          <a:xfrm>
            <a:off x="971640" y="1700280"/>
            <a:ext cx="71280" cy="92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mhd-2"/>
          <p:cNvPicPr/>
          <p:nvPr/>
        </p:nvPicPr>
        <p:blipFill>
          <a:blip r:embed="rId5"/>
          <a:stretch/>
        </p:blipFill>
        <p:spPr>
          <a:xfrm>
            <a:off x="6443640" y="1557360"/>
            <a:ext cx="57240" cy="3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mhg-1"/>
          <p:cNvPicPr/>
          <p:nvPr/>
        </p:nvPicPr>
        <p:blipFill>
          <a:blip r:embed="rId6"/>
          <a:stretch/>
        </p:blipFill>
        <p:spPr>
          <a:xfrm>
            <a:off x="1763640" y="170028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mhg-5"/>
          <p:cNvPicPr/>
          <p:nvPr/>
        </p:nvPicPr>
        <p:blipFill>
          <a:blip r:embed="rId7"/>
          <a:stretch/>
        </p:blipFill>
        <p:spPr>
          <a:xfrm>
            <a:off x="2700360" y="1773360"/>
            <a:ext cx="144360" cy="98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mhb-3"/>
          <p:cNvPicPr/>
          <p:nvPr/>
        </p:nvPicPr>
        <p:blipFill>
          <a:blip r:embed="rId8"/>
          <a:stretch/>
        </p:blipFill>
        <p:spPr>
          <a:xfrm rot="20659800">
            <a:off x="1042560" y="1591920"/>
            <a:ext cx="149400" cy="10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mhb-4"/>
          <p:cNvPicPr/>
          <p:nvPr/>
        </p:nvPicPr>
        <p:blipFill>
          <a:blip r:embed="rId9"/>
          <a:stretch/>
        </p:blipFill>
        <p:spPr>
          <a:xfrm>
            <a:off x="1042920" y="1484280"/>
            <a:ext cx="142920" cy="103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mhb-2"/>
          <p:cNvPicPr/>
          <p:nvPr/>
        </p:nvPicPr>
        <p:blipFill>
          <a:blip r:embed="rId10"/>
          <a:stretch/>
        </p:blipFill>
        <p:spPr>
          <a:xfrm>
            <a:off x="826920" y="1484280"/>
            <a:ext cx="190800" cy="209520"/>
          </a:xfrm>
          <a:prstGeom prst="rect">
            <a:avLst/>
          </a:prstGeom>
          <a:ln w="0">
            <a:noFill/>
          </a:ln>
        </p:spPr>
      </p:pic>
      <p:sp>
        <p:nvSpPr>
          <p:cNvPr id="169" name="Line 15"/>
          <p:cNvSpPr/>
          <p:nvPr/>
        </p:nvSpPr>
        <p:spPr>
          <a:xfrm>
            <a:off x="971640" y="162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 flipV="1">
            <a:off x="1042920" y="155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971640" y="15588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8" descr="mhb-6"/>
          <p:cNvPicPr/>
          <p:nvPr/>
        </p:nvPicPr>
        <p:blipFill>
          <a:blip r:embed="rId11"/>
          <a:stretch/>
        </p:blipFill>
        <p:spPr>
          <a:xfrm>
            <a:off x="1692360" y="1628640"/>
            <a:ext cx="142920" cy="152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mhb-7"/>
          <p:cNvPicPr/>
          <p:nvPr/>
        </p:nvPicPr>
        <p:blipFill>
          <a:blip r:embed="rId12"/>
          <a:stretch/>
        </p:blipFill>
        <p:spPr>
          <a:xfrm>
            <a:off x="2801880" y="1628640"/>
            <a:ext cx="1144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0" descr="mhb-3"/>
          <p:cNvPicPr/>
          <p:nvPr/>
        </p:nvPicPr>
        <p:blipFill>
          <a:blip r:embed="rId13"/>
          <a:stretch/>
        </p:blipFill>
        <p:spPr>
          <a:xfrm rot="15319200">
            <a:off x="4035240" y="1811160"/>
            <a:ext cx="120960" cy="8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mhb-4"/>
          <p:cNvPicPr/>
          <p:nvPr/>
        </p:nvPicPr>
        <p:blipFill>
          <a:blip r:embed="rId14"/>
          <a:stretch/>
        </p:blipFill>
        <p:spPr>
          <a:xfrm rot="17632800">
            <a:off x="3983760" y="1832400"/>
            <a:ext cx="96840" cy="69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2F4B-2A12-4FC0-AD75-193116FBB8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4A5C-D149-4BD1-9327-5146DEDB71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hyperlink" Target="http://www.eeppt.com/moban/kejian/" TargetMode="External"/><Relationship Id="rId2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0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29.png"/><Relationship Id="rId8" Type="http://schemas.openxmlformats.org/officeDocument/2006/relationships/image" Target="../media/image1.jpe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3.png"/><Relationship Id="rId18" Type="http://schemas.openxmlformats.org/officeDocument/2006/relationships/image" Target="../media/image43.png"/><Relationship Id="rId19" Type="http://schemas.openxmlformats.org/officeDocument/2006/relationships/image" Target="../media/image43.png"/><Relationship Id="rId20" Type="http://schemas.openxmlformats.org/officeDocument/2006/relationships/image" Target="../media/image43.png"/><Relationship Id="rId21" Type="http://schemas.openxmlformats.org/officeDocument/2006/relationships/image" Target="../media/image43.png"/><Relationship Id="rId22" Type="http://schemas.openxmlformats.org/officeDocument/2006/relationships/image" Target="../media/image44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4.png"/><Relationship Id="rId26" Type="http://schemas.openxmlformats.org/officeDocument/2006/relationships/image" Target="../media/image44.png"/><Relationship Id="rId27" Type="http://schemas.openxmlformats.org/officeDocument/2006/relationships/image" Target="../media/image44.png"/><Relationship Id="rId2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47"/>
          <p:cNvSpPr/>
          <p:nvPr/>
        </p:nvSpPr>
        <p:spPr>
          <a:xfrm>
            <a:off x="4284720" y="414972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2" descr="200712419435657_2"/>
          <p:cNvPicPr/>
          <p:nvPr/>
        </p:nvPicPr>
        <p:blipFill>
          <a:blip r:embed="rId1"/>
          <a:stretch/>
        </p:blipFill>
        <p:spPr>
          <a:xfrm>
            <a:off x="25560" y="1341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5" descr="mo"/>
          <p:cNvPicPr/>
          <p:nvPr/>
        </p:nvPicPr>
        <p:blipFill>
          <a:blip r:embed="rId2"/>
          <a:stretch/>
        </p:blipFill>
        <p:spPr>
          <a:xfrm>
            <a:off x="3995640" y="3789360"/>
            <a:ext cx="432000" cy="37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6" descr="mo"/>
          <p:cNvPicPr/>
          <p:nvPr/>
        </p:nvPicPr>
        <p:blipFill>
          <a:blip r:embed="rId3"/>
          <a:stretch/>
        </p:blipFill>
        <p:spPr>
          <a:xfrm>
            <a:off x="4427640" y="4797360"/>
            <a:ext cx="431640" cy="378000"/>
          </a:xfrm>
          <a:prstGeom prst="rect">
            <a:avLst/>
          </a:prstGeom>
          <a:ln w="0">
            <a:noFill/>
          </a:ln>
        </p:spPr>
      </p:pic>
      <p:sp>
        <p:nvSpPr>
          <p:cNvPr id="259" name="Line 48"/>
          <p:cNvSpPr/>
          <p:nvPr/>
        </p:nvSpPr>
        <p:spPr>
          <a:xfrm>
            <a:off x="4788000" y="508464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7 C 0.02725 -0.01621 0.05451 -0.03241 0.09566 -0.01713 C 0.1368 -0.00185 0.19774 0.06574 0.24722 0.09143 C 0.2967 0.11713 0.3434 0.14907 0.39288 0.13727 C 0.44236 0.12546 0.47066 0.03287 0.54427 0.02106 C 0.61788 0.00926 0.78611 0.05903 0.83437 0.06666 E">
                                      <p:cBhvr>
                                        <p:cTn id="6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6"/>
          <p:cNvSpPr/>
          <p:nvPr/>
        </p:nvSpPr>
        <p:spPr>
          <a:xfrm>
            <a:off x="3419640" y="242100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85128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色彩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mo"/>
          <p:cNvPicPr/>
          <p:nvPr/>
        </p:nvPicPr>
        <p:blipFill>
          <a:blip r:embed="rId2"/>
          <a:stretch/>
        </p:blipFill>
        <p:spPr>
          <a:xfrm>
            <a:off x="1187280" y="476280"/>
            <a:ext cx="4392720" cy="38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1"/>
          <p:cNvSpPr/>
          <p:nvPr/>
        </p:nvSpPr>
        <p:spPr>
          <a:xfrm>
            <a:off x="1187280" y="1773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朱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3"/>
          <p:cNvSpPr/>
          <p:nvPr/>
        </p:nvSpPr>
        <p:spPr>
          <a:xfrm>
            <a:off x="1187280" y="17668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朱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0"/>
          <p:cNvSpPr/>
          <p:nvPr/>
        </p:nvSpPr>
        <p:spPr>
          <a:xfrm>
            <a:off x="61128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胭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2"/>
          <p:cNvSpPr/>
          <p:nvPr/>
        </p:nvSpPr>
        <p:spPr>
          <a:xfrm>
            <a:off x="61128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胭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2" descr="未标题3-1"/>
          <p:cNvPicPr/>
          <p:nvPr/>
        </p:nvPicPr>
        <p:blipFill>
          <a:blip r:embed="rId2"/>
          <a:stretch/>
        </p:blipFill>
        <p:spPr>
          <a:xfrm>
            <a:off x="395280" y="1700280"/>
            <a:ext cx="6524640" cy="150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3" descr="mhd-1"/>
          <p:cNvPicPr/>
          <p:nvPr/>
        </p:nvPicPr>
        <p:blipFill>
          <a:blip r:embed="rId3"/>
          <a:stretch/>
        </p:blipFill>
        <p:spPr>
          <a:xfrm>
            <a:off x="971640" y="1700280"/>
            <a:ext cx="71280" cy="92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4" descr="mhd-2"/>
          <p:cNvPicPr/>
          <p:nvPr/>
        </p:nvPicPr>
        <p:blipFill>
          <a:blip r:embed="rId4"/>
          <a:stretch/>
        </p:blipFill>
        <p:spPr>
          <a:xfrm>
            <a:off x="6443640" y="1557360"/>
            <a:ext cx="57240" cy="38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5" descr="mhg-1"/>
          <p:cNvPicPr/>
          <p:nvPr/>
        </p:nvPicPr>
        <p:blipFill>
          <a:blip r:embed="rId5"/>
          <a:stretch/>
        </p:blipFill>
        <p:spPr>
          <a:xfrm>
            <a:off x="1763640" y="170028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6" descr="mhg-5"/>
          <p:cNvPicPr/>
          <p:nvPr/>
        </p:nvPicPr>
        <p:blipFill>
          <a:blip r:embed="rId6"/>
          <a:stretch/>
        </p:blipFill>
        <p:spPr>
          <a:xfrm>
            <a:off x="2700360" y="1773360"/>
            <a:ext cx="144360" cy="98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7" descr="mhb-3"/>
          <p:cNvPicPr/>
          <p:nvPr/>
        </p:nvPicPr>
        <p:blipFill>
          <a:blip r:embed="rId7"/>
          <a:stretch/>
        </p:blipFill>
        <p:spPr>
          <a:xfrm rot="20659800">
            <a:off x="1042560" y="1591920"/>
            <a:ext cx="149400" cy="10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8" descr="mhb-4"/>
          <p:cNvPicPr/>
          <p:nvPr/>
        </p:nvPicPr>
        <p:blipFill>
          <a:blip r:embed="rId8"/>
          <a:stretch/>
        </p:blipFill>
        <p:spPr>
          <a:xfrm>
            <a:off x="1042920" y="1484280"/>
            <a:ext cx="142920" cy="103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9" descr="mhb-2"/>
          <p:cNvPicPr/>
          <p:nvPr/>
        </p:nvPicPr>
        <p:blipFill>
          <a:blip r:embed="rId9"/>
          <a:stretch/>
        </p:blipFill>
        <p:spPr>
          <a:xfrm>
            <a:off x="826920" y="1484280"/>
            <a:ext cx="190800" cy="209520"/>
          </a:xfrm>
          <a:prstGeom prst="rect">
            <a:avLst/>
          </a:prstGeom>
          <a:ln w="0">
            <a:noFill/>
          </a:ln>
        </p:spPr>
      </p:pic>
      <p:sp>
        <p:nvSpPr>
          <p:cNvPr id="275" name="Line 40"/>
          <p:cNvSpPr/>
          <p:nvPr/>
        </p:nvSpPr>
        <p:spPr>
          <a:xfrm>
            <a:off x="971640" y="162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1"/>
          <p:cNvSpPr/>
          <p:nvPr/>
        </p:nvSpPr>
        <p:spPr>
          <a:xfrm flipV="1">
            <a:off x="1042920" y="155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2"/>
          <p:cNvSpPr/>
          <p:nvPr/>
        </p:nvSpPr>
        <p:spPr>
          <a:xfrm>
            <a:off x="971640" y="15588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3" descr="mhb-6"/>
          <p:cNvPicPr/>
          <p:nvPr/>
        </p:nvPicPr>
        <p:blipFill>
          <a:blip r:embed="rId10"/>
          <a:stretch/>
        </p:blipFill>
        <p:spPr>
          <a:xfrm>
            <a:off x="1042920" y="1557360"/>
            <a:ext cx="142920" cy="152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4" descr="mhb-7"/>
          <p:cNvPicPr/>
          <p:nvPr/>
        </p:nvPicPr>
        <p:blipFill>
          <a:blip r:embed="rId11"/>
          <a:stretch/>
        </p:blipFill>
        <p:spPr>
          <a:xfrm>
            <a:off x="1692360" y="170028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5" descr="mhb-3"/>
          <p:cNvPicPr/>
          <p:nvPr/>
        </p:nvPicPr>
        <p:blipFill>
          <a:blip r:embed="rId12"/>
          <a:stretch/>
        </p:blipFill>
        <p:spPr>
          <a:xfrm rot="15319200">
            <a:off x="4035240" y="1811160"/>
            <a:ext cx="120960" cy="8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6" descr="mhb-4"/>
          <p:cNvPicPr/>
          <p:nvPr/>
        </p:nvPicPr>
        <p:blipFill>
          <a:blip r:embed="rId13"/>
          <a:stretch/>
        </p:blipFill>
        <p:spPr>
          <a:xfrm rot="17632800">
            <a:off x="3983760" y="1832400"/>
            <a:ext cx="96840" cy="69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9"/>
          <p:cNvSpPr/>
          <p:nvPr/>
        </p:nvSpPr>
        <p:spPr>
          <a:xfrm>
            <a:off x="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银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2"/>
          <p:cNvSpPr/>
          <p:nvPr/>
        </p:nvSpPr>
        <p:spPr>
          <a:xfrm>
            <a:off x="36360" y="17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银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1" descr="mb"/>
          <p:cNvPicPr/>
          <p:nvPr/>
        </p:nvPicPr>
        <p:blipFill>
          <a:blip r:embed="rId14"/>
          <a:stretch/>
        </p:blipFill>
        <p:spPr>
          <a:xfrm flipH="1" rot="19755000">
            <a:off x="9396000" y="5157360"/>
            <a:ext cx="504720" cy="311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5" descr=""/>
          <p:cNvPicPr/>
          <p:nvPr/>
        </p:nvPicPr>
        <p:blipFill>
          <a:blip r:embed="rId15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7" descr="hh"/>
          <p:cNvPicPr/>
          <p:nvPr/>
        </p:nvPicPr>
        <p:blipFill>
          <a:blip r:embed="rId16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9"/>
          <p:cNvSpPr/>
          <p:nvPr/>
        </p:nvSpPr>
        <p:spPr>
          <a:xfrm>
            <a:off x="539640" y="2492280"/>
            <a:ext cx="8604360" cy="4032360"/>
          </a:xfrm>
          <a:prstGeom prst="rect">
            <a:avLst/>
          </a:prstGeom>
          <a:solidFill>
            <a:srgbClr val="ff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9"/>
          <p:cNvSpPr/>
          <p:nvPr/>
        </p:nvSpPr>
        <p:spPr>
          <a:xfrm>
            <a:off x="6942600" y="3213000"/>
            <a:ext cx="1380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银朱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呈暗粉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0"/>
          <p:cNvSpPr/>
          <p:nvPr/>
        </p:nvSpPr>
        <p:spPr>
          <a:xfrm>
            <a:off x="2860200" y="3284640"/>
            <a:ext cx="38725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胭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暗红。用红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蓝花、茜草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紫梗三种植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制成的颜料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年代久则有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的现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1"/>
          <p:cNvSpPr/>
          <p:nvPr/>
        </p:nvSpPr>
        <p:spPr>
          <a:xfrm>
            <a:off x="1465920" y="3213000"/>
            <a:ext cx="17978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朱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朱红。用以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画花卉、禽鸟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羽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6" descr=""/>
          <p:cNvPicPr/>
          <p:nvPr/>
        </p:nvPicPr>
        <p:blipFill>
          <a:blip r:embed="rId17"/>
          <a:srcRect l="0" t="0" r="64168" b="0"/>
          <a:stretch/>
        </p:blipFill>
        <p:spPr>
          <a:xfrm>
            <a:off x="250920" y="2276640"/>
            <a:ext cx="1728720" cy="4392360"/>
          </a:xfrm>
          <a:prstGeom prst="rect">
            <a:avLst/>
          </a:prstGeom>
          <a:ln w="0">
            <a:noFill/>
          </a:ln>
        </p:spPr>
      </p:pic>
      <p:grpSp>
        <p:nvGrpSpPr>
          <p:cNvPr id="292" name="Rectangle 70"/>
          <p:cNvGrpSpPr/>
          <p:nvPr/>
        </p:nvGrpSpPr>
        <p:grpSpPr>
          <a:xfrm>
            <a:off x="-6010200" y="-98280"/>
            <a:ext cx="8272440" cy="10364760"/>
            <a:chOff x="-6010200" y="-98280"/>
            <a:chExt cx="8272440" cy="10364760"/>
          </a:xfrm>
        </p:grpSpPr>
        <p:pic>
          <p:nvPicPr>
            <p:cNvPr id="293" name="Rectangle 70" descr=""/>
            <p:cNvPicPr/>
            <p:nvPr/>
          </p:nvPicPr>
          <p:blipFill>
            <a:blip r:embed="rId18"/>
            <a:stretch/>
          </p:blipFill>
          <p:spPr>
            <a:xfrm>
              <a:off x="-6010200" y="-78480"/>
              <a:ext cx="8272440" cy="10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rot="19585800">
              <a:off x="-2196720" y="-920520"/>
              <a:ext cx="647640" cy="12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71"/>
          <p:cNvGrpSpPr/>
          <p:nvPr/>
        </p:nvGrpSpPr>
        <p:grpSpPr>
          <a:xfrm>
            <a:off x="6303960" y="-4488480"/>
            <a:ext cx="8271000" cy="10359360"/>
            <a:chOff x="6303960" y="-4488480"/>
            <a:chExt cx="8271000" cy="10359360"/>
          </a:xfrm>
        </p:grpSpPr>
        <p:pic>
          <p:nvPicPr>
            <p:cNvPr id="296" name="Rectangle 71" descr=""/>
            <p:cNvPicPr/>
            <p:nvPr/>
          </p:nvPicPr>
          <p:blipFill>
            <a:blip r:embed="rId19"/>
            <a:stretch/>
          </p:blipFill>
          <p:spPr>
            <a:xfrm>
              <a:off x="6303960" y="-4465800"/>
              <a:ext cx="8271000" cy="10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 rot="19585800">
              <a:off x="10117080" y="-5310000"/>
              <a:ext cx="647640" cy="120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72"/>
          <p:cNvGrpSpPr/>
          <p:nvPr/>
        </p:nvGrpSpPr>
        <p:grpSpPr>
          <a:xfrm>
            <a:off x="-6010200" y="-98280"/>
            <a:ext cx="8272440" cy="10364760"/>
            <a:chOff x="-6010200" y="-98280"/>
            <a:chExt cx="8272440" cy="10364760"/>
          </a:xfrm>
        </p:grpSpPr>
        <p:pic>
          <p:nvPicPr>
            <p:cNvPr id="299" name="Rectangle 72" descr=""/>
            <p:cNvPicPr/>
            <p:nvPr/>
          </p:nvPicPr>
          <p:blipFill>
            <a:blip r:embed="rId20"/>
            <a:stretch/>
          </p:blipFill>
          <p:spPr>
            <a:xfrm>
              <a:off x="-6010200" y="-78480"/>
              <a:ext cx="8272440" cy="10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19585800">
              <a:off x="-2196720" y="-920520"/>
              <a:ext cx="647640" cy="12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Rectangle 73"/>
          <p:cNvGrpSpPr/>
          <p:nvPr/>
        </p:nvGrpSpPr>
        <p:grpSpPr>
          <a:xfrm>
            <a:off x="6303960" y="-4488480"/>
            <a:ext cx="8271000" cy="10359360"/>
            <a:chOff x="6303960" y="-4488480"/>
            <a:chExt cx="8271000" cy="10359360"/>
          </a:xfrm>
        </p:grpSpPr>
        <p:pic>
          <p:nvPicPr>
            <p:cNvPr id="302" name="Rectangle 73" descr=""/>
            <p:cNvPicPr/>
            <p:nvPr/>
          </p:nvPicPr>
          <p:blipFill>
            <a:blip r:embed="rId21"/>
            <a:stretch/>
          </p:blipFill>
          <p:spPr>
            <a:xfrm>
              <a:off x="6303960" y="-4465800"/>
              <a:ext cx="8271000" cy="10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9585800">
              <a:off x="10117080" y="-5310000"/>
              <a:ext cx="647640" cy="120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84360" y="6237360"/>
            <a:ext cx="562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C 0.00312 -0.00694 0.00625 -0.01388 0.01007 -0.01897 C 0.01389 -0.02406 0.01632 -0.02893 0.02292 -0.03055 C 0.02952 -0.03217 0.04289 -0.03124 0.05 -0.02846 C 0.05712 -0.02569 0.06198 -0.01781 0.0658 -0.01319 C 0.06962 -0.00856 0.07205 -0.00578 0.07292 5.18519E-006 C 0.07379 0.0058 0.07327 0.01482 0.07153 0.02107 C 0.0698 0.02732 0.06632 0.03265 0.06285 0.0382 E">
                                      <p:cBhvr>
                                        <p:cTn id="89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C -0.0019 0.0118 -0.00381 0.02361 -1.11111E-006 0.0324 C 0.00382 0.0412 0.01042 0.0449 0.02275 0.05324 C 0.03507 0.06157 0.05643 0.07939 0.07431 0.08194 C 0.09219 0.08449 0.11789 0.07615 0.13004 0.06851 C 0.14219 0.06088 0.14445 0.04629 0.14705 0.03611 C 0.14966 0.02592 0.14688 0.01527 0.14566 0.00763 C 0.14445 2.96296000000008E-006 0.14219 -0.00487 0.13994 -0.00949 E">
                                      <p:cBhvr>
                                        <p:cTn id="97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L -0.93715 -0.55648 E">
                                      <p:cBhvr>
                                        <p:cTn id="111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11563 L 1.3033 -0.81799 E">
                                      <p:cBhvr>
                                        <p:cTn id="139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3715 -0.55648 L -1.00798 -0.50394 E">
                                      <p:cBhvr>
                                        <p:cTn id="142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798 -0.50394 L -0.93715 -0.50394 E">
                                      <p:cBhvr>
                                        <p:cTn id="156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3715 -0.50394 L -0.88975 -0.50394 E">
                                      <p:cBhvr>
                                        <p:cTn id="17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6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10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-0.0104 L -1.39792 1.05967 E">
                                      <p:cBhvr>
                                        <p:cTn id="18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3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594 -0.49537 L -0.85452 -0.53727 E">
                                      <p:cBhvr>
                                        <p:cTn id="187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0"/>
          <p:cNvSpPr/>
          <p:nvPr/>
        </p:nvSpPr>
        <p:spPr>
          <a:xfrm>
            <a:off x="219564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石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161928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赭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04292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朱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1042920" y="1909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朱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1619280" y="1909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赭石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隶书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2195640" y="1909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石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9"/>
          <p:cNvSpPr/>
          <p:nvPr/>
        </p:nvSpPr>
        <p:spPr>
          <a:xfrm>
            <a:off x="468360" y="2492280"/>
            <a:ext cx="8675640" cy="4032360"/>
          </a:xfrm>
          <a:prstGeom prst="rect">
            <a:avLst/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5586120" y="3068640"/>
            <a:ext cx="2946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朱膘：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橘红。明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比朱砂高，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度比朱砂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用以画花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051080" y="3213000"/>
            <a:ext cx="1889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赭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红褐。用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画山 石、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干、老枝叶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591480" y="3141720"/>
            <a:ext cx="32724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石青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青，依深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分为－头青、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二青、三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用以画叶或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mb"/>
          <p:cNvPicPr/>
          <p:nvPr/>
        </p:nvPicPr>
        <p:blipFill>
          <a:blip r:embed="rId3"/>
          <a:stretch/>
        </p:blipFill>
        <p:spPr>
          <a:xfrm flipH="1" rot="19755000">
            <a:off x="1618920" y="1412640"/>
            <a:ext cx="504720" cy="311040"/>
          </a:xfrm>
          <a:prstGeom prst="rect">
            <a:avLst/>
          </a:prstGeom>
          <a:ln w="0">
            <a:noFill/>
          </a:ln>
        </p:spPr>
      </p:pic>
      <p:grpSp>
        <p:nvGrpSpPr>
          <p:cNvPr id="317" name="Rectangle 21"/>
          <p:cNvGrpSpPr/>
          <p:nvPr/>
        </p:nvGrpSpPr>
        <p:grpSpPr>
          <a:xfrm>
            <a:off x="6303960" y="-4488480"/>
            <a:ext cx="8271000" cy="10359360"/>
            <a:chOff x="6303960" y="-4488480"/>
            <a:chExt cx="8271000" cy="10359360"/>
          </a:xfrm>
        </p:grpSpPr>
        <p:pic>
          <p:nvPicPr>
            <p:cNvPr id="318" name="Rectangle 21" descr=""/>
            <p:cNvPicPr/>
            <p:nvPr/>
          </p:nvPicPr>
          <p:blipFill>
            <a:blip r:embed="rId4"/>
            <a:stretch/>
          </p:blipFill>
          <p:spPr>
            <a:xfrm>
              <a:off x="6303960" y="-4465800"/>
              <a:ext cx="8271000" cy="10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 rot="19585800">
              <a:off x="10117080" y="-5310000"/>
              <a:ext cx="647640" cy="120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Rectangle 22"/>
          <p:cNvGrpSpPr/>
          <p:nvPr/>
        </p:nvGrpSpPr>
        <p:grpSpPr>
          <a:xfrm>
            <a:off x="-6010200" y="-98280"/>
            <a:ext cx="8272440" cy="10364760"/>
            <a:chOff x="-6010200" y="-98280"/>
            <a:chExt cx="8272440" cy="10364760"/>
          </a:xfrm>
        </p:grpSpPr>
        <p:pic>
          <p:nvPicPr>
            <p:cNvPr id="321" name="Rectangle 22" descr=""/>
            <p:cNvPicPr/>
            <p:nvPr/>
          </p:nvPicPr>
          <p:blipFill>
            <a:blip r:embed="rId5"/>
            <a:stretch/>
          </p:blipFill>
          <p:spPr>
            <a:xfrm>
              <a:off x="-6010200" y="-78480"/>
              <a:ext cx="8272440" cy="10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19585800">
              <a:off x="-2196720" y="-920520"/>
              <a:ext cx="647640" cy="12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7" descr=""/>
          <p:cNvPicPr/>
          <p:nvPr/>
        </p:nvPicPr>
        <p:blipFill>
          <a:blip r:embed="rId6"/>
          <a:srcRect l="0" t="0" r="64168" b="0"/>
          <a:stretch/>
        </p:blipFill>
        <p:spPr>
          <a:xfrm>
            <a:off x="179280" y="2276640"/>
            <a:ext cx="1728720" cy="439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h"/>
          <p:cNvPicPr/>
          <p:nvPr/>
        </p:nvPicPr>
        <p:blipFill>
          <a:blip r:embed="rId7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-0.0104 L -1.39792 1.05967 E">
                                      <p:cBhvr>
                                        <p:cTn id="209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03704E-006 L -0.04722 0.0632 E">
                                      <p:cBhvr>
                                        <p:cTn id="21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3 0.0632 L 0.01579 0.0632 E">
                                      <p:cBhvr>
                                        <p:cTn id="22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79 0.0632 L 0.07881 0.0632 E">
                                      <p:cBhvr>
                                        <p:cTn id="239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11563 L 1.3033 -0.81799 E">
                                      <p:cBhvr>
                                        <p:cTn id="253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1 0.0632 L 0.12604 -0.01041 E">
                                      <p:cBhvr>
                                        <p:cTn id="25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1"/>
          <p:cNvSpPr/>
          <p:nvPr/>
        </p:nvSpPr>
        <p:spPr>
          <a:xfrm>
            <a:off x="2484360" y="1909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白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3059280" y="1909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花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9065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石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059280" y="1909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花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1906560" y="1909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石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2482920" y="1909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白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mb"/>
          <p:cNvPicPr/>
          <p:nvPr/>
        </p:nvPicPr>
        <p:blipFill>
          <a:blip r:embed="rId2"/>
          <a:stretch/>
        </p:blipFill>
        <p:spPr>
          <a:xfrm flipH="1" rot="19753800">
            <a:off x="2771640" y="1341000"/>
            <a:ext cx="505440" cy="311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3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21"/>
          <p:cNvSpPr/>
          <p:nvPr/>
        </p:nvSpPr>
        <p:spPr>
          <a:xfrm>
            <a:off x="468360" y="2492280"/>
            <a:ext cx="8675640" cy="4030920"/>
          </a:xfrm>
          <a:prstGeom prst="rect">
            <a:avLst/>
          </a:prstGeom>
          <a:solidFill>
            <a:srgbClr val="99ff6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461560" y="3141720"/>
            <a:ext cx="2998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石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依深浅分为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头绿、二绿、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绿。用以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山石、树干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叶、点 苔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1832040" y="3284640"/>
            <a:ext cx="39639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白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亦称胡粉，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白，有蛤粉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铅粉两种。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以画白花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鸟，或 调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其他颜料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595080" y="3357720"/>
            <a:ext cx="1889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花青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藏青。用以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枝叶、山石、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波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4"/>
          <a:srcRect l="0" t="0" r="64168" b="0"/>
          <a:stretch/>
        </p:blipFill>
        <p:spPr>
          <a:xfrm>
            <a:off x="179280" y="2276640"/>
            <a:ext cx="1728720" cy="4392360"/>
          </a:xfrm>
          <a:prstGeom prst="rect">
            <a:avLst/>
          </a:prstGeom>
          <a:ln w="0">
            <a:noFill/>
          </a:ln>
        </p:spPr>
      </p:pic>
      <p:grpSp>
        <p:nvGrpSpPr>
          <p:cNvPr id="338" name="Rectangle 22"/>
          <p:cNvGrpSpPr/>
          <p:nvPr/>
        </p:nvGrpSpPr>
        <p:grpSpPr>
          <a:xfrm>
            <a:off x="4840560" y="3054240"/>
            <a:ext cx="9832680" cy="8740800"/>
            <a:chOff x="4840560" y="3054240"/>
            <a:chExt cx="9832680" cy="8740800"/>
          </a:xfrm>
        </p:grpSpPr>
        <p:pic>
          <p:nvPicPr>
            <p:cNvPr id="339" name="Rectangle 22" descr=""/>
            <p:cNvPicPr/>
            <p:nvPr/>
          </p:nvPicPr>
          <p:blipFill>
            <a:blip r:embed="rId5"/>
            <a:stretch/>
          </p:blipFill>
          <p:spPr>
            <a:xfrm>
              <a:off x="4867920" y="3054240"/>
              <a:ext cx="9776880" cy="874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 rot="3238800">
              <a:off x="9432720" y="1580760"/>
              <a:ext cx="648000" cy="1168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Rectangle 23"/>
          <p:cNvGrpSpPr/>
          <p:nvPr/>
        </p:nvGrpSpPr>
        <p:grpSpPr>
          <a:xfrm>
            <a:off x="-5960880" y="-4700520"/>
            <a:ext cx="9831240" cy="8748720"/>
            <a:chOff x="-5960880" y="-4700520"/>
            <a:chExt cx="9831240" cy="8748720"/>
          </a:xfrm>
        </p:grpSpPr>
        <p:pic>
          <p:nvPicPr>
            <p:cNvPr id="342" name="Rectangle 23" descr=""/>
            <p:cNvPicPr/>
            <p:nvPr/>
          </p:nvPicPr>
          <p:blipFill>
            <a:blip r:embed="rId6"/>
            <a:stretch/>
          </p:blipFill>
          <p:spPr>
            <a:xfrm>
              <a:off x="-5933160" y="-4700520"/>
              <a:ext cx="9774360" cy="87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 rot="3238800">
              <a:off x="-1368720" y="-6166440"/>
              <a:ext cx="647640" cy="116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7" descr="hh"/>
          <p:cNvPicPr/>
          <p:nvPr/>
        </p:nvPicPr>
        <p:blipFill>
          <a:blip r:embed="rId7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46161E-006 L -1.15763 -1.2167 E">
                                      <p:cBhvr>
                                        <p:cTn id="27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-0.07083 0.06296 E">
                                      <p:cBhvr>
                                        <p:cTn id="281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0.06296 L -0.0158 0.06296 E">
                                      <p:cBhvr>
                                        <p:cTn id="295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5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6296 L 0.03941 0.06296 E">
                                      <p:cBhvr>
                                        <p:cTn id="309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30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60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5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1000"/>
                            </p:stCondLst>
                            <p:childTnLst>
                              <p:par>
                                <p:cTn id="3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05273E-006 L 1.20486 1.26919 E">
                                      <p:cBhvr>
                                        <p:cTn id="323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3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629 L 0.12604 0.03145 E">
                                      <p:cBhvr>
                                        <p:cTn id="326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7"/>
          <p:cNvSpPr/>
          <p:nvPr/>
        </p:nvSpPr>
        <p:spPr>
          <a:xfrm>
            <a:off x="378000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雌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4427640" y="19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洋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916360" y="19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赭石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268360" y="19098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藤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2268360" y="19098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藤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3780000" y="1909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雌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2914560" y="1909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赭石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427640" y="19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洋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mb"/>
          <p:cNvPicPr/>
          <p:nvPr/>
        </p:nvPicPr>
        <p:blipFill>
          <a:blip r:embed="rId2"/>
          <a:stretch/>
        </p:blipFill>
        <p:spPr>
          <a:xfrm flipH="1" rot="19755000">
            <a:off x="3924000" y="1557000"/>
            <a:ext cx="504720" cy="311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"/>
          <p:cNvPicPr/>
          <p:nvPr/>
        </p:nvPicPr>
        <p:blipFill>
          <a:blip r:embed="rId3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"/>
          <p:cNvPicPr/>
          <p:nvPr/>
        </p:nvPicPr>
        <p:blipFill>
          <a:blip r:embed="rId4"/>
          <a:srcRect l="0" t="0" r="64168" b="0"/>
          <a:stretch/>
        </p:blipFill>
        <p:spPr>
          <a:xfrm>
            <a:off x="179280" y="2276640"/>
            <a:ext cx="1728720" cy="43923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7"/>
          <p:cNvSpPr/>
          <p:nvPr/>
        </p:nvSpPr>
        <p:spPr>
          <a:xfrm>
            <a:off x="468360" y="2492280"/>
            <a:ext cx="8675640" cy="4032360"/>
          </a:xfrm>
          <a:prstGeom prst="rect">
            <a:avLst/>
          </a:prstGeom>
          <a:solidFill>
            <a:srgbClr val="cc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7060680" y="3068640"/>
            <a:ext cx="1472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藤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明黄。用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画花卉、枝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5199120" y="3357720"/>
            <a:ext cx="174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赭石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暗棕色矿物，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做颜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1757160" y="3141720"/>
            <a:ext cx="3546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雌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矿物名。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三硫化二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(As2S3)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橙黄色</a:t>
            </a: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透明</a:t>
            </a: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可用来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颜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1009080" y="3141720"/>
            <a:ext cx="14720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洋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橘红。用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画花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Rectangle 28"/>
          <p:cNvGrpSpPr/>
          <p:nvPr/>
        </p:nvGrpSpPr>
        <p:grpSpPr>
          <a:xfrm>
            <a:off x="-5960880" y="-4700520"/>
            <a:ext cx="9831240" cy="8748720"/>
            <a:chOff x="-5960880" y="-4700520"/>
            <a:chExt cx="9831240" cy="8748720"/>
          </a:xfrm>
        </p:grpSpPr>
        <p:pic>
          <p:nvPicPr>
            <p:cNvPr id="362" name="Rectangle 28" descr=""/>
            <p:cNvPicPr/>
            <p:nvPr/>
          </p:nvPicPr>
          <p:blipFill>
            <a:blip r:embed="rId5"/>
            <a:stretch/>
          </p:blipFill>
          <p:spPr>
            <a:xfrm>
              <a:off x="-5933160" y="-4700520"/>
              <a:ext cx="9774360" cy="87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3238800">
              <a:off x="-1368720" y="-6166440"/>
              <a:ext cx="647640" cy="116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Rectangle 29"/>
          <p:cNvGrpSpPr/>
          <p:nvPr/>
        </p:nvGrpSpPr>
        <p:grpSpPr>
          <a:xfrm>
            <a:off x="4840560" y="3054240"/>
            <a:ext cx="9832680" cy="8740800"/>
            <a:chOff x="4840560" y="3054240"/>
            <a:chExt cx="9832680" cy="8740800"/>
          </a:xfrm>
        </p:grpSpPr>
        <p:pic>
          <p:nvPicPr>
            <p:cNvPr id="365" name="Rectangle 29" descr=""/>
            <p:cNvPicPr/>
            <p:nvPr/>
          </p:nvPicPr>
          <p:blipFill>
            <a:blip r:embed="rId6"/>
            <a:stretch/>
          </p:blipFill>
          <p:spPr>
            <a:xfrm>
              <a:off x="4867920" y="3054240"/>
              <a:ext cx="9776880" cy="874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3238800">
              <a:off x="9432720" y="1580760"/>
              <a:ext cx="648000" cy="1168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20" descr="hh"/>
          <p:cNvPicPr/>
          <p:nvPr/>
        </p:nvPicPr>
        <p:blipFill>
          <a:blip r:embed="rId7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0" descr="4d95d693377e027f7af4807221"/>
          <p:cNvPicPr/>
          <p:nvPr/>
        </p:nvPicPr>
        <p:blipFill>
          <a:blip r:embed="rId8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4" descr="u=3575232052,4105491596&amp;fm=52&amp;gp=0副本"/>
          <p:cNvPicPr/>
          <p:nvPr/>
        </p:nvPicPr>
        <p:blipFill>
          <a:blip r:embed="rId9"/>
          <a:stretch/>
        </p:blipFill>
        <p:spPr>
          <a:xfrm>
            <a:off x="1547640" y="2781360"/>
            <a:ext cx="4535640" cy="4246560"/>
          </a:xfrm>
          <a:prstGeom prst="rect">
            <a:avLst/>
          </a:prstGeom>
          <a:ln w="0">
            <a:noFill/>
          </a:ln>
        </p:spPr>
      </p:pic>
      <p:grpSp>
        <p:nvGrpSpPr>
          <p:cNvPr id="370" name="组合 5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71" name="任意多边形 2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72" name="任意多边形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Text Box 149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椭圆 3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4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7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77" name="任意多边形 8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78" name="任意多边形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Text Box 155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椭圆 9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10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11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83" name="任意多边形 12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84" name="任意多边形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161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椭圆 13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任意多边形 14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5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89" name="任意多边形 16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90" name="任意多边形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67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椭圆 17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8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9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95" name="任意多边形 20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96" name="任意多边形 20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3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椭圆 21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22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23"/>
          <p:cNvGrpSpPr/>
          <p:nvPr/>
        </p:nvGrpSpPr>
        <p:grpSpPr>
          <a:xfrm>
            <a:off x="541440" y="4869000"/>
            <a:ext cx="1589040" cy="485640"/>
            <a:chOff x="541440" y="4869000"/>
            <a:chExt cx="1589040" cy="485640"/>
          </a:xfrm>
        </p:grpSpPr>
        <p:grpSp>
          <p:nvGrpSpPr>
            <p:cNvPr id="401" name="任意多边形 24"/>
            <p:cNvGrpSpPr/>
            <p:nvPr/>
          </p:nvGrpSpPr>
          <p:grpSpPr>
            <a:xfrm>
              <a:off x="1449000" y="4874400"/>
              <a:ext cx="681480" cy="474840"/>
              <a:chOff x="1449000" y="4874400"/>
              <a:chExt cx="681480" cy="474840"/>
            </a:xfrm>
          </p:grpSpPr>
          <p:pic>
            <p:nvPicPr>
              <p:cNvPr id="402" name="任意多边形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453320" y="487980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Text Box 179"/>
              <p:cNvSpPr/>
              <p:nvPr/>
            </p:nvSpPr>
            <p:spPr>
              <a:xfrm rot="5400000">
                <a:off x="1550520" y="477288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椭圆 25"/>
            <p:cNvSpPr/>
            <p:nvPr/>
          </p:nvSpPr>
          <p:spPr>
            <a:xfrm>
              <a:off x="1187640" y="496872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26"/>
            <p:cNvSpPr/>
            <p:nvPr/>
          </p:nvSpPr>
          <p:spPr>
            <a:xfrm rot="5400000">
              <a:off x="639000" y="477108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椭圆 6"/>
          <p:cNvSpPr/>
          <p:nvPr/>
        </p:nvSpPr>
        <p:spPr>
          <a:xfrm>
            <a:off x="1219320" y="4938840"/>
            <a:ext cx="285480" cy="2854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ffaf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54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08" name="任意多边形 55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09" name="任意多边形 55" descr=""/>
              <p:cNvPicPr/>
              <p:nvPr/>
            </p:nvPicPr>
            <p:blipFill>
              <a:blip r:embed="rId16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 Box 186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椭圆 56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57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8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14" name="任意多边形 59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15" name="任意多边形 59" descr=""/>
              <p:cNvPicPr/>
              <p:nvPr/>
            </p:nvPicPr>
            <p:blipFill>
              <a:blip r:embed="rId17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Text Box 192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椭圆 60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61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62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20" name="任意多边形 63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21" name="任意多边形 63" descr=""/>
              <p:cNvPicPr/>
              <p:nvPr/>
            </p:nvPicPr>
            <p:blipFill>
              <a:blip r:embed="rId18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Text Box 198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椭圆 64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65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66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26" name="任意多边形 67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27" name="任意多边形 67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204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椭圆 68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69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70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32" name="任意多边形 71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33" name="任意多边形 71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210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椭圆 72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74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38" name="任意多边形 75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39" name="任意多边形 75" descr=""/>
              <p:cNvPicPr/>
              <p:nvPr/>
            </p:nvPicPr>
            <p:blipFill>
              <a:blip r:embed="rId21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216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椭圆 76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77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椭圆 78"/>
          <p:cNvSpPr/>
          <p:nvPr/>
        </p:nvSpPr>
        <p:spPr>
          <a:xfrm rot="12472200">
            <a:off x="1371240" y="5091120"/>
            <a:ext cx="285840" cy="285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1e8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04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45" name="任意多边形 105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46" name="任意多边形 105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Text Box 223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椭圆 106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任意多边形 107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08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51" name="任意多边形 109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52" name="任意多边形 109" descr=""/>
              <p:cNvPicPr/>
              <p:nvPr/>
            </p:nvPicPr>
            <p:blipFill>
              <a:blip r:embed="rId23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Text Box 229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椭圆 110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111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112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57" name="任意多边形 113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58" name="任意多边形 113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Text Box 235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椭圆 114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任意多边形 115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16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63" name="任意多边形 117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64" name="任意多边形 117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Text Box 241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椭圆 118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119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120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69" name="任意多边形 121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70" name="任意多边形 121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247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椭圆 122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123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124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75" name="任意多边形 125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76" name="任意多边形 125" descr=""/>
              <p:cNvPicPr/>
              <p:nvPr/>
            </p:nvPicPr>
            <p:blipFill>
              <a:blip r:embed="rId27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Text Box 253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椭圆 126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127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椭圆 128"/>
          <p:cNvSpPr/>
          <p:nvPr/>
        </p:nvSpPr>
        <p:spPr>
          <a:xfrm rot="6915000">
            <a:off x="5625720" y="5946480"/>
            <a:ext cx="285840" cy="285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1e8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57"/>
          <p:cNvSpPr/>
          <p:nvPr/>
        </p:nvSpPr>
        <p:spPr>
          <a:xfrm>
            <a:off x="5149800" y="1413000"/>
            <a:ext cx="23749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05273E-006 L 1.20486 1.26919 E">
                                      <p:cBhvr>
                                        <p:cTn id="348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17309 0.03148 E">
                                      <p:cBhvr>
                                        <p:cTn id="351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5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09 0.03148 L -0.07864 0.03148 E">
                                      <p:cBhvr>
                                        <p:cTn id="365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5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4 0.03148 L -0.00781 0.03148 E">
                                      <p:cBhvr>
                                        <p:cTn id="379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3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3148 L 0.07083 0.03148 E">
                                      <p:cBhvr>
                                        <p:cTn id="393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2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40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9000"/>
                            </p:stCondLst>
                            <p:childTnLst>
                              <p:par>
                                <p:cTn id="4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46161E-006 L -1.15763 -1.2167 E">
                                      <p:cBhvr>
                                        <p:cTn id="40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4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7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3600000">
                                      <p:cBhvr>
                                        <p:cTn id="421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7200000">
                                      <p:cBhvr>
                                        <p:cTn id="428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35" dur="12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7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4400000">
                                      <p:cBhvr>
                                        <p:cTn id="442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4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8000000">
                                      <p:cBhvr>
                                        <p:cTn id="44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456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8" dur="2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4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3600000">
                                      <p:cBhvr>
                                        <p:cTn id="468" dur="4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70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7200000">
                                      <p:cBhvr>
                                        <p:cTn id="475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77" dur="2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0800000">
                                      <p:cBhvr>
                                        <p:cTn id="482" dur="1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3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84" dur="2000" fill="hold"/>
                                        <p:tgtEl>
                                          <p:spTgt spid="419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4400000">
                                      <p:cBhvr>
                                        <p:cTn id="489" dur="16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8000000">
                                      <p:cBhvr>
                                        <p:cTn id="49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98" dur="20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21600000">
                                      <p:cBhvr>
                                        <p:cTn id="503" dur="24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4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4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4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12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14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16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18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20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2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24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3600000">
                                      <p:cBhvr>
                                        <p:cTn id="529" dur="4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0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3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7200000">
                                      <p:cBhvr>
                                        <p:cTn id="536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38" dur="2000" fill="hold"/>
                                        <p:tgtEl>
                                          <p:spTgt spid="45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10800000">
                                      <p:cBhvr>
                                        <p:cTn id="543" dur="12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45" dur="2000" fill="hold"/>
                                        <p:tgtEl>
                                          <p:spTgt spid="45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14400000">
                                      <p:cBhvr>
                                        <p:cTn id="550" dur="16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52" dur="2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18000000">
                                      <p:cBhvr>
                                        <p:cTn id="55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21600000">
                                      <p:cBhvr>
                                        <p:cTn id="564" dur="24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5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66" dur="2000" fill="hold"/>
                                        <p:tgtEl>
                                          <p:spTgt spid="47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4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4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24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54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3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7:22:37Z</dcterms:created>
  <dc:creator>sunshine</dc:creator>
  <dc:description/>
  <dc:language>en-US</dc:language>
  <cp:lastModifiedBy>a</cp:lastModifiedBy>
  <dcterms:modified xsi:type="dcterms:W3CDTF">2015-05-20T04:40:30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