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8FB5-9CE9-4A88-8420-8C8B1040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E01-73D7-4022-871C-DFC521BE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164D-F7AE-4330-8009-97B9C2D9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C650-189B-4FF4-ADE3-8BE0A638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B17F-AD2E-4C30-881B-B9D1B3CD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5F0A-CB6D-4E11-804E-9A192264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654D-F019-4DF7-8927-B8BEFC17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BFA1-37B4-4D27-9A80-532F07FE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178C-69A3-4106-960E-ED5E0660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E6DC-0A3E-46F2-9B51-1CFC0CC8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6262-BEE9-4ED4-8834-004E7C00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628A-9A11-43A6-AF9B-3CF83BD7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7AAF-BE23-40DE-BAE8-EDFBE68B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5C7A-5986-485F-A283-B88A5780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95EE-1FCE-456B-95FD-89997244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E7DC-8EAE-4E96-9392-B204C689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8DDB-8BAF-4E58-9B3B-0009F7DB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B0A0-1F9B-4479-882F-AE3C8CD3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BED7-A749-40FA-9B34-990EF688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2EFC-0EC3-4FE8-9737-7F4C1488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A4B6-955B-4A96-A4EB-68B980FE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47A0-353A-4EF4-A084-8213DFD2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A96A-D119-4FE2-BE2A-2AB2371B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5151-A8DF-4222-9A5A-91A08E08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D3B6-BE91-457E-AD63-2036AE47C8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9A9E-23CA-46CE-A771-79D79E52B52F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4144-08C3-4175-AD78-FDE7956902E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3" descr="图片1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0" y="2184480"/>
            <a:ext cx="9144000" cy="345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新宋体"/>
                <a:ea typeface="黑体"/>
              </a:rPr>
              <a:t>“</a:t>
            </a:r>
            <a:r>
              <a:rPr b="1" lang="zh-CN" sz="9600" spc="-1" strike="noStrike">
                <a:solidFill>
                  <a:srgbClr val="ffcc00"/>
                </a:solidFill>
                <a:latin typeface="黑体"/>
                <a:ea typeface="黑体"/>
              </a:rPr>
              <a:t>贞观之治</a:t>
            </a:r>
            <a:r>
              <a:rPr b="1" lang="zh-CN" sz="9600" spc="-1" strike="noStrike">
                <a:solidFill>
                  <a:srgbClr val="ffcc00"/>
                </a:solidFill>
                <a:latin typeface="新宋体"/>
                <a:ea typeface="黑体"/>
              </a:rPr>
              <a:t>”</a:t>
            </a:r>
            <a:br>
              <a:rPr sz="66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2b5481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2b5481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2b5481"/>
                </a:solidFill>
                <a:latin typeface="楷体_GB2312"/>
                <a:ea typeface="楷体_GB2312"/>
              </a:rPr>
              <a:t>  </a:t>
            </a:r>
            <a:r>
              <a:rPr b="1" lang="en-US" sz="4000" spc="-1" strike="noStrike">
                <a:solidFill>
                  <a:srgbClr val="2b5481"/>
                </a:solidFill>
                <a:latin typeface="Arial"/>
                <a:ea typeface="楷体_GB2312"/>
              </a:rPr>
              <a:t>——</a:t>
            </a:r>
            <a:r>
              <a:rPr b="1" lang="en-US" sz="4000" spc="-1" strike="noStrike">
                <a:solidFill>
                  <a:srgbClr val="2b5481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2b5481"/>
                </a:solidFill>
                <a:latin typeface="楷体_GB2312"/>
                <a:ea typeface="楷体_GB2312"/>
              </a:rPr>
              <a:t>人教版七年级下册第</a:t>
            </a:r>
            <a:r>
              <a:rPr b="1" lang="en-US" sz="4000" spc="-1" strike="noStrike">
                <a:solidFill>
                  <a:srgbClr val="2b5481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2b5481"/>
                </a:solidFill>
                <a:latin typeface="楷体_GB2312"/>
                <a:ea typeface="楷体_GB2312"/>
              </a:rPr>
              <a:t>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1.MPG" descr=""/>
          <p:cNvPicPr/>
          <p:nvPr/>
        </p:nvPicPr>
        <p:blipFill>
          <a:blip r:embed="rId2"/>
          <a:stretch/>
        </p:blipFill>
        <p:spPr>
          <a:xfrm>
            <a:off x="584280" y="189000"/>
            <a:ext cx="8001000" cy="65451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6934320" y="6095880"/>
            <a:ext cx="533160" cy="609840"/>
          </a:xfrm>
          <a:custGeom>
            <a:avLst/>
            <a:gdLst>
              <a:gd name="textAreaLeft" fmla="*/ 33120 w 533160"/>
              <a:gd name="textAreaRight" fmla="*/ 500040 w 533160"/>
              <a:gd name="textAreaTop" fmla="*/ 33120 h 609840"/>
              <a:gd name="textAreaBottom" fmla="*/ 57672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50" y="23354"/>
                </a:lnTo>
                <a:lnTo>
                  <a:pt x="20250" y="135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350" y="23354"/>
                </a:lnTo>
                <a:lnTo>
                  <a:pt x="20250" y="23354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350" y="1350"/>
                </a:lnTo>
                <a:lnTo>
                  <a:pt x="1350" y="23354"/>
                </a:lnTo>
                <a:close/>
              </a:path>
              <a:path fill="darken" w="21600" h="24704">
                <a:moveTo>
                  <a:pt x="10800" y="5308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4704">
                <a:moveTo>
                  <a:pt x="10800" y="5685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4704">
                <a:moveTo>
                  <a:pt x="8210" y="9762"/>
                </a:moveTo>
                <a:lnTo>
                  <a:pt x="12095" y="9762"/>
                </a:lnTo>
                <a:lnTo>
                  <a:pt x="12095" y="16797"/>
                </a:lnTo>
                <a:lnTo>
                  <a:pt x="13390" y="16797"/>
                </a:lnTo>
                <a:lnTo>
                  <a:pt x="13390" y="17725"/>
                </a:lnTo>
                <a:lnTo>
                  <a:pt x="8210" y="17725"/>
                </a:lnTo>
                <a:lnTo>
                  <a:pt x="8210" y="16797"/>
                </a:lnTo>
                <a:lnTo>
                  <a:pt x="9505" y="16797"/>
                </a:lnTo>
                <a:lnTo>
                  <a:pt x="9505" y="10672"/>
                </a:lnTo>
                <a:lnTo>
                  <a:pt x="8210" y="10672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7">
            <a:hlinkClick r:id="" action="ppaction://hlinkshowjump?jump=nextslide"/>
          </p:cNvPr>
          <p:cNvSpPr/>
          <p:nvPr/>
        </p:nvSpPr>
        <p:spPr>
          <a:xfrm>
            <a:off x="7772400" y="6324480"/>
            <a:ext cx="762120" cy="381240"/>
          </a:xfrm>
          <a:custGeom>
            <a:avLst/>
            <a:gdLst>
              <a:gd name="textAreaLeft" fmla="*/ 23760 w 762120"/>
              <a:gd name="textAreaRight" fmla="*/ 738360 w 762120"/>
              <a:gd name="textAreaTop" fmla="*/ 23760 h 381240"/>
              <a:gd name="textAreaBottom" fmla="*/ 35748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809" y="1350"/>
                </a:lnTo>
                <a:lnTo>
                  <a:pt x="1350" y="135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809" y="20250"/>
                </a:lnTo>
                <a:lnTo>
                  <a:pt x="41809" y="135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809" y="2025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159" h="21600">
                <a:moveTo>
                  <a:pt x="14536" y="10800"/>
                </a:moveTo>
                <a:lnTo>
                  <a:pt x="28623" y="3756"/>
                </a:lnTo>
                <a:lnTo>
                  <a:pt x="28623" y="17844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4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75248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380880" y="1143000"/>
            <a:ext cx="27432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阅读思考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380880" y="1143000"/>
            <a:ext cx="27432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阅读思考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2" name="WordArt 6"/>
          <p:cNvSpPr txBox="1"/>
          <p:nvPr/>
        </p:nvSpPr>
        <p:spPr>
          <a:xfrm>
            <a:off x="380880" y="1143000"/>
            <a:ext cx="27432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阅读思考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600200" y="259092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</a:rPr>
              <a:t>武则天的主要政绩有哪些？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"/>
          <p:cNvSpPr/>
          <p:nvPr/>
        </p:nvSpPr>
        <p:spPr>
          <a:xfrm>
            <a:off x="685800" y="9907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</a:rPr>
              <a:t>１、重视发展农业生产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685800" y="28195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</a:rPr>
              <a:t>２、破格重用有才能的人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685800" y="44956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</a:rPr>
              <a:t>３、使唐朝国力不断增强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5"/>
          <p:cNvSpPr txBox="1"/>
          <p:nvPr/>
        </p:nvSpPr>
        <p:spPr>
          <a:xfrm rot="5400000">
            <a:off x="3695040" y="1942920"/>
            <a:ext cx="6553080" cy="327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宋体"/>
              </a:rPr>
              <a:t>治宏贞观　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宋体"/>
              </a:rPr>
              <a:t>政启开元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28" name="Picture 6" descr="3"/>
          <p:cNvPicPr/>
          <p:nvPr/>
        </p:nvPicPr>
        <p:blipFill>
          <a:blip r:embed="rId2"/>
          <a:stretch/>
        </p:blipFill>
        <p:spPr>
          <a:xfrm>
            <a:off x="228600" y="228600"/>
            <a:ext cx="5257800" cy="647712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609480" y="990720"/>
            <a:ext cx="2743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7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脑筋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62120" y="297180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秦亡汉兴</a:t>
            </a: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隋亡唐兴有什么共同之处？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304920" y="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ahoma"/>
              </a:rPr>
              <a:t>秦隋：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80880" y="762120"/>
            <a:ext cx="754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都是完成统一后很块灭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都是统治者残暴无道　政治黑暗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都爆发了大规模的农民起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28600" y="29718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ahoma"/>
              </a:rPr>
              <a:t>汉唐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28600" y="3745080"/>
            <a:ext cx="8915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统治者都吸取前朝的教训出现了繁荣的局面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都轻徭薄赋，整顿吏治，任用贤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都成为影响当时世界的大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380880" y="25066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唐朝的建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429000" y="2514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贞观之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124080" y="3581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起因　内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2895480" y="2895480"/>
            <a:ext cx="6098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4343400" y="3138480"/>
            <a:ext cx="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Line 12"/>
          <p:cNvSpPr/>
          <p:nvPr/>
        </p:nvSpPr>
        <p:spPr>
          <a:xfrm>
            <a:off x="5410080" y="2895480"/>
            <a:ext cx="6098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019920" y="2514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女皇武则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7238880" y="312408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5715000" y="35812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主要功绩和对历史的影响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3581280" y="14479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评价唐太宗　武则天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21"/>
          <p:cNvSpPr/>
          <p:nvPr/>
        </p:nvSpPr>
        <p:spPr>
          <a:xfrm rot="16200000">
            <a:off x="5562360" y="3352680"/>
            <a:ext cx="152640" cy="2895480"/>
          </a:xfrm>
          <a:custGeom>
            <a:avLst/>
            <a:gdLst>
              <a:gd name="textAreaLeft" fmla="*/ 44640 w 152640"/>
              <a:gd name="textAreaRight" fmla="*/ 153000 w 152640"/>
              <a:gd name="textAreaTop" fmla="*/ 120600 h 2895480"/>
              <a:gd name="textAreaBottom" fmla="*/ 277488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24"/>
          <p:cNvSpPr/>
          <p:nvPr/>
        </p:nvSpPr>
        <p:spPr>
          <a:xfrm>
            <a:off x="3733920" y="53341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秦亡汉兴隋亡唐兴的共同之处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Line 25"/>
          <p:cNvSpPr/>
          <p:nvPr/>
        </p:nvSpPr>
        <p:spPr>
          <a:xfrm>
            <a:off x="5638680" y="4876920"/>
            <a:ext cx="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26"/>
          <p:cNvSpPr/>
          <p:nvPr/>
        </p:nvSpPr>
        <p:spPr>
          <a:xfrm>
            <a:off x="4648320" y="4876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ahoma"/>
              </a:rPr>
              <a:t>探究　　链接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AutoShape 27"/>
          <p:cNvSpPr/>
          <p:nvPr/>
        </p:nvSpPr>
        <p:spPr>
          <a:xfrm rot="5400000">
            <a:off x="5638680" y="914040"/>
            <a:ext cx="114480" cy="3314880"/>
          </a:xfrm>
          <a:custGeom>
            <a:avLst/>
            <a:gdLst>
              <a:gd name="textAreaLeft" fmla="*/ 33480 w 114480"/>
              <a:gd name="textAreaRight" fmla="*/ 114840 w 114480"/>
              <a:gd name="textAreaTop" fmla="*/ 137880 h 3314880"/>
              <a:gd name="textAreaBottom" fmla="*/ 3177000 h 331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29"/>
          <p:cNvSpPr/>
          <p:nvPr/>
        </p:nvSpPr>
        <p:spPr>
          <a:xfrm>
            <a:off x="5181480" y="190512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ahoma"/>
              </a:rPr>
              <a:t>拓　展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30"/>
          <p:cNvSpPr/>
          <p:nvPr/>
        </p:nvSpPr>
        <p:spPr>
          <a:xfrm flipV="1">
            <a:off x="5715000" y="205740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685800" y="914400"/>
            <a:ext cx="25909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作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066680" y="266688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设计一张表格，列出汉武帝与唐太宗的历史功绩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ahom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5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0" y="205740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课２课　“贞观之治”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75248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62120" y="2362320"/>
            <a:ext cx="7696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隋朝是怎样灭亡的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唐太宗是唐朝的建立者吗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WordArt 7"/>
          <p:cNvSpPr txBox="1"/>
          <p:nvPr/>
        </p:nvSpPr>
        <p:spPr>
          <a:xfrm>
            <a:off x="380880" y="1143000"/>
            <a:ext cx="27432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阅读思考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9" name="WordArt 8"/>
          <p:cNvSpPr txBox="1"/>
          <p:nvPr/>
        </p:nvSpPr>
        <p:spPr>
          <a:xfrm>
            <a:off x="380880" y="1143000"/>
            <a:ext cx="27432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阅读思考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0" name="WordArt 9"/>
          <p:cNvSpPr txBox="1"/>
          <p:nvPr/>
        </p:nvSpPr>
        <p:spPr>
          <a:xfrm>
            <a:off x="380880" y="1143000"/>
            <a:ext cx="27432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阅读思考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1" name="WordArt 12"/>
          <p:cNvSpPr txBox="1"/>
          <p:nvPr/>
        </p:nvSpPr>
        <p:spPr>
          <a:xfrm>
            <a:off x="380880" y="1143000"/>
            <a:ext cx="27432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阅读思考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1066680" y="12193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762200" y="76212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</a:rPr>
              <a:t>唐朝的建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295280" y="2506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066680" y="21337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</a:rPr>
              <a:t>时间：６１８年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990720" y="327672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建立者：李渊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066680" y="43434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都城：长安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1.MPG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87631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609480" y="533520"/>
            <a:ext cx="49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</a:rPr>
              <a:t>唐朝的建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533520" y="220968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Tahoma"/>
              </a:rPr>
              <a:t>贞观之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3733920" y="1905120"/>
            <a:ext cx="75960" cy="1828800"/>
          </a:xfrm>
          <a:custGeom>
            <a:avLst/>
            <a:gdLst>
              <a:gd name="textAreaLeft" fmla="*/ 48600 w 75960"/>
              <a:gd name="textAreaRight" fmla="*/ 76320 w 759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962520" y="14479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ahoma"/>
              </a:rPr>
              <a:t>政治清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62520" y="228600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ahoma"/>
              </a:rPr>
              <a:t>经济繁荣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3886200" y="320040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ahoma"/>
              </a:rPr>
              <a:t>国力增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5"/>
          <p:cNvSpPr txBox="1"/>
          <p:nvPr/>
        </p:nvSpPr>
        <p:spPr>
          <a:xfrm>
            <a:off x="609480" y="990720"/>
            <a:ext cx="2743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7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脑筋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762120" y="297180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贞观之治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局面出现的原因是什么？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3581280" y="38088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</a:rPr>
              <a:t>原因：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352680" y="160020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１．吸取隋亡的教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276720" y="259092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２．任贤纳谏　整顿吏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276720" y="38862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３．轻徭薄赋　发展生产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276720" y="50292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４．大兴学校　发展科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10" descr="1"/>
          <p:cNvPicPr/>
          <p:nvPr/>
        </p:nvPicPr>
        <p:blipFill>
          <a:blip r:embed="rId2"/>
          <a:stretch/>
        </p:blipFill>
        <p:spPr>
          <a:xfrm>
            <a:off x="65160" y="212760"/>
            <a:ext cx="3363840" cy="655308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609480" y="533520"/>
            <a:ext cx="49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</a:rPr>
              <a:t>唐朝的建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533520" y="220968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</a:rPr>
              <a:t>贞观之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85800" y="396252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Tahoma"/>
              </a:rPr>
              <a:t>女皇武则天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9:15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04:19:16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