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AF7-7F92-4B2C-AD6B-A9C6F032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CDA-FC49-4211-B5CF-D069E803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DE9-1976-477A-833C-38EFEB74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7E2-CEF1-4E6B-90DB-062B3271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49BE-E510-4604-B04F-FC05068E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A6A4-1119-4C44-8D18-82B558F5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791E-E42A-47AC-8267-CB941CE9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C834-AE8A-4B0D-BF52-9B492F00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5519-0AF5-4821-887A-08C168CE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B357-2AD9-44A5-9D6B-5423120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2743-650C-4696-8784-69F78FF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1EE-6F3D-4798-9D93-8E872A44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0D94-6E3D-4D4F-BBC1-76AB59FA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2507-86A7-46BE-879E-5CFEAF14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1B5-D03D-49B8-B603-C7AB92D4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78C6-414C-43A8-99AC-ACD96265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DACA-E43A-4245-9930-08521CE2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BAC-9373-431B-AAD9-C14278D0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084-B917-4AD3-A7C6-0B7BC726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DC8-9BE0-4E44-9E91-4C2A2BC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F8A-85F0-4835-8C4A-AA721EF5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3CE-AFEC-4A2B-A994-CBB9735C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E4E-62DE-4C2E-9DF3-E887235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CB6-2340-41A8-8260-AF9E502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A:\grapes.GIF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5CB-0820-4271-9F36-9B8EE870751C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4D03-EC61-4251-A3F2-A2C77C5A58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0C54-234C-4DDA-A62D-E17AD6B5CC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My Documents\songxi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My Documents\2.jpg"/>
          <p:cNvPicPr/>
          <p:nvPr/>
        </p:nvPicPr>
        <p:blipFill>
          <a:blip r:embed="rId3"/>
          <a:srcRect l="0" t="0" r="0" b="161"/>
          <a:stretch/>
        </p:blipFill>
        <p:spPr>
          <a:xfrm>
            <a:off x="-38160" y="3957480"/>
            <a:ext cx="91821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:\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-228600" y="99072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您为我们失去了自己的亲人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-228600" y="327672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您为我们失去了惟一的亲人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您知道我们缺少蔬菜，就挎着小篮子上山去挖野菜。后面山上的野菜挖光了，您又跑到前沿阵地上挖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A:\songxi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51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再见了，亲人！我们的心永 远在一起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2:03:2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