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D0F-F699-4F32-B726-D0FBDD0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D11-D98F-4FF8-B6E4-AAEFAD4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4F4-8F4D-4BE4-8CF9-25534A5D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470-A4CD-47C9-95BD-FC279BEC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2BD1-F325-408A-ACAE-244A7AB9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56B0-A9F8-44CE-9A0B-6581CD0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77BF-4C4E-4C1B-A445-A20AE760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25A-F051-4CE1-801D-497FAD9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63FF-F856-4A08-BCA9-14970F6D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6B66-9534-44E0-8555-6BFFFD97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715F-B67E-424F-BF72-635C4E5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5DE-D132-4FFC-8C2D-2A5EC105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CEC-66F6-40FF-9C9E-2B08F9C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606F-6D01-4E63-BD61-AE0919F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70E8-1FF8-4D31-B5D6-0A865D6D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E00F-62F9-4FC0-B727-047986B9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21A-2E76-4A07-9654-DCF78A78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BE1-AE0D-4519-A824-6F27E99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A10-DECC-4247-B853-0F2C006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5E0-8E71-4E2E-8DCA-D923E681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2B7-E1E8-42DE-A680-9340E7A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538-1B07-476B-9B78-7488002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20C-61DB-4414-BA61-1AF7D38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F83-C71E-48A0-B13A-4186B07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50B-6516-4460-8A0C-EA1FC09A1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87C-86F6-43C4-A3A1-87FF0B8570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B583-6A77-41C1-A8C8-3F70EF191C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590920" y="2819520"/>
            <a:ext cx="3581280" cy="9169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、找骆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838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 学 提 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由读课文，读懂每段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利用字典，联系上下文理解新词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文讲的是一件什么事？老人根据什么指点商人找到了骆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学不懂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915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忿  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186560" y="3124080"/>
            <a:ext cx="14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    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489000" y="327672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商  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701160" y="24066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èn fè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242000" y="243828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ǐ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008040" y="243828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 r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219320" y="838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词语注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2209680" y="2133720"/>
            <a:ext cx="51055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图片欣赏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E:\资源库\第二单元\三年级\6、《找骆驼》\野骆驼2.jpg"/>
          <p:cNvPicPr/>
          <p:nvPr/>
        </p:nvPicPr>
        <p:blipFill>
          <a:blip r:embed="rId2"/>
          <a:stretch/>
        </p:blipFill>
        <p:spPr>
          <a:xfrm>
            <a:off x="1523880" y="1447920"/>
            <a:ext cx="612468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E:\资源库\第二单元\三年级\6、《找骆驼》\野骆驼1.jpg"/>
          <p:cNvPicPr/>
          <p:nvPr/>
        </p:nvPicPr>
        <p:blipFill>
          <a:blip r:embed="rId2"/>
          <a:stretch/>
        </p:blipFill>
        <p:spPr>
          <a:xfrm>
            <a:off x="2014560" y="152280"/>
            <a:ext cx="467028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E:\资源库\第二单元\三年级\6、《找骆驼》\骆驼.jpg"/>
          <p:cNvPicPr/>
          <p:nvPr/>
        </p:nvPicPr>
        <p:blipFill>
          <a:blip r:embed="rId2"/>
          <a:stretch/>
        </p:blipFill>
        <p:spPr>
          <a:xfrm>
            <a:off x="1219320" y="990720"/>
            <a:ext cx="647676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E:\资源库\第二单元\三年级\6、《找骆驼》\路旁的骆驼.jpg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44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E:\资源库\第二单元\三年级\6、《找骆驼》\两只骆驼.jpg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44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19:2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