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4A0-2AA1-457D-A752-9BD231FB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54F-506C-45F5-81F7-5916E68D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E28-34D8-4310-8E51-60B99549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7A5-1A4C-4135-A380-F7FFCB3A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4F45-56B5-49D3-A8C5-A976E9A1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E54E-F690-4C93-BF2F-B0D61B34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44A2-E642-41FA-9969-5EAD78A3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5903-E5D2-4D31-A0A5-8532AF9F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40CF-7091-4B27-875B-8824BF5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1E9B-9FDE-4D6D-9BBE-84186ED9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55FC-C67B-4D2B-B0D7-5E2195F6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4B1-385E-40E0-A5BB-5259871A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4356-9E8B-48D5-98C6-5A2D3E7B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A737-6E06-43DD-ADAC-720BA29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D3D1-5241-44AC-B84F-EDC3858D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5B2A-7895-48D6-982E-55B55098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D638-EFD9-4F9F-B916-22BD73ED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0D7-90A8-4ACA-8A96-17FE2A28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D32-F4EF-47D3-B0A4-E10B2AE4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61E-6D91-4E53-8703-EA30FF8B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FDC-34EE-44F2-A76F-A8FAA24C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F7E-0C93-4DB3-AD53-B77EECB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AE1-9A18-4E2E-AA1F-A3B41F1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482-B7E7-4181-ADE2-1792BBE8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9E6F-3A13-4E22-9A0A-8FAD22CAA4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2EB-246A-49C5-B376-85C5671D389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66880" y="6244920"/>
            <a:ext cx="3306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8296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8CD-C19E-4D37-87D7-A909AF780E7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30240" y="1700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4" descr=""/>
          <p:cNvPicPr/>
          <p:nvPr/>
        </p:nvPicPr>
        <p:blipFill>
          <a:blip r:embed="rId17"/>
          <a:stretch/>
        </p:blipFill>
        <p:spPr>
          <a:xfrm>
            <a:off x="9061560" y="2637000"/>
            <a:ext cx="1379520" cy="12747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18"/>
          <a:stretch/>
        </p:blipFill>
        <p:spPr>
          <a:xfrm>
            <a:off x="5396040" y="969840"/>
            <a:ext cx="3868560" cy="46087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"/>
          <p:cNvPicPr/>
          <p:nvPr/>
        </p:nvPicPr>
        <p:blipFill>
          <a:blip r:embed="rId19"/>
          <a:stretch/>
        </p:blipFill>
        <p:spPr>
          <a:xfrm>
            <a:off x="0" y="620640"/>
            <a:ext cx="1457280" cy="18939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"/>
          <p:cNvPicPr/>
          <p:nvPr/>
        </p:nvPicPr>
        <p:blipFill>
          <a:blip r:embed="rId20"/>
          <a:stretch/>
        </p:blipFill>
        <p:spPr>
          <a:xfrm>
            <a:off x="8086680" y="-98280"/>
            <a:ext cx="2354400" cy="3095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" descr=""/>
          <p:cNvPicPr/>
          <p:nvPr/>
        </p:nvPicPr>
        <p:blipFill>
          <a:blip r:embed="rId21"/>
          <a:stretch/>
        </p:blipFill>
        <p:spPr>
          <a:xfrm>
            <a:off x="6804000" y="1957320"/>
            <a:ext cx="2567160" cy="1116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" descr=""/>
          <p:cNvPicPr/>
          <p:nvPr/>
        </p:nvPicPr>
        <p:blipFill>
          <a:blip r:embed="rId22"/>
          <a:stretch/>
        </p:blipFill>
        <p:spPr>
          <a:xfrm>
            <a:off x="0" y="4167360"/>
            <a:ext cx="5221440" cy="264636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0" descr=""/>
          <p:cNvPicPr/>
          <p:nvPr/>
        </p:nvPicPr>
        <p:blipFill>
          <a:blip r:embed="rId23"/>
          <a:stretch/>
        </p:blipFill>
        <p:spPr>
          <a:xfrm>
            <a:off x="1805040" y="1298520"/>
            <a:ext cx="36147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4600" y="189000"/>
            <a:ext cx="9372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480" y="1269720"/>
            <a:ext cx="101948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8319960" y="333360"/>
            <a:ext cx="15876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49440" y="0"/>
            <a:ext cx="8466120" cy="6858000"/>
            <a:chOff x="64944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12664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4944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257040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6:00Z</dcterms:created>
  <dc:creator>An</dc:creator>
  <dc:description/>
  <dc:language>en-US</dc:language>
  <cp:lastModifiedBy>a</cp:lastModifiedBy>
  <dcterms:modified xsi:type="dcterms:W3CDTF">2015-05-20T04:16:00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