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9615-FB18-4FEE-84AF-759E34A3F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6B8F-A2DC-48E8-914A-F8818002B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CFE8-87B2-4BDE-A549-D53B1526D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0E23-D1D0-41EC-AB72-49BFFD31C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42525-EF92-415F-9B14-310F99416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D5EBC-4573-4167-B9F1-8832CD2A1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AEA84-37EE-4F53-816F-783C762BB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955E5-DC73-4703-83BD-2B5CF3FF5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84444-1361-4936-B86C-D835D185F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985FF-4F6C-4D30-93D5-1564B8958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748F0-FD0E-442F-83C3-A7879F4E4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57B4-B834-419C-B2E2-155FB9D74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AA0BE-0EF5-4E0A-9519-A48D79268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EB92D-152C-4AC9-994B-722F45A0F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46CF3-0C34-44A1-82B7-D53803DDF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10D7C-A125-494D-BE23-EFE6291D2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A3E28-7A0A-4421-A6AB-376B57B5A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C747-9CBA-4DA9-A097-3F2431E51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A38F-0814-461E-91C2-FF14CB601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4CC1-BC61-46CE-8381-6AFFD5669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731C-B185-40CD-BED0-AAFB3D381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EF85-DB50-46AA-85A5-C6D287DF6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F3E8-3B71-4F8E-A3D6-7778D41AF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73D7-8D92-4B67-9C32-B41B9E18E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803DA-3F1A-4976-B7B7-98E75FE7135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88AC9-324B-4C0B-8893-CC2F5332A5F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44E4E-6267-4BEE-A3DE-E2F9566FE22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2768400" y="20606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424040" y="42926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3767760" y="2492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376776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3839040" y="4221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3839040" y="5229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3848040" y="234936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3991680" y="44370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1247400" y="5084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4128120" y="5079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6864120" y="5084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4136040" y="9079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2055240" y="3540600"/>
            <a:ext cx="45468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508200" y="3933720"/>
            <a:ext cx="72900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5354280" y="3870360"/>
            <a:ext cx="72900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6965640" y="3905280"/>
            <a:ext cx="729000" cy="19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1923840" y="4791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6288480" y="4797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4084920" y="5589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599040" y="17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3047760" y="17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5351760" y="17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7655400" y="1628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2341080" y="306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4501800" y="306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6711480" y="306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1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3T11:53:25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4:15:58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