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5.gif" ContentType="image/gif"/>
  <Override PartName="/ppt/media/image1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6BB6-F72A-4102-B242-E8FD530B3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4C0F-F273-448B-AA5F-0474624CD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D15A-839D-473C-AF48-D0632E1B4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1B7E-EC17-4885-AF26-3CD4596EA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602DB-AC9E-41B7-AA89-445013FC6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8379F-5CF6-463C-A8DE-427AFB3D3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319E2-F90F-42C8-9448-AB3F4B899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2609E-0F62-47F3-8E8D-63C1CE71A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5B6E6-1FE6-4254-8C24-6493EEAF3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A46E2-DFFD-48EA-A39B-2B2C864DA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8F6E4-2A91-4DE0-8228-AB11B3C2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BD1B-0F5E-41E4-A8D3-03FCB6932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C335E-4301-40F0-ACCF-966D95842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BFDA4-3DAD-450F-B2D0-1337A251F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5EA63-EF67-4BE9-81C7-8BE1FCD42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0308C-302C-414C-A57C-D269FEACB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998E9-ADDE-48F1-B5F7-DB111BDE0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0C4F-C735-44CE-82B0-938665945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5ABF-C265-4969-AD25-A7D26F4C9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E3FD-6C58-45B3-9661-0B2A08CED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3582-2EB6-43F5-9BF2-28285BE8F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BE85-0295-4CC3-8E08-15DE949D3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9C99-DB43-47E8-8E9C-62E3DA63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B848-54D6-43CF-956B-1429F0AEA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77E8B-39B4-4D91-82DC-E596EAE415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8C112-AE5D-4A95-9C2E-059D69B9B1F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vc123.com/web/sucai/img4/586/389.gif" TargetMode="Externa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vc123.com/web/sucai/img4/586/371.gif" TargetMode="External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vc123.com/web/img2008/14/09/0006.jpg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vc123.com/web/sucai/img4/586/368.gif" TargetMode="External"/><Relationship Id="rId3" Type="http://schemas.openxmlformats.org/officeDocument/2006/relationships/image" Target="../media/image11.png"/><Relationship Id="rId4" Type="http://schemas.openxmlformats.org/officeDocument/2006/relationships/hyperlink" Target="http://www.eeppt.com/moban/kejian/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491540_200312241911441794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3"/>
          <p:cNvSpPr/>
          <p:nvPr/>
        </p:nvSpPr>
        <p:spPr>
          <a:xfrm>
            <a:off x="2666880" y="3429000"/>
            <a:ext cx="37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Arial"/>
                <a:ea typeface="黑体"/>
              </a:rPr>
              <a:t>海伦</a:t>
            </a:r>
            <a:r>
              <a:rPr b="1" lang="en-US" sz="5400" spc="-1" strike="noStrike">
                <a:solidFill>
                  <a:srgbClr val="0033cc"/>
                </a:solidFill>
                <a:latin typeface="Arial"/>
                <a:ea typeface="黑体"/>
              </a:rPr>
              <a:t>.</a:t>
            </a:r>
            <a:r>
              <a:rPr b="1" lang="zh-CN" sz="5400" spc="-1" strike="noStrike">
                <a:solidFill>
                  <a:srgbClr val="0033cc"/>
                </a:solidFill>
                <a:latin typeface="Arial"/>
                <a:ea typeface="黑体"/>
              </a:rPr>
              <a:t>凯勒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" name="WordArt 4"/>
          <p:cNvSpPr txBox="1"/>
          <p:nvPr/>
        </p:nvSpPr>
        <p:spPr>
          <a:xfrm>
            <a:off x="1600200" y="990720"/>
            <a:ext cx="579132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5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隶书"/>
              </a:rPr>
              <a:t>再塑生命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隶书"/>
              <a:ea typeface="隶书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3"/>
          <p:cNvSpPr/>
          <p:nvPr/>
        </p:nvSpPr>
        <p:spPr>
          <a:xfrm>
            <a:off x="762120" y="609480"/>
            <a:ext cx="3200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、这几件事表现了作者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求知的热望，以及艰辛而愉快的生活经历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，更表达了作者对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莎莉文老师无比的敬爱和感激，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这种感情在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假如给我三天光明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中表达的更加明确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304920" y="2666880"/>
            <a:ext cx="8153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838080" y="3505320"/>
            <a:ext cx="7467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838080" y="495288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48" name="Picture 7" descr="2003-08-29-3"/>
          <p:cNvPicPr/>
          <p:nvPr/>
        </p:nvPicPr>
        <p:blipFill>
          <a:blip r:embed="rId1"/>
          <a:stretch/>
        </p:blipFill>
        <p:spPr>
          <a:xfrm>
            <a:off x="4419720" y="304920"/>
            <a:ext cx="4375080" cy="62481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8"/>
          <p:cNvSpPr/>
          <p:nvPr/>
        </p:nvSpPr>
        <p:spPr>
          <a:xfrm>
            <a:off x="8534520" y="6553080"/>
            <a:ext cx="609480" cy="304920"/>
          </a:xfrm>
          <a:custGeom>
            <a:avLst/>
            <a:gdLst>
              <a:gd name="textAreaLeft" fmla="*/ 19080 w 609480"/>
              <a:gd name="textAreaRight" fmla="*/ 590760 w 609480"/>
              <a:gd name="textAreaTop" fmla="*/ 19080 h 304920"/>
              <a:gd name="textAreaBottom" fmla="*/ 28620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99" y="1350"/>
                </a:lnTo>
                <a:lnTo>
                  <a:pt x="1350" y="135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99" y="20250"/>
                </a:lnTo>
                <a:lnTo>
                  <a:pt x="41799" y="135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41799" y="2025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43149" h="21600">
                <a:moveTo>
                  <a:pt x="21575" y="3756"/>
                </a:moveTo>
                <a:arcTo wR="7044" hR="7044" stAng="16200000" swAng="-5400000"/>
                <a:arcTo wR="7044" hR="7044" stAng="10800000" swAng="-5400000"/>
                <a:arcTo wR="7044" hR="7044" stAng="5400000" swAng="-5400000"/>
                <a:arcTo wR="7044" hR="7044" stAng="0" swAng="-5400000"/>
                <a:close/>
              </a:path>
              <a:path fill="lighten" w="43149" h="21600">
                <a:moveTo>
                  <a:pt x="21575" y="4133"/>
                </a:moveTo>
                <a:arcTo wR="1803" hR="1803" stAng="16200000" swAng="-5400000"/>
                <a:arcTo wR="1803" hR="1803" stAng="10800000" swAng="-5400000"/>
                <a:arcTo wR="1803" hR="1803" stAng="5400000" swAng="-5400000"/>
                <a:arcTo wR="1803" hR="1803" stAng="0" swAng="-5400000"/>
                <a:close/>
              </a:path>
              <a:path fill="lighten" w="43149" h="21600">
                <a:moveTo>
                  <a:pt x="18985" y="8210"/>
                </a:moveTo>
                <a:lnTo>
                  <a:pt x="22870" y="8210"/>
                </a:lnTo>
                <a:lnTo>
                  <a:pt x="22870" y="15245"/>
                </a:lnTo>
                <a:lnTo>
                  <a:pt x="24165" y="15245"/>
                </a:lnTo>
                <a:lnTo>
                  <a:pt x="24165" y="16173"/>
                </a:lnTo>
                <a:lnTo>
                  <a:pt x="18985" y="16173"/>
                </a:lnTo>
                <a:lnTo>
                  <a:pt x="18985" y="15245"/>
                </a:lnTo>
                <a:lnTo>
                  <a:pt x="20280" y="15245"/>
                </a:lnTo>
                <a:lnTo>
                  <a:pt x="20280" y="9120"/>
                </a:lnTo>
                <a:lnTo>
                  <a:pt x="18985" y="9120"/>
                </a:lnTo>
                <a:close/>
              </a:path>
            </a:pathLst>
          </a:custGeom>
          <a:solidFill>
            <a:srgbClr val="ffccff"/>
          </a:solidFill>
          <a:ln cap="rnd" w="3240">
            <a:solidFill>
              <a:srgbClr val="ff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Overnight Vigil (See Caption)"/>
          <p:cNvPicPr/>
          <p:nvPr/>
        </p:nvPicPr>
        <p:blipFill>
          <a:blip r:embed="rId2"/>
          <a:stretch/>
        </p:blipFill>
        <p:spPr>
          <a:xfrm>
            <a:off x="0" y="0"/>
            <a:ext cx="4788000" cy="6858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" descr="hellen1"/>
          <p:cNvPicPr/>
          <p:nvPr/>
        </p:nvPicPr>
        <p:blipFill>
          <a:blip r:embed="rId3"/>
          <a:stretch/>
        </p:blipFill>
        <p:spPr>
          <a:xfrm>
            <a:off x="4788000" y="0"/>
            <a:ext cx="4356000" cy="685800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3"/>
          <p:cNvSpPr/>
          <p:nvPr/>
        </p:nvSpPr>
        <p:spPr>
          <a:xfrm>
            <a:off x="2743200" y="457200"/>
            <a:ext cx="555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、关于“爱”的教育：莎莉文老师是怎样教我认识“爱”的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3" name="WordArt 5"/>
          <p:cNvSpPr txBox="1"/>
          <p:nvPr/>
        </p:nvSpPr>
        <p:spPr>
          <a:xfrm rot="20584200">
            <a:off x="533160" y="609480"/>
            <a:ext cx="1828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8080"/>
                  </a:solidFill>
                  <a:miter/>
                </a:ln>
                <a:solidFill>
                  <a:srgbClr val="ff99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问题探讨</a:t>
            </a:r>
            <a:endParaRPr b="0" lang="en-US" sz="1800" spc="1" strike="noStrike">
              <a:ln w="12600">
                <a:solidFill>
                  <a:srgbClr val="008080"/>
                </a:solidFill>
                <a:miter/>
              </a:ln>
              <a:solidFill>
                <a:srgbClr val="ff99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228600" y="2286000"/>
            <a:ext cx="83059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爱是什么？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爱在这里。（指着心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爱就是花的香味吗？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不是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爱是不是太阳？是太阳吗？爱是不是太阳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爱有点儿像太阳没出来以前天空中的云彩。你摸不到云彩，但你能感觉到雨水。你也知道，在经过一天酷热日晒之后，要是花和大地能得到雨水会是多么高兴呀！爱也是摸不着的，但你却能感到她带来的甜蜜。没有爱，你就不快活，也不想玩了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55" name="Picture 11" descr="004473"/>
          <p:cNvPicPr/>
          <p:nvPr/>
        </p:nvPicPr>
        <p:blipFill>
          <a:blip r:embed="rId2"/>
          <a:stretch/>
        </p:blipFill>
        <p:spPr>
          <a:xfrm>
            <a:off x="6095880" y="1276200"/>
            <a:ext cx="25909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WordArt 8"/>
          <p:cNvSpPr txBox="1"/>
          <p:nvPr/>
        </p:nvSpPr>
        <p:spPr>
          <a:xfrm rot="20584200">
            <a:off x="380520" y="685800"/>
            <a:ext cx="1828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8080"/>
                  </a:solidFill>
                  <a:miter/>
                </a:ln>
                <a:solidFill>
                  <a:srgbClr val="ff99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问题探讨</a:t>
            </a:r>
            <a:endParaRPr b="0" lang="en-US" sz="1800" spc="1" strike="noStrike">
              <a:ln w="12600">
                <a:solidFill>
                  <a:srgbClr val="008080"/>
                </a:solidFill>
                <a:miter/>
              </a:ln>
              <a:solidFill>
                <a:srgbClr val="ff99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2666880" y="7542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8" name="Rectangle 10"/>
          <p:cNvSpPr/>
          <p:nvPr/>
        </p:nvSpPr>
        <p:spPr>
          <a:xfrm>
            <a:off x="5462640" y="60948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黑体"/>
              </a:rPr>
              <a:t>海伦再塑生命成功的因素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Rectangle 11"/>
          <p:cNvSpPr/>
          <p:nvPr/>
        </p:nvSpPr>
        <p:spPr>
          <a:xfrm rot="21586200">
            <a:off x="2514600" y="1752480"/>
            <a:ext cx="3200400" cy="43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黑体"/>
              </a:rPr>
              <a:t>安妮</a:t>
            </a:r>
            <a:r>
              <a:rPr b="1" lang="en-US" sz="3600" spc="-1" strike="noStrike">
                <a:solidFill>
                  <a:srgbClr val="3333ff"/>
                </a:solidFill>
                <a:latin typeface="Arial"/>
                <a:ea typeface="Arial"/>
              </a:rPr>
              <a:t>·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黑体"/>
              </a:rPr>
              <a:t>莎莉文</a:t>
            </a:r>
            <a:r>
              <a:rPr b="1" lang="en-US" sz="3600" spc="-1" strike="noStrike">
                <a:solidFill>
                  <a:srgbClr val="3333ff"/>
                </a:solidFill>
                <a:latin typeface="Arial"/>
                <a:ea typeface="黑体"/>
              </a:rPr>
              <a:t>: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  <a:ea typeface="黑体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了解儿童心理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讲究教育方式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教学循序渐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善于启发引导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热爱教育对象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0" name="Rectangle 12"/>
          <p:cNvSpPr/>
          <p:nvPr/>
        </p:nvSpPr>
        <p:spPr>
          <a:xfrm rot="21584400">
            <a:off x="6019920" y="1752480"/>
            <a:ext cx="2666880" cy="43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黑体"/>
              </a:rPr>
              <a:t>海伦</a:t>
            </a:r>
            <a:r>
              <a:rPr b="1" lang="en-US" sz="3600" spc="-1" strike="noStrike">
                <a:solidFill>
                  <a:srgbClr val="3333ff"/>
                </a:solidFill>
                <a:latin typeface="Arial"/>
                <a:ea typeface="Arial"/>
              </a:rPr>
              <a:t>·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黑体"/>
              </a:rPr>
              <a:t>凯勒</a:t>
            </a:r>
            <a:r>
              <a:rPr b="1" lang="en-US" sz="3600" spc="-1" strike="noStrike">
                <a:solidFill>
                  <a:srgbClr val="3333ff"/>
                </a:solidFill>
                <a:latin typeface="Arial"/>
                <a:ea typeface="黑体"/>
              </a:rPr>
              <a:t>: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勇敢、坚强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黑体"/>
              </a:rPr>
              <a:t>,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聪明、好学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有旺盛的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知欲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黑体"/>
              </a:rPr>
              <a:t>,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情感丰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富，悟性高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1" name="Picture 30" descr="38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2743200"/>
            <a:ext cx="2057400" cy="3124080"/>
          </a:xfrm>
          <a:prstGeom prst="rect">
            <a:avLst/>
          </a:prstGeom>
          <a:ln w="0">
            <a:noFill/>
          </a:ln>
        </p:spPr>
      </p:pic>
      <p:sp>
        <p:nvSpPr>
          <p:cNvPr id="162" name="AutoShape 31"/>
          <p:cNvSpPr/>
          <p:nvPr/>
        </p:nvSpPr>
        <p:spPr>
          <a:xfrm>
            <a:off x="8305920" y="6172200"/>
            <a:ext cx="380880" cy="457200"/>
          </a:xfrm>
          <a:custGeom>
            <a:avLst/>
            <a:gdLst>
              <a:gd name="textAreaLeft" fmla="*/ 23760 w 380880"/>
              <a:gd name="textAreaRight" fmla="*/ 357120 w 380880"/>
              <a:gd name="textAreaTop" fmla="*/ 23760 h 457200"/>
              <a:gd name="textAreaBottom" fmla="*/ 43344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50" y="24574"/>
                </a:lnTo>
                <a:lnTo>
                  <a:pt x="20250" y="135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350" y="24574"/>
                </a:lnTo>
                <a:lnTo>
                  <a:pt x="20250" y="2457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350" y="1350"/>
                </a:lnTo>
                <a:lnTo>
                  <a:pt x="1350" y="24574"/>
                </a:lnTo>
                <a:close/>
              </a:path>
              <a:path fill="darken" w="21600" h="25924">
                <a:moveTo>
                  <a:pt x="10800" y="5918"/>
                </a:moveTo>
                <a:arcTo wR="7044" hR="7044" stAng="16200000" swAng="-5400000"/>
                <a:arcTo wR="7044" hR="7044" stAng="10800000" swAng="-5400000"/>
                <a:arcTo wR="7044" hR="7044" stAng="5400000" swAng="-5400000"/>
                <a:arcTo wR="7044" hR="7044" stAng="0" swAng="-5400000"/>
                <a:close/>
              </a:path>
              <a:path fill="lighten" w="21600" h="25924">
                <a:moveTo>
                  <a:pt x="10800" y="6295"/>
                </a:moveTo>
                <a:arcTo wR="1803" hR="1803" stAng="16200000" swAng="-5400000"/>
                <a:arcTo wR="1803" hR="1803" stAng="10800000" swAng="-5400000"/>
                <a:arcTo wR="1803" hR="1803" stAng="5400000" swAng="-5400000"/>
                <a:arcTo wR="1803" hR="1803" stAng="0" swAng="-5400000"/>
                <a:close/>
              </a:path>
              <a:path fill="lighten" w="21600" h="25924">
                <a:moveTo>
                  <a:pt x="8210" y="10372"/>
                </a:moveTo>
                <a:lnTo>
                  <a:pt x="12095" y="10372"/>
                </a:lnTo>
                <a:lnTo>
                  <a:pt x="12095" y="17407"/>
                </a:lnTo>
                <a:lnTo>
                  <a:pt x="13390" y="17407"/>
                </a:lnTo>
                <a:lnTo>
                  <a:pt x="13390" y="18335"/>
                </a:lnTo>
                <a:lnTo>
                  <a:pt x="8210" y="18335"/>
                </a:lnTo>
                <a:lnTo>
                  <a:pt x="8210" y="17407"/>
                </a:lnTo>
                <a:lnTo>
                  <a:pt x="9505" y="17407"/>
                </a:lnTo>
                <a:lnTo>
                  <a:pt x="9505" y="11282"/>
                </a:lnTo>
                <a:lnTo>
                  <a:pt x="8210" y="11282"/>
                </a:lnTo>
                <a:close/>
              </a:path>
            </a:pathLst>
          </a:custGeom>
          <a:solidFill>
            <a:srgbClr val="ccffcc"/>
          </a:solidFill>
          <a:ln cap="rnd" w="3240">
            <a:solidFill>
              <a:srgbClr val="cc00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2" dur="3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3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3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4408200" y="407880"/>
            <a:ext cx="347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黑体"/>
              </a:rPr>
              <a:t>请说说对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黑体"/>
              </a:rPr>
              <a:t>“再塑生命”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黑体"/>
              </a:rPr>
              <a:t>的理解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990720" y="1827360"/>
            <a:ext cx="4572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意指“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重新塑造生命、重新获得生命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”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这里指海伦的生命希望和热诚在安妮老师的教育下被唤醒，使她从寂静又黑暗的孤独世界回到了光明和快乐之中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5" name="Picture 4" descr="367"/>
          <p:cNvPicPr/>
          <p:nvPr/>
        </p:nvPicPr>
        <p:blipFill>
          <a:blip r:embed="rId1"/>
          <a:stretch/>
        </p:blipFill>
        <p:spPr>
          <a:xfrm>
            <a:off x="5257800" y="1676520"/>
            <a:ext cx="3886200" cy="4952880"/>
          </a:xfrm>
          <a:prstGeom prst="rect">
            <a:avLst/>
          </a:prstGeom>
          <a:ln w="0">
            <a:noFill/>
          </a:ln>
        </p:spPr>
      </p:pic>
      <p:sp>
        <p:nvSpPr>
          <p:cNvPr id="166" name="WordArt 5"/>
          <p:cNvSpPr txBox="1"/>
          <p:nvPr/>
        </p:nvSpPr>
        <p:spPr>
          <a:xfrm rot="20584200">
            <a:off x="380520" y="685800"/>
            <a:ext cx="1828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8080"/>
                  </a:solidFill>
                  <a:miter/>
                </a:ln>
                <a:solidFill>
                  <a:srgbClr val="ff99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问题探讨</a:t>
            </a:r>
            <a:endParaRPr b="0" lang="en-US" sz="1800" spc="1" strike="noStrike">
              <a:ln w="12600">
                <a:solidFill>
                  <a:srgbClr val="008080"/>
                </a:solidFill>
                <a:miter/>
              </a:ln>
              <a:solidFill>
                <a:srgbClr val="ff99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67" name="AutoShape 6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8440 w 457200"/>
              <a:gd name="textAreaRight" fmla="*/ 428760 w 457200"/>
              <a:gd name="textAreaTop" fmla="*/ 28440 h 533520"/>
              <a:gd name="textAreaBottom" fmla="*/ 50508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50" y="23853"/>
                </a:lnTo>
                <a:lnTo>
                  <a:pt x="20250" y="135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350" y="23853"/>
                </a:lnTo>
                <a:lnTo>
                  <a:pt x="20250" y="2385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350" y="1350"/>
                </a:lnTo>
                <a:lnTo>
                  <a:pt x="1350" y="23853"/>
                </a:lnTo>
                <a:close/>
              </a:path>
              <a:path fill="darken" w="21600" h="25203">
                <a:moveTo>
                  <a:pt x="10800" y="5601"/>
                </a:moveTo>
                <a:lnTo>
                  <a:pt x="13390" y="8226"/>
                </a:lnTo>
                <a:lnTo>
                  <a:pt x="13390" y="6476"/>
                </a:lnTo>
                <a:lnTo>
                  <a:pt x="15175" y="6476"/>
                </a:lnTo>
                <a:lnTo>
                  <a:pt x="15175" y="10011"/>
                </a:lnTo>
                <a:lnTo>
                  <a:pt x="17800" y="12601"/>
                </a:lnTo>
                <a:lnTo>
                  <a:pt x="16138" y="12601"/>
                </a:lnTo>
                <a:lnTo>
                  <a:pt x="16138" y="19829"/>
                </a:lnTo>
                <a:lnTo>
                  <a:pt x="5463" y="19829"/>
                </a:lnTo>
                <a:lnTo>
                  <a:pt x="5463" y="12601"/>
                </a:lnTo>
                <a:lnTo>
                  <a:pt x="3800" y="12601"/>
                </a:lnTo>
                <a:close/>
              </a:path>
              <a:path fill="darkenLess" w="21600" h="25203">
                <a:moveTo>
                  <a:pt x="13390" y="8226"/>
                </a:moveTo>
                <a:lnTo>
                  <a:pt x="13390" y="6476"/>
                </a:lnTo>
                <a:lnTo>
                  <a:pt x="15175" y="6476"/>
                </a:lnTo>
                <a:lnTo>
                  <a:pt x="15175" y="10011"/>
                </a:lnTo>
                <a:close/>
              </a:path>
              <a:path fill="darkenLess" w="21600" h="25203">
                <a:moveTo>
                  <a:pt x="9873" y="16119"/>
                </a:moveTo>
                <a:lnTo>
                  <a:pt x="11728" y="16119"/>
                </a:lnTo>
                <a:lnTo>
                  <a:pt x="11728" y="19829"/>
                </a:lnTo>
                <a:lnTo>
                  <a:pt x="16138" y="19829"/>
                </a:lnTo>
                <a:lnTo>
                  <a:pt x="16138" y="12601"/>
                </a:lnTo>
                <a:lnTo>
                  <a:pt x="5463" y="12601"/>
                </a:lnTo>
                <a:lnTo>
                  <a:pt x="5463" y="19829"/>
                </a:lnTo>
                <a:lnTo>
                  <a:pt x="9873" y="19829"/>
                </a:lnTo>
                <a:close/>
              </a:path>
            </a:pathLst>
          </a:custGeom>
          <a:solidFill>
            <a:srgbClr val="ccffff">
              <a:alpha val="50000"/>
            </a:srgbClr>
          </a:solidFill>
          <a:ln cap="rnd" w="3240">
            <a:solidFill>
              <a:srgbClr val="ff99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3"/>
          <p:cNvSpPr/>
          <p:nvPr/>
        </p:nvSpPr>
        <p:spPr>
          <a:xfrm>
            <a:off x="358920" y="0"/>
            <a:ext cx="8785080" cy="11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试列举古今中外那些付出艰辛努力而成功的残疾人的事迹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   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9" name="AutoShape 6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8440 w 457200"/>
              <a:gd name="textAreaRight" fmla="*/ 428760 w 457200"/>
              <a:gd name="textAreaTop" fmla="*/ 28440 h 533520"/>
              <a:gd name="textAreaBottom" fmla="*/ 50508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50" y="23853"/>
                </a:lnTo>
                <a:lnTo>
                  <a:pt x="20250" y="135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350" y="23853"/>
                </a:lnTo>
                <a:lnTo>
                  <a:pt x="20250" y="2385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350" y="1350"/>
                </a:lnTo>
                <a:lnTo>
                  <a:pt x="1350" y="23853"/>
                </a:lnTo>
                <a:close/>
              </a:path>
              <a:path fill="darken" w="21600" h="25203">
                <a:moveTo>
                  <a:pt x="10800" y="5601"/>
                </a:moveTo>
                <a:lnTo>
                  <a:pt x="13390" y="8226"/>
                </a:lnTo>
                <a:lnTo>
                  <a:pt x="13390" y="6476"/>
                </a:lnTo>
                <a:lnTo>
                  <a:pt x="15175" y="6476"/>
                </a:lnTo>
                <a:lnTo>
                  <a:pt x="15175" y="10011"/>
                </a:lnTo>
                <a:lnTo>
                  <a:pt x="17800" y="12601"/>
                </a:lnTo>
                <a:lnTo>
                  <a:pt x="16138" y="12601"/>
                </a:lnTo>
                <a:lnTo>
                  <a:pt x="16138" y="19829"/>
                </a:lnTo>
                <a:lnTo>
                  <a:pt x="5463" y="19829"/>
                </a:lnTo>
                <a:lnTo>
                  <a:pt x="5463" y="12601"/>
                </a:lnTo>
                <a:lnTo>
                  <a:pt x="3800" y="12601"/>
                </a:lnTo>
                <a:close/>
              </a:path>
              <a:path fill="darkenLess" w="21600" h="25203">
                <a:moveTo>
                  <a:pt x="13390" y="8226"/>
                </a:moveTo>
                <a:lnTo>
                  <a:pt x="13390" y="6476"/>
                </a:lnTo>
                <a:lnTo>
                  <a:pt x="15175" y="6476"/>
                </a:lnTo>
                <a:lnTo>
                  <a:pt x="15175" y="10011"/>
                </a:lnTo>
                <a:close/>
              </a:path>
              <a:path fill="darkenLess" w="21600" h="25203">
                <a:moveTo>
                  <a:pt x="9873" y="16119"/>
                </a:moveTo>
                <a:lnTo>
                  <a:pt x="11728" y="16119"/>
                </a:lnTo>
                <a:lnTo>
                  <a:pt x="11728" y="19829"/>
                </a:lnTo>
                <a:lnTo>
                  <a:pt x="16138" y="19829"/>
                </a:lnTo>
                <a:lnTo>
                  <a:pt x="16138" y="12601"/>
                </a:lnTo>
                <a:lnTo>
                  <a:pt x="5463" y="12601"/>
                </a:lnTo>
                <a:lnTo>
                  <a:pt x="5463" y="19829"/>
                </a:lnTo>
                <a:lnTo>
                  <a:pt x="9873" y="19829"/>
                </a:lnTo>
                <a:close/>
              </a:path>
            </a:pathLst>
          </a:custGeom>
          <a:solidFill>
            <a:srgbClr val="ccffff">
              <a:alpha val="50000"/>
            </a:srgbClr>
          </a:solidFill>
          <a:ln cap="rnd" w="3240">
            <a:solidFill>
              <a:srgbClr val="ff99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1619280" y="1214280"/>
            <a:ext cx="7273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奥斯特洛夫斯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写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钢铁是怎样炼成的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》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贝多芬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谱写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命运交响曲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民间艺人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阿炳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奏响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二泉映月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美国连任三届的总统、二次大战英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罗斯福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从小患小儿麻痹症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E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张海迪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自学成才；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F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孙膑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受膑刑，著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孙膑兵法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埃及第一任教育部长、大作家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塔哈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侯赛因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是盲人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1" name="Text Box 10"/>
          <p:cNvSpPr/>
          <p:nvPr/>
        </p:nvSpPr>
        <p:spPr>
          <a:xfrm>
            <a:off x="-586800" y="1962000"/>
            <a:ext cx="200916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Arial"/>
                <a:ea typeface="黑体"/>
              </a:rPr>
              <a:t>       </a:t>
            </a:r>
            <a:r>
              <a:rPr b="0" lang="zh-CN" sz="6000" spc="-1" strike="noStrike">
                <a:solidFill>
                  <a:srgbClr val="ff3300"/>
                </a:solidFill>
                <a:latin typeface="Arial"/>
                <a:ea typeface="黑体"/>
              </a:rPr>
              <a:t>拓展延伸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358920" y="0"/>
            <a:ext cx="87850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黑体"/>
              </a:rPr>
              <a:t>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" name="AutoShape 3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8440 w 457200"/>
              <a:gd name="textAreaRight" fmla="*/ 428760 w 457200"/>
              <a:gd name="textAreaTop" fmla="*/ 28440 h 533520"/>
              <a:gd name="textAreaBottom" fmla="*/ 50508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50" y="23853"/>
                </a:lnTo>
                <a:lnTo>
                  <a:pt x="20250" y="135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350" y="23853"/>
                </a:lnTo>
                <a:lnTo>
                  <a:pt x="20250" y="2385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350" y="1350"/>
                </a:lnTo>
                <a:lnTo>
                  <a:pt x="1350" y="23853"/>
                </a:lnTo>
                <a:close/>
              </a:path>
              <a:path fill="darken" w="21600" h="25203">
                <a:moveTo>
                  <a:pt x="10800" y="5601"/>
                </a:moveTo>
                <a:lnTo>
                  <a:pt x="13390" y="8226"/>
                </a:lnTo>
                <a:lnTo>
                  <a:pt x="13390" y="6476"/>
                </a:lnTo>
                <a:lnTo>
                  <a:pt x="15175" y="6476"/>
                </a:lnTo>
                <a:lnTo>
                  <a:pt x="15175" y="10011"/>
                </a:lnTo>
                <a:lnTo>
                  <a:pt x="17800" y="12601"/>
                </a:lnTo>
                <a:lnTo>
                  <a:pt x="16138" y="12601"/>
                </a:lnTo>
                <a:lnTo>
                  <a:pt x="16138" y="19829"/>
                </a:lnTo>
                <a:lnTo>
                  <a:pt x="5463" y="19829"/>
                </a:lnTo>
                <a:lnTo>
                  <a:pt x="5463" y="12601"/>
                </a:lnTo>
                <a:lnTo>
                  <a:pt x="3800" y="12601"/>
                </a:lnTo>
                <a:close/>
              </a:path>
              <a:path fill="darkenLess" w="21600" h="25203">
                <a:moveTo>
                  <a:pt x="13390" y="8226"/>
                </a:moveTo>
                <a:lnTo>
                  <a:pt x="13390" y="6476"/>
                </a:lnTo>
                <a:lnTo>
                  <a:pt x="15175" y="6476"/>
                </a:lnTo>
                <a:lnTo>
                  <a:pt x="15175" y="10011"/>
                </a:lnTo>
                <a:close/>
              </a:path>
              <a:path fill="darkenLess" w="21600" h="25203">
                <a:moveTo>
                  <a:pt x="9873" y="16119"/>
                </a:moveTo>
                <a:lnTo>
                  <a:pt x="11728" y="16119"/>
                </a:lnTo>
                <a:lnTo>
                  <a:pt x="11728" y="19829"/>
                </a:lnTo>
                <a:lnTo>
                  <a:pt x="16138" y="19829"/>
                </a:lnTo>
                <a:lnTo>
                  <a:pt x="16138" y="12601"/>
                </a:lnTo>
                <a:lnTo>
                  <a:pt x="5463" y="12601"/>
                </a:lnTo>
                <a:lnTo>
                  <a:pt x="5463" y="19829"/>
                </a:lnTo>
                <a:lnTo>
                  <a:pt x="9873" y="19829"/>
                </a:lnTo>
                <a:close/>
              </a:path>
            </a:pathLst>
          </a:custGeom>
          <a:solidFill>
            <a:srgbClr val="ccffff">
              <a:alpha val="50000"/>
            </a:srgbClr>
          </a:solidFill>
          <a:ln cap="rnd" w="3240">
            <a:solidFill>
              <a:srgbClr val="ff99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1619280" y="1214280"/>
            <a:ext cx="72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3960" y="692280"/>
            <a:ext cx="109476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Arial"/>
                <a:ea typeface="黑体"/>
              </a:rPr>
              <a:t>拓展练习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1332000" y="836640"/>
            <a:ext cx="828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cc"/>
                </a:solidFill>
                <a:latin typeface="黑体"/>
                <a:ea typeface="黑体"/>
              </a:rPr>
              <a:t>   </a:t>
            </a:r>
            <a:r>
              <a:rPr b="1" lang="zh-CN" sz="4800" spc="-1" strike="noStrike">
                <a:solidFill>
                  <a:srgbClr val="0033cc"/>
                </a:solidFill>
                <a:latin typeface="黑体"/>
                <a:ea typeface="黑体"/>
              </a:rPr>
              <a:t>请同学们以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  <a:ea typeface="黑体"/>
              </a:rPr>
              <a:t>“</a:t>
            </a:r>
            <a:r>
              <a:rPr b="1" lang="zh-CN" sz="4800" spc="-1" strike="noStrike">
                <a:solidFill>
                  <a:srgbClr val="0033cc"/>
                </a:solidFill>
                <a:latin typeface="黑体"/>
                <a:ea typeface="黑体"/>
              </a:rPr>
              <a:t>爱是什么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  <a:ea typeface="黑体"/>
              </a:rPr>
              <a:t>”</a:t>
            </a:r>
            <a:r>
              <a:rPr b="1" lang="zh-CN" sz="4800" spc="-1" strike="noStrike">
                <a:solidFill>
                  <a:srgbClr val="0033cc"/>
                </a:solidFill>
                <a:latin typeface="黑体"/>
                <a:ea typeface="黑体"/>
              </a:rPr>
              <a:t>为开头</a:t>
            </a:r>
            <a:r>
              <a:rPr b="1" lang="en-US" sz="4800" spc="-1" strike="noStrike">
                <a:solidFill>
                  <a:srgbClr val="0033cc"/>
                </a:solidFill>
                <a:latin typeface="黑体"/>
                <a:ea typeface="黑体"/>
              </a:rPr>
              <a:t>,</a:t>
            </a:r>
            <a:r>
              <a:rPr b="1" lang="zh-CN" sz="4800" spc="-1" strike="noStrike">
                <a:solidFill>
                  <a:srgbClr val="0033cc"/>
                </a:solidFill>
                <a:latin typeface="黑体"/>
                <a:ea typeface="黑体"/>
              </a:rPr>
              <a:t>写一段自己的感悟。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0" y="126828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250920" y="3213000"/>
            <a:ext cx="475272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cc"/>
                </a:solidFill>
                <a:latin typeface="黑体"/>
                <a:ea typeface="黑体"/>
              </a:rPr>
              <a:t>  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79" name="Picture 7" descr="37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62720" y="2590920"/>
            <a:ext cx="2971800" cy="3429000"/>
          </a:xfrm>
          <a:prstGeom prst="rect">
            <a:avLst/>
          </a:prstGeom>
          <a:ln w="0">
            <a:noFill/>
          </a:ln>
        </p:spPr>
      </p:pic>
      <p:sp>
        <p:nvSpPr>
          <p:cNvPr id="180" name="AutoShape 8"/>
          <p:cNvSpPr/>
          <p:nvPr/>
        </p:nvSpPr>
        <p:spPr>
          <a:xfrm>
            <a:off x="8458200" y="6248520"/>
            <a:ext cx="685800" cy="609480"/>
          </a:xfrm>
          <a:custGeom>
            <a:avLst/>
            <a:gdLst>
              <a:gd name="textAreaLeft" fmla="*/ 37800 w 685800"/>
              <a:gd name="textAreaRight" fmla="*/ 648000 w 685800"/>
              <a:gd name="textAreaTop" fmla="*/ 37800 h 609480"/>
              <a:gd name="textAreaBottom" fmla="*/ 57168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53" y="1350"/>
                </a:lnTo>
                <a:lnTo>
                  <a:pt x="1350" y="135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53" y="20250"/>
                </a:lnTo>
                <a:lnTo>
                  <a:pt x="22953" y="135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2953" y="2025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4303" h="21600">
                <a:moveTo>
                  <a:pt x="12152" y="3800"/>
                </a:moveTo>
                <a:lnTo>
                  <a:pt x="14742" y="6425"/>
                </a:lnTo>
                <a:lnTo>
                  <a:pt x="14742" y="4675"/>
                </a:lnTo>
                <a:lnTo>
                  <a:pt x="16527" y="4675"/>
                </a:lnTo>
                <a:lnTo>
                  <a:pt x="16527" y="8210"/>
                </a:lnTo>
                <a:lnTo>
                  <a:pt x="19152" y="10800"/>
                </a:lnTo>
                <a:lnTo>
                  <a:pt x="17489" y="10800"/>
                </a:lnTo>
                <a:lnTo>
                  <a:pt x="17489" y="18028"/>
                </a:lnTo>
                <a:lnTo>
                  <a:pt x="6814" y="18028"/>
                </a:lnTo>
                <a:lnTo>
                  <a:pt x="6814" y="10800"/>
                </a:lnTo>
                <a:lnTo>
                  <a:pt x="5152" y="10800"/>
                </a:lnTo>
                <a:close/>
              </a:path>
              <a:path fill="darkenLess" w="24303" h="21600">
                <a:moveTo>
                  <a:pt x="14742" y="6425"/>
                </a:moveTo>
                <a:lnTo>
                  <a:pt x="14742" y="4675"/>
                </a:lnTo>
                <a:lnTo>
                  <a:pt x="16527" y="4675"/>
                </a:lnTo>
                <a:lnTo>
                  <a:pt x="16527" y="8210"/>
                </a:lnTo>
                <a:close/>
              </a:path>
              <a:path fill="darkenLess" w="24303" h="21600">
                <a:moveTo>
                  <a:pt x="11224" y="14318"/>
                </a:moveTo>
                <a:lnTo>
                  <a:pt x="13079" y="14318"/>
                </a:lnTo>
                <a:lnTo>
                  <a:pt x="13079" y="18028"/>
                </a:lnTo>
                <a:lnTo>
                  <a:pt x="17489" y="18028"/>
                </a:lnTo>
                <a:lnTo>
                  <a:pt x="17489" y="10800"/>
                </a:lnTo>
                <a:lnTo>
                  <a:pt x="6814" y="10800"/>
                </a:lnTo>
                <a:lnTo>
                  <a:pt x="6814" y="18028"/>
                </a:lnTo>
                <a:lnTo>
                  <a:pt x="11224" y="18028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cap="rnd" w="3240">
            <a:solidFill>
              <a:srgbClr val="ff99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1" name="WordArt 11"/>
          <p:cNvSpPr txBox="1"/>
          <p:nvPr/>
        </p:nvSpPr>
        <p:spPr>
          <a:xfrm>
            <a:off x="1258920" y="333360"/>
            <a:ext cx="18288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584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宋体"/>
              </a:rPr>
              <a:t>教师寄语</a:t>
            </a:r>
            <a:endParaRPr b="0" lang="en-US" sz="1800" spc="1" strike="noStrike">
              <a:ln w="15840">
                <a:solidFill>
                  <a:srgbClr val="ff00ff"/>
                </a:solidFill>
                <a:miter/>
              </a:ln>
              <a:solidFill>
                <a:srgbClr val="ff00ff"/>
              </a:solidFill>
              <a:effectLst>
                <a:outerShdw dist="53966" dir="2700000" blurRad="0" rotWithShape="0">
                  <a:srgbClr val="9999ff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2" name="Text Box 12"/>
          <p:cNvSpPr/>
          <p:nvPr/>
        </p:nvSpPr>
        <p:spPr>
          <a:xfrm>
            <a:off x="468360" y="2276640"/>
            <a:ext cx="54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0" lang="zh-CN" sz="6000" spc="-1" strike="noStrike">
                <a:solidFill>
                  <a:srgbClr val="ff3300"/>
                </a:solidFill>
                <a:latin typeface="Arial"/>
              </a:rPr>
              <a:t>祝愿每位同学都能成为生活的强者</a:t>
            </a:r>
            <a:r>
              <a:rPr b="0" lang="en-US" sz="6000" spc="-1" strike="noStrike">
                <a:solidFill>
                  <a:srgbClr val="ff3300"/>
                </a:solidFill>
                <a:latin typeface="Arial"/>
              </a:rPr>
              <a:t>!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使用规范说明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ahoma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Tahoma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ahoma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ahoma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ahoma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ahoma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ahoma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ahoma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cc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Object 2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3564000" y="0"/>
            <a:ext cx="532764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BK149"/>
          <p:cNvPicPr/>
          <p:nvPr/>
        </p:nvPicPr>
        <p:blipFill>
          <a:blip r:embed="rId3"/>
          <a:stretch/>
        </p:blipFill>
        <p:spPr>
          <a:xfrm>
            <a:off x="0" y="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BK149"/>
          <p:cNvPicPr/>
          <p:nvPr/>
        </p:nvPicPr>
        <p:blipFill>
          <a:blip r:embed="rId4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BK149"/>
          <p:cNvPicPr/>
          <p:nvPr/>
        </p:nvPicPr>
        <p:blipFill>
          <a:blip r:embed="rId5"/>
          <a:stretch/>
        </p:blipFill>
        <p:spPr>
          <a:xfrm>
            <a:off x="0" y="0"/>
            <a:ext cx="30492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BK149"/>
          <p:cNvPicPr/>
          <p:nvPr/>
        </p:nvPicPr>
        <p:blipFill>
          <a:blip r:embed="rId6"/>
          <a:stretch/>
        </p:blipFill>
        <p:spPr>
          <a:xfrm>
            <a:off x="8839080" y="0"/>
            <a:ext cx="30492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7"/>
          <p:cNvSpPr/>
          <p:nvPr/>
        </p:nvSpPr>
        <p:spPr>
          <a:xfrm>
            <a:off x="1403280" y="333360"/>
            <a:ext cx="8636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Arial"/>
                <a:ea typeface="黑体"/>
              </a:rPr>
              <a:t>海伦凯勒油画像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c00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3"/>
          <p:cNvSpPr/>
          <p:nvPr/>
        </p:nvSpPr>
        <p:spPr>
          <a:xfrm>
            <a:off x="4419720" y="0"/>
            <a:ext cx="50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仿宋"/>
                <a:ea typeface="华文仿宋"/>
              </a:rPr>
              <a:t>海伦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华文仿宋"/>
              </a:rPr>
              <a:t>·</a:t>
            </a:r>
            <a:r>
              <a:rPr b="1" lang="zh-CN" sz="3200" spc="-1" strike="noStrike">
                <a:solidFill>
                  <a:srgbClr val="ff3300"/>
                </a:solidFill>
                <a:latin typeface="华文仿宋"/>
                <a:ea typeface="华文仿宋"/>
              </a:rPr>
              <a:t>凯勒</a:t>
            </a:r>
            <a:r>
              <a:rPr b="1" lang="en-US" sz="3200" spc="-1" strike="noStrike">
                <a:solidFill>
                  <a:srgbClr val="ff3300"/>
                </a:solidFill>
                <a:latin typeface="华文仿宋"/>
                <a:ea typeface="华文仿宋"/>
              </a:rPr>
              <a:t>(1880--1968)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4343400" y="533520"/>
            <a:ext cx="480060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美国著名女作家、教育家、社会活动家。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她生于亚拉巴马州，在波士顿柏金斯盲人学校莎莉文老师的协助下，学会了阅读、写作，还学会了说话，上了大学，并且成为著名的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教育家和社会活动家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中宋"/>
                <a:ea typeface="华文中宋"/>
              </a:rPr>
              <a:t>主要著作</a:t>
            </a:r>
            <a:r>
              <a:rPr b="1" lang="en-US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:</a:t>
            </a:r>
            <a:r>
              <a:rPr b="1" lang="en-US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《</a:t>
            </a:r>
            <a:r>
              <a:rPr b="1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我生活的故事</a:t>
            </a:r>
            <a:r>
              <a:rPr b="1" lang="en-US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《</a:t>
            </a:r>
            <a:r>
              <a:rPr b="1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愿我们充满信心</a:t>
            </a:r>
            <a:r>
              <a:rPr b="1" lang="en-US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》《</a:t>
            </a:r>
            <a:r>
              <a:rPr b="1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从黑暗中出来</a:t>
            </a:r>
            <a:r>
              <a:rPr b="1" lang="en-US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》《</a:t>
            </a:r>
            <a:r>
              <a:rPr b="1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我的后半生</a:t>
            </a:r>
            <a:r>
              <a:rPr b="1" lang="en-US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》</a:t>
            </a:r>
            <a:r>
              <a:rPr b="1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33cc"/>
                </a:solidFill>
                <a:latin typeface="华文中宋"/>
                <a:ea typeface="华文中宋"/>
              </a:rPr>
              <a:t>美国著名作家马克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·</a:t>
            </a:r>
            <a:r>
              <a:rPr b="1" lang="zh-CN" sz="2800" spc="-1" strike="noStrike">
                <a:solidFill>
                  <a:srgbClr val="0033cc"/>
                </a:solidFill>
                <a:latin typeface="华文中宋"/>
                <a:ea typeface="华文中宋"/>
              </a:rPr>
              <a:t>吐温说，十九世纪出了两个杰出的人物：</a:t>
            </a:r>
            <a:r>
              <a:rPr b="1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一个是拿破仑；一个是海伦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·</a:t>
            </a:r>
            <a:r>
              <a:rPr b="1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凯勒</a:t>
            </a:r>
            <a:r>
              <a:rPr b="1" lang="zh-CN" sz="2400" spc="-1" strike="noStrike">
                <a:solidFill>
                  <a:srgbClr val="ff3300"/>
                </a:solidFill>
                <a:latin typeface="华文中宋"/>
                <a:ea typeface="华文中宋"/>
              </a:rPr>
              <a:t>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0" name="Picture 5" descr="4797"/>
          <p:cNvPicPr/>
          <p:nvPr/>
        </p:nvPicPr>
        <p:blipFill>
          <a:blip r:embed="rId1"/>
          <a:stretch/>
        </p:blipFill>
        <p:spPr>
          <a:xfrm>
            <a:off x="-533520" y="0"/>
            <a:ext cx="4859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3"/>
          <p:cNvSpPr/>
          <p:nvPr/>
        </p:nvSpPr>
        <p:spPr>
          <a:xfrm>
            <a:off x="4140360" y="260280"/>
            <a:ext cx="4800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她出生后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19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个月，就丧失了视力和听力，而且变成哑巴。在莎莉文老师协助下，海伦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岁时，学会了说话，后来在剑桥女校求学。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1900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年读大学，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1904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年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月，以优异成绩从大学毕业，并和莎莉文老师合作撰写自传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我的一生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。此书一出，轰动文坛，她的故事不但感动和激励着千百万残疾人，也使无数的正常人为之震憾，使他们重新思考生命的意义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 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2" name="Picture 5" descr="helen-keller"/>
          <p:cNvPicPr/>
          <p:nvPr/>
        </p:nvPicPr>
        <p:blipFill>
          <a:blip r:embed="rId2"/>
          <a:stretch/>
        </p:blipFill>
        <p:spPr>
          <a:xfrm>
            <a:off x="0" y="260280"/>
            <a:ext cx="425916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3"/>
          <p:cNvSpPr/>
          <p:nvPr/>
        </p:nvSpPr>
        <p:spPr>
          <a:xfrm>
            <a:off x="4343400" y="620640"/>
            <a:ext cx="4800600" cy="16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她参加各种社会活动，经常来回演讲，写了数本书。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1927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年，她开始为美国盲人基金会募捐，致力于盲人事业，出版了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我的宗教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一书。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1930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年出版第二本自传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中流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。她被人们称为美国女英雄。海伦说：“我要把别人眼睛所看见的光明当作我的光明，别人耳朵听见的音乐当成我的交响乐，别人嘴角的微笑当作我的幸福。”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4" name="Picture 4" descr="4797"/>
          <p:cNvPicPr/>
          <p:nvPr/>
        </p:nvPicPr>
        <p:blipFill>
          <a:blip r:embed="rId2"/>
          <a:stretch/>
        </p:blipFill>
        <p:spPr>
          <a:xfrm>
            <a:off x="-541440" y="0"/>
            <a:ext cx="4859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4067280" y="0"/>
            <a:ext cx="50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一个</a:t>
            </a:r>
            <a:r>
              <a:rPr b="1" lang="en-US" sz="2800" spc="-1" strike="noStrike">
                <a:solidFill>
                  <a:srgbClr val="0033cc"/>
                </a:solidFill>
                <a:latin typeface="黑体"/>
                <a:ea typeface="黑体"/>
              </a:rPr>
              <a:t>19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个月就失聪失明，生活在无声无语无光的世界里，连爸爸妈妈都不认识的孩子，她坠入了一个黑暗而沉寂的世界，陷入了痛苦的深渊，几乎丧失了生活的能力和勇气。但她顽强地生活了下来，考进了著名大学，长大后又成为一名作家，用自己的生花妙笔，激励别人生存的勇气。这一奇迹的创造，当然与她自身的努力分不开，但在那段困难的日子里，走出心灵的障碍，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重新塑造生命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，却不能不归功于一位伟大的女性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她的老师莎利文女士。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4343400" y="533520"/>
            <a:ext cx="48006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宋体"/>
              </a:rPr>
              <a:t>    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7" name="Picture 4" descr="4797"/>
          <p:cNvPicPr/>
          <p:nvPr/>
        </p:nvPicPr>
        <p:blipFill>
          <a:blip r:embed="rId2"/>
          <a:stretch/>
        </p:blipFill>
        <p:spPr>
          <a:xfrm>
            <a:off x="-612720" y="0"/>
            <a:ext cx="472608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762120" y="1905120"/>
            <a:ext cx="77724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识记重点字词，掌握课文内容、思路及作者的思想感情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探讨海伦再塑生命成功的原因及其对我们的启示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探讨课文题目的含义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让心灵接受一次“爱”的教育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4572000" y="457200"/>
            <a:ext cx="3581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WordArt 7"/>
          <p:cNvSpPr txBox="1"/>
          <p:nvPr/>
        </p:nvSpPr>
        <p:spPr>
          <a:xfrm rot="21468000">
            <a:off x="762120" y="685800"/>
            <a:ext cx="2743200" cy="6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7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33cc"/>
                  </a:solidFill>
                  <a:miter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学习目标</a:t>
            </a:r>
            <a:endParaRPr b="0" lang="en-US" sz="1800" spc="1" strike="noStrike">
              <a:ln w="19080">
                <a:solidFill>
                  <a:srgbClr val="ff33cc"/>
                </a:solidFill>
                <a:miter/>
              </a:ln>
              <a:solidFill>
                <a:srgbClr val="ff00ff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11" name="Picture 10" descr="000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77120" y="3733920"/>
            <a:ext cx="2286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395280" y="1268280"/>
            <a:ext cx="8136000" cy="4968360"/>
          </a:xfrm>
          <a:prstGeom prst="rect">
            <a:avLst/>
          </a:prstGeom>
          <a:solidFill>
            <a:srgbClr val="ccec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 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搓捻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（          ）繁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衍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（      ）   迁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徙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（      ） 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觅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食（      ）  小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憩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（       ） 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遨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游</a:t>
            </a:r>
            <a:r>
              <a:rPr b="1" lang="en-US" sz="3200" spc="-1" strike="noStrike">
                <a:solidFill>
                  <a:srgbClr val="0033cc"/>
                </a:solidFill>
                <a:latin typeface="宋体"/>
              </a:rPr>
              <a:t>(     )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 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花团锦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簇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（       ）  冥思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遐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想（        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企盼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:            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美不胜收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:       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不可名状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:  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期期艾艾 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:     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油然而生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:       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风云突变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539640" y="620640"/>
            <a:ext cx="61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字音词义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2967120" y="1058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1692360" y="134136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Cuōniǎn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356000" y="119700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yǎn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7164360" y="119700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xǐ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1763640" y="170028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mì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4284720" y="170028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qì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Text Box 13"/>
          <p:cNvSpPr/>
          <p:nvPr/>
        </p:nvSpPr>
        <p:spPr>
          <a:xfrm>
            <a:off x="7093080" y="177336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宋体"/>
                <a:ea typeface="黑体"/>
              </a:rPr>
              <a:t>á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o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2556000" y="2205000"/>
            <a:ext cx="93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cù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Text Box 15"/>
          <p:cNvSpPr/>
          <p:nvPr/>
        </p:nvSpPr>
        <p:spPr>
          <a:xfrm>
            <a:off x="6012000" y="220500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xi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  <a:ea typeface="黑体"/>
              </a:rPr>
              <a:t>á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3" name="Text Box 16"/>
          <p:cNvSpPr/>
          <p:nvPr/>
        </p:nvSpPr>
        <p:spPr>
          <a:xfrm>
            <a:off x="1476360" y="328464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盼望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" name="Text Box 17"/>
          <p:cNvSpPr/>
          <p:nvPr/>
        </p:nvSpPr>
        <p:spPr>
          <a:xfrm>
            <a:off x="3646440" y="3716280"/>
            <a:ext cx="390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美好的东西太多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一时接受不完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看不过来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" name="Text Box 18"/>
          <p:cNvSpPr/>
          <p:nvPr/>
        </p:nvSpPr>
        <p:spPr>
          <a:xfrm>
            <a:off x="4626720" y="4119480"/>
            <a:ext cx="88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不能够用语言形容。名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说出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" name="Text Box 19"/>
          <p:cNvSpPr/>
          <p:nvPr/>
        </p:nvSpPr>
        <p:spPr>
          <a:xfrm>
            <a:off x="2411280" y="4653000"/>
            <a:ext cx="19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形容口吃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" name="Text Box 20"/>
          <p:cNvSpPr/>
          <p:nvPr/>
        </p:nvSpPr>
        <p:spPr>
          <a:xfrm>
            <a:off x="2195640" y="515772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形容思想感情自然而然地产生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" name="Text Box 21"/>
          <p:cNvSpPr/>
          <p:nvPr/>
        </p:nvSpPr>
        <p:spPr>
          <a:xfrm>
            <a:off x="4932360" y="765000"/>
            <a:ext cx="8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" name="Text Box 23"/>
          <p:cNvSpPr/>
          <p:nvPr/>
        </p:nvSpPr>
        <p:spPr>
          <a:xfrm>
            <a:off x="2268360" y="5589720"/>
            <a:ext cx="50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比喻变换动荡的局势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" name="Text Box 25"/>
          <p:cNvSpPr/>
          <p:nvPr/>
        </p:nvSpPr>
        <p:spPr>
          <a:xfrm>
            <a:off x="3646440" y="3716280"/>
            <a:ext cx="390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美好的东西太多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一时接受不完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看不过来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1" name="Text Box 27"/>
          <p:cNvSpPr/>
          <p:nvPr/>
        </p:nvSpPr>
        <p:spPr>
          <a:xfrm>
            <a:off x="2411280" y="4653000"/>
            <a:ext cx="19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形容口吃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2" name="Text Box 28"/>
          <p:cNvSpPr/>
          <p:nvPr/>
        </p:nvSpPr>
        <p:spPr>
          <a:xfrm>
            <a:off x="2195640" y="515772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形容思想感情自然而然地产生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3" name="Text Box 29"/>
          <p:cNvSpPr/>
          <p:nvPr/>
        </p:nvSpPr>
        <p:spPr>
          <a:xfrm>
            <a:off x="2268360" y="5589720"/>
            <a:ext cx="50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比喻变换动荡的局势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4" name="Text Box 33"/>
          <p:cNvSpPr/>
          <p:nvPr/>
        </p:nvSpPr>
        <p:spPr>
          <a:xfrm>
            <a:off x="3646440" y="3716280"/>
            <a:ext cx="390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美好的东西太多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一时接受不完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看不过来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5" name="Text Box 35"/>
          <p:cNvSpPr/>
          <p:nvPr/>
        </p:nvSpPr>
        <p:spPr>
          <a:xfrm>
            <a:off x="2411280" y="4653000"/>
            <a:ext cx="19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形容口吃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6" name="Text Box 36"/>
          <p:cNvSpPr/>
          <p:nvPr/>
        </p:nvSpPr>
        <p:spPr>
          <a:xfrm>
            <a:off x="2195640" y="515772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形容思想感情自然而然地产生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7" name="Text Box 37"/>
          <p:cNvSpPr/>
          <p:nvPr/>
        </p:nvSpPr>
        <p:spPr>
          <a:xfrm>
            <a:off x="2268360" y="5589720"/>
            <a:ext cx="50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比喻变换动荡的局势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026"/>
          <p:cNvSpPr/>
          <p:nvPr/>
        </p:nvSpPr>
        <p:spPr>
          <a:xfrm>
            <a:off x="3124080" y="-762120"/>
            <a:ext cx="601848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黑体"/>
              </a:rPr>
              <a:t>1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黑体"/>
              </a:rPr>
              <a:t>、看看文章里主要写了哪几件事。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黑体"/>
              </a:rPr>
              <a:t>2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黑体"/>
              </a:rPr>
              <a:t>、这几件事表现了作者怎样的生活经历？表达了作者怎样的感情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" name="Rectangle 1027"/>
          <p:cNvSpPr/>
          <p:nvPr/>
        </p:nvSpPr>
        <p:spPr>
          <a:xfrm>
            <a:off x="468360" y="2133720"/>
            <a:ext cx="571500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、写了三件事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）莎莉文老师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教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我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认识具体事物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doll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、</a:t>
            </a: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water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、</a:t>
            </a: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cup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等）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）莎莉文老师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教我走进大自然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（慈爱可亲、危险恐怖等）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）莎莉文老师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教我认识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爱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这种抽象事物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40" name="Picture 1037" descr="36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248520" y="2666880"/>
            <a:ext cx="2894040" cy="3565800"/>
          </a:xfrm>
          <a:prstGeom prst="rect">
            <a:avLst/>
          </a:prstGeom>
          <a:ln w="0">
            <a:noFill/>
          </a:ln>
        </p:spPr>
      </p:pic>
      <p:sp>
        <p:nvSpPr>
          <p:cNvPr id="141" name="WordArt 1038"/>
          <p:cNvSpPr txBox="1"/>
          <p:nvPr/>
        </p:nvSpPr>
        <p:spPr>
          <a:xfrm rot="20357400">
            <a:off x="380520" y="685440"/>
            <a:ext cx="21751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2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22320">
                  <a:solidFill>
                    <a:srgbClr val="99cc00"/>
                  </a:solidFill>
                  <a:miter/>
                </a:ln>
                <a:solidFill>
                  <a:srgbClr val="993300"/>
                </a:solidFill>
                <a:latin typeface="宋体"/>
              </a:rPr>
              <a:t>感知内容</a:t>
            </a:r>
            <a:endParaRPr b="0" lang="en-US" sz="1800" spc="1" strike="noStrike">
              <a:ln w="22320">
                <a:solidFill>
                  <a:srgbClr val="99cc00"/>
                </a:solidFill>
                <a:miter/>
              </a:ln>
              <a:solidFill>
                <a:srgbClr val="993300"/>
              </a:solidFill>
              <a:latin typeface="宋体"/>
              <a:ea typeface="宋体"/>
            </a:endParaRPr>
          </a:p>
        </p:txBody>
      </p:sp>
      <p:sp>
        <p:nvSpPr>
          <p:cNvPr id="142" name="AutoShape 1039"/>
          <p:cNvSpPr/>
          <p:nvPr/>
        </p:nvSpPr>
        <p:spPr>
          <a:xfrm>
            <a:off x="8534520" y="6477120"/>
            <a:ext cx="609480" cy="380880"/>
          </a:xfrm>
          <a:custGeom>
            <a:avLst/>
            <a:gdLst>
              <a:gd name="textAreaLeft" fmla="*/ 23760 w 609480"/>
              <a:gd name="textAreaRight" fmla="*/ 585720 w 609480"/>
              <a:gd name="textAreaTop" fmla="*/ 23760 h 380880"/>
              <a:gd name="textAreaBottom" fmla="*/ 35712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202" y="1350"/>
                </a:lnTo>
                <a:lnTo>
                  <a:pt x="1350" y="135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202" y="20250"/>
                </a:lnTo>
                <a:lnTo>
                  <a:pt x="33202" y="135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3202" y="2025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4552" h="21600">
                <a:moveTo>
                  <a:pt x="17276" y="3800"/>
                </a:moveTo>
                <a:lnTo>
                  <a:pt x="19866" y="6425"/>
                </a:lnTo>
                <a:lnTo>
                  <a:pt x="19866" y="4675"/>
                </a:lnTo>
                <a:lnTo>
                  <a:pt x="21651" y="4675"/>
                </a:lnTo>
                <a:lnTo>
                  <a:pt x="21651" y="8210"/>
                </a:lnTo>
                <a:lnTo>
                  <a:pt x="24276" y="10800"/>
                </a:lnTo>
                <a:lnTo>
                  <a:pt x="22613" y="10800"/>
                </a:lnTo>
                <a:lnTo>
                  <a:pt x="22613" y="18028"/>
                </a:lnTo>
                <a:lnTo>
                  <a:pt x="11938" y="18028"/>
                </a:lnTo>
                <a:lnTo>
                  <a:pt x="11938" y="10800"/>
                </a:lnTo>
                <a:lnTo>
                  <a:pt x="10276" y="10800"/>
                </a:lnTo>
                <a:close/>
              </a:path>
              <a:path fill="darkenLess" w="34552" h="21600">
                <a:moveTo>
                  <a:pt x="19866" y="6425"/>
                </a:moveTo>
                <a:lnTo>
                  <a:pt x="19866" y="4675"/>
                </a:lnTo>
                <a:lnTo>
                  <a:pt x="21651" y="4675"/>
                </a:lnTo>
                <a:lnTo>
                  <a:pt x="21651" y="8210"/>
                </a:lnTo>
                <a:close/>
              </a:path>
              <a:path fill="darkenLess" w="34552" h="21600">
                <a:moveTo>
                  <a:pt x="16348" y="14318"/>
                </a:moveTo>
                <a:lnTo>
                  <a:pt x="18203" y="14318"/>
                </a:lnTo>
                <a:lnTo>
                  <a:pt x="18203" y="18028"/>
                </a:lnTo>
                <a:lnTo>
                  <a:pt x="22613" y="18028"/>
                </a:lnTo>
                <a:lnTo>
                  <a:pt x="22613" y="10800"/>
                </a:lnTo>
                <a:lnTo>
                  <a:pt x="11938" y="10800"/>
                </a:lnTo>
                <a:lnTo>
                  <a:pt x="11938" y="18028"/>
                </a:lnTo>
                <a:lnTo>
                  <a:pt x="16348" y="18028"/>
                </a:lnTo>
                <a:close/>
              </a:path>
            </a:pathLst>
          </a:custGeom>
          <a:solidFill>
            <a:srgbClr val="ccffff"/>
          </a:solidFill>
          <a:ln cap="rnd" w="3240">
            <a:solidFill>
              <a:srgbClr val="ffff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28720" y="4510080"/>
            <a:ext cx="7334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0066"/>
                </a:solidFill>
                <a:uFillTx/>
                <a:latin typeface="Arial"/>
                <a:hlinkClick r:id="rId4"/>
              </a:rPr>
              <a:t>ppt课件模板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5T02:13:52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7:55:21Z</dcterms:modified>
  <cp:revision>14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