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50D-C75F-4A25-BC5E-87F52E6E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F29-74D2-429F-BC21-FE8FF4CF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A6B-5409-4896-84A9-C8B28F8C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E1A-973B-4B3A-95EC-D2CEBA20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5EF3-25E5-4BC5-A7CF-D8954EB1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06EC-568A-4402-BE2E-8DC93147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D4CD-4E5F-4774-BFC2-70A83044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8813-659A-4921-BCBA-031187EF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EB5-909A-47A7-93D5-688C8B1C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C1D7-E714-467D-B03F-7F59D6D2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F7A3-1F70-407B-A6D1-B04F6AD5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227-8C13-4D9B-98E9-1D1F5835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9B60-3610-4590-9E45-AA4C5BC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F4FB-D4A0-40D2-B2D1-3EBFD9DC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1C07-36BB-4C14-AF8C-05A15FFE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094F-F0EF-417D-8C31-E9D9FE42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2A08-5A04-4F7D-A399-540A7D9F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0FF-335E-48D2-B03B-C05F328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CFA-4E8D-4AC4-9967-1B3C50EE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8F5-D0B7-476C-BEFD-19C2B93A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44B-0003-4DB6-A092-FF2293B0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844-23A6-4E84-91CC-9D00DED3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ECE-352A-4153-B306-F3D93F8B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AC0-79D1-4F86-99A5-0B5A47A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0A0B-F149-44ED-A378-B92B40782FB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非凡图库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ffp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A5A0-523C-4B29-BE64-1CDE51C0AB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9200" indent="-23832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A012-05DC-4141-9139-CD3EA29B6ECD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8B4B-F8ED-4E4D-808C-46D27AA3352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jianl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9280" y="3257640"/>
            <a:ext cx="5113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自我介绍</a:t>
            </a:r>
            <a:r>
              <a:rPr b="0" lang="en-US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250920" y="4049640"/>
            <a:ext cx="542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竞聘，会议及相关类别的幻灯片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012000" y="4649760"/>
            <a:ext cx="649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840" y="179280"/>
            <a:ext cx="1428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lidan\Desktop\1.png"/>
          <p:cNvPicPr/>
          <p:nvPr/>
        </p:nvPicPr>
        <p:blipFill>
          <a:blip r:embed="rId2"/>
          <a:stretch/>
        </p:blipFill>
        <p:spPr>
          <a:xfrm>
            <a:off x="1785960" y="157176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429000" y="16430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lidan\Desktop\1.png"/>
          <p:cNvPicPr/>
          <p:nvPr/>
        </p:nvPicPr>
        <p:blipFill>
          <a:blip r:embed="rId3"/>
          <a:stretch/>
        </p:blipFill>
        <p:spPr>
          <a:xfrm>
            <a:off x="1785960" y="228600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lidan\Desktop\1.png"/>
          <p:cNvPicPr/>
          <p:nvPr/>
        </p:nvPicPr>
        <p:blipFill>
          <a:blip r:embed="rId4"/>
          <a:stretch/>
        </p:blipFill>
        <p:spPr>
          <a:xfrm>
            <a:off x="1785960" y="303228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lidan\Desktop\1.png"/>
          <p:cNvPicPr/>
          <p:nvPr/>
        </p:nvPicPr>
        <p:blipFill>
          <a:blip r:embed="rId5"/>
          <a:stretch/>
        </p:blipFill>
        <p:spPr>
          <a:xfrm>
            <a:off x="1785960" y="378000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3429000" y="234468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429000" y="308772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3429000" y="384480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-425160" y="173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56800" y="857160"/>
            <a:ext cx="67150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本人刘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，性别男，汉族人，于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1979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日出生在柳州市的一个干部小家庭。系湖南商学院信息工程与信息管理系九八级自考班的学生，现担任本系自考部的团总支书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iciency in AutoCAD drawing software, Pro / E software, Photoshop software, to use word, excel and software to operate independently and in a timely and efficient comple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5877000"/>
            <a:ext cx="69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jian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-631080" y="17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7" descr="2476235_231918247241_2.jpg"/>
          <p:cNvPicPr/>
          <p:nvPr/>
        </p:nvPicPr>
        <p:blipFill>
          <a:blip r:embed="rId2"/>
          <a:stretch/>
        </p:blipFill>
        <p:spPr>
          <a:xfrm>
            <a:off x="4071960" y="1357200"/>
            <a:ext cx="3771720" cy="2828880"/>
          </a:xfrm>
          <a:prstGeom prst="rect">
            <a:avLst/>
          </a:prstGeom>
          <a:ln cap="sq" w="88920">
            <a:solidFill>
              <a:srgbClr val="ffffff"/>
            </a:solidFill>
            <a:bevel/>
          </a:ln>
        </p:spPr>
      </p:pic>
      <p:pic>
        <p:nvPicPr>
          <p:cNvPr id="99" name="Picture 2" descr="C:\Users\lidan\Desktop\未标题-3.png"/>
          <p:cNvPicPr/>
          <p:nvPr/>
        </p:nvPicPr>
        <p:blipFill>
          <a:blip r:embed="rId3"/>
          <a:stretch/>
        </p:blipFill>
        <p:spPr>
          <a:xfrm>
            <a:off x="217440" y="1084320"/>
            <a:ext cx="4105440" cy="6429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0"/>
          <p:cNvSpPr/>
          <p:nvPr/>
        </p:nvSpPr>
        <p:spPr>
          <a:xfrm>
            <a:off x="46800" y="1084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65160" y="-792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副标题 2"/>
          <p:cNvSpPr/>
          <p:nvPr/>
        </p:nvSpPr>
        <p:spPr>
          <a:xfrm>
            <a:off x="157320" y="3429000"/>
            <a:ext cx="3985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E ENG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387360" y="0"/>
            <a:ext cx="7429320" cy="5714640"/>
            <a:chOff x="387360" y="0"/>
            <a:chExt cx="7429320" cy="5714640"/>
          </a:xfrm>
        </p:grpSpPr>
        <p:sp>
          <p:nvSpPr>
            <p:cNvPr id="104" name="矩形 4"/>
            <p:cNvSpPr/>
            <p:nvPr/>
          </p:nvSpPr>
          <p:spPr>
            <a:xfrm>
              <a:off x="387360" y="0"/>
              <a:ext cx="7428600" cy="59652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45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2359800" y="2964960"/>
              <a:ext cx="388908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37:00Z</dcterms:created>
  <dc:creator>lidan</dc:creator>
  <dc:description/>
  <dc:language>en-US</dc:language>
  <cp:lastModifiedBy>a</cp:lastModifiedBy>
  <dcterms:modified xsi:type="dcterms:W3CDTF">2015-05-20T08:00:57Z</dcterms:modified>
  <cp:revision>34</cp:revision>
  <dc:subject/>
  <dc:title>自我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