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AF3-1B87-4480-8181-D23712B6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3A0F-F69F-4828-829D-7D96BCC5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DBDA-D238-437C-B527-13FF219B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D6D7-4494-4817-96DA-783AABEB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0A01-BEEF-4CF3-813D-27017BE8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A54-AFD5-4155-8D4D-F376F823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B81-E73A-4249-961C-16A587AD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352A-07C3-4B1B-A204-7A25FB9E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684A-C0D6-4905-8B0C-BDCB85D6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32B8-4DC5-4146-BAB7-0F824D8F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8AA-1203-45FB-B507-4A996C6A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D35A-5271-40CA-BC1A-FEA73876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40A6-3E8C-40A6-9EAF-DF336DE25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60/" TargetMode="External"/><Relationship Id="rId7" Type="http://schemas.openxmlformats.org/officeDocument/2006/relationships/hyperlink" Target="http://www.1ppt.com/kejian/yuwen/161/" TargetMode="External"/><Relationship Id="rId8" Type="http://schemas.openxmlformats.org/officeDocument/2006/relationships/hyperlink" Target="http://www.1ppt.com/kejian/yuwen/162/" TargetMode="External"/><Relationship Id="rId9" Type="http://schemas.openxmlformats.org/officeDocument/2006/relationships/hyperlink" Target="http://www.1ppt.com/kejian/yuwen/163/" TargetMode="External"/><Relationship Id="rId10" Type="http://schemas.openxmlformats.org/officeDocument/2006/relationships/hyperlink" Target="http://www.1ppt.com/kejian/yuwen/164/" TargetMode="External"/><Relationship Id="rId11" Type="http://schemas.openxmlformats.org/officeDocument/2006/relationships/hyperlink" Target="http://www.1ppt.com/kejian/yuwen/165/" TargetMode="External"/><Relationship Id="rId12" Type="http://schemas.openxmlformats.org/officeDocument/2006/relationships/hyperlink" Target="http://www.1ppt.com/" TargetMode="External"/><Relationship Id="rId13" Type="http://schemas.openxmlformats.org/officeDocument/2006/relationships/hyperlink" Target="http://www.1ppt.com/kejian/yuwen/166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kejian/yuwen/167/" TargetMode="External"/><Relationship Id="rId16" Type="http://schemas.openxmlformats.org/officeDocument/2006/relationships/image" Target="../media/image2.jpeg"/><Relationship Id="rId17" Type="http://schemas.openxmlformats.org/officeDocument/2006/relationships/hyperlink" Target="http://www.eeppt.com/moban/kejian/" TargetMode="External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9360" y="12600"/>
            <a:ext cx="8100720" cy="6813360"/>
            <a:chOff x="9360" y="12600"/>
            <a:chExt cx="8100720" cy="6813360"/>
          </a:xfrm>
        </p:grpSpPr>
        <p:pic>
          <p:nvPicPr>
            <p:cNvPr id="42" name="Picture 2" descr="pic_11081"/>
            <p:cNvPicPr/>
            <p:nvPr/>
          </p:nvPicPr>
          <p:blipFill>
            <a:blip r:embed="rId1"/>
            <a:stretch/>
          </p:blipFill>
          <p:spPr>
            <a:xfrm>
              <a:off x="9360" y="12600"/>
              <a:ext cx="5228640" cy="68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5248440" y="639000"/>
              <a:ext cx="2861640" cy="50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66ff"/>
                  </a:solidFill>
                  <a:latin typeface="Times New Roman"/>
                </a:rPr>
                <a:t>赠  汪  伦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5641920" y="3536640"/>
              <a:ext cx="1155240" cy="156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李    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PM_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4038480" y="1447920"/>
            <a:ext cx="457200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业：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（任选项两题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有感情朗读、背诵古诗，并练习默写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把李白和汪伦的故事讲给家人听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课外学习一首朋友依依惜别的诗或文章，抽时间与同学交流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028"/>
          <p:cNvGrpSpPr/>
          <p:nvPr/>
        </p:nvGrpSpPr>
        <p:grpSpPr>
          <a:xfrm>
            <a:off x="533520" y="380880"/>
            <a:ext cx="8229600" cy="1808280"/>
            <a:chOff x="533520" y="380880"/>
            <a:chExt cx="8229600" cy="1808280"/>
          </a:xfrm>
        </p:grpSpPr>
        <p:sp>
          <p:nvSpPr>
            <p:cNvPr id="47" name="Text Box 1026"/>
            <p:cNvSpPr/>
            <p:nvPr/>
          </p:nvSpPr>
          <p:spPr>
            <a:xfrm>
              <a:off x="533520" y="685800"/>
              <a:ext cx="8229600" cy="15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李白一生既喜欢做诗，也很喜欢喝酒和游历名川大山，汪伦非常仰慕他的才华，很想与他结为朋友。于是就写了一封信托人带给李白，上面写道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先生，您喜欢游览吗？这里有十里桃花；您喜欢喝酒吗？这里有万家酒店。“李白一看，呀！这么好的地方，我得去看看。可是到了那里，既不见十里桃花，也不见万家酒店，李白疑惑不解。汪伦解释说：”十里桃花是十里外有个桃花渡口，万家酒店是有个姓万的人开了一家酒店，并不是一万家酒店。“李白恍然大悟，他不但没有生气，反而被汪伦的幽默与风趣逗得哈哈大笑起来，两人一见如故。在以后的几天里，汪伦每天盛情款待李白，并带他游遍了当地的名山胜景，他们一起饮酒作诗，情趣相投，短短几天就结下了深厚的友谊。临别时，汪伦踏歌相送， 李白被他的真诚深深地感动了，即兴作了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《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赠汪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这首诗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WordArt 1027"/>
            <p:cNvSpPr txBox="1"/>
            <p:nvPr/>
          </p:nvSpPr>
          <p:spPr>
            <a:xfrm>
              <a:off x="762120" y="380880"/>
              <a:ext cx="38862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趣味故事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1"/>
          <p:cNvSpPr/>
          <p:nvPr/>
        </p:nvSpPr>
        <p:spPr>
          <a:xfrm>
            <a:off x="250920" y="24242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/kejian/yuwen/166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PM_011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1905120" y="990720"/>
            <a:ext cx="541008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抢答题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汪伦是一个的      、      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送给                 。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4343400" y="2514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5562720" y="2514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2514600" y="31240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20"/>
          <p:cNvSpPr/>
          <p:nvPr/>
        </p:nvSpPr>
        <p:spPr>
          <a:xfrm>
            <a:off x="3962520" y="31240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1"/>
          <p:cNvSpPr/>
          <p:nvPr/>
        </p:nvSpPr>
        <p:spPr>
          <a:xfrm>
            <a:off x="5791320" y="31240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8720" y="6094440"/>
            <a:ext cx="734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说课ppt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PM_040"/>
          <p:cNvPicPr/>
          <p:nvPr/>
        </p:nvPicPr>
        <p:blipFill>
          <a:blip r:embed="rId1"/>
          <a:stretch/>
        </p:blipFill>
        <p:spPr>
          <a:xfrm>
            <a:off x="-609480" y="0"/>
            <a:ext cx="10515600" cy="7086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1752480" y="1066680"/>
            <a:ext cx="59436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483d3"/>
                </a:solidFill>
                <a:latin typeface="Times New Roman"/>
                <a:ea typeface="隶书"/>
              </a:rPr>
              <a:t>按要求学习古诗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、自由朗读古诗，注意读准字音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合注释，理解诗句的意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，并联起来说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提出不懂的问题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pic_11081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914400" y="1143000"/>
            <a:ext cx="358128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赠  汪  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李白乘船将欲行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忽闻岸上踏歌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914400" y="4191120"/>
            <a:ext cx="327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桃花潭水深千尺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及汪伦送我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266688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352680" y="2362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í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3124080" y="762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447920" y="609480"/>
            <a:ext cx="65530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54107"/>
                </a:solidFill>
                <a:latin typeface="Times New Roman"/>
                <a:ea typeface="幼圆"/>
              </a:rPr>
              <a:t>四人小组讨论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6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想象汪伦送别李白时的心情，讨论一下如果你是汪伦，你会唱着什么歌去送行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.avi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zw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PM_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590920" y="609480"/>
            <a:ext cx="6553080" cy="37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54107"/>
                </a:solidFill>
                <a:latin typeface="Times New Roman"/>
                <a:ea typeface="幼圆"/>
              </a:rPr>
              <a:t>拓展题：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6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</a:t>
            </a:r>
            <a:r>
              <a:rPr b="0" lang="zh-CN" sz="6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想想还有哪些古诗是写朋友依依惜别的呢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304920" y="9360"/>
            <a:ext cx="8839080" cy="65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知识巩固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多音字组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íng  (           )                       tà (  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áng (           )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踏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ā (  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赠汪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一首（        ）诗，是（    ）代诗人（         ）专门写来送给（        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解释加横的字的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汪伦送我情。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闻岸上踏歌声。（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676520" y="190512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5105520" y="182880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04:22:36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56:31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