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595-BF51-4477-AB58-3545310F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09C-0284-43C7-8BD0-B6AD69CB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CF6-C460-49D7-AABC-8761FD2B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EF2-88B7-4E96-B885-B98E9CFD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331-912B-4C2D-AB8E-14EEFE6B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EA4-91BC-4BB3-8025-899DE0EF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165-6F38-465D-97FF-63DA0CF2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B14-586C-432C-8081-49FD0988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AB8-6120-4469-A8AD-42504D03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F2A-9A0A-4C6D-83D6-D77F2C5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51A-5008-4BCA-91DB-1A1B44E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B10-385C-459F-A34D-94D44E2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F7E8-9C19-430E-8976-8E9C37CE735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273,16,&#24187;&#28783;&#29255; 16" TargetMode="External"/><Relationship Id="rId3" Type="http://schemas.openxmlformats.org/officeDocument/2006/relationships/hyperlink" Target="273,16,&#24187;&#28783;&#29255; 16" TargetMode="External"/><Relationship Id="rId4" Type="http://schemas.openxmlformats.org/officeDocument/2006/relationships/hyperlink" Target="273,16,&#24187;&#28783;&#29255; 16" TargetMode="External"/><Relationship Id="rId5" Type="http://schemas.openxmlformats.org/officeDocument/2006/relationships/hyperlink" Target="274,17,&#24187;&#28783;&#29255; 17" TargetMode="External"/><Relationship Id="rId6" Type="http://schemas.openxmlformats.org/officeDocument/2006/relationships/hyperlink" Target="274,17,&#24187;&#28783;&#29255; 17" TargetMode="External"/><Relationship Id="rId7" Type="http://schemas.openxmlformats.org/officeDocument/2006/relationships/hyperlink" Target="274,17,&#24187;&#28783;&#29255; 17" TargetMode="External"/><Relationship Id="rId8" Type="http://schemas.openxmlformats.org/officeDocument/2006/relationships/hyperlink" Target="275,18,&#24187;&#28783;&#29255; 18" TargetMode="External"/><Relationship Id="rId9" Type="http://schemas.openxmlformats.org/officeDocument/2006/relationships/hyperlink" Target="275,18,&#24187;&#28783;&#29255; 18" TargetMode="External"/><Relationship Id="rId10" Type="http://schemas.openxmlformats.org/officeDocument/2006/relationships/hyperlink" Target="275,18,&#24187;&#28783;&#29255; 18" TargetMode="External"/><Relationship Id="rId11" Type="http://schemas.openxmlformats.org/officeDocument/2006/relationships/hyperlink" Target="276,19,&#24187;&#28783;&#29255; 19" TargetMode="External"/><Relationship Id="rId12" Type="http://schemas.openxmlformats.org/officeDocument/2006/relationships/hyperlink" Target="276,19,&#24187;&#28783;&#29255; 19" TargetMode="External"/><Relationship Id="rId13" Type="http://schemas.openxmlformats.org/officeDocument/2006/relationships/hyperlink" Target="276,19,&#24187;&#28783;&#29255; 19" TargetMode="External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325520" y="5461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最小公倍数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" name="Picture 4" descr="问号"/>
          <p:cNvPicPr/>
          <p:nvPr/>
        </p:nvPicPr>
        <p:blipFill>
          <a:blip r:embed="rId2"/>
          <a:stretch/>
        </p:blipFill>
        <p:spPr>
          <a:xfrm>
            <a:off x="1981080" y="2057400"/>
            <a:ext cx="731880" cy="43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问号"/>
          <p:cNvPicPr/>
          <p:nvPr/>
        </p:nvPicPr>
        <p:blipFill>
          <a:blip r:embed="rId3"/>
          <a:stretch/>
        </p:blipFill>
        <p:spPr>
          <a:xfrm>
            <a:off x="1981080" y="2895480"/>
            <a:ext cx="731880" cy="43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问号"/>
          <p:cNvPicPr/>
          <p:nvPr/>
        </p:nvPicPr>
        <p:blipFill>
          <a:blip r:embed="rId4"/>
          <a:stretch/>
        </p:blipFill>
        <p:spPr>
          <a:xfrm>
            <a:off x="1981080" y="3733920"/>
            <a:ext cx="731880" cy="43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问号"/>
          <p:cNvPicPr/>
          <p:nvPr/>
        </p:nvPicPr>
        <p:blipFill>
          <a:blip r:embed="rId5"/>
          <a:stretch/>
        </p:blipFill>
        <p:spPr>
          <a:xfrm>
            <a:off x="1981080" y="4648320"/>
            <a:ext cx="731880" cy="434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418560" y="18939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渔夫的故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63560" y="27306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学习例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63560" y="35496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探讨例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537720" y="4387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巩固小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533680" y="2362320"/>
            <a:ext cx="2286000" cy="2057400"/>
            <a:chOff x="2533680" y="2362320"/>
            <a:chExt cx="2286000" cy="2057400"/>
          </a:xfrm>
        </p:grpSpPr>
        <p:sp>
          <p:nvSpPr>
            <p:cNvPr id="156" name="Text Box 5"/>
            <p:cNvSpPr/>
            <p:nvPr/>
          </p:nvSpPr>
          <p:spPr>
            <a:xfrm>
              <a:off x="31680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>
              <a:off x="25336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283428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" name="Group 8"/>
          <p:cNvGrpSpPr/>
          <p:nvPr/>
        </p:nvGrpSpPr>
        <p:grpSpPr>
          <a:xfrm>
            <a:off x="3583080" y="2324160"/>
            <a:ext cx="2923920" cy="2057400"/>
            <a:chOff x="3583080" y="2324160"/>
            <a:chExt cx="2923920" cy="2057400"/>
          </a:xfrm>
        </p:grpSpPr>
        <p:sp>
          <p:nvSpPr>
            <p:cNvPr id="160" name="Text Box 9"/>
            <p:cNvSpPr/>
            <p:nvPr/>
          </p:nvSpPr>
          <p:spPr>
            <a:xfrm>
              <a:off x="44442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38098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35830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" name="AutoShape 12"/>
          <p:cNvSpPr/>
          <p:nvPr/>
        </p:nvSpPr>
        <p:spPr>
          <a:xfrm>
            <a:off x="4191120" y="4419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2767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 公 倍 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11624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1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问号"/>
          <p:cNvPicPr/>
          <p:nvPr/>
        </p:nvPicPr>
        <p:blipFill>
          <a:blip r:embed="rId2"/>
          <a:stretch/>
        </p:blipFill>
        <p:spPr>
          <a:xfrm>
            <a:off x="868320" y="1012680"/>
            <a:ext cx="731880" cy="435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413440" y="2602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两个数有没有最大的公倍数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14960" y="16318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因为每一个数的倍数的个数都是无限的，所以两个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公倍数的个数也是无限的．因此，两个数没有最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倍数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5" descr="问号"/>
          <p:cNvPicPr/>
          <p:nvPr/>
        </p:nvPicPr>
        <p:blipFill>
          <a:blip r:embed="rId3"/>
          <a:stretch/>
        </p:blipFill>
        <p:spPr>
          <a:xfrm>
            <a:off x="914400" y="3200400"/>
            <a:ext cx="731880" cy="434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889280" y="318276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以内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公倍数有几个？最大的是几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30640" y="3886200"/>
            <a:ext cx="46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以内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公倍数有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：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4  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552320" y="4440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最大的是：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948120" y="501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果给定一个范围，最大公倍数是存在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0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04920" y="1825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解决问题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169236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7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两位好朋友每人隔不同的天数到图书馆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看书，小张</a:t>
            </a:r>
            <a:r>
              <a:rPr b="1" lang="en-US" sz="3200" spc="-1" strike="noStrike">
                <a:solidFill>
                  <a:srgbClr val="ffff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天去一次，小丁</a:t>
            </a:r>
            <a:r>
              <a:rPr b="1" lang="en-US" sz="3200" spc="-1" strike="noStrike">
                <a:solidFill>
                  <a:srgbClr val="ffffcc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天去一次。一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星期一，他们两人在图书馆相遇，至少再过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少天他们又在图书馆相遇？相遇时是星期几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363040" y="37339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想：要求他们至少再经过多少天又相遇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就是求</a:t>
            </a:r>
            <a:r>
              <a:rPr b="0" lang="en-US" sz="3200" spc="-1" strike="noStrike">
                <a:solidFill>
                  <a:srgbClr val="c303a8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c303a8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的最小公倍数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308960" y="4846680"/>
            <a:ext cx="63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是互质数，它们的乘积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就是它们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公倍数，所以他们至少再过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天又在图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馆相遇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AutoShape 6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196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用长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厘米、宽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厘米的长方形纸片分别铺下面的两个正方形。可以正好铺满哪个正方形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105520" y="2133720"/>
            <a:ext cx="107928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72200" y="2133720"/>
            <a:ext cx="107964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105520" y="285264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172200" y="285264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5105520" y="358128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172200" y="358128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05520" y="430992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172200" y="430992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990720" y="251460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2057400" y="251460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990720" y="324324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990720" y="3962520"/>
            <a:ext cx="107928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2057400" y="324324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2057400" y="3962520"/>
            <a:ext cx="107964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" name="Group 17"/>
          <p:cNvGrpSpPr/>
          <p:nvPr/>
        </p:nvGrpSpPr>
        <p:grpSpPr>
          <a:xfrm>
            <a:off x="990720" y="2514240"/>
            <a:ext cx="2669400" cy="2593800"/>
            <a:chOff x="990720" y="2514240"/>
            <a:chExt cx="2669400" cy="2593800"/>
          </a:xfrm>
        </p:grpSpPr>
        <p:sp>
          <p:nvSpPr>
            <p:cNvPr id="197" name="Rectangle 18"/>
            <p:cNvSpPr/>
            <p:nvPr/>
          </p:nvSpPr>
          <p:spPr>
            <a:xfrm>
              <a:off x="990720" y="2514600"/>
              <a:ext cx="2158920" cy="21589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Line 19"/>
            <p:cNvSpPr/>
            <p:nvPr/>
          </p:nvSpPr>
          <p:spPr>
            <a:xfrm>
              <a:off x="990720" y="464832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Line 20"/>
            <p:cNvSpPr/>
            <p:nvPr/>
          </p:nvSpPr>
          <p:spPr>
            <a:xfrm>
              <a:off x="3124440" y="464832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Line 21"/>
            <p:cNvSpPr/>
            <p:nvPr/>
          </p:nvSpPr>
          <p:spPr>
            <a:xfrm>
              <a:off x="2667240" y="48769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Line 22"/>
            <p:cNvSpPr/>
            <p:nvPr/>
          </p:nvSpPr>
          <p:spPr>
            <a:xfrm flipH="1">
              <a:off x="990720" y="48769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600200" y="4648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3" name="Group 24"/>
            <p:cNvGrpSpPr/>
            <p:nvPr/>
          </p:nvGrpSpPr>
          <p:grpSpPr>
            <a:xfrm>
              <a:off x="3200400" y="2514240"/>
              <a:ext cx="459720" cy="2133720"/>
              <a:chOff x="3200400" y="2514240"/>
              <a:chExt cx="459720" cy="2133720"/>
            </a:xfrm>
          </p:grpSpPr>
          <p:sp>
            <p:nvSpPr>
              <p:cNvPr id="204" name="Line 25"/>
              <p:cNvSpPr/>
              <p:nvPr/>
            </p:nvSpPr>
            <p:spPr>
              <a:xfrm>
                <a:off x="3200400" y="464796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Line 26"/>
              <p:cNvSpPr/>
              <p:nvPr/>
            </p:nvSpPr>
            <p:spPr>
              <a:xfrm>
                <a:off x="3200400" y="251424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Line 27"/>
              <p:cNvSpPr/>
              <p:nvPr/>
            </p:nvSpPr>
            <p:spPr>
              <a:xfrm flipV="1">
                <a:off x="3429000" y="2514240"/>
                <a:ext cx="0" cy="4572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Line 28"/>
              <p:cNvSpPr/>
              <p:nvPr/>
            </p:nvSpPr>
            <p:spPr>
              <a:xfrm>
                <a:off x="3429000" y="4190760"/>
                <a:ext cx="0" cy="4572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Text Box 29"/>
              <p:cNvSpPr/>
              <p:nvPr/>
            </p:nvSpPr>
            <p:spPr>
              <a:xfrm rot="16200000">
                <a:off x="2706120" y="30844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ffffcc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30"/>
          <p:cNvGrpSpPr/>
          <p:nvPr/>
        </p:nvGrpSpPr>
        <p:grpSpPr>
          <a:xfrm>
            <a:off x="5105520" y="2133360"/>
            <a:ext cx="3355200" cy="3355560"/>
            <a:chOff x="5105520" y="2133360"/>
            <a:chExt cx="3355200" cy="3355560"/>
          </a:xfrm>
        </p:grpSpPr>
        <p:sp>
          <p:nvSpPr>
            <p:cNvPr id="210" name="Rectangle 31"/>
            <p:cNvSpPr/>
            <p:nvPr/>
          </p:nvSpPr>
          <p:spPr>
            <a:xfrm>
              <a:off x="5105520" y="2149560"/>
              <a:ext cx="2879640" cy="28796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5105520" y="502920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8001000" y="502920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7086600" y="5257800"/>
              <a:ext cx="9144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Line 35"/>
            <p:cNvSpPr/>
            <p:nvPr/>
          </p:nvSpPr>
          <p:spPr>
            <a:xfrm flipH="1">
              <a:off x="5105520" y="5257800"/>
              <a:ext cx="838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Text Box 36"/>
            <p:cNvSpPr/>
            <p:nvPr/>
          </p:nvSpPr>
          <p:spPr>
            <a:xfrm>
              <a:off x="6096240" y="50292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6" name="Group 37"/>
            <p:cNvGrpSpPr/>
            <p:nvPr/>
          </p:nvGrpSpPr>
          <p:grpSpPr>
            <a:xfrm>
              <a:off x="8001000" y="2133360"/>
              <a:ext cx="459720" cy="2895480"/>
              <a:chOff x="8001000" y="2133360"/>
              <a:chExt cx="459720" cy="2895480"/>
            </a:xfrm>
          </p:grpSpPr>
          <p:sp>
            <p:nvSpPr>
              <p:cNvPr id="217" name="Line 38"/>
              <p:cNvSpPr/>
              <p:nvPr/>
            </p:nvSpPr>
            <p:spPr>
              <a:xfrm>
                <a:off x="8001000" y="502884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Line 39"/>
              <p:cNvSpPr/>
              <p:nvPr/>
            </p:nvSpPr>
            <p:spPr>
              <a:xfrm>
                <a:off x="8001000" y="213336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Line 40"/>
              <p:cNvSpPr/>
              <p:nvPr/>
            </p:nvSpPr>
            <p:spPr>
              <a:xfrm flipV="1">
                <a:off x="8229600" y="2133360"/>
                <a:ext cx="0" cy="91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Line 41"/>
              <p:cNvSpPr/>
              <p:nvPr/>
            </p:nvSpPr>
            <p:spPr>
              <a:xfrm>
                <a:off x="8229600" y="4190760"/>
                <a:ext cx="0" cy="8380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Text Box 42"/>
              <p:cNvSpPr/>
              <p:nvPr/>
            </p:nvSpPr>
            <p:spPr>
              <a:xfrm rot="16200000">
                <a:off x="7507080" y="30844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8</a:t>
                </a:r>
                <a:r>
                  <a:rPr b="1" lang="zh-CN" sz="2400" spc="-1" strike="noStrike">
                    <a:solidFill>
                      <a:srgbClr val="ffffcc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Group 43"/>
          <p:cNvGrpSpPr/>
          <p:nvPr/>
        </p:nvGrpSpPr>
        <p:grpSpPr>
          <a:xfrm>
            <a:off x="533520" y="456840"/>
            <a:ext cx="1600200" cy="1892880"/>
            <a:chOff x="533520" y="456840"/>
            <a:chExt cx="1600200" cy="1892880"/>
          </a:xfrm>
        </p:grpSpPr>
        <p:sp>
          <p:nvSpPr>
            <p:cNvPr id="223" name="Rectangle 44"/>
            <p:cNvSpPr/>
            <p:nvPr/>
          </p:nvSpPr>
          <p:spPr>
            <a:xfrm>
              <a:off x="533520" y="1187640"/>
              <a:ext cx="1079640" cy="71784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685800" y="1981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zh-CN" sz="18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 rot="16200000">
              <a:off x="1134720" y="995400"/>
              <a:ext cx="144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6" name="Text Box 47"/>
          <p:cNvSpPr/>
          <p:nvPr/>
        </p:nvSpPr>
        <p:spPr>
          <a:xfrm>
            <a:off x="990720" y="539280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÷ 2=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÷ 3=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7" name="Group 48"/>
          <p:cNvGrpSpPr/>
          <p:nvPr/>
        </p:nvGrpSpPr>
        <p:grpSpPr>
          <a:xfrm>
            <a:off x="5029200" y="5486400"/>
            <a:ext cx="2895480" cy="1556280"/>
            <a:chOff x="5029200" y="5486400"/>
            <a:chExt cx="2895480" cy="1556280"/>
          </a:xfrm>
        </p:grpSpPr>
        <p:sp>
          <p:nvSpPr>
            <p:cNvPr id="228" name="Text Box 49"/>
            <p:cNvSpPr/>
            <p:nvPr/>
          </p:nvSpPr>
          <p:spPr>
            <a:xfrm>
              <a:off x="5029200" y="5486400"/>
              <a:ext cx="2895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8÷ 2=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8÷ 3=2         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Text Box 50"/>
            <p:cNvSpPr/>
            <p:nvPr/>
          </p:nvSpPr>
          <p:spPr>
            <a:xfrm>
              <a:off x="6248520" y="5973840"/>
              <a:ext cx="99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280" y="92880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2485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057400" y="944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909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6201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5627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8769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11480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352680" y="9446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934320" y="9446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8153280" y="8380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057400" y="2163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25909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3352680" y="2163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411480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48769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5627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2485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781680" y="205740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152280" y="3382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公倍数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3733920" y="34592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1" name="Group 23"/>
          <p:cNvGrpSpPr/>
          <p:nvPr/>
        </p:nvGrpSpPr>
        <p:grpSpPr>
          <a:xfrm>
            <a:off x="2590920" y="944640"/>
            <a:ext cx="1600200" cy="1800720"/>
            <a:chOff x="2590920" y="944640"/>
            <a:chExt cx="1600200" cy="1800720"/>
          </a:xfrm>
        </p:grpSpPr>
        <p:sp>
          <p:nvSpPr>
            <p:cNvPr id="252" name="Text Box 24"/>
            <p:cNvSpPr/>
            <p:nvPr/>
          </p:nvSpPr>
          <p:spPr>
            <a:xfrm>
              <a:off x="335304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259092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4" name="Group 26"/>
          <p:cNvGrpSpPr/>
          <p:nvPr/>
        </p:nvGrpSpPr>
        <p:grpSpPr>
          <a:xfrm>
            <a:off x="5562720" y="944640"/>
            <a:ext cx="2895480" cy="1800720"/>
            <a:chOff x="5562720" y="944640"/>
            <a:chExt cx="2895480" cy="1800720"/>
          </a:xfrm>
        </p:grpSpPr>
        <p:sp>
          <p:nvSpPr>
            <p:cNvPr id="255" name="Text Box 27"/>
            <p:cNvSpPr/>
            <p:nvPr/>
          </p:nvSpPr>
          <p:spPr>
            <a:xfrm>
              <a:off x="762012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Text Box 28"/>
            <p:cNvSpPr/>
            <p:nvPr/>
          </p:nvSpPr>
          <p:spPr>
            <a:xfrm>
              <a:off x="556272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7" name="Group 29"/>
          <p:cNvGrpSpPr/>
          <p:nvPr/>
        </p:nvGrpSpPr>
        <p:grpSpPr>
          <a:xfrm>
            <a:off x="4114800" y="944640"/>
            <a:ext cx="2286000" cy="1800720"/>
            <a:chOff x="4114800" y="944640"/>
            <a:chExt cx="2286000" cy="1800720"/>
          </a:xfrm>
        </p:grpSpPr>
        <p:sp>
          <p:nvSpPr>
            <p:cNvPr id="258" name="Text Box 30"/>
            <p:cNvSpPr/>
            <p:nvPr/>
          </p:nvSpPr>
          <p:spPr>
            <a:xfrm>
              <a:off x="556272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Text Box 31"/>
            <p:cNvSpPr/>
            <p:nvPr/>
          </p:nvSpPr>
          <p:spPr>
            <a:xfrm>
              <a:off x="411480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0" name="Text Box 32"/>
          <p:cNvSpPr/>
          <p:nvPr/>
        </p:nvSpPr>
        <p:spPr>
          <a:xfrm>
            <a:off x="302040" y="216360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1" name="Group 33"/>
          <p:cNvGrpSpPr/>
          <p:nvPr/>
        </p:nvGrpSpPr>
        <p:grpSpPr>
          <a:xfrm>
            <a:off x="3124080" y="3260880"/>
            <a:ext cx="3505320" cy="703800"/>
            <a:chOff x="3124080" y="3260880"/>
            <a:chExt cx="3505320" cy="703800"/>
          </a:xfrm>
        </p:grpSpPr>
        <p:sp>
          <p:nvSpPr>
            <p:cNvPr id="262" name="Text Box 34"/>
            <p:cNvSpPr/>
            <p:nvPr/>
          </p:nvSpPr>
          <p:spPr>
            <a:xfrm>
              <a:off x="3124080" y="33832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57800" y="32608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4" name="Text Box 36"/>
          <p:cNvSpPr/>
          <p:nvPr/>
        </p:nvSpPr>
        <p:spPr>
          <a:xfrm>
            <a:off x="152280" y="3962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的公倍数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3124080" y="3962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10800"/>
                </a:moveTo>
                <a:lnTo>
                  <a:pt x="21444" y="3756"/>
                </a:lnTo>
                <a:lnTo>
                  <a:pt x="21444" y="17844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057400" y="1325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5909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3526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1148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8769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5627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2485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781680" y="121932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52280" y="3611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公倍数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5909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55627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1148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302040" y="132552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152280" y="43736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的公倍数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352680" y="4373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152280" y="2209680"/>
            <a:ext cx="8153280" cy="687600"/>
            <a:chOff x="152280" y="2209680"/>
            <a:chExt cx="8153280" cy="687600"/>
          </a:xfrm>
        </p:grpSpPr>
        <p:sp>
          <p:nvSpPr>
            <p:cNvPr id="283" name="Text Box 18"/>
            <p:cNvSpPr/>
            <p:nvPr/>
          </p:nvSpPr>
          <p:spPr>
            <a:xfrm>
              <a:off x="3200400" y="22096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Text Box 19"/>
            <p:cNvSpPr/>
            <p:nvPr/>
          </p:nvSpPr>
          <p:spPr>
            <a:xfrm>
              <a:off x="152280" y="231588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其中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也是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倍数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5" name="Group 20"/>
          <p:cNvGrpSpPr/>
          <p:nvPr/>
        </p:nvGrpSpPr>
        <p:grpSpPr>
          <a:xfrm>
            <a:off x="3352680" y="3505320"/>
            <a:ext cx="3505320" cy="687600"/>
            <a:chOff x="3352680" y="3505320"/>
            <a:chExt cx="3505320" cy="687600"/>
          </a:xfrm>
        </p:grpSpPr>
        <p:sp>
          <p:nvSpPr>
            <p:cNvPr id="286" name="Text Box 21"/>
            <p:cNvSpPr/>
            <p:nvPr/>
          </p:nvSpPr>
          <p:spPr>
            <a:xfrm>
              <a:off x="3962160" y="368784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Text Box 22"/>
            <p:cNvSpPr/>
            <p:nvPr/>
          </p:nvSpPr>
          <p:spPr>
            <a:xfrm>
              <a:off x="3352680" y="361152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5486400" y="35053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9" name="AutoShape 24"/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10800"/>
                </a:moveTo>
                <a:lnTo>
                  <a:pt x="21444" y="3756"/>
                </a:lnTo>
                <a:lnTo>
                  <a:pt x="21444" y="17844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u=4116810983,1442143383&amp;gp=22"/>
          <p:cNvPicPr/>
          <p:nvPr/>
        </p:nvPicPr>
        <p:blipFill>
          <a:blip r:embed="rId2"/>
          <a:stretch/>
        </p:blipFill>
        <p:spPr>
          <a:xfrm>
            <a:off x="2209680" y="304920"/>
            <a:ext cx="4191120" cy="31971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914400" y="402264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班长说：“我们可以分成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人一组，也可以分成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人一组，都正好分完。”请大家猜猜这些学生可能有几人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打开书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８９页完成做一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打开作业本完成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３５页的１、２、３、４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完成同步练习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42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中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点之前完成加分，给老师批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家作业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：预习书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90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页新课，完成做一做与练习十七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口算训练完成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64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（回作给组长批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631044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http://www.eeppt.com/moban/kejian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练习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049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老渔夫说：“我连续打三天要休息一天。”年轻的渔夫说：“我连续打五天要休息一天。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这位朋友在这一个月里，可以选哪些日子去看望他们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4032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34400" y="1905120"/>
            <a:ext cx="58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40320" y="2514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554920" y="2514600"/>
            <a:ext cx="40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035000" y="320040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有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02076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49236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39880" y="3238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24332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5317920" y="190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286160" y="32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545616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713268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5059440" y="321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568476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818360" y="3909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其中最小的一个是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578040" y="3941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347920" y="466884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几个数公有的倍数，叫做这几个数的公倍数，其中最小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个，叫做这几个数的最小公倍数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776920" y="4724280"/>
            <a:ext cx="91440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3962520" y="5410080"/>
            <a:ext cx="152388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AutoShape 24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890640" y="228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巩固练习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1752480"/>
            <a:ext cx="8734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公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最小公倍数是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819080" y="1676520"/>
            <a:ext cx="79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8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56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64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72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665800" y="2743200"/>
            <a:ext cx="55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2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148200" y="3505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953960" y="3581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黑体"/>
              </a:rPr>
              <a:t>8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724280" y="4495680"/>
            <a:ext cx="70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6402960" y="35812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AutoShape 10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很快找出下面的每组数的最小公倍数，并说说是怎样想的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286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54200" y="2513160"/>
            <a:ext cx="585756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2"/>
              </a:rPr>
              <a:t>3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3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4"/>
              </a:rPr>
              <a:t>7              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5"/>
              </a:rPr>
              <a:t>8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6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7"/>
              </a:rPr>
              <a:t>24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  <a:ea typeface="黑体"/>
              </a:rPr>
              <a:t>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8"/>
              </a:rPr>
              <a:t>30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9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0"/>
              </a:rPr>
              <a:t>5            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1"/>
              </a:rPr>
              <a:t>10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2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3"/>
              </a:rPr>
              <a:t>9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0"/>
            <a:ext cx="9144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1e02"/>
                </a:solidFill>
                <a:latin typeface="隶书"/>
                <a:ea typeface="隶书"/>
              </a:rPr>
              <a:t>例</a:t>
            </a:r>
            <a:r>
              <a:rPr b="0" lang="en-US" sz="8800" spc="-1" strike="noStrike">
                <a:solidFill>
                  <a:srgbClr val="c41e02"/>
                </a:solidFill>
                <a:latin typeface="隶书"/>
                <a:ea typeface="隶书"/>
              </a:rPr>
              <a:t>2</a:t>
            </a: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用找倍数的方法，找出</a:t>
            </a:r>
            <a:r>
              <a:rPr b="1" lang="en-US" sz="4800" spc="-1" strike="noStrike">
                <a:solidFill>
                  <a:srgbClr val="ffffcc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的公倍数和它们的最小公倍数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04920" y="41148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4000" spc="-1" strike="noStrike" u="sng">
                <a:solidFill>
                  <a:srgbClr val="c40296"/>
                </a:solidFill>
                <a:uFillTx/>
                <a:latin typeface="Times New Roman"/>
              </a:rPr>
              <a:t>如果两个数是互质数，那么它们的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40296"/>
                </a:solidFill>
                <a:uFillTx/>
                <a:latin typeface="Times New Roman"/>
              </a:rPr>
              <a:t>最小公倍数就这两个数的乘积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063440" y="0"/>
            <a:ext cx="6977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1e02"/>
                </a:solidFill>
                <a:latin typeface="隶书"/>
                <a:ea typeface="隶书"/>
              </a:rPr>
              <a:t>例</a:t>
            </a:r>
            <a:r>
              <a:rPr b="0" lang="en-US" sz="8800" spc="-1" strike="noStrike">
                <a:solidFill>
                  <a:srgbClr val="c41e02"/>
                </a:solidFill>
                <a:latin typeface="隶书"/>
                <a:ea typeface="隶书"/>
              </a:rPr>
              <a:t>3</a:t>
            </a:r>
            <a:r>
              <a:rPr b="1" lang="en-US" sz="96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用找倍数的方法，找出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的公倍数和它们的最小公倍数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482840" y="4300560"/>
            <a:ext cx="59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03a8"/>
                </a:solidFill>
                <a:latin typeface="Times New Roman"/>
              </a:rPr>
              <a:t>        </a:t>
            </a:r>
            <a:r>
              <a:rPr b="1" lang="zh-CN" sz="4000" spc="-1" strike="noStrike" u="sng">
                <a:solidFill>
                  <a:srgbClr val="c303a8"/>
                </a:solidFill>
                <a:uFillTx/>
                <a:latin typeface="Times New Roman"/>
              </a:rPr>
              <a:t>如果较大的数是较小的数的倍数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303a8"/>
                </a:solidFill>
                <a:uFillTx/>
                <a:latin typeface="Times New Roman"/>
              </a:rPr>
              <a:t>那么它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0" y="1828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2041b"/>
                </a:solidFill>
                <a:latin typeface="Times New Roman"/>
                <a:ea typeface="黑体"/>
              </a:rPr>
              <a:t>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互质数，所以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们的最小公倍数就是它们的乘积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3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1193400" y="533520"/>
            <a:ext cx="144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3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0508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717120" y="1828800"/>
            <a:ext cx="7312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41b"/>
                </a:solidFill>
                <a:latin typeface="Times New Roman"/>
                <a:ea typeface="黑体"/>
              </a:rPr>
              <a:t>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倍数关系，所以它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4" name="Picture 4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1346040" y="533520"/>
            <a:ext cx="190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8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2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AutoShape 6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758520" y="1490760"/>
            <a:ext cx="731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倍数关系，所以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8" name="Picture 3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1422360" y="762120"/>
            <a:ext cx="17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30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互质数，所以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的最小公倍数就是它们的乘积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Picture 3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1193760" y="685800"/>
            <a:ext cx="17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9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533520" y="914400"/>
            <a:ext cx="8305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动脑筋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7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分钟发一次车，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96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分钟发一次车。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7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和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96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同时出发后，再过多少时间会同时发车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3581280" y="4114800"/>
            <a:ext cx="533520" cy="533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6629400" y="1981080"/>
            <a:ext cx="533520" cy="533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505320" y="3048120"/>
            <a:ext cx="533160" cy="533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14400" y="3048120"/>
          <a:ext cx="7238880" cy="53316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71680"/>
                <a:gridCol w="463320"/>
                <a:gridCol w="515880"/>
                <a:gridCol w="517680"/>
                <a:gridCol w="515880"/>
                <a:gridCol w="519120"/>
                <a:gridCol w="515880"/>
              </a:tblGrid>
              <a:tr h="533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620120" y="25146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914400" y="35812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914400" y="4114800"/>
          <a:ext cx="3200400" cy="5335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914400" y="1981080"/>
          <a:ext cx="7238880" cy="53352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</a:tblGrid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Text Box 97"/>
          <p:cNvSpPr/>
          <p:nvPr/>
        </p:nvSpPr>
        <p:spPr>
          <a:xfrm>
            <a:off x="228600" y="7444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红棋每次走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格，黄棋每次走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格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1447920" y="2362320"/>
            <a:ext cx="2286000" cy="2057400"/>
            <a:chOff x="1447920" y="2362320"/>
            <a:chExt cx="2286000" cy="2057400"/>
          </a:xfrm>
        </p:grpSpPr>
        <p:sp>
          <p:nvSpPr>
            <p:cNvPr id="78" name="Text Box 5"/>
            <p:cNvSpPr/>
            <p:nvPr/>
          </p:nvSpPr>
          <p:spPr>
            <a:xfrm>
              <a:off x="20822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14479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174852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82" name="Text Box 9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5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1447920" y="2362320"/>
            <a:ext cx="2286000" cy="2057400"/>
            <a:chOff x="1447920" y="2362320"/>
            <a:chExt cx="2286000" cy="2057400"/>
          </a:xfrm>
        </p:grpSpPr>
        <p:sp>
          <p:nvSpPr>
            <p:cNvPr id="89" name="Text Box 5"/>
            <p:cNvSpPr/>
            <p:nvPr/>
          </p:nvSpPr>
          <p:spPr>
            <a:xfrm>
              <a:off x="20822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14479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74852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93" name="Text Box 9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Oval 10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828800" y="2362320"/>
            <a:ext cx="2286000" cy="2057400"/>
            <a:chOff x="1828800" y="2362320"/>
            <a:chExt cx="2286000" cy="2057400"/>
          </a:xfrm>
        </p:grpSpPr>
        <p:sp>
          <p:nvSpPr>
            <p:cNvPr id="100" name="Text Box 5"/>
            <p:cNvSpPr/>
            <p:nvPr/>
          </p:nvSpPr>
          <p:spPr>
            <a:xfrm>
              <a:off x="246312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Oval 6"/>
            <p:cNvSpPr/>
            <p:nvPr/>
          </p:nvSpPr>
          <p:spPr>
            <a:xfrm>
              <a:off x="182880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212940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104" name="Text Box 9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981080" y="2362320"/>
            <a:ext cx="2286000" cy="2057400"/>
            <a:chOff x="1981080" y="2362320"/>
            <a:chExt cx="2286000" cy="2057400"/>
          </a:xfrm>
        </p:grpSpPr>
        <p:sp>
          <p:nvSpPr>
            <p:cNvPr id="111" name="Text Box 5"/>
            <p:cNvSpPr/>
            <p:nvPr/>
          </p:nvSpPr>
          <p:spPr>
            <a:xfrm>
              <a:off x="26154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19810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228168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4" name="Group 8"/>
          <p:cNvGrpSpPr/>
          <p:nvPr/>
        </p:nvGrpSpPr>
        <p:grpSpPr>
          <a:xfrm>
            <a:off x="4192920" y="2324160"/>
            <a:ext cx="2923920" cy="2057400"/>
            <a:chOff x="4192920" y="2324160"/>
            <a:chExt cx="2923920" cy="2057400"/>
          </a:xfrm>
        </p:grpSpPr>
        <p:sp>
          <p:nvSpPr>
            <p:cNvPr id="115" name="Text Box 9"/>
            <p:cNvSpPr/>
            <p:nvPr/>
          </p:nvSpPr>
          <p:spPr>
            <a:xfrm>
              <a:off x="505404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Oval 10"/>
            <p:cNvSpPr/>
            <p:nvPr/>
          </p:nvSpPr>
          <p:spPr>
            <a:xfrm>
              <a:off x="441972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419292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8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133720" y="2362320"/>
            <a:ext cx="2286000" cy="2057400"/>
            <a:chOff x="2133720" y="2362320"/>
            <a:chExt cx="2286000" cy="2057400"/>
          </a:xfrm>
        </p:grpSpPr>
        <p:sp>
          <p:nvSpPr>
            <p:cNvPr id="122" name="Text Box 5"/>
            <p:cNvSpPr/>
            <p:nvPr/>
          </p:nvSpPr>
          <p:spPr>
            <a:xfrm>
              <a:off x="27680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21337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243432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4040280" y="2324160"/>
            <a:ext cx="2923920" cy="2057400"/>
            <a:chOff x="4040280" y="2324160"/>
            <a:chExt cx="2923920" cy="2057400"/>
          </a:xfrm>
        </p:grpSpPr>
        <p:sp>
          <p:nvSpPr>
            <p:cNvPr id="126" name="Text Box 9"/>
            <p:cNvSpPr/>
            <p:nvPr/>
          </p:nvSpPr>
          <p:spPr>
            <a:xfrm>
              <a:off x="49014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42670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40402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530208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http://www.eeppt.com/moban/kejian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286000" y="2362320"/>
            <a:ext cx="2286000" cy="2057400"/>
            <a:chOff x="2286000" y="2362320"/>
            <a:chExt cx="2286000" cy="2057400"/>
          </a:xfrm>
        </p:grpSpPr>
        <p:sp>
          <p:nvSpPr>
            <p:cNvPr id="134" name="Text Box 5"/>
            <p:cNvSpPr/>
            <p:nvPr/>
          </p:nvSpPr>
          <p:spPr>
            <a:xfrm>
              <a:off x="292032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228600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258660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3811680" y="2324160"/>
            <a:ext cx="2923920" cy="2057400"/>
            <a:chOff x="3811680" y="2324160"/>
            <a:chExt cx="2923920" cy="2057400"/>
          </a:xfrm>
        </p:grpSpPr>
        <p:sp>
          <p:nvSpPr>
            <p:cNvPr id="138" name="Text Box 9"/>
            <p:cNvSpPr/>
            <p:nvPr/>
          </p:nvSpPr>
          <p:spPr>
            <a:xfrm>
              <a:off x="46728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0384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38116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2533680" y="2362320"/>
            <a:ext cx="2286000" cy="2057400"/>
            <a:chOff x="2533680" y="2362320"/>
            <a:chExt cx="2286000" cy="2057400"/>
          </a:xfrm>
        </p:grpSpPr>
        <p:sp>
          <p:nvSpPr>
            <p:cNvPr id="145" name="Text Box 5"/>
            <p:cNvSpPr/>
            <p:nvPr/>
          </p:nvSpPr>
          <p:spPr>
            <a:xfrm>
              <a:off x="31680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25336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283428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8"/>
          <p:cNvGrpSpPr/>
          <p:nvPr/>
        </p:nvGrpSpPr>
        <p:grpSpPr>
          <a:xfrm>
            <a:off x="3583080" y="2324160"/>
            <a:ext cx="2923920" cy="2057400"/>
            <a:chOff x="3583080" y="2324160"/>
            <a:chExt cx="2923920" cy="2057400"/>
          </a:xfrm>
        </p:grpSpPr>
        <p:sp>
          <p:nvSpPr>
            <p:cNvPr id="149" name="Text Box 9"/>
            <p:cNvSpPr/>
            <p:nvPr/>
          </p:nvSpPr>
          <p:spPr>
            <a:xfrm>
              <a:off x="44442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Oval 10"/>
            <p:cNvSpPr/>
            <p:nvPr/>
          </p:nvSpPr>
          <p:spPr>
            <a:xfrm>
              <a:off x="38098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35830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2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08:30:4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4:3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