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40B-C0EB-49A1-A1DC-13990079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A27-F209-457D-8FAB-F061A2FB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C19-64F7-429B-97F3-77CC254C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38C-177D-42A9-95B6-E02C87C3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6598-0022-4C92-B1D5-B8F581BE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64BF-DA81-4DBC-A795-5A003CD1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40C1-3EF7-42FD-9844-7BD6BB4D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7F5D-4FB4-4876-B404-08EED3F3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B594-AB5A-4074-8E9C-E00669A7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BE09-336D-4DCC-BDED-6E927910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B3C8-E9AE-45D6-BC40-514FEF45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467-EEED-4FE9-AD19-9B212310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90AA-D37E-4AB2-A8FE-62527B0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0D75-4461-46F1-86D1-DA664A3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B252-4989-4CF3-840E-BB030E08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7DE8-A2C4-45F8-A971-E2F88636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FF69-2098-4B21-9D0B-B662E2A8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0D1-A17F-4E79-8664-6F6AF3B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4E53-C9B8-43E5-B8AD-DDCAE13E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13B-16E2-4041-A11B-91258E1A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5DBD-269D-4913-8903-6B932045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66A-191A-45C8-9B27-3B589B45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A03B-052C-4D77-A03E-EBF9E16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9EE-D917-446C-A52C-CCC60B03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6"/>
          <p:cNvGrpSpPr/>
          <p:nvPr/>
        </p:nvGrpSpPr>
        <p:grpSpPr>
          <a:xfrm>
            <a:off x="0" y="0"/>
            <a:ext cx="9144000" cy="1474920"/>
            <a:chOff x="0" y="0"/>
            <a:chExt cx="9144000" cy="1474920"/>
          </a:xfrm>
        </p:grpSpPr>
        <p:pic>
          <p:nvPicPr>
            <p:cNvPr id="1" name="Picture 113" descr="thankyo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51476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14" descr="thankyo3"/>
            <p:cNvPicPr/>
            <p:nvPr/>
          </p:nvPicPr>
          <p:blipFill>
            <a:blip r:embed="rId3"/>
            <a:stretch/>
          </p:blipFill>
          <p:spPr>
            <a:xfrm>
              <a:off x="0" y="928800"/>
              <a:ext cx="4348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15" descr="thankyo4"/>
            <p:cNvPicPr/>
            <p:nvPr/>
          </p:nvPicPr>
          <p:blipFill>
            <a:blip r:embed="rId4"/>
            <a:stretch/>
          </p:blipFill>
          <p:spPr>
            <a:xfrm>
              <a:off x="4495680" y="0"/>
              <a:ext cx="4648320" cy="14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72D-08CB-4CD0-A2E0-62040ED5D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3D5B-3AEB-455E-B369-A3DDE7D090B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DB78-B139-44B9-B54C-E49A89EEC6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5:37:4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4:18:53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