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B48-1888-4114-8671-3287B01E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FFF-3C4C-45AD-81F3-2DAC542B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D2E-9C24-4CE5-AD0C-C6ACA1C6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A65-9057-43D9-A0D3-0883B1F6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F07B-DBDD-4302-9DFA-AFEE8235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B803-C9EB-4C35-B5C1-C7AE5CD5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6853-319E-4C6F-8A35-238F63FD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C71E-DF46-4BBA-8F44-197D2FF8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928E-7851-423A-A44F-42258DD8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F3ED-9370-4B22-9737-444AB32E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7F86-7548-439F-954B-088A2006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0C9-162D-45FE-9050-398E158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33A4-A5FA-404B-86DF-A139E3C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09BD-0057-4E86-9C37-20603F7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EB01-A2EE-4523-A044-667D168D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D3F6-AA78-4699-9DBA-7DF57958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FE97-B7B2-430B-83B2-74582FF5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A8A-D0E9-4A5F-93C3-31F00CBA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444-AAA7-4709-B962-0F01F92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00B-520E-4876-969F-56F8A375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55C-6A78-4A69-9035-6685BA6F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2CD-C893-4668-92D9-B51A3D4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1EF-EFF4-491C-9C73-A0C96E8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D8B-71AB-4C28-B448-19C6A8F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80FA-7166-44E4-B652-2F2F9F120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9FA7-17F7-4DE7-8C4B-5624196129DE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33E0-6C88-40F6-9C45-BD18FCB02211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042920" y="105264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种子的萌发</a:t>
            </a:r>
            <a:endParaRPr b="1" lang="en-US" sz="3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pic>
        <p:nvPicPr>
          <p:cNvPr id="83" name="Picture 5" descr="4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59280" y="3284640"/>
            <a:ext cx="3371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73080" y="249228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萌发的条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556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身条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932360" y="189000"/>
            <a:ext cx="439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度过休眠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储存时间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饱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破损率极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556000" y="43718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境条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932360" y="3587760"/>
            <a:ext cx="36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适宜的温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定的水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足的空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195640" y="1844640"/>
            <a:ext cx="288720" cy="2952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4572000" y="47628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572000" y="3573360"/>
            <a:ext cx="360360" cy="237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种子萌发的条件(菜豆) AVI43.avi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956720" cy="5877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06200" y="18900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析种子萌发情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5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sotw9_temp0"/>
          <p:cNvPicPr/>
          <p:nvPr/>
        </p:nvPicPr>
        <p:blipFill>
          <a:blip r:embed="rId1"/>
          <a:stretch/>
        </p:blipFill>
        <p:spPr>
          <a:xfrm>
            <a:off x="250920" y="1268280"/>
            <a:ext cx="8532720" cy="4524480"/>
          </a:xfrm>
          <a:prstGeom prst="rect">
            <a:avLst/>
          </a:prstGeom>
          <a:ln w="0">
            <a:noFill/>
          </a:ln>
        </p:spPr>
      </p:pic>
      <p:sp>
        <p:nvSpPr>
          <p:cNvPr id="195" name="Oval 4"/>
          <p:cNvSpPr/>
          <p:nvPr/>
        </p:nvSpPr>
        <p:spPr>
          <a:xfrm>
            <a:off x="2627280" y="2997360"/>
            <a:ext cx="649440" cy="5760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2411280" y="764640"/>
            <a:ext cx="936720" cy="2303640"/>
            <a:chOff x="2411280" y="764640"/>
            <a:chExt cx="936720" cy="2303640"/>
          </a:xfrm>
        </p:grpSpPr>
        <p:sp>
          <p:nvSpPr>
            <p:cNvPr id="197" name="Line 5"/>
            <p:cNvSpPr/>
            <p:nvPr/>
          </p:nvSpPr>
          <p:spPr>
            <a:xfrm flipH="1" flipV="1">
              <a:off x="2411280" y="836280"/>
              <a:ext cx="936720" cy="1440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 flipH="1" flipV="1">
              <a:off x="2412720" y="764640"/>
              <a:ext cx="503280" cy="2303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8"/>
          <p:cNvSpPr/>
          <p:nvPr/>
        </p:nvSpPr>
        <p:spPr>
          <a:xfrm>
            <a:off x="1476360" y="26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定的水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2771640" y="3357720"/>
            <a:ext cx="792000" cy="2376360"/>
            <a:chOff x="2771640" y="3357720"/>
            <a:chExt cx="792000" cy="2376360"/>
          </a:xfrm>
        </p:grpSpPr>
        <p:sp>
          <p:nvSpPr>
            <p:cNvPr id="201" name="Line 9"/>
            <p:cNvSpPr/>
            <p:nvPr/>
          </p:nvSpPr>
          <p:spPr>
            <a:xfrm>
              <a:off x="2771640" y="4149720"/>
              <a:ext cx="792000" cy="158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2987640" y="3357720"/>
              <a:ext cx="576000" cy="230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1"/>
          <p:cNvSpPr/>
          <p:nvPr/>
        </p:nvSpPr>
        <p:spPr>
          <a:xfrm>
            <a:off x="2341440" y="580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充足的空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"/>
          <p:cNvGrpSpPr/>
          <p:nvPr/>
        </p:nvGrpSpPr>
        <p:grpSpPr>
          <a:xfrm>
            <a:off x="3203640" y="3213000"/>
            <a:ext cx="4104360" cy="2736720"/>
            <a:chOff x="3203640" y="3213000"/>
            <a:chExt cx="4104360" cy="2736720"/>
          </a:xfrm>
        </p:grpSpPr>
        <p:sp>
          <p:nvSpPr>
            <p:cNvPr id="205" name="Line 12"/>
            <p:cNvSpPr/>
            <p:nvPr/>
          </p:nvSpPr>
          <p:spPr>
            <a:xfrm>
              <a:off x="3203640" y="3213000"/>
              <a:ext cx="2952360" cy="2664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6155640" y="3284280"/>
              <a:ext cx="1152360" cy="2665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4"/>
          <p:cNvSpPr/>
          <p:nvPr/>
        </p:nvSpPr>
        <p:spPr>
          <a:xfrm>
            <a:off x="5292720" y="59500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适宜的温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24000" y="69228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8000" y="260280"/>
            <a:ext cx="8604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第一节种子的萌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吸收水分，子叶   胚乳   胚根、胚芽、胚轴    胚根   胚轴   茎   叶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环境    自身    适宜的温度、一定的水分、充足的空气   已度过休眠期、储存时间短、饱满以及破损率极低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抽样检测 </a:t>
            </a:r>
            <a:br>
              <a:rPr sz="3600"/>
            </a:b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D        2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C     3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95280" y="33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：种子萌发需要什么条件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9"/>
          <p:cNvGrpSpPr/>
          <p:nvPr/>
        </p:nvGrpSpPr>
        <p:grpSpPr>
          <a:xfrm>
            <a:off x="0" y="1268280"/>
            <a:ext cx="4174920" cy="3024000"/>
            <a:chOff x="0" y="1268280"/>
            <a:chExt cx="4174920" cy="3024000"/>
          </a:xfrm>
        </p:grpSpPr>
        <p:pic>
          <p:nvPicPr>
            <p:cNvPr id="86" name="Picture 4" descr="1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0" y="1268280"/>
              <a:ext cx="417492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Oval 8"/>
            <p:cNvSpPr/>
            <p:nvPr/>
          </p:nvSpPr>
          <p:spPr>
            <a:xfrm>
              <a:off x="892440" y="1683000"/>
              <a:ext cx="259920" cy="35064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5219640" y="3933720"/>
            <a:ext cx="3924360" cy="2895480"/>
            <a:chOff x="5219640" y="3933720"/>
            <a:chExt cx="3924360" cy="2895480"/>
          </a:xfrm>
        </p:grpSpPr>
        <p:pic>
          <p:nvPicPr>
            <p:cNvPr id="89" name="Picture 6" descr="3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5219640" y="3933720"/>
              <a:ext cx="392436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Oval 10"/>
            <p:cNvSpPr/>
            <p:nvPr/>
          </p:nvSpPr>
          <p:spPr>
            <a:xfrm>
              <a:off x="6227640" y="4222800"/>
              <a:ext cx="287280" cy="43164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468360" y="33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萌发的外界条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859280" y="333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演示实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 rot="1065600">
            <a:off x="3924000" y="3643200"/>
            <a:ext cx="1584360" cy="433440"/>
          </a:xfrm>
          <a:prstGeom prst="rightArrow">
            <a:avLst>
              <a:gd name="adj1" fmla="val 50000"/>
              <a:gd name="adj2" fmla="val 913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3"/>
          <p:cNvGrpSpPr/>
          <p:nvPr/>
        </p:nvGrpSpPr>
        <p:grpSpPr>
          <a:xfrm>
            <a:off x="-181080" y="-27000"/>
            <a:ext cx="2557440" cy="1886040"/>
            <a:chOff x="-181080" y="-27000"/>
            <a:chExt cx="2557440" cy="1886040"/>
          </a:xfrm>
        </p:grpSpPr>
        <p:pic>
          <p:nvPicPr>
            <p:cNvPr id="95" name="Picture 4" descr="3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-181080" y="-2700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Oval 5"/>
            <p:cNvSpPr/>
            <p:nvPr/>
          </p:nvSpPr>
          <p:spPr>
            <a:xfrm>
              <a:off x="475560" y="16128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2085840" y="-27000"/>
            <a:ext cx="2557440" cy="1886040"/>
            <a:chOff x="2085840" y="-27000"/>
            <a:chExt cx="2557440" cy="1886040"/>
          </a:xfrm>
        </p:grpSpPr>
        <p:pic>
          <p:nvPicPr>
            <p:cNvPr id="98" name="Picture 7" descr="3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2085840" y="-2700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val 8"/>
            <p:cNvSpPr/>
            <p:nvPr/>
          </p:nvSpPr>
          <p:spPr>
            <a:xfrm>
              <a:off x="2742480" y="16128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4427640" y="-27000"/>
            <a:ext cx="2557440" cy="1886040"/>
            <a:chOff x="4427640" y="-27000"/>
            <a:chExt cx="2557440" cy="1886040"/>
          </a:xfrm>
        </p:grpSpPr>
        <p:pic>
          <p:nvPicPr>
            <p:cNvPr id="101" name="Picture 10" descr="3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4427640" y="-2700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11"/>
            <p:cNvSpPr/>
            <p:nvPr/>
          </p:nvSpPr>
          <p:spPr>
            <a:xfrm>
              <a:off x="5084280" y="16128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6732720" y="-27000"/>
            <a:ext cx="2557440" cy="1886040"/>
            <a:chOff x="6732720" y="-27000"/>
            <a:chExt cx="2557440" cy="1886040"/>
          </a:xfrm>
        </p:grpSpPr>
        <p:pic>
          <p:nvPicPr>
            <p:cNvPr id="104" name="Picture 13" descr="3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6732720" y="-2700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14"/>
            <p:cNvSpPr/>
            <p:nvPr/>
          </p:nvSpPr>
          <p:spPr>
            <a:xfrm>
              <a:off x="7389360" y="16128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5"/>
          <p:cNvSpPr/>
          <p:nvPr/>
        </p:nvSpPr>
        <p:spPr>
          <a:xfrm>
            <a:off x="250920" y="1773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洒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95280" y="4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627280" y="4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003640" y="4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7308720" y="4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2268360" y="177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点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4716360" y="177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点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02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多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538200" y="2282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2484360" y="2276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7236000" y="22827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5003640" y="2276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冰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7"/>
          <p:cNvGrpSpPr/>
          <p:nvPr/>
        </p:nvGrpSpPr>
        <p:grpSpPr>
          <a:xfrm>
            <a:off x="-108000" y="4724280"/>
            <a:ext cx="2557440" cy="1886040"/>
            <a:chOff x="-108000" y="4724280"/>
            <a:chExt cx="2557440" cy="1886040"/>
          </a:xfrm>
        </p:grpSpPr>
        <p:grpSp>
          <p:nvGrpSpPr>
            <p:cNvPr id="119" name="Group 48"/>
            <p:cNvGrpSpPr/>
            <p:nvPr/>
          </p:nvGrpSpPr>
          <p:grpSpPr>
            <a:xfrm>
              <a:off x="-108000" y="4724280"/>
              <a:ext cx="2557440" cy="1886040"/>
              <a:chOff x="-108000" y="4724280"/>
              <a:chExt cx="2557440" cy="1886040"/>
            </a:xfrm>
          </p:grpSpPr>
          <p:pic>
            <p:nvPicPr>
              <p:cNvPr id="120" name="Picture 49" descr="3"/>
              <p:cNvPicPr/>
              <p:nvPr/>
            </p:nvPicPr>
            <p:blipFill>
              <a:blip r:embed="rId5">
                <a:lum contrast="6000"/>
              </a:blip>
              <a:stretch/>
            </p:blipFill>
            <p:spPr>
              <a:xfrm>
                <a:off x="-108000" y="4724280"/>
                <a:ext cx="2557440" cy="18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val 50"/>
              <p:cNvSpPr/>
              <p:nvPr/>
            </p:nvSpPr>
            <p:spPr>
              <a:xfrm>
                <a:off x="548640" y="4912560"/>
                <a:ext cx="187200" cy="281160"/>
              </a:xfrm>
              <a:prstGeom prst="ellipse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7"/>
            <p:cNvSpPr/>
            <p:nvPr/>
          </p:nvSpPr>
          <p:spPr>
            <a:xfrm>
              <a:off x="468360" y="47955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70"/>
          <p:cNvGrpSpPr/>
          <p:nvPr/>
        </p:nvGrpSpPr>
        <p:grpSpPr>
          <a:xfrm>
            <a:off x="4500720" y="4724280"/>
            <a:ext cx="2557440" cy="1886040"/>
            <a:chOff x="4500720" y="4724280"/>
            <a:chExt cx="2557440" cy="1886040"/>
          </a:xfrm>
        </p:grpSpPr>
        <p:grpSp>
          <p:nvGrpSpPr>
            <p:cNvPr id="124" name="Group 51"/>
            <p:cNvGrpSpPr/>
            <p:nvPr/>
          </p:nvGrpSpPr>
          <p:grpSpPr>
            <a:xfrm>
              <a:off x="4500720" y="4724280"/>
              <a:ext cx="2557440" cy="1886040"/>
              <a:chOff x="4500720" y="4724280"/>
              <a:chExt cx="2557440" cy="1886040"/>
            </a:xfrm>
          </p:grpSpPr>
          <p:pic>
            <p:nvPicPr>
              <p:cNvPr id="125" name="Picture 52" descr="3"/>
              <p:cNvPicPr/>
              <p:nvPr/>
            </p:nvPicPr>
            <p:blipFill>
              <a:blip r:embed="rId6">
                <a:lum contrast="6000"/>
              </a:blip>
              <a:stretch/>
            </p:blipFill>
            <p:spPr>
              <a:xfrm>
                <a:off x="4500720" y="4724280"/>
                <a:ext cx="2557440" cy="18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Oval 53"/>
              <p:cNvSpPr/>
              <p:nvPr/>
            </p:nvSpPr>
            <p:spPr>
              <a:xfrm>
                <a:off x="5157360" y="4912560"/>
                <a:ext cx="187200" cy="281160"/>
              </a:xfrm>
              <a:prstGeom prst="ellipse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59"/>
            <p:cNvSpPr/>
            <p:nvPr/>
          </p:nvSpPr>
          <p:spPr>
            <a:xfrm>
              <a:off x="5077080" y="47955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75"/>
          <p:cNvGrpSpPr/>
          <p:nvPr/>
        </p:nvGrpSpPr>
        <p:grpSpPr>
          <a:xfrm>
            <a:off x="2411280" y="4849920"/>
            <a:ext cx="2303640" cy="1745640"/>
            <a:chOff x="2411280" y="4849920"/>
            <a:chExt cx="2303640" cy="1745640"/>
          </a:xfrm>
        </p:grpSpPr>
        <p:pic>
          <p:nvPicPr>
            <p:cNvPr id="129" name="Picture 61" descr="4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2411280" y="4871880"/>
              <a:ext cx="230364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2"/>
            <p:cNvSpPr/>
            <p:nvPr/>
          </p:nvSpPr>
          <p:spPr>
            <a:xfrm rot="237600">
              <a:off x="2842560" y="4869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AutoShape 64"/>
          <p:cNvSpPr/>
          <p:nvPr/>
        </p:nvSpPr>
        <p:spPr>
          <a:xfrm>
            <a:off x="684360" y="3213000"/>
            <a:ext cx="502920" cy="1152720"/>
          </a:xfrm>
          <a:prstGeom prst="downArrow">
            <a:avLst>
              <a:gd name="adj1" fmla="val 50000"/>
              <a:gd name="adj2" fmla="val 573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5"/>
          <p:cNvSpPr/>
          <p:nvPr/>
        </p:nvSpPr>
        <p:spPr>
          <a:xfrm>
            <a:off x="2484360" y="3213000"/>
            <a:ext cx="503280" cy="1152720"/>
          </a:xfrm>
          <a:prstGeom prst="downArrow">
            <a:avLst>
              <a:gd name="adj1" fmla="val 50000"/>
              <a:gd name="adj2" fmla="val 572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9"/>
          <p:cNvSpPr/>
          <p:nvPr/>
        </p:nvSpPr>
        <p:spPr>
          <a:xfrm>
            <a:off x="5219640" y="314172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4"/>
          <p:cNvGrpSpPr/>
          <p:nvPr/>
        </p:nvGrpSpPr>
        <p:grpSpPr>
          <a:xfrm>
            <a:off x="6805440" y="4724280"/>
            <a:ext cx="2557440" cy="1886040"/>
            <a:chOff x="6805440" y="4724280"/>
            <a:chExt cx="2557440" cy="1886040"/>
          </a:xfrm>
        </p:grpSpPr>
        <p:grpSp>
          <p:nvGrpSpPr>
            <p:cNvPr id="135" name="Group 54"/>
            <p:cNvGrpSpPr/>
            <p:nvPr/>
          </p:nvGrpSpPr>
          <p:grpSpPr>
            <a:xfrm>
              <a:off x="6805440" y="4724280"/>
              <a:ext cx="2557440" cy="1886040"/>
              <a:chOff x="6805440" y="4724280"/>
              <a:chExt cx="2557440" cy="1886040"/>
            </a:xfrm>
          </p:grpSpPr>
          <p:pic>
            <p:nvPicPr>
              <p:cNvPr id="136" name="Picture 55" descr="3"/>
              <p:cNvPicPr/>
              <p:nvPr/>
            </p:nvPicPr>
            <p:blipFill>
              <a:blip r:embed="rId8">
                <a:lum contrast="6000"/>
              </a:blip>
              <a:stretch/>
            </p:blipFill>
            <p:spPr>
              <a:xfrm>
                <a:off x="6805440" y="4724280"/>
                <a:ext cx="2557440" cy="18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Oval 56"/>
              <p:cNvSpPr/>
              <p:nvPr/>
            </p:nvSpPr>
            <p:spPr>
              <a:xfrm>
                <a:off x="7462080" y="4912560"/>
                <a:ext cx="187200" cy="281160"/>
              </a:xfrm>
              <a:prstGeom prst="ellipse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60"/>
            <p:cNvSpPr/>
            <p:nvPr/>
          </p:nvSpPr>
          <p:spPr>
            <a:xfrm>
              <a:off x="7381800" y="47955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73"/>
          <p:cNvSpPr/>
          <p:nvPr/>
        </p:nvSpPr>
        <p:spPr>
          <a:xfrm>
            <a:off x="7524720" y="306864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95280" y="-10008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：由此实验可知道种子萌发需要什么环境条件？根据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34920" y="977760"/>
            <a:ext cx="2557440" cy="1886040"/>
            <a:chOff x="34920" y="977760"/>
            <a:chExt cx="2557440" cy="1886040"/>
          </a:xfrm>
        </p:grpSpPr>
        <p:pic>
          <p:nvPicPr>
            <p:cNvPr id="142" name="Picture 5" descr="3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34920" y="97776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6"/>
            <p:cNvSpPr/>
            <p:nvPr/>
          </p:nvSpPr>
          <p:spPr>
            <a:xfrm>
              <a:off x="691560" y="116604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4643280" y="977760"/>
            <a:ext cx="2557800" cy="1886040"/>
            <a:chOff x="4643280" y="977760"/>
            <a:chExt cx="2557800" cy="1886040"/>
          </a:xfrm>
        </p:grpSpPr>
        <p:pic>
          <p:nvPicPr>
            <p:cNvPr id="145" name="Picture 11" descr="3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4643280" y="977760"/>
              <a:ext cx="255780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12"/>
            <p:cNvSpPr/>
            <p:nvPr/>
          </p:nvSpPr>
          <p:spPr>
            <a:xfrm>
              <a:off x="5300280" y="116604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6948360" y="977760"/>
            <a:ext cx="2557440" cy="1886040"/>
            <a:chOff x="6948360" y="977760"/>
            <a:chExt cx="2557440" cy="1886040"/>
          </a:xfrm>
        </p:grpSpPr>
        <p:pic>
          <p:nvPicPr>
            <p:cNvPr id="148" name="Picture 14" descr="3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6948360" y="97776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5"/>
            <p:cNvSpPr/>
            <p:nvPr/>
          </p:nvSpPr>
          <p:spPr>
            <a:xfrm>
              <a:off x="7605000" y="116604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6"/>
          <p:cNvSpPr/>
          <p:nvPr/>
        </p:nvSpPr>
        <p:spPr>
          <a:xfrm>
            <a:off x="466560" y="2778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洒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611280" y="1049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843280" y="1049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5219640" y="1049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7524720" y="1049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484360" y="27781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点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4932360" y="27781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点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7236000" y="27781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多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754200" y="32878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700360" y="3281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7451640" y="3287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5219640" y="328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冰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9" descr="4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2411280" y="1125360"/>
            <a:ext cx="2303640" cy="17240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0"/>
          <p:cNvSpPr/>
          <p:nvPr/>
        </p:nvSpPr>
        <p:spPr>
          <a:xfrm rot="237600">
            <a:off x="2843280" y="11206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3"/>
          <p:cNvSpPr/>
          <p:nvPr/>
        </p:nvSpPr>
        <p:spPr>
          <a:xfrm flipH="1">
            <a:off x="1763640" y="3933720"/>
            <a:ext cx="1440000" cy="1727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1187280" y="4005360"/>
            <a:ext cx="576360" cy="165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5"/>
          <p:cNvSpPr/>
          <p:nvPr/>
        </p:nvSpPr>
        <p:spPr>
          <a:xfrm flipH="1">
            <a:off x="3924000" y="3933720"/>
            <a:ext cx="1439640" cy="1727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3348000" y="4005360"/>
            <a:ext cx="576360" cy="1655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 flipH="1">
            <a:off x="6659280" y="3933720"/>
            <a:ext cx="1439640" cy="17272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8"/>
          <p:cNvSpPr/>
          <p:nvPr/>
        </p:nvSpPr>
        <p:spPr>
          <a:xfrm>
            <a:off x="3564000" y="3860640"/>
            <a:ext cx="3095640" cy="18003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250920" y="558972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的水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2987640" y="55958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适宜的温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5940360" y="56674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充足的空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95280" y="227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及讨论题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24000" y="112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6"/>
          <p:cNvSpPr/>
          <p:nvPr/>
        </p:nvSpPr>
        <p:spPr>
          <a:xfrm>
            <a:off x="468360" y="836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提供适宜的温度、一定的水分和充足的空气，种子就一定能萌发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403280" y="2852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倒数第一段，什么样的种子才能萌发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050920" y="4292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82692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定种子发芽率的探究活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1628640"/>
            <a:ext cx="63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么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16000" y="3718080"/>
            <a:ext cx="295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讨论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DSCN0541"/>
          <p:cNvPicPr/>
          <p:nvPr/>
        </p:nvPicPr>
        <p:blipFill>
          <a:blip r:embed="rId1"/>
          <a:stretch/>
        </p:blipFill>
        <p:spPr>
          <a:xfrm>
            <a:off x="4229280" y="1413000"/>
            <a:ext cx="4914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pic_4087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471760" y="115920"/>
            <a:ext cx="6672240" cy="6742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395280" y="484200"/>
            <a:ext cx="446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萌发的过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1:55:0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23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