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966B-026F-479C-BFBA-294322B4E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ED24-A29D-47B0-8C80-23AA9830B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9EA9-DE92-496D-9D52-346BB8563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E517-3D60-42F3-AF04-825BE31BD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EFE2-ADA2-453D-BC82-33365F692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260D-7B06-4565-8CB1-CB68329A4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629E-8494-49B5-B14D-DA231A1B7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B6B8-4470-4303-90AA-CEB811574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77E0-FCE1-4000-A57F-E92D98D56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487F-3691-4714-992F-108C4773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5645-AB6B-4984-8C18-8EA726C5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A13B-E3EB-4899-9426-42D251F4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85AF2-74A0-4AB9-B5BB-D5C5B61FE9A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1B062-641C-4F2C-BEFD-C5C3A19BBED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5T07:09:00Z</dcterms:created>
  <dc:creator/>
  <dc:description>ppt模板下载网站 http://www.eeppt.com</dc:description>
  <cp:keywords>ppt模板下载网站 http:/www.eeppt.com</cp:keywords>
  <dc:language>en-US</dc:language>
  <cp:lastModifiedBy/>
  <dcterms:modified xsi:type="dcterms:W3CDTF">2015-05-20T15:19:44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