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731-CFB6-4CDE-A5B6-08D281AA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F376-1427-47AD-BACE-60CEAC71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1F5-E54A-43F7-8600-213A6DFB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03D-C3E8-493D-B90B-A97A3251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3594-FC2C-43F4-8820-515027DC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727-B1BD-4366-9568-A0D98B0E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D34-EC74-49EC-930E-29DD5621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8CC-6BA0-4FC0-8CC1-BAE85F7F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A9BE-5E8E-4FA9-B62E-2C5DFAA6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A90-2D86-4E78-B809-34F99127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01C-E163-4647-86EA-A0BE7EA3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A20-68CD-482D-9F9C-2715CFF5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415800" indent="4158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831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248120" indent="-41580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63920" indent="-831960">
              <a:spcBef>
                <a:spcPts val="799"/>
              </a:spcBef>
              <a:buClr>
                <a:srgbClr val="ffffff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5F2C-7E92-4D62-BF1A-0B976CCF10B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BC62-4ED6-44E1-B894-F6590BBAB9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157480" y="199224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7"/>
          <p:cNvSpPr/>
          <p:nvPr/>
        </p:nvSpPr>
        <p:spPr>
          <a:xfrm>
            <a:off x="3633120" y="31464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标题</a:t>
            </a:r>
            <a:r>
              <a:rPr b="0" lang="en-US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92752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3633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4341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505008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3"/>
          <p:cNvSpPr/>
          <p:nvPr/>
        </p:nvSpPr>
        <p:spPr>
          <a:xfrm>
            <a:off x="575784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6465960" y="19922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157480" y="1995480"/>
            <a:ext cx="6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0"/>
          <p:cNvSpPr/>
          <p:nvPr/>
        </p:nvSpPr>
        <p:spPr>
          <a:xfrm>
            <a:off x="292752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>
            <a:off x="3633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2"/>
          <p:cNvSpPr/>
          <p:nvPr/>
        </p:nvSpPr>
        <p:spPr>
          <a:xfrm>
            <a:off x="4341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3"/>
          <p:cNvSpPr/>
          <p:nvPr/>
        </p:nvSpPr>
        <p:spPr>
          <a:xfrm>
            <a:off x="505008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4"/>
          <p:cNvSpPr/>
          <p:nvPr/>
        </p:nvSpPr>
        <p:spPr>
          <a:xfrm>
            <a:off x="575784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5"/>
          <p:cNvSpPr/>
          <p:nvPr/>
        </p:nvSpPr>
        <p:spPr>
          <a:xfrm>
            <a:off x="646596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6"/>
          <p:cNvSpPr/>
          <p:nvPr/>
        </p:nvSpPr>
        <p:spPr>
          <a:xfrm>
            <a:off x="3735360" y="3619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汉仪行楷简"/>
                <a:ea typeface="汉仪行楷简"/>
              </a:rPr>
              <a:t>答辩人：某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4699939">
                                      <p:cBhvr>
                                        <p:cTn id="6" dur="5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50"/>
                            </p:stCondLst>
                            <p:childTnLst>
                              <p:par>
                                <p:cTn id="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9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6599940">
                                      <p:cBhvr>
                                        <p:cTn id="11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6000000">
                                      <p:cBhvr>
                                        <p:cTn id="13" dur="3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5" dur="55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5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5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8">
                                  <p:stCondLst>
                                    <p:cond delay="50"/>
                                  </p:stCondLst>
                                  <p:childTnLst>
                                    <p:animRot by="14700000">
                                      <p:cBhvr>
                                        <p:cTn id="20" dur="6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22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24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850"/>
                            </p:stCondLst>
                            <p:childTnLst>
                              <p:par>
                                <p:cTn id="2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27" dur="3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29" dur="7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7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34" dur="6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36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38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150"/>
                            </p:stCondLst>
                            <p:childTnLst>
                              <p:par>
                                <p:cTn id="40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41" dur="3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43" dur="7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" dur="7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48" dur="6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50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52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450"/>
                            </p:stCondLst>
                            <p:childTnLst>
                              <p:par>
                                <p:cTn id="5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55" dur="35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57" dur="7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7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-14699939">
                                      <p:cBhvr>
                                        <p:cTn id="62" dur="6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7200000">
                                      <p:cBhvr>
                                        <p:cTn id="64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599940">
                                      <p:cBhvr>
                                        <p:cTn id="66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mph" presetID="8">
                                  <p:stCondLst>
                                    <p:cond delay="350"/>
                                  </p:stCondLst>
                                  <p:childTnLst>
                                    <p:animRot by="6000000">
                                      <p:cBhvr>
                                        <p:cTn id="68" dur="3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path" presetID="42">
                                  <p:stCondLst>
                                    <p:cond delay="35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70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0">
                                  <p:stCondLst>
                                    <p:cond delay="3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75" dur="6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77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79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750"/>
                            </p:stCondLst>
                            <p:childTnLst>
                              <p:par>
                                <p:cTn id="81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82" dur="3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84" dur="7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" dur="7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89" dur="6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91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93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050"/>
                            </p:stCondLst>
                            <p:childTnLst>
                              <p:par>
                                <p:cTn id="95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96" dur="3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98" dur="7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7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700000">
                                      <p:cBhvr>
                                        <p:cTn id="103" dur="6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8">
                                  <p:stCondLst>
                                    <p:cond delay="650"/>
                                  </p:stCondLst>
                                  <p:childTnLst>
                                    <p:animRot by="-7199940">
                                      <p:cBhvr>
                                        <p:cTn id="105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mph" presetID="8">
                                  <p:stCondLst>
                                    <p:cond delay="950"/>
                                  </p:stCondLst>
                                  <p:childTnLst>
                                    <p:animRot by="6600000">
                                      <p:cBhvr>
                                        <p:cTn id="107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350"/>
                            </p:stCondLst>
                            <p:childTnLst>
                              <p:par>
                                <p:cTn id="1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999940">
                                      <p:cBhvr>
                                        <p:cTn id="110" dur="3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27746E-006 L 1.94444E-006 0.60277 E">
                                      <p:cBhvr>
                                        <p:cTn id="112" dur="7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50"/>
                            </p:stCondLst>
                            <p:childTnLst>
                              <p:par>
                                <p:cTn id="11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939">
                                      <p:cBhvr>
                                        <p:cTn id="118" dur="3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 2.22222E-006 L 0 0.36305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900000">
                                      <p:cBhvr>
                                        <p:cTn id="122" dur="3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36194 L 0.37795 0.36028 E">
                                      <p:cBhvr>
                                        <p:cTn id="12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5"/>
          <p:cNvSpPr/>
          <p:nvPr/>
        </p:nvSpPr>
        <p:spPr>
          <a:xfrm>
            <a:off x="5649840" y="-739800"/>
            <a:ext cx="285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6006960" y="-73980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6305400" y="-739800"/>
            <a:ext cx="142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6519960" y="-739800"/>
            <a:ext cx="214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>
            <a:off x="6864480" y="-739800"/>
            <a:ext cx="72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5649840" y="2260440"/>
            <a:ext cx="2858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010200" y="2260440"/>
            <a:ext cx="716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2"/>
          <p:cNvSpPr/>
          <p:nvPr/>
        </p:nvSpPr>
        <p:spPr>
          <a:xfrm>
            <a:off x="6307200" y="2260440"/>
            <a:ext cx="14292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"/>
          <p:cNvSpPr/>
          <p:nvPr/>
        </p:nvSpPr>
        <p:spPr>
          <a:xfrm>
            <a:off x="6521400" y="2260440"/>
            <a:ext cx="21420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6867360" y="2260440"/>
            <a:ext cx="71640" cy="365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5372280" y="1805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6164280" y="201312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000"/>
                </a:solidFill>
                <a:latin typeface="黑体"/>
                <a:ea typeface="黑体"/>
              </a:rPr>
              <a:t>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7"/>
          <p:cNvSpPr/>
          <p:nvPr/>
        </p:nvSpPr>
        <p:spPr>
          <a:xfrm>
            <a:off x="5649840" y="-739800"/>
            <a:ext cx="28584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6006960" y="-739800"/>
            <a:ext cx="73080" cy="264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6305400" y="-739800"/>
            <a:ext cx="1429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6519960" y="-739800"/>
            <a:ext cx="21420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6864480" y="-739800"/>
            <a:ext cx="72720" cy="27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22" descr=""/>
          <p:cNvPicPr/>
          <p:nvPr/>
        </p:nvPicPr>
        <p:blipFill>
          <a:blip r:embed="rId2"/>
          <a:stretch/>
        </p:blipFill>
        <p:spPr>
          <a:xfrm>
            <a:off x="1933560" y="1131840"/>
            <a:ext cx="2349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7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7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7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7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7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"/>
                            </p:stCondLst>
                            <p:childTnLst>
                              <p:par>
                                <p:cTn id="432" dur="indefinite" nodeType="after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2" presetSubtype="1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7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7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7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500"/>
                            </p:stCondLst>
                            <p:childTnLst>
                              <p:par>
                                <p:cTn id="473" dur="indefinite" nodeType="after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55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4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55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55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400"/>
                            </p:stCondLst>
                            <p:childTnLst>
                              <p:par>
                                <p:cTn id="49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-2493720" y="490536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: 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7"/>
          <p:cNvSpPr/>
          <p:nvPr/>
        </p:nvSpPr>
        <p:spPr>
          <a:xfrm>
            <a:off x="-69840" y="5162400"/>
            <a:ext cx="3349440" cy="0"/>
          </a:xfrm>
          <a:prstGeom prst="line">
            <a:avLst/>
          </a:prstGeom>
          <a:ln w="31680">
            <a:solidFill>
              <a:srgbClr val="ffc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>
            <a:off x="5889600" y="5162400"/>
            <a:ext cx="3349800" cy="0"/>
          </a:xfrm>
          <a:prstGeom prst="line">
            <a:avLst/>
          </a:prstGeom>
          <a:ln w="31680">
            <a:solidFill>
              <a:srgbClr val="ffc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33"/>
          <p:cNvSpPr/>
          <p:nvPr/>
        </p:nvSpPr>
        <p:spPr>
          <a:xfrm>
            <a:off x="1979640" y="3002040"/>
            <a:ext cx="1299960" cy="21603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35"/>
          <p:cNvSpPr/>
          <p:nvPr/>
        </p:nvSpPr>
        <p:spPr>
          <a:xfrm flipV="1">
            <a:off x="1979640" y="1201320"/>
            <a:ext cx="1008000" cy="180036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7"/>
          <p:cNvSpPr/>
          <p:nvPr/>
        </p:nvSpPr>
        <p:spPr>
          <a:xfrm>
            <a:off x="2987640" y="1201680"/>
            <a:ext cx="2736720" cy="216000"/>
          </a:xfrm>
          <a:prstGeom prst="line">
            <a:avLst/>
          </a:prstGeom>
          <a:ln w="57240">
            <a:solidFill>
              <a:srgbClr val="ffc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39"/>
          <p:cNvSpPr/>
          <p:nvPr/>
        </p:nvSpPr>
        <p:spPr>
          <a:xfrm>
            <a:off x="5724360" y="1417680"/>
            <a:ext cx="1224000" cy="21607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41"/>
          <p:cNvSpPr/>
          <p:nvPr/>
        </p:nvSpPr>
        <p:spPr>
          <a:xfrm flipH="1">
            <a:off x="5889240" y="3578400"/>
            <a:ext cx="1058760" cy="158400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3191040" y="5059440"/>
            <a:ext cx="21564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3"/>
          <p:cNvSpPr/>
          <p:nvPr/>
        </p:nvSpPr>
        <p:spPr>
          <a:xfrm>
            <a:off x="2292480" y="453960"/>
            <a:ext cx="1390680" cy="14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44"/>
          <p:cNvSpPr/>
          <p:nvPr/>
        </p:nvSpPr>
        <p:spPr>
          <a:xfrm>
            <a:off x="4619520" y="284040"/>
            <a:ext cx="2210040" cy="2195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验证模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45"/>
          <p:cNvSpPr/>
          <p:nvPr/>
        </p:nvSpPr>
        <p:spPr>
          <a:xfrm>
            <a:off x="6299280" y="2884320"/>
            <a:ext cx="1252440" cy="13003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42"/>
          <p:cNvSpPr/>
          <p:nvPr/>
        </p:nvSpPr>
        <p:spPr>
          <a:xfrm>
            <a:off x="1173240" y="2281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11111E-006 L 0.63698 0.00472 E">
                                      <p:cBhvr>
                                        <p:cTn id="132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33333E-006 L -0.14427 -0.37889 E">
                                      <p:cBhvr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00"/>
                            </p:stCondLst>
                            <p:childTnLst>
                              <p:par>
                                <p:cTn id="1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427 -0.37889 L -0.03402 -0.69389 E">
                                      <p:cBhvr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"/>
                            </p:stCondLst>
                            <p:childTnLst>
                              <p:par>
                                <p:cTn id="17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02 -0.69389 L 0.26528 -0.65611 E">
                                      <p:cBhvr>
                                        <p:cTn id="18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00"/>
                            </p:stCondLst>
                            <p:childTnLst>
                              <p:par>
                                <p:cTn id="19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528 -0.65611 L 0.39914 -0.29084 E">
                                      <p:cBhvr>
                                        <p:cTn id="20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8" dur="2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10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"/>
                            </p:stCondLst>
                            <p:childTnLst>
                              <p:par>
                                <p:cTn id="2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8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914 -0.2775 L 0.28091 -0.00028 E">
                                      <p:cBhvr>
                                        <p:cTn id="225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91 -0.00084 L 0.69046 -0.00084 E">
                                      <p:cBhvr>
                                        <p:cTn id="233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椭圆 3"/>
          <p:cNvSpPr/>
          <p:nvPr/>
        </p:nvSpPr>
        <p:spPr>
          <a:xfrm>
            <a:off x="3808440" y="1849320"/>
            <a:ext cx="15271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4"/>
          <p:cNvSpPr/>
          <p:nvPr/>
        </p:nvSpPr>
        <p:spPr>
          <a:xfrm>
            <a:off x="-69840" y="5162400"/>
            <a:ext cx="1041480" cy="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6"/>
          <p:cNvSpPr/>
          <p:nvPr/>
        </p:nvSpPr>
        <p:spPr>
          <a:xfrm flipV="1">
            <a:off x="971640" y="2641680"/>
            <a:ext cx="1800000" cy="25207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2771640" y="2641680"/>
            <a:ext cx="1008360" cy="936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20"/>
          <p:cNvSpPr/>
          <p:nvPr/>
        </p:nvSpPr>
        <p:spPr>
          <a:xfrm>
            <a:off x="5315040" y="2651040"/>
            <a:ext cx="1417680" cy="79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2"/>
          <p:cNvSpPr/>
          <p:nvPr/>
        </p:nvSpPr>
        <p:spPr>
          <a:xfrm>
            <a:off x="6732720" y="2660760"/>
            <a:ext cx="934920" cy="250164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7"/>
          <p:cNvSpPr/>
          <p:nvPr/>
        </p:nvSpPr>
        <p:spPr>
          <a:xfrm>
            <a:off x="7667640" y="5162400"/>
            <a:ext cx="1584360" cy="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31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C671-94A5-43B7-8143-340EBA4A31CA}" type="slidenum">
              <a:t>3</a:t>
            </a:fld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63076E-006 L 0.09444 -0.00083 E">
                                      <p:cBhvr>
                                        <p:cTn id="239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"/>
                            </p:stCondLst>
                            <p:childTnLst>
                              <p:par>
                                <p:cTn id="24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-0.00083 L 0.29132 -0.44169 E">
                                      <p:cBhvr>
                                        <p:cTn id="242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32 -0.44169 L 0.40156 -0.44169 E">
                                      <p:cBhvr>
                                        <p:cTn id="245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44169 C 0.39513 -0.45141 0.39757 -0.46113 0.39878 -0.47084 C 0.4 -0.48139 0.39843 -0.49361 0.40208 -0.50249 C 0.40555 -0.51166 0.41041 -0.51582 0.41527 -0.52359 C 0.41736 -0.5347 0.41979 -0.53498 0.42517 -0.54219 C 0.43072 -0.54913 0.43541 -0.55802 0.4401 -0.56635 C 0.44375 -0.57218 0.44288 -0.57634 0.44843 -0.5794 C 0.45225 -0.58106 0.45625 -0.58134 0.46007 -0.58217 C 0.46736 -0.58606 0.47447 -0.58883 0.48159 -0.59244 C 0.50243 -0.58939 0.50052 -0.58661 0.51805 -0.57662 C 0.5217 -0.57468 0.52604 -0.5744 0.52968 -0.57134 C 0.53784 -0.56496 0.53177 -0.56829 0.53802 -0.56079 C 0.54132 -0.55691 0.54809 -0.55025 0.54809 -0.54997 C 0.5526 -0.5397 0.55538 -0.52887 0.55972 -0.51832 C 0.56145 -0.50666 0.56267 -0.49555 0.56788 -0.48667 C 0.57135 -0.47084 0.57465 -0.45585 0.57465 -0.43892 E">
                                      <p:cBhvr>
                                        <p:cTn id="249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65 -0.43892 L 0.72447 -0.44169 E">
                                      <p:cBhvr>
                                        <p:cTn id="252" dur="3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00"/>
                            </p:stCondLst>
                            <p:childTnLst>
                              <p:par>
                                <p:cTn id="25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447 -0.44169 L 0.82673 -0.00083 E">
                                      <p:cBhvr>
                                        <p:cTn id="255" dur="4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"/>
                            </p:stCondLst>
                            <p:childTnLst>
                              <p:par>
                                <p:cTn id="257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673 -0.00083 L 1.00798 -0.00083 E">
                                      <p:cBhvr>
                                        <p:cTn id="258" dur="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2"/>
          <p:cNvSpPr/>
          <p:nvPr/>
        </p:nvSpPr>
        <p:spPr>
          <a:xfrm rot="19164600">
            <a:off x="-847800" y="318960"/>
            <a:ext cx="3600360" cy="71928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资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组合 34"/>
          <p:cNvGrpSpPr/>
          <p:nvPr/>
        </p:nvGrpSpPr>
        <p:grpSpPr>
          <a:xfrm>
            <a:off x="6956280" y="-1766880"/>
            <a:ext cx="1930680" cy="1457640"/>
            <a:chOff x="6956280" y="-1766880"/>
            <a:chExt cx="1930680" cy="1457640"/>
          </a:xfrm>
        </p:grpSpPr>
        <p:sp>
          <p:nvSpPr>
            <p:cNvPr id="80" name="椭圆​​ 24"/>
            <p:cNvSpPr/>
            <p:nvPr/>
          </p:nvSpPr>
          <p:spPr>
            <a:xfrm>
              <a:off x="718020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​​ 25"/>
            <p:cNvSpPr/>
            <p:nvPr/>
          </p:nvSpPr>
          <p:spPr>
            <a:xfrm>
              <a:off x="846432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圆角矩形​​ 26"/>
            <p:cNvSpPr/>
            <p:nvPr/>
          </p:nvSpPr>
          <p:spPr>
            <a:xfrm>
              <a:off x="6956280" y="-904320"/>
              <a:ext cx="193068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3"/>
            <p:cNvSpPr/>
            <p:nvPr/>
          </p:nvSpPr>
          <p:spPr>
            <a:xfrm>
              <a:off x="7047360" y="-832680"/>
              <a:ext cx="179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Firm-bas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直接连接符​​ 22"/>
            <p:cNvSpPr/>
            <p:nvPr/>
          </p:nvSpPr>
          <p:spPr>
            <a:xfrm flipV="1">
              <a:off x="7289640" y="-1766880"/>
              <a:ext cx="100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​​ 23"/>
            <p:cNvSpPr/>
            <p:nvPr/>
          </p:nvSpPr>
          <p:spPr>
            <a:xfrm flipV="1">
              <a:off x="8573400" y="-1766880"/>
              <a:ext cx="360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直接连接符 35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燕尾形 38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燕尾形 39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3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45"/>
          <p:cNvSpPr/>
          <p:nvPr/>
        </p:nvSpPr>
        <p:spPr>
          <a:xfrm>
            <a:off x="0" y="505944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8"/>
          <p:cNvGrpSpPr/>
          <p:nvPr/>
        </p:nvGrpSpPr>
        <p:grpSpPr>
          <a:xfrm>
            <a:off x="684360" y="1906560"/>
            <a:ext cx="1511280" cy="1511280"/>
            <a:chOff x="684360" y="1906560"/>
            <a:chExt cx="1511280" cy="1511280"/>
          </a:xfrm>
        </p:grpSpPr>
        <p:sp>
          <p:nvSpPr>
            <p:cNvPr id="98" name="椭圆​​ 2"/>
            <p:cNvSpPr/>
            <p:nvPr/>
          </p:nvSpPr>
          <p:spPr>
            <a:xfrm>
              <a:off x="684360" y="1906560"/>
              <a:ext cx="151128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​​ 11"/>
            <p:cNvSpPr/>
            <p:nvPr/>
          </p:nvSpPr>
          <p:spPr>
            <a:xfrm>
              <a:off x="744840" y="24588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irm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6"/>
          <p:cNvGrpSpPr/>
          <p:nvPr/>
        </p:nvGrpSpPr>
        <p:grpSpPr>
          <a:xfrm>
            <a:off x="3726000" y="1916280"/>
            <a:ext cx="1944720" cy="1942920"/>
            <a:chOff x="3726000" y="1916280"/>
            <a:chExt cx="1944720" cy="1942920"/>
          </a:xfrm>
        </p:grpSpPr>
        <p:sp>
          <p:nvSpPr>
            <p:cNvPr id="101" name="椭圆​​ 3"/>
            <p:cNvSpPr/>
            <p:nvPr/>
          </p:nvSpPr>
          <p:spPr>
            <a:xfrm>
              <a:off x="3726000" y="1916280"/>
              <a:ext cx="1944720" cy="1942920"/>
            </a:xfrm>
            <a:prstGeom prst="ellipse">
              <a:avLst/>
            </a:prstGeom>
            <a:solidFill>
              <a:srgbClr val="00b0f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矩形​​ 12"/>
            <p:cNvSpPr/>
            <p:nvPr/>
          </p:nvSpPr>
          <p:spPr>
            <a:xfrm>
              <a:off x="3859560" y="2693880"/>
              <a:ext cx="171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rand 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7"/>
          <p:cNvGrpSpPr/>
          <p:nvPr/>
        </p:nvGrpSpPr>
        <p:grpSpPr>
          <a:xfrm>
            <a:off x="7020000" y="1906560"/>
            <a:ext cx="1512720" cy="1511280"/>
            <a:chOff x="7020000" y="1906560"/>
            <a:chExt cx="1512720" cy="1511280"/>
          </a:xfrm>
        </p:grpSpPr>
        <p:sp>
          <p:nvSpPr>
            <p:cNvPr id="104" name="椭圆​​ 4"/>
            <p:cNvSpPr/>
            <p:nvPr/>
          </p:nvSpPr>
          <p:spPr>
            <a:xfrm>
              <a:off x="7020000" y="1906560"/>
              <a:ext cx="1512720" cy="1511280"/>
            </a:xfrm>
            <a:prstGeom prst="ellipse">
              <a:avLst/>
            </a:prstGeom>
            <a:solidFill>
              <a:srgbClr val="ffc0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​​ 13"/>
            <p:cNvSpPr/>
            <p:nvPr/>
          </p:nvSpPr>
          <p:spPr>
            <a:xfrm>
              <a:off x="7120800" y="2353320"/>
              <a:ext cx="13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nsum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直接连接符 4"/>
          <p:cNvSpPr/>
          <p:nvPr/>
        </p:nvSpPr>
        <p:spPr>
          <a:xfrm>
            <a:off x="2195640" y="2662200"/>
            <a:ext cx="1530360" cy="225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57"/>
          <p:cNvSpPr/>
          <p:nvPr/>
        </p:nvSpPr>
        <p:spPr>
          <a:xfrm flipV="1">
            <a:off x="5705640" y="2661840"/>
            <a:ext cx="1314360" cy="298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58"/>
          <p:cNvGrpSpPr/>
          <p:nvPr/>
        </p:nvGrpSpPr>
        <p:grpSpPr>
          <a:xfrm>
            <a:off x="6928200" y="-1766880"/>
            <a:ext cx="2015640" cy="1457640"/>
            <a:chOff x="6928200" y="-1766880"/>
            <a:chExt cx="2015640" cy="1457640"/>
          </a:xfrm>
        </p:grpSpPr>
        <p:sp>
          <p:nvSpPr>
            <p:cNvPr id="109" name="椭圆​​ 24"/>
            <p:cNvSpPr/>
            <p:nvPr/>
          </p:nvSpPr>
          <p:spPr>
            <a:xfrm>
              <a:off x="717372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​​ 25"/>
            <p:cNvSpPr/>
            <p:nvPr/>
          </p:nvSpPr>
          <p:spPr>
            <a:xfrm>
              <a:off x="8457840" y="-10364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圆角矩形​​ 26"/>
            <p:cNvSpPr/>
            <p:nvPr/>
          </p:nvSpPr>
          <p:spPr>
            <a:xfrm>
              <a:off x="6949800" y="-904320"/>
              <a:ext cx="193068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62"/>
            <p:cNvSpPr/>
            <p:nvPr/>
          </p:nvSpPr>
          <p:spPr>
            <a:xfrm>
              <a:off x="6928200" y="-813600"/>
              <a:ext cx="201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sumer-bas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​​ 22"/>
            <p:cNvSpPr/>
            <p:nvPr/>
          </p:nvSpPr>
          <p:spPr>
            <a:xfrm flipV="1">
              <a:off x="7283160" y="-1766880"/>
              <a:ext cx="1008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​​ 23"/>
            <p:cNvSpPr/>
            <p:nvPr/>
          </p:nvSpPr>
          <p:spPr>
            <a:xfrm flipV="1">
              <a:off x="8566920" y="-1766880"/>
              <a:ext cx="3600" cy="730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7083 -0.00084 E">
                                      <p:cBhvr>
                                        <p:cTn id="264" dur="3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"/>
                            </p:stCondLst>
                            <p:childTnLst>
                              <p:par>
                                <p:cTn id="26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3 -0.00084 L 0.07083 -0.68139 E">
                                      <p:cBhvr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00"/>
                            </p:stCondLst>
                            <p:childTnLst>
                              <p:par>
                                <p:cTn id="2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"/>
                            </p:stCondLst>
                            <p:childTnLst>
                              <p:par>
                                <p:cTn id="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1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4" dur="1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28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31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2316240" y="2077920"/>
            <a:ext cx="35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 rot="2700000">
            <a:off x="6352920" y="539640"/>
            <a:ext cx="360036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4"/>
          <p:cNvGrpSpPr/>
          <p:nvPr/>
        </p:nvGrpSpPr>
        <p:grpSpPr>
          <a:xfrm>
            <a:off x="1204920" y="-1765800"/>
            <a:ext cx="1930320" cy="1458360"/>
            <a:chOff x="1204920" y="-1765800"/>
            <a:chExt cx="1930320" cy="1458360"/>
          </a:xfrm>
        </p:grpSpPr>
        <p:sp>
          <p:nvSpPr>
            <p:cNvPr id="118" name="椭圆​​ 24"/>
            <p:cNvSpPr/>
            <p:nvPr/>
          </p:nvSpPr>
          <p:spPr>
            <a:xfrm>
              <a:off x="1428840" y="-10346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​​ 25"/>
            <p:cNvSpPr/>
            <p:nvPr/>
          </p:nvSpPr>
          <p:spPr>
            <a:xfrm>
              <a:off x="2712600" y="-1034640"/>
              <a:ext cx="218520" cy="218520"/>
            </a:xfrm>
            <a:prstGeom prst="ellipse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圆角矩形​​ 26"/>
            <p:cNvSpPr/>
            <p:nvPr/>
          </p:nvSpPr>
          <p:spPr>
            <a:xfrm>
              <a:off x="1204920" y="-902520"/>
              <a:ext cx="1930320" cy="595080"/>
            </a:xfrm>
            <a:prstGeom prst="roundRect">
              <a:avLst>
                <a:gd name="adj" fmla="val 10329"/>
              </a:avLst>
            </a:pr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23"/>
            <p:cNvSpPr/>
            <p:nvPr/>
          </p:nvSpPr>
          <p:spPr>
            <a:xfrm>
              <a:off x="1345320" y="-830880"/>
              <a:ext cx="172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ain Poi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​​ 22"/>
            <p:cNvSpPr/>
            <p:nvPr/>
          </p:nvSpPr>
          <p:spPr>
            <a:xfrm flipV="1">
              <a:off x="1537920" y="-1765800"/>
              <a:ext cx="1008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​​ 23"/>
            <p:cNvSpPr/>
            <p:nvPr/>
          </p:nvSpPr>
          <p:spPr>
            <a:xfrm flipV="1">
              <a:off x="2821680" y="-1765800"/>
              <a:ext cx="3600" cy="7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直接连接符 35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36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37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燕尾形 38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燕尾形 39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燕尾形 40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1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2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3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44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24"/>
          <p:cNvSpPr/>
          <p:nvPr/>
        </p:nvSpPr>
        <p:spPr>
          <a:xfrm>
            <a:off x="8605800" y="5065560"/>
            <a:ext cx="216000" cy="21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2222E-006 L -1.38889E-006 -0.55639 E">
                                      <p:cBhvr>
                                        <p:cTn id="337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5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dur="indefinite" nodeType="after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348" dur="1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699940">
                                      <p:cBhvr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dur="indefinite" nodeType="after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-2.22222E-006 L 0.38541 -2.22222E-006 E">
                                      <p:cBhvr>
                                        <p:cTn id="362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燕尾形 54"/>
          <p:cNvSpPr/>
          <p:nvPr/>
        </p:nvSpPr>
        <p:spPr>
          <a:xfrm>
            <a:off x="9064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071800" y="244476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模板下载网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eepp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c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"/>
          <p:cNvSpPr/>
          <p:nvPr/>
        </p:nvSpPr>
        <p:spPr>
          <a:xfrm>
            <a:off x="-108000" y="533520"/>
            <a:ext cx="4710240" cy="720720"/>
          </a:xfrm>
          <a:prstGeom prst="rect">
            <a:avLst/>
          </a:prstGeom>
          <a:solidFill>
            <a:srgbClr val="ffc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伤害危机对品牌资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11111E-006 L 0.26024 -0.0025 E">
                                      <p:cBhvr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33333E-006 L 0.93646 0.00444 E">
                                      <p:cBhvr>
                                        <p:cTn id="384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124000" y="1963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燕尾形 14"/>
          <p:cNvSpPr/>
          <p:nvPr/>
        </p:nvSpPr>
        <p:spPr>
          <a:xfrm>
            <a:off x="-1476360" y="488628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33333E-006 L 0.47517 0.00416 E">
                                      <p:cBhvr>
                                        <p:cTn id="390" dur="1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燕尾形 54"/>
          <p:cNvSpPr/>
          <p:nvPr/>
        </p:nvSpPr>
        <p:spPr>
          <a:xfrm>
            <a:off x="289080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Explanatio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396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直接连接符 43"/>
          <p:cNvSpPr/>
          <p:nvPr/>
        </p:nvSpPr>
        <p:spPr>
          <a:xfrm>
            <a:off x="-108000" y="5159520"/>
            <a:ext cx="9396360" cy="0"/>
          </a:xfrm>
          <a:prstGeom prst="line">
            <a:avLst/>
          </a:prstGeom>
          <a:ln w="1908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 49"/>
          <p:cNvSpPr/>
          <p:nvPr/>
        </p:nvSpPr>
        <p:spPr>
          <a:xfrm>
            <a:off x="90000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 51"/>
          <p:cNvSpPr/>
          <p:nvPr/>
        </p:nvSpPr>
        <p:spPr>
          <a:xfrm>
            <a:off x="2892600" y="4906800"/>
            <a:ext cx="1439640" cy="50508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 52"/>
          <p:cNvSpPr/>
          <p:nvPr/>
        </p:nvSpPr>
        <p:spPr>
          <a:xfrm>
            <a:off x="4883040" y="4908600"/>
            <a:ext cx="1441440" cy="50472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燕尾形 53"/>
          <p:cNvSpPr/>
          <p:nvPr/>
        </p:nvSpPr>
        <p:spPr>
          <a:xfrm>
            <a:off x="6877080" y="4906800"/>
            <a:ext cx="1440000" cy="50508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664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燕尾形 54"/>
          <p:cNvSpPr/>
          <p:nvPr/>
        </p:nvSpPr>
        <p:spPr>
          <a:xfrm>
            <a:off x="4886280" y="4886280"/>
            <a:ext cx="1440000" cy="50472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5" y="0"/>
                </a:lnTo>
                <a:lnTo>
                  <a:pt x="21600" y="10800"/>
                </a:lnTo>
                <a:lnTo>
                  <a:pt x="17815" y="21600"/>
                </a:lnTo>
                <a:lnTo>
                  <a:pt x="0" y="21600"/>
                </a:lnTo>
                <a:lnTo>
                  <a:pt x="378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087640" y="1920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llylover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57"/>
          <p:cNvSpPr/>
          <p:nvPr/>
        </p:nvSpPr>
        <p:spPr>
          <a:xfrm>
            <a:off x="330876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9"/>
          <p:cNvSpPr/>
          <p:nvPr/>
        </p:nvSpPr>
        <p:spPr>
          <a:xfrm>
            <a:off x="5300280" y="50101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证研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1"/>
          <p:cNvSpPr/>
          <p:nvPr/>
        </p:nvSpPr>
        <p:spPr>
          <a:xfrm>
            <a:off x="7293240" y="50054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局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3"/>
          <p:cNvSpPr/>
          <p:nvPr/>
        </p:nvSpPr>
        <p:spPr>
          <a:xfrm>
            <a:off x="1316520" y="49719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献综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0.21597 -0.00083 E">
                                      <p:cBhvr>
                                        <p:cTn id="402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6:08:00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15:49:01Z</dcterms:modified>
  <cp:revision>9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