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gif" ContentType="image/gif"/>
  <Override PartName="/ppt/media/image3.jpeg" ContentType="image/jpeg"/>
  <Override PartName="/ppt/media/image7.gif" ContentType="image/gif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3.jpeg" ContentType="image/jpeg"/>
  <Override PartName="/ppt/media/image2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7DE-EFF1-4289-B2D9-43FB7A78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881-494E-49A2-9BBB-DBDEA36B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5D3-8CB1-4C96-BA8D-FB2615FB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1E3-0B2B-4E45-8AF5-9E92BC4B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6EB-DE51-4E91-A2B2-BC2CBB10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FA6-4F7B-4B58-8AF1-E4D92CB8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486-3E31-41EA-84F9-10345983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B78-6406-47CA-806F-6EE9A2CB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D4A-43B2-4C22-8879-70909F94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53C-40FF-40E5-94F7-725407BE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4A4-6D7B-4DF8-9D10-7F78BA7A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46F-67A4-4DBA-B1FF-E60D3E09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383B-7514-489E-899A-355A0305444D}" type="slidenum">
              <a:rPr b="0" lang="en-US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../../../WINDOWS/Temporary%2520Internet%2520Files/Content.IE5/GDA9CRCB/&#21464;&#33394;&#40857;.ppt" TargetMode="External"/><Relationship Id="rId5" Type="http://schemas.openxmlformats.org/officeDocument/2006/relationships/hyperlink" Target="../../../WINDOWS/Temporary%2520Internet%2520Files/Content.IE5/GDA9CRCB/&#21464;&#33394;&#40857;.ppt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hyperlink" Target="../../../WINDOWS/Temporary%2520Internet%2520Files/Content.IE5/GDA9CRCB/&#21464;&#33394;&#40857;.ppt" TargetMode="External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../../../WINDOWS/Temporary%2520Internet%2520Files/Content.IE5/GDA9CRCB/&#21464;&#33394;&#40857;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hyperlink" Target="../../../WINDOWS/Temporary%20Internet%20Files/Content.IE5/GDA9CRCB/&#21464;&#33394;&#40857;.ppt" TargetMode="External"/><Relationship Id="rId4" Type="http://schemas.openxmlformats.org/officeDocument/2006/relationships/hyperlink" Target="../../../WINDOWS/Temporary%20Internet%20Files/Content.IE5/GDA9CRCB/&#21464;&#33394;&#40857;.ppt" TargetMode="External"/><Relationship Id="rId5" Type="http://schemas.openxmlformats.org/officeDocument/2006/relationships/hyperlink" Target="../../../WINDOWS/Temporary%20Internet%20Files/Content.IE5/GDA9CRCB/&#21464;&#33394;&#40857;.ppt" TargetMode="External"/><Relationship Id="rId6" Type="http://schemas.openxmlformats.org/officeDocument/2006/relationships/hyperlink" Target="..\..\..\WINDOWS/Temporary Internet Files/Content.IE5/GDA9CRCB/&#21464;&#33394;&#40857;.ppt" TargetMode="External"/><Relationship Id="rId7" Type="http://schemas.openxmlformats.org/officeDocument/2006/relationships/hyperlink" Target="..\..\..\WINDOWS/Temporary Internet Files/Content.IE5/GDA9CRCB/&#21464;&#33394;&#40857;.ppt" TargetMode="External"/><Relationship Id="rId8" Type="http://schemas.openxmlformats.org/officeDocument/2006/relationships/hyperlink" Target="../../../WINDOWS/Temporary%2520Internet%2520Files/Content.IE5/GDA9CRCB/&#21464;&#33394;&#40857;.ppt" TargetMode="Externa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hyperlink" Target="../../../WINDOWS/Temporary%2520Internet%2520Files/Content.IE5/GDA9CRCB/&#21464;&#33394;&#40857;.ppt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../../../WINDOWS/Temporary%2520Internet%2520Files/Content.IE5/GDA9CRCB/&#21464;&#33394;&#40857;.ppt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变色龙1"/>
          <p:cNvPicPr/>
          <p:nvPr/>
        </p:nvPicPr>
        <p:blipFill>
          <a:blip r:embed="rId2"/>
          <a:stretch/>
        </p:blipFill>
        <p:spPr>
          <a:xfrm>
            <a:off x="0" y="0"/>
            <a:ext cx="3924360" cy="3124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变色龙2"/>
          <p:cNvPicPr/>
          <p:nvPr/>
        </p:nvPicPr>
        <p:blipFill>
          <a:blip r:embed="rId3"/>
          <a:stretch/>
        </p:blipFill>
        <p:spPr>
          <a:xfrm>
            <a:off x="4788000" y="0"/>
            <a:ext cx="4356000" cy="306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变色龙3"/>
          <p:cNvPicPr/>
          <p:nvPr/>
        </p:nvPicPr>
        <p:blipFill>
          <a:blip r:embed="rId4"/>
          <a:stretch/>
        </p:blipFill>
        <p:spPr>
          <a:xfrm>
            <a:off x="0" y="3257640"/>
            <a:ext cx="3924360" cy="360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变色龙7"/>
          <p:cNvPicPr/>
          <p:nvPr/>
        </p:nvPicPr>
        <p:blipFill>
          <a:blip r:embed="rId5"/>
          <a:stretch/>
        </p:blipFill>
        <p:spPr>
          <a:xfrm>
            <a:off x="4788000" y="3141720"/>
            <a:ext cx="4356000" cy="3716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3924360" y="1197000"/>
            <a:ext cx="8539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851280" y="0"/>
            <a:ext cx="1008000" cy="9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1" lang="zh-CN" sz="6600" spc="-1" strike="noStrike">
                <a:solidFill>
                  <a:srgbClr val="0000cc"/>
                </a:solidFill>
                <a:latin typeface="华文彩云"/>
                <a:ea typeface="华文彩云"/>
              </a:rPr>
              <a:t>变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华文彩云"/>
                <a:ea typeface="华文彩云"/>
              </a:rPr>
              <a:t>            </a:t>
            </a:r>
            <a:r>
              <a:rPr b="1" lang="zh-CN" sz="6600" spc="-1" strike="noStrike">
                <a:solidFill>
                  <a:srgbClr val="ff0000"/>
                </a:solidFill>
                <a:latin typeface="华文彩云"/>
                <a:ea typeface="华文彩云"/>
              </a:rPr>
              <a:t>龙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3780000" y="2708280"/>
            <a:ext cx="1143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华文彩云"/>
              </a:rPr>
              <a:t>色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11280" y="620640"/>
          <a:ext cx="7812000" cy="6066000"/>
        </p:xfrm>
        <a:graphic>
          <a:graphicData uri="http://schemas.openxmlformats.org/drawingml/2006/table">
            <a:tbl>
              <a:tblPr/>
              <a:tblGrid>
                <a:gridCol w="1835280"/>
                <a:gridCol w="2089080"/>
                <a:gridCol w="2592360"/>
                <a:gridCol w="1295280"/>
              </a:tblGrid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对小狗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对赫留金</a:t>
                      </a:r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奥’的性格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听了赫留金的申述，不知道狗的主人是谁时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有人说好像是将军家的狗时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巡警说不是将军家的狗时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巡警说是将军家的狗时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厨师说不是将军家的狗时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厨师说是将军哥哥家的狗时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Text Box 39"/>
          <p:cNvSpPr/>
          <p:nvPr/>
        </p:nvSpPr>
        <p:spPr>
          <a:xfrm>
            <a:off x="900000" y="-1713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角色朗读，填下列各表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Text Box 40"/>
          <p:cNvSpPr/>
          <p:nvPr/>
        </p:nvSpPr>
        <p:spPr>
          <a:xfrm>
            <a:off x="2627280" y="1341360"/>
            <a:ext cx="153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</a:rPr>
              <a:t>野畜生，疯狗，把他弄死好了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Text Box 41"/>
          <p:cNvSpPr/>
          <p:nvPr/>
        </p:nvSpPr>
        <p:spPr>
          <a:xfrm>
            <a:off x="4932360" y="1268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嗯！不错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" name="Text Box 42"/>
          <p:cNvSpPr/>
          <p:nvPr/>
        </p:nvSpPr>
        <p:spPr>
          <a:xfrm>
            <a:off x="4356000" y="1844640"/>
            <a:ext cx="2880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（肯定赫留金被狗咬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Text Box 43"/>
          <p:cNvSpPr/>
          <p:nvPr/>
        </p:nvSpPr>
        <p:spPr>
          <a:xfrm>
            <a:off x="2484360" y="270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Text Box 44"/>
          <p:cNvSpPr/>
          <p:nvPr/>
        </p:nvSpPr>
        <p:spPr>
          <a:xfrm>
            <a:off x="2268360" y="2565360"/>
            <a:ext cx="21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</a:rPr>
              <a:t>他是那么小，他怎么会咬着你的？（热、脱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Text Box 45"/>
          <p:cNvSpPr/>
          <p:nvPr/>
        </p:nvSpPr>
        <p:spPr>
          <a:xfrm>
            <a:off x="4427640" y="249228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你那手指头一定是给小钉子弄破的。你们这些鬼东西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Text Box 46"/>
          <p:cNvSpPr/>
          <p:nvPr/>
        </p:nvSpPr>
        <p:spPr>
          <a:xfrm>
            <a:off x="2627280" y="364500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Times New Roman"/>
              </a:rPr>
              <a:t>下贱胚子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Text Box 47"/>
          <p:cNvSpPr/>
          <p:nvPr/>
        </p:nvSpPr>
        <p:spPr>
          <a:xfrm>
            <a:off x="4572000" y="3500280"/>
            <a:ext cx="28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你呢，赫留金，受了害，我绝不能不管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Text Box 48"/>
          <p:cNvSpPr/>
          <p:nvPr/>
        </p:nvSpPr>
        <p:spPr>
          <a:xfrm>
            <a:off x="1816200" y="486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Text Box 49"/>
          <p:cNvSpPr/>
          <p:nvPr/>
        </p:nvSpPr>
        <p:spPr>
          <a:xfrm>
            <a:off x="4500720" y="429264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你这混蛋，不用把你那手指头伸出来！怪你自己不好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" name="Text Box 50"/>
          <p:cNvSpPr/>
          <p:nvPr/>
        </p:nvSpPr>
        <p:spPr>
          <a:xfrm>
            <a:off x="2484360" y="515772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Times New Roman"/>
              </a:rPr>
              <a:t>野狗，弄死它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Times New Roman"/>
              </a:rPr>
              <a:t>好了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Text Box 51"/>
          <p:cNvSpPr/>
          <p:nvPr/>
        </p:nvSpPr>
        <p:spPr>
          <a:xfrm>
            <a:off x="2556000" y="5805360"/>
            <a:ext cx="153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Times New Roman"/>
              </a:rPr>
              <a:t>这狗不赖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..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</a:rPr>
              <a:t>手指头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" name="Text Box 52"/>
          <p:cNvSpPr/>
          <p:nvPr/>
        </p:nvSpPr>
        <p:spPr>
          <a:xfrm>
            <a:off x="4716360" y="59500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我早晚要收拾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WordArt 53"/>
          <p:cNvSpPr txBox="1"/>
          <p:nvPr/>
        </p:nvSpPr>
        <p:spPr>
          <a:xfrm>
            <a:off x="539640" y="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255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分</a:t>
            </a:r>
            <a:endParaRPr b="1" i="1" lang="en-US" sz="1800" spc="1" strike="noStrike">
              <a:ln w="255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Text Box 54"/>
          <p:cNvSpPr/>
          <p:nvPr/>
        </p:nvSpPr>
        <p:spPr>
          <a:xfrm>
            <a:off x="7167960" y="1413000"/>
            <a:ext cx="115524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看风使舵、趋炎附势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媚上欺下、官气十足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Text Box 55"/>
          <p:cNvSpPr/>
          <p:nvPr/>
        </p:nvSpPr>
        <p:spPr>
          <a:xfrm>
            <a:off x="2340000" y="4221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99"/>
                </a:solidFill>
                <a:latin typeface="Times New Roman"/>
              </a:rPr>
              <a:t>名贵的狗，（冷、穿大衣）狗是娇贵的动物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-621360" y="2209680"/>
            <a:ext cx="13993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奥楚蔑洛夫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>
            <a:off x="990720" y="3352680"/>
            <a:ext cx="7772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1828800" y="914400"/>
            <a:ext cx="1295280" cy="121932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752480" y="4572000"/>
            <a:ext cx="1371600" cy="1295280"/>
          </a:xfrm>
          <a:prstGeom prst="smileyFace">
            <a:avLst>
              <a:gd name="adj" fmla="val -4652"/>
            </a:avLst>
          </a:prstGeom>
          <a:solidFill>
            <a:srgbClr val="9900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6934320" y="914400"/>
            <a:ext cx="1295280" cy="121932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267080" y="914400"/>
            <a:ext cx="1295640" cy="121932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6934320" y="4572000"/>
            <a:ext cx="1371600" cy="1295280"/>
          </a:xfrm>
          <a:prstGeom prst="smileyFace">
            <a:avLst>
              <a:gd name="adj" fmla="val -4652"/>
            </a:avLst>
          </a:prstGeom>
          <a:solidFill>
            <a:srgbClr val="9900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114800" y="4572000"/>
            <a:ext cx="1371600" cy="1295280"/>
          </a:xfrm>
          <a:prstGeom prst="smileyFace">
            <a:avLst>
              <a:gd name="adj" fmla="val -4652"/>
            </a:avLst>
          </a:prstGeom>
          <a:solidFill>
            <a:srgbClr val="9900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838080" y="19810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是将军的狗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838080" y="3809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不是将军的狗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H="1">
            <a:off x="2133720" y="2286000"/>
            <a:ext cx="380880" cy="22096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2819520" y="2209680"/>
            <a:ext cx="1600200" cy="2438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 flipV="1">
            <a:off x="4648320" y="2133360"/>
            <a:ext cx="380880" cy="2438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5334120" y="2057400"/>
            <a:ext cx="1828800" cy="26668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1066680" y="5943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疯狗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1447920" y="3049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小狗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3200400" y="5943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下贱胚子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4343400" y="380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名贵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6400800" y="6019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野狗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6858000" y="380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伶俐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438280" y="2819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媚上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3733920" y="28195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欺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5105520" y="28195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趋炎    附势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 flipH="1">
            <a:off x="7162560" y="2209680"/>
            <a:ext cx="152280" cy="26672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7315200" y="2819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沙皇走狗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7696080" y="2209680"/>
            <a:ext cx="18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（态度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8001000" y="3809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7696080" y="3962520"/>
            <a:ext cx="22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（对比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838080" y="2819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见风使舵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3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BJ_012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BJ_012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BJ_012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371600" y="175248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变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838080" y="32004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不变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411280" y="170028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对狗的评价和看法，因狗的主人不同而变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627280" y="35002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本性，即见风使舵、媚上欺下、趋炎附势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" name="AutoShape 9">
            <a:hlinkClick r:id="" action="ppaction://hlinkshowjump?jump=previousslide"/>
          </p:cNvPr>
          <p:cNvSpPr/>
          <p:nvPr/>
        </p:nvSpPr>
        <p:spPr>
          <a:xfrm>
            <a:off x="7543800" y="5943600"/>
            <a:ext cx="533520" cy="380880"/>
          </a:xfrm>
          <a:custGeom>
            <a:avLst/>
            <a:gdLst>
              <a:gd name="textAreaLeft" fmla="*/ 23760 w 533520"/>
              <a:gd name="textAreaRight" fmla="*/ 509760 w 53352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98" y="1350"/>
                </a:lnTo>
                <a:lnTo>
                  <a:pt x="1350" y="135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98" y="20250"/>
                </a:lnTo>
                <a:lnTo>
                  <a:pt x="28898" y="135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98" y="2025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48" h="21600">
                <a:moveTo>
                  <a:pt x="8080" y="10800"/>
                </a:moveTo>
                <a:lnTo>
                  <a:pt x="22168" y="3756"/>
                </a:lnTo>
                <a:lnTo>
                  <a:pt x="22168" y="1784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3011040" y="1099440"/>
            <a:ext cx="31219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宋体"/>
              </a:rPr>
              <a:t>一个看风使舵的人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宋体"/>
              </a:rPr>
              <a:t>变化多端的人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宋体"/>
              </a:rPr>
              <a:t>多变的人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宋体"/>
              </a:rPr>
              <a:t>两面人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宋体"/>
              </a:rPr>
              <a:t>势力眼的警官 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71200" y="709560"/>
            <a:ext cx="8163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分析小说的结局</a:t>
            </a: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(28-29)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Arial Unicode MS"/>
              </a:rPr>
              <a:t>普洛诃尔带着小狗走了</a:t>
            </a:r>
            <a:r>
              <a:rPr b="1" lang="en-US" sz="5400" spc="-1" strike="noStrike">
                <a:solidFill>
                  <a:srgbClr val="080808"/>
                </a:solidFill>
                <a:latin typeface="Arial"/>
                <a:ea typeface="Arial Unicode MS"/>
              </a:rPr>
              <a:t>,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Arial Unicode MS"/>
              </a:rPr>
              <a:t>赫留金遭到嘲笑</a:t>
            </a:r>
            <a:r>
              <a:rPr b="1" lang="en-US" sz="5400" spc="-1" strike="noStrike">
                <a:solidFill>
                  <a:srgbClr val="080808"/>
                </a:solidFill>
                <a:latin typeface="Arial"/>
                <a:ea typeface="Arial Unicode MS"/>
              </a:rPr>
              <a:t>.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Arial Unicode MS"/>
              </a:rPr>
              <a:t>故事到此已是结束，而文章为什么还写最后一段</a:t>
            </a:r>
            <a:r>
              <a:rPr b="1" lang="en-US" sz="5400" spc="-1" strike="noStrike">
                <a:solidFill>
                  <a:srgbClr val="080808"/>
                </a:solidFill>
                <a:latin typeface="Arial"/>
                <a:ea typeface="Arial Unicode MS"/>
              </a:rPr>
              <a:t>?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71200" y="61740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</a:rPr>
              <a:t>总结全文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中心思想</a:t>
            </a:r>
            <a:r>
              <a:rPr b="1" lang="en-US" sz="48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:</a:t>
            </a:r>
            <a:r>
              <a:rPr b="1" lang="zh-CN" sz="48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小说通过对</a:t>
            </a:r>
            <a:r>
              <a:rPr b="1" lang="zh-CN" sz="4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见风使舵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,</a:t>
            </a:r>
            <a:r>
              <a:rPr b="1" lang="zh-CN" sz="4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趋炎附势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,</a:t>
            </a:r>
            <a:r>
              <a:rPr b="1" lang="zh-CN" sz="4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媚上欺下</a:t>
            </a:r>
            <a:r>
              <a:rPr b="1" lang="zh-CN" sz="48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的警官</a:t>
            </a:r>
            <a:r>
              <a:rPr b="1" lang="zh-CN" sz="4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奥楚蔑洛夫</a:t>
            </a:r>
            <a:r>
              <a:rPr b="1" lang="zh-CN" sz="48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这个沙皇忠实走狗的刻画</a:t>
            </a:r>
            <a:r>
              <a:rPr b="1" lang="en-US" sz="48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,</a:t>
            </a:r>
            <a:r>
              <a:rPr b="1" lang="zh-CN" sz="4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揭露了</a:t>
            </a:r>
            <a:r>
              <a:rPr b="1" lang="zh-CN" sz="48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沙皇专制统治的黑暗腐败</a:t>
            </a:r>
            <a:r>
              <a:rPr b="1" lang="en-US" sz="48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,</a:t>
            </a:r>
            <a:r>
              <a:rPr b="1" lang="zh-CN" sz="48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也</a:t>
            </a:r>
            <a:r>
              <a:rPr b="1" lang="zh-CN" sz="4800" spc="-1" strike="noStrike">
                <a:solidFill>
                  <a:srgbClr val="cc3300"/>
                </a:solidFill>
                <a:latin typeface="Arial Unicode MS"/>
                <a:ea typeface="Arial Unicode MS"/>
              </a:rPr>
              <a:t>揭示了</a:t>
            </a:r>
            <a:r>
              <a:rPr b="1" lang="zh-CN" sz="48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小市民阶层麻木</a:t>
            </a:r>
            <a:r>
              <a:rPr b="1" lang="en-US" sz="48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,</a:t>
            </a:r>
            <a:r>
              <a:rPr b="1" lang="zh-CN" sz="48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庸俗</a:t>
            </a:r>
            <a:r>
              <a:rPr b="1" lang="en-US" sz="48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,</a:t>
            </a:r>
            <a:r>
              <a:rPr b="1" lang="zh-CN" sz="48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愚昧的社会病苦</a:t>
            </a:r>
            <a:r>
              <a:rPr b="1" lang="en-US" sz="4800" spc="-1" strike="noStrike">
                <a:solidFill>
                  <a:srgbClr val="080808"/>
                </a:solidFill>
                <a:latin typeface="Arial Unicode MS"/>
                <a:ea typeface="Arial Unicode MS"/>
              </a:rPr>
              <a:t>.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80808"/>
                </a:solidFill>
                <a:latin typeface="Arial Unicode MS"/>
              </a:rPr>
              <a:t> 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BJ_0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PIC_016"/>
          <p:cNvPicPr/>
          <p:nvPr/>
        </p:nvPicPr>
        <p:blipFill>
          <a:blip r:embed="rId3"/>
          <a:srcRect l="0" t="0" r="-21" b="-107"/>
          <a:stretch/>
        </p:blipFill>
        <p:spPr>
          <a:xfrm>
            <a:off x="826920" y="0"/>
            <a:ext cx="2057400" cy="2025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3492360" y="40464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军大衣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7650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11280" y="1125360"/>
            <a:ext cx="820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文章共四次写到军大衣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开头奥楚蔑洛夫穿着新军大衣出场，这件大衣是沙皇警犬的标志，也是他装腔作势，作以吓人的工具；结局“裹紧大衣”离场，他力图保持自己的威风，但对于自己不光彩的表演，却显得难堪，与开头照应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中间的两次（第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段和第</a:t>
            </a: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段），他因“判”错了狗而吃惊、胆怯，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Times New Roman"/>
              </a:rPr>
              <a:t>一热一冷，一脱一穿，这一细节描写充分表现了他内心的恐慌和强作镇定的复杂心理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AutoShape 9">
            <a:hlinkClick r:id="rId4"/>
          </p:cNvPr>
          <p:cNvSpPr/>
          <p:nvPr/>
        </p:nvSpPr>
        <p:spPr>
          <a:xfrm>
            <a:off x="7010280" y="6095880"/>
            <a:ext cx="457200" cy="381240"/>
          </a:xfrm>
          <a:custGeom>
            <a:avLst/>
            <a:gdLst>
              <a:gd name="textAreaLeft" fmla="*/ 23760 w 457200"/>
              <a:gd name="textAreaRight" fmla="*/ 433440 w 457200"/>
              <a:gd name="textAreaTop" fmla="*/ 23760 h 381240"/>
              <a:gd name="textAreaBottom" fmla="*/ 35748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50" y="1350"/>
                </a:lnTo>
                <a:lnTo>
                  <a:pt x="1350" y="135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50" y="20250"/>
                </a:lnTo>
                <a:lnTo>
                  <a:pt x="24550" y="135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50" y="2025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900" h="21600">
                <a:moveTo>
                  <a:pt x="5906" y="10800"/>
                </a:moveTo>
                <a:lnTo>
                  <a:pt x="19994" y="3756"/>
                </a:lnTo>
                <a:lnTo>
                  <a:pt x="19994" y="1784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AutoShape 13">
            <a:hlinkClick r:id="rId5"/>
          </p:cNvPr>
          <p:cNvSpPr/>
          <p:nvPr/>
        </p:nvSpPr>
        <p:spPr>
          <a:xfrm>
            <a:off x="7620120" y="6095880"/>
            <a:ext cx="457200" cy="381240"/>
          </a:xfrm>
          <a:custGeom>
            <a:avLst/>
            <a:gdLst>
              <a:gd name="textAreaLeft" fmla="*/ 23760 w 457200"/>
              <a:gd name="textAreaRight" fmla="*/ 433440 w 457200"/>
              <a:gd name="textAreaTop" fmla="*/ 23760 h 381240"/>
              <a:gd name="textAreaBottom" fmla="*/ 35748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50" y="1350"/>
                </a:lnTo>
                <a:lnTo>
                  <a:pt x="1350" y="135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50" y="20250"/>
                </a:lnTo>
                <a:lnTo>
                  <a:pt x="24550" y="135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50" y="2025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900" h="21600">
                <a:moveTo>
                  <a:pt x="5906" y="3756"/>
                </a:moveTo>
                <a:lnTo>
                  <a:pt x="19994" y="10800"/>
                </a:lnTo>
                <a:lnTo>
                  <a:pt x="5906" y="1784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50920" y="0"/>
            <a:ext cx="102060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宋体"/>
              </a:rPr>
              <a:t>读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宋体"/>
              <a:ea typeface="宋体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166760" y="131760"/>
            <a:ext cx="75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Times New Roman"/>
              </a:rPr>
              <a:t>第一自然段，小说人物是怎样出场的？文中“盛满”、“没收”两词在这里说明了什么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7" name="Picture 4" descr="AG00222_"/>
          <p:cNvPicPr/>
          <p:nvPr/>
        </p:nvPicPr>
        <p:blipFill>
          <a:blip r:embed="rId2"/>
          <a:stretch/>
        </p:blipFill>
        <p:spPr>
          <a:xfrm>
            <a:off x="6480000" y="1844640"/>
            <a:ext cx="2664000" cy="2476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62760" y="222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警官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527120" y="2246400"/>
            <a:ext cx="36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穿着新的军大衣”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449440" y="267804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提着小包穿过市场的广场”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692360" y="3500280"/>
            <a:ext cx="48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跟在警官的后面；“火红色头发”，“端着一个筛子，</a:t>
            </a:r>
            <a:r>
              <a:rPr b="1" lang="zh-CN" sz="2800" spc="-1" strike="noStrike" u="sng">
                <a:solidFill>
                  <a:srgbClr val="080808"/>
                </a:solidFill>
                <a:uFillTx/>
                <a:latin typeface="Times New Roman"/>
              </a:rPr>
              <a:t>盛满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了</a:t>
            </a:r>
            <a:r>
              <a:rPr b="1" lang="zh-CN" sz="2800" spc="-1" strike="noStrike" u="sng">
                <a:solidFill>
                  <a:srgbClr val="080808"/>
                </a:solidFill>
                <a:uFillTx/>
                <a:latin typeface="Times New Roman"/>
              </a:rPr>
              <a:t>没收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来的醋栗”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807120" y="344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巡警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755640" y="501336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明了这两个爪牙又对人民刚刚进行了敲诈勒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进一步刻画了两个家伙欺压人民的形象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4" descr="BJ_04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1116000" y="90792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手指头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971640" y="2133720"/>
            <a:ext cx="710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这一细节描写，反映了赫留金的遭遇，一开始它是赫留金用来要挟狗主人的资本，要求赔偿的本钱；但当有人说狗是将军家的时，手指头又成了冒犯名种狗的罪证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AutoShape 6">
            <a:hlinkClick r:id="" action="ppaction://hlinkshowjump?jump=nextslide"/>
          </p:cNvPr>
          <p:cNvSpPr/>
          <p:nvPr/>
        </p:nvSpPr>
        <p:spPr>
          <a:xfrm>
            <a:off x="7467480" y="6095880"/>
            <a:ext cx="685800" cy="457200"/>
          </a:xfrm>
          <a:custGeom>
            <a:avLst/>
            <a:gdLst>
              <a:gd name="textAreaLeft" fmla="*/ 28440 w 685800"/>
              <a:gd name="textAreaRight" fmla="*/ 657360 w 6858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1042" y="1350"/>
                </a:lnTo>
                <a:lnTo>
                  <a:pt x="1350" y="135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1042" y="20250"/>
                </a:lnTo>
                <a:lnTo>
                  <a:pt x="31042" y="135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42" y="2025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392" h="21600">
                <a:moveTo>
                  <a:pt x="9152" y="3756"/>
                </a:moveTo>
                <a:lnTo>
                  <a:pt x="23240" y="10800"/>
                </a:lnTo>
                <a:lnTo>
                  <a:pt x="9152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AutoShape 7">
            <a:hlinkClick r:id="" action="ppaction://hlinkshowjump?jump=previousslide"/>
          </p:cNvPr>
          <p:cNvSpPr/>
          <p:nvPr/>
        </p:nvSpPr>
        <p:spPr>
          <a:xfrm>
            <a:off x="7620120" y="6019920"/>
            <a:ext cx="761760" cy="533160"/>
          </a:xfrm>
          <a:custGeom>
            <a:avLst/>
            <a:gdLst>
              <a:gd name="textAreaLeft" fmla="*/ 33120 w 761760"/>
              <a:gd name="textAreaRight" fmla="*/ 728640 w 76176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505" y="1350"/>
                </a:lnTo>
                <a:lnTo>
                  <a:pt x="1350" y="135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505" y="20250"/>
                </a:lnTo>
                <a:lnTo>
                  <a:pt x="29505" y="135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505" y="2025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855" h="21600">
                <a:moveTo>
                  <a:pt x="8384" y="10800"/>
                </a:moveTo>
                <a:lnTo>
                  <a:pt x="22471" y="3756"/>
                </a:lnTo>
                <a:lnTo>
                  <a:pt x="22471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AutoShape 8">
            <a:hlinkClick r:id="" action="ppaction://hlinkshowjump?jump=previousslide"/>
          </p:cNvPr>
          <p:cNvSpPr/>
          <p:nvPr/>
        </p:nvSpPr>
        <p:spPr>
          <a:xfrm>
            <a:off x="6095880" y="5410080"/>
            <a:ext cx="1219320" cy="1067040"/>
          </a:xfrm>
          <a:custGeom>
            <a:avLst/>
            <a:gdLst>
              <a:gd name="textAreaLeft" fmla="*/ 66600 w 1219320"/>
              <a:gd name="textAreaRight" fmla="*/ 1152720 w 1219320"/>
              <a:gd name="textAreaTop" fmla="*/ 66600 h 1067040"/>
              <a:gd name="textAreaBottom" fmla="*/ 1000440 h 1067040"/>
            </a:gdLst>
            <a:ahLst/>
            <a:rect l="textAreaLeft" t="textAreaTop" r="textAreaRight" b="textAreaBottom"/>
            <a:pathLst>
              <a:path w="24682" h="21600">
                <a:moveTo>
                  <a:pt x="0" y="0"/>
                </a:moveTo>
                <a:lnTo>
                  <a:pt x="24682" y="0"/>
                </a:lnTo>
                <a:lnTo>
                  <a:pt x="24682" y="21600"/>
                </a:lnTo>
                <a:lnTo>
                  <a:pt x="0" y="21600"/>
                </a:lnTo>
                <a:close/>
              </a:path>
              <a:path fill="lightenLess" w="24682" h="21600">
                <a:moveTo>
                  <a:pt x="0" y="0"/>
                </a:moveTo>
                <a:lnTo>
                  <a:pt x="24682" y="0"/>
                </a:lnTo>
                <a:lnTo>
                  <a:pt x="23332" y="1350"/>
                </a:lnTo>
                <a:lnTo>
                  <a:pt x="1350" y="1350"/>
                </a:lnTo>
                <a:close/>
              </a:path>
              <a:path fill="darken" w="24682" h="21600">
                <a:moveTo>
                  <a:pt x="24682" y="0"/>
                </a:moveTo>
                <a:lnTo>
                  <a:pt x="24682" y="21600"/>
                </a:lnTo>
                <a:lnTo>
                  <a:pt x="23332" y="20250"/>
                </a:lnTo>
                <a:lnTo>
                  <a:pt x="23332" y="1350"/>
                </a:lnTo>
                <a:close/>
              </a:path>
              <a:path fill="darkenLess" w="24682" h="21600">
                <a:moveTo>
                  <a:pt x="2468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332" y="20250"/>
                </a:lnTo>
                <a:close/>
              </a:path>
              <a:path fill="lighten" w="2468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682" h="21600">
                <a:moveTo>
                  <a:pt x="5297" y="10800"/>
                </a:moveTo>
                <a:lnTo>
                  <a:pt x="19385" y="3756"/>
                </a:lnTo>
                <a:lnTo>
                  <a:pt x="19385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AutoShape 10">
            <a:hlinkClick r:id="" action="ppaction://hlinkshowjump?jump=nextslide"/>
          </p:cNvPr>
          <p:cNvSpPr/>
          <p:nvPr/>
        </p:nvSpPr>
        <p:spPr>
          <a:xfrm>
            <a:off x="7238880" y="5791320"/>
            <a:ext cx="685800" cy="457200"/>
          </a:xfrm>
          <a:custGeom>
            <a:avLst/>
            <a:gdLst>
              <a:gd name="textAreaLeft" fmla="*/ 28440 w 685800"/>
              <a:gd name="textAreaRight" fmla="*/ 657360 w 6858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1042" y="1350"/>
                </a:lnTo>
                <a:lnTo>
                  <a:pt x="1350" y="135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1042" y="20250"/>
                </a:lnTo>
                <a:lnTo>
                  <a:pt x="31042" y="135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42" y="2025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392" h="21600">
                <a:moveTo>
                  <a:pt x="9152" y="3756"/>
                </a:moveTo>
                <a:lnTo>
                  <a:pt x="23240" y="10800"/>
                </a:lnTo>
                <a:lnTo>
                  <a:pt x="9152" y="1784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AutoShape 12">
            <a:hlinkClick r:id="rId3"/>
          </p:cNvPr>
          <p:cNvSpPr/>
          <p:nvPr/>
        </p:nvSpPr>
        <p:spPr>
          <a:xfrm>
            <a:off x="6477120" y="5791320"/>
            <a:ext cx="685800" cy="457200"/>
          </a:xfrm>
          <a:custGeom>
            <a:avLst/>
            <a:gdLst>
              <a:gd name="textAreaLeft" fmla="*/ 28440 w 685800"/>
              <a:gd name="textAreaRight" fmla="*/ 657360 w 6858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1042" y="1350"/>
                </a:lnTo>
                <a:lnTo>
                  <a:pt x="1350" y="135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1042" y="20250"/>
                </a:lnTo>
                <a:lnTo>
                  <a:pt x="31042" y="135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42" y="2025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392" h="21600">
                <a:moveTo>
                  <a:pt x="9152" y="10800"/>
                </a:moveTo>
                <a:lnTo>
                  <a:pt x="23240" y="3756"/>
                </a:lnTo>
                <a:lnTo>
                  <a:pt x="23240" y="1784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4552920"/>
            <a:ext cx="733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PM_047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1332000" y="69228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作用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826920" y="1916280"/>
            <a:ext cx="712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这两处的细节描写，前后形成鲜明的对比，使主人公见风使舵、媚上欺下的本性跃然纸上。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AutoShape 6">
            <a:hlinkClick r:id="rId3"/>
          </p:cNvPr>
          <p:cNvSpPr/>
          <p:nvPr/>
        </p:nvSpPr>
        <p:spPr>
          <a:xfrm>
            <a:off x="6705720" y="4648320"/>
            <a:ext cx="533160" cy="457200"/>
          </a:xfrm>
          <a:custGeom>
            <a:avLst/>
            <a:gdLst>
              <a:gd name="textAreaLeft" fmla="*/ 28440 w 533160"/>
              <a:gd name="textAreaRight" fmla="*/ 504720 w 53316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836" y="1350"/>
                </a:lnTo>
                <a:lnTo>
                  <a:pt x="1350" y="135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836" y="20250"/>
                </a:lnTo>
                <a:lnTo>
                  <a:pt x="23836" y="135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36" y="2025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186" h="21600">
                <a:moveTo>
                  <a:pt x="5549" y="10800"/>
                </a:moveTo>
                <a:lnTo>
                  <a:pt x="19637" y="3756"/>
                </a:lnTo>
                <a:lnTo>
                  <a:pt x="19637" y="1784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9640" y="981000"/>
            <a:ext cx="79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变色龙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，是蜥蜴的一种，表皮下有多种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色素块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，能随时变成不同保护色。现多比喻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政治上善于变化和伪装的人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，含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贬义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。在俄语中，有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“反复无常的小人”，“见风使舵的小人”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。本文以它为题，就是借这种小动物善于变换肤色，以适应周围环境的特点来讽刺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奥楚蔑洛夫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见风使舵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趋炎附势、媚上欺下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的本质，形象而醒目，有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画龙点睛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的作用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24000" y="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  <a:ea typeface="隶书"/>
              </a:rPr>
              <a:t>题解：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2" descr="FR_05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1523880" y="1905120"/>
            <a:ext cx="4114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66ff"/>
                </a:solidFill>
                <a:uFillTx/>
                <a:latin typeface="Times New Roman"/>
                <a:ea typeface="华文彩云"/>
                <a:hlinkClick r:id="rId3"/>
              </a:rPr>
              <a:t>六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次判定、</a:t>
            </a:r>
            <a:r>
              <a:rPr b="0" lang="zh-CN" sz="4000" spc="-1" strike="noStrike" u="sng">
                <a:solidFill>
                  <a:srgbClr val="0066ff"/>
                </a:solidFill>
                <a:uFillTx/>
                <a:latin typeface="Times New Roman"/>
                <a:ea typeface="华文彩云"/>
                <a:hlinkClick r:id="rId4"/>
              </a:rPr>
              <a:t>五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次变色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057400" y="2514600"/>
            <a:ext cx="350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66ff"/>
                </a:solidFill>
                <a:uFillTx/>
                <a:latin typeface="Times New Roman"/>
                <a:ea typeface="华文彩云"/>
                <a:hlinkClick r:id="rId5"/>
              </a:rPr>
              <a:t>四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次写军大衣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590920" y="3048120"/>
            <a:ext cx="2835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66ff"/>
                </a:solidFill>
                <a:uFillTx/>
                <a:latin typeface="Times New Roman"/>
                <a:ea typeface="华文彩云"/>
              </a:rPr>
              <a:t>三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次提到法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124080" y="3657600"/>
            <a:ext cx="3353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66ff"/>
                </a:solidFill>
                <a:uFillTx/>
                <a:latin typeface="Times New Roman"/>
                <a:ea typeface="华文彩云"/>
                <a:hlinkClick r:id="rId6"/>
              </a:rPr>
              <a:t>两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次写围观群众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581280" y="4191120"/>
            <a:ext cx="3810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66ff"/>
                </a:solidFill>
                <a:uFillTx/>
                <a:latin typeface="Times New Roman"/>
                <a:ea typeface="华文彩云"/>
                <a:hlinkClick r:id="rId7"/>
              </a:rPr>
              <a:t>一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次社会环境描写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AutoShape 13">
            <a:hlinkClick r:id="rId8"/>
          </p:cNvPr>
          <p:cNvSpPr/>
          <p:nvPr/>
        </p:nvSpPr>
        <p:spPr>
          <a:xfrm>
            <a:off x="838080" y="6019920"/>
            <a:ext cx="609840" cy="457200"/>
          </a:xfrm>
          <a:custGeom>
            <a:avLst/>
            <a:gdLst>
              <a:gd name="textAreaLeft" fmla="*/ 28440 w 609840"/>
              <a:gd name="textAreaRight" fmla="*/ 581400 w 60984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56" y="1350"/>
                </a:lnTo>
                <a:lnTo>
                  <a:pt x="1350" y="135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56" y="20250"/>
                </a:lnTo>
                <a:lnTo>
                  <a:pt x="27456" y="135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56" y="2025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06" h="21600">
                <a:moveTo>
                  <a:pt x="7359" y="10800"/>
                </a:moveTo>
                <a:lnTo>
                  <a:pt x="21447" y="3756"/>
                </a:lnTo>
                <a:lnTo>
                  <a:pt x="21447" y="1784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BJ_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539640" y="260280"/>
            <a:ext cx="8064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</a:rPr>
              <a:t>第一次在第七段，赫留金提出法律根据，反映了底层人民机敏的一面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</a:rPr>
              <a:t>是作者讽喻沙皇的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</a:rPr>
              <a:t>法律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</a:rPr>
              <a:t>对人民的压迫。第二次在第十二段，赫留金引用法律为自己辩护，接着抬出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</a:rPr>
              <a:t>当宪兵</a:t>
            </a: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</a:rPr>
              <a:t>的兄弟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</a:rPr>
              <a:t>通过人物语言揭露沙皇法律的实质是：宪兵就是法律，对沙皇法律的又一次尖锐讽刺。第三次在第十七段，从侧面揭露法律在统治阶级眼里，不过是一纸空文，说明法律的虚伪。</a:t>
            </a:r>
            <a:r>
              <a:rPr b="1" lang="zh-CN" sz="3200" spc="-1" strike="noStrike" u="sng">
                <a:solidFill>
                  <a:srgbClr val="080808"/>
                </a:solidFill>
                <a:uFillTx/>
                <a:latin typeface="楷体_GB2312"/>
              </a:rPr>
              <a:t>总之，三提法律，不仅交代了时代背景，而且深化了主题，使小说的主题不仅仅停留在对一个小警官的揭露上，把矛头直指沙皇的专制统治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AutoShape 5">
            <a:hlinkClick r:id="rId3"/>
          </p:cNvPr>
          <p:cNvSpPr/>
          <p:nvPr/>
        </p:nvSpPr>
        <p:spPr>
          <a:xfrm>
            <a:off x="8028000" y="6165720"/>
            <a:ext cx="609480" cy="381240"/>
          </a:xfrm>
          <a:custGeom>
            <a:avLst/>
            <a:gdLst>
              <a:gd name="textAreaLeft" fmla="*/ 23760 w 609480"/>
              <a:gd name="textAreaRight" fmla="*/ 585720 w 609480"/>
              <a:gd name="textAreaTop" fmla="*/ 23760 h 381240"/>
              <a:gd name="textAreaBottom" fmla="*/ 35748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69" y="1350"/>
                </a:lnTo>
                <a:lnTo>
                  <a:pt x="1350" y="135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69" y="20250"/>
                </a:lnTo>
                <a:lnTo>
                  <a:pt x="33169" y="135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169" y="2025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19" h="21600">
                <a:moveTo>
                  <a:pt x="10216" y="10800"/>
                </a:moveTo>
                <a:lnTo>
                  <a:pt x="24303" y="3756"/>
                </a:lnTo>
                <a:lnTo>
                  <a:pt x="24303" y="1784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7" name="AutoShape 8">
            <a:hlinkClick r:id="rId4"/>
          </p:cNvPr>
          <p:cNvSpPr/>
          <p:nvPr/>
        </p:nvSpPr>
        <p:spPr>
          <a:xfrm>
            <a:off x="3132000" y="6477120"/>
            <a:ext cx="457200" cy="380880"/>
          </a:xfrm>
          <a:custGeom>
            <a:avLst/>
            <a:gdLst>
              <a:gd name="textAreaLeft" fmla="*/ 23760 w 457200"/>
              <a:gd name="textAreaRight" fmla="*/ 433440 w 45720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74" y="1350"/>
                </a:lnTo>
                <a:lnTo>
                  <a:pt x="1350" y="135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74" y="20250"/>
                </a:lnTo>
                <a:lnTo>
                  <a:pt x="24574" y="135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74" y="2025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924" h="21600">
                <a:moveTo>
                  <a:pt x="5918" y="8394"/>
                </a:moveTo>
                <a:lnTo>
                  <a:pt x="10372" y="8394"/>
                </a:lnTo>
                <a:lnTo>
                  <a:pt x="14817" y="3756"/>
                </a:lnTo>
                <a:lnTo>
                  <a:pt x="14817" y="17844"/>
                </a:lnTo>
                <a:lnTo>
                  <a:pt x="10372" y="13206"/>
                </a:lnTo>
                <a:lnTo>
                  <a:pt x="5918" y="13206"/>
                </a:lnTo>
                <a:close/>
              </a:path>
              <a:path fill="darken" w="25924" h="21600">
                <a:moveTo>
                  <a:pt x="16480" y="10800"/>
                </a:moveTo>
                <a:lnTo>
                  <a:pt x="20006" y="10800"/>
                </a:lnTo>
              </a:path>
              <a:path fill="darken" w="25924" h="21600">
                <a:moveTo>
                  <a:pt x="16480" y="8394"/>
                </a:moveTo>
                <a:lnTo>
                  <a:pt x="20006" y="5611"/>
                </a:lnTo>
              </a:path>
              <a:path fill="darken" w="25924" h="21600">
                <a:moveTo>
                  <a:pt x="16480" y="13206"/>
                </a:moveTo>
                <a:lnTo>
                  <a:pt x="20006" y="15989"/>
                </a:lnTo>
              </a:path>
            </a:pathLst>
          </a:custGeom>
          <a:solidFill>
            <a:srgbClr val="ffcc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16TBC032"/>
          <p:cNvPicPr/>
          <p:nvPr/>
        </p:nvPicPr>
        <p:blipFill>
          <a:blip r:embed="rId2"/>
          <a:stretch/>
        </p:blipFill>
        <p:spPr>
          <a:xfrm>
            <a:off x="0" y="0"/>
            <a:ext cx="1219320" cy="1143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1258920" y="333360"/>
            <a:ext cx="78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</a:rPr>
              <a:t>小说是怎样描写人物出场的环境的？它有什么作用？这些描写用了什么修辞手法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468360" y="1413000"/>
            <a:ext cx="12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作用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971640" y="1916280"/>
            <a:ext cx="72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突出故事发生的地点的社会状况是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萧条、沉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，使人感到这里有一种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压抑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气氛。这正是军警宪兵当道的沙皇统治下的俄国社会的写照，交代了“案子”发生的社会背景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2771640" y="3213000"/>
            <a:ext cx="1944720" cy="1112760"/>
          </a:xfrm>
          <a:prstGeom prst="wedgeRoundRectCallout">
            <a:avLst>
              <a:gd name="adj1" fmla="val -81837"/>
              <a:gd name="adj2" fmla="val 101499"/>
              <a:gd name="adj3" fmla="val 16667"/>
            </a:avLst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916360" y="350028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拟人、比喻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539640" y="4797360"/>
            <a:ext cx="826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商店和饭馆本来是很热闹的地方，但现在连乞丐都不上门，暗示了俄国人民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饥饿贫困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的生活，所以整个社会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死气沉沉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BJ_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900000" y="765000"/>
            <a:ext cx="7226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两次写围观群众。“木材厂四周很快就聚了一群人，仿佛一下子从地底下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钻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出来的。”写出了围观的人聚结之快和他们的无聊心态</a:t>
            </a: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以看热闹为乐；结尾处对围观群众的描写深刻地揭示了小市民阶层的麻木、庸俗、愚昧，也揭示了当时俄国社会的病苦。两次描写使小说的社会意义更为深广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AutoShape 5">
            <a:hlinkClick r:id="rId3"/>
          </p:cNvPr>
          <p:cNvSpPr/>
          <p:nvPr/>
        </p:nvSpPr>
        <p:spPr>
          <a:xfrm>
            <a:off x="7696080" y="58672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10800"/>
                </a:moveTo>
                <a:lnTo>
                  <a:pt x="25931" y="3756"/>
                </a:lnTo>
                <a:lnTo>
                  <a:pt x="25931" y="1784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468360" y="189000"/>
            <a:ext cx="337176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宋体"/>
              </a:rPr>
              <a:t>概括写作特点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340360" y="1628640"/>
            <a:ext cx="38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鲜明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比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是本文突出的写作特点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11280" y="2492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人物对话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构成情节、推动情节发展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539640" y="3573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用生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行动细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表现人物思想性格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524320" y="4791240"/>
            <a:ext cx="383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充分运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讽刺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艺术的力量，表现了作者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的爱憎和社会的批判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0" y="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课堂练习</a:t>
            </a:r>
            <a:endParaRPr b="0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324000" y="907920"/>
            <a:ext cx="83167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阅读“嗯！不错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..”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到“好好教训他们一下！是时候了。”回答下列的问题：（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2001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</a:rPr>
              <a:t>年广东中考题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本文段选自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世纪末俄国短篇小说家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小说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分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对同一条狗，警官的评价前后不同，他的根据是什么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答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__________________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分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本文段写警官对狗的态度不断改变，这反映了他什么的性格？答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__________________________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分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文段中还写了对人的态度变化不定，请概括指出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答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_______________________________________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____________________________________________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“席加洛夫将军？哦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叶尔德林，帮我把大衣脱下来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看样子多半要下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……”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几句话说得吞吞吐吐的话， 反映了警察怎样的心理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用一句话来回答。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分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答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____________________________________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6129720" y="1700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契诃夫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11280" y="213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变色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239840" y="3645000"/>
            <a:ext cx="657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63480" y="4363920"/>
            <a:ext cx="700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971640" y="429264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警官开始是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同情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赫留金，后来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指责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他是敲诈者，再后来又改为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同情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他，认为他是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受害者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050920" y="357336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看风使舵、阿谀奉承、媚上欺下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2124000" y="378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1311120" y="3573360"/>
            <a:ext cx="671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255600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1332000" y="2781360"/>
            <a:ext cx="26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狗主人身份的高低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3038040" y="6093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反映了他恐惧、不安的心理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6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4" descr="BJ_0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BJ_014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1219320" y="13716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作者：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219320" y="29718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文体：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219320" y="44197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出处：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411280" y="119700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契诃夫（</a:t>
            </a:r>
            <a:r>
              <a:rPr b="1" lang="en-US" sz="4000" spc="-1" strike="noStrike">
                <a:solidFill>
                  <a:srgbClr val="080808"/>
                </a:solidFill>
                <a:latin typeface="Times New Roman"/>
              </a:rPr>
              <a:t>1860—1904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），俄国短篇小说家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800600" y="3200400"/>
            <a:ext cx="512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411280" y="2852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小说</a:t>
            </a:r>
            <a:r>
              <a:rPr b="1" lang="en-US" sz="4000" spc="-1" strike="noStrike">
                <a:solidFill>
                  <a:srgbClr val="080808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装在套子里的人</a:t>
            </a:r>
            <a:r>
              <a:rPr b="1" lang="en-US" sz="4000" spc="-1" strike="noStrike">
                <a:solidFill>
                  <a:srgbClr val="080808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80808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凡卡</a:t>
            </a:r>
            <a:r>
              <a:rPr b="1" lang="en-US" sz="4000" spc="-1" strike="noStrike">
                <a:solidFill>
                  <a:srgbClr val="080808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411280" y="4581360"/>
            <a:ext cx="528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契诃夫小说选</a:t>
            </a:r>
            <a:r>
              <a:rPr b="1" lang="en-US" sz="4000" spc="-1" strike="noStrike">
                <a:solidFill>
                  <a:srgbClr val="080808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" name="AutoShape 12">
            <a:hlinkClick r:id="" action="ppaction://hlinkshowjump?jump=previousslide"/>
          </p:cNvPr>
          <p:cNvSpPr/>
          <p:nvPr/>
        </p:nvSpPr>
        <p:spPr>
          <a:xfrm>
            <a:off x="7543800" y="6172200"/>
            <a:ext cx="762120" cy="457200"/>
          </a:xfrm>
          <a:custGeom>
            <a:avLst/>
            <a:gdLst>
              <a:gd name="textAreaLeft" fmla="*/ 28440 w 762120"/>
              <a:gd name="textAreaRight" fmla="*/ 733680 w 7621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644" y="1350"/>
                </a:lnTo>
                <a:lnTo>
                  <a:pt x="1350" y="135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644" y="20250"/>
                </a:lnTo>
                <a:lnTo>
                  <a:pt x="34644" y="135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644" y="2025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5994" h="21600">
                <a:moveTo>
                  <a:pt x="10953" y="10800"/>
                </a:moveTo>
                <a:lnTo>
                  <a:pt x="25041" y="3756"/>
                </a:lnTo>
                <a:lnTo>
                  <a:pt x="25041" y="1784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58760" y="0"/>
            <a:ext cx="491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隶书"/>
                <a:ea typeface="隶书"/>
              </a:rPr>
              <a:t>写作背景：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76200" y="620640"/>
            <a:ext cx="779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95280" y="90792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变色龙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是他早期创作的一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讽刺小说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。写于</a:t>
            </a: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1884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年。当时俄国正处于资产阶级民主大革命的前夜，社会矛盾十分尖锐，沙皇专制制度面临崩溃。为了挽救死亡的命运，沙皇亚历山大三世建立了恐怖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警察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统治，残酷地镇压和奴役人民，作为反动统治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鹰犬、走狗的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警察，对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阿谀逢迎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，对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恫吓讹诈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。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变色龙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就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嘲弄、讽刺、鞭打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沙皇的这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警察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统治而写的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80640" y="517320"/>
            <a:ext cx="81630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</a:rPr>
              <a:t>简要思考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宋体"/>
              </a:rPr>
              <a:t>变色龙是一种什么东西？有什么特点？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宋体"/>
              </a:rPr>
              <a:t>小说中的变色龙是指谁</a:t>
            </a:r>
            <a:r>
              <a:rPr b="1" lang="en-US" sz="5400" spc="-1" strike="noStrike">
                <a:solidFill>
                  <a:srgbClr val="080808"/>
                </a:solidFill>
                <a:latin typeface="宋体"/>
              </a:rPr>
              <a:t>?</a:t>
            </a:r>
            <a:r>
              <a:rPr b="1" lang="zh-CN" sz="5400" spc="-1" strike="noStrike">
                <a:solidFill>
                  <a:srgbClr val="080808"/>
                </a:solidFill>
                <a:latin typeface="宋体"/>
              </a:rPr>
              <a:t>身份？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宋体"/>
              </a:rPr>
              <a:t>为什么把他比作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cc3300"/>
                </a:solidFill>
                <a:latin typeface="宋体"/>
              </a:rPr>
              <a:t>变</a:t>
            </a:r>
            <a:r>
              <a:rPr b="1" lang="zh-CN" sz="5400" spc="-1" strike="noStrike">
                <a:solidFill>
                  <a:srgbClr val="080808"/>
                </a:solidFill>
                <a:latin typeface="宋体"/>
              </a:rPr>
              <a:t>色龙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”</a:t>
            </a:r>
            <a:r>
              <a:rPr b="1" lang="zh-CN" sz="5400" spc="-1" strike="noStrike">
                <a:solidFill>
                  <a:srgbClr val="080808"/>
                </a:solidFill>
                <a:latin typeface="宋体"/>
              </a:rPr>
              <a:t>呢</a:t>
            </a:r>
            <a:r>
              <a:rPr b="1" lang="en-US" sz="5400" spc="-1" strike="noStrike">
                <a:solidFill>
                  <a:srgbClr val="080808"/>
                </a:solidFill>
                <a:latin typeface="宋体"/>
              </a:rPr>
              <a:t>?</a:t>
            </a: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med">
    <p:split dir="in" orient="vert"/>
    <p:sndAc>
      <p:stSnd>
        <p:snd r:embed="rId2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835280" y="9079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文的线索是什么？围绕什么而写？按事情发展的情节可分为几部分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>
            <a:off x="0" y="0"/>
            <a:ext cx="152388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提问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908000" y="458136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狗的主人是谁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900000" y="270828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9" name="Picture 7" descr="BD13680_"/>
          <p:cNvPicPr/>
          <p:nvPr/>
        </p:nvPicPr>
        <p:blipFill>
          <a:blip r:embed="rId2"/>
          <a:stretch/>
        </p:blipFill>
        <p:spPr>
          <a:xfrm>
            <a:off x="4788000" y="3573360"/>
            <a:ext cx="1904760" cy="1055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16TBC41"/>
          <p:cNvPicPr/>
          <p:nvPr/>
        </p:nvPicPr>
        <p:blipFill>
          <a:blip r:embed="rId3"/>
          <a:stretch/>
        </p:blipFill>
        <p:spPr>
          <a:xfrm>
            <a:off x="7093080" y="3429000"/>
            <a:ext cx="1500120" cy="1600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1047240" y="325512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线索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163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思考：按小说的开端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发展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高潮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80808"/>
                </a:solidFill>
                <a:latin typeface="宋体"/>
              </a:rPr>
              <a:t>结局给课文分段</a:t>
            </a: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3200" y="21333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开端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：警官奥楚蔑洛夫遇到了一场乱子</a:t>
            </a:r>
            <a:r>
              <a:rPr b="1" lang="en-US" sz="3600" spc="-1" strike="noStrike">
                <a:solidFill>
                  <a:srgbClr val="080808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狗咬伤人事件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发展和高潮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：警官奥楚蔑洛夫处理案件。</a:t>
            </a:r>
            <a:r>
              <a:rPr b="1" lang="en-US" sz="3600" spc="-1" strike="noStrike">
                <a:solidFill>
                  <a:srgbClr val="cc33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全文的重点</a:t>
            </a:r>
            <a:r>
              <a:rPr b="1" lang="en-US" sz="3600" spc="-1" strike="noStrike">
                <a:solidFill>
                  <a:srgbClr val="cc3300"/>
                </a:solidFill>
                <a:latin typeface="宋体"/>
              </a:rPr>
              <a:t>)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结局</a:t>
            </a:r>
            <a:r>
              <a:rPr b="1" lang="zh-CN" sz="3600" spc="-1" strike="noStrike">
                <a:solidFill>
                  <a:srgbClr val="080808"/>
                </a:solidFill>
                <a:latin typeface="宋体"/>
              </a:rPr>
              <a:t>：奥楚蔑洛夫审理案子结束，小狗被带走，赫留金受到讪笑和恐吓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med">
    <p:split dir="in" orient="vert"/>
    <p:sndAc>
      <p:stSnd>
        <p:snd r:embed="rId2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1200" y="-112680"/>
            <a:ext cx="8163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分析小说第一部分</a:t>
            </a:r>
            <a:r>
              <a:rPr b="1" lang="en-US" sz="5400" spc="-1" strike="noStrike">
                <a:solidFill>
                  <a:srgbClr val="080808"/>
                </a:solidFill>
                <a:latin typeface="Arial"/>
              </a:rPr>
              <a:t>(1-5)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</a:rPr>
              <a:t>：交待了哪些内容？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 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小说人物出场：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奥楚蔑洛夫  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巡警    赫留金    围观群众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2 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交待了故事发生的时代背景：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市面萧条冷落，死气沉沉，揭示沙皇专制统治的黑暗和腐败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med">
    <p:split dir="in" orient="vert"/>
    <p:sndAc>
      <p:stSnd>
        <p:snd r:embed="rId2" name="chimes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1630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分析小说第二部分（</a:t>
            </a:r>
            <a:r>
              <a:rPr b="1" lang="en-US" sz="4800" spc="-1" strike="noStrike">
                <a:solidFill>
                  <a:srgbClr val="080808"/>
                </a:solidFill>
                <a:latin typeface="Arial"/>
              </a:rPr>
              <a:t>6-27</a:t>
            </a: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</a:rPr>
              <a:t>思考</a:t>
            </a:r>
            <a:r>
              <a:rPr b="1" lang="en-US" sz="60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1" lang="zh-CN" sz="6000" spc="-1" strike="noStrike">
                <a:solidFill>
                  <a:srgbClr val="080808"/>
                </a:solidFill>
                <a:latin typeface="Arial"/>
              </a:rPr>
              <a:t>作者主要通过什么描写来表现他的变色</a:t>
            </a:r>
            <a:r>
              <a:rPr b="1" lang="en-US" sz="60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80808"/>
                </a:solidFill>
                <a:latin typeface="Arial"/>
              </a:rPr>
              <a:t>明确</a:t>
            </a:r>
            <a:r>
              <a:rPr b="1" lang="en-US" sz="60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1" lang="zh-CN" sz="6000" spc="-1" strike="noStrike">
                <a:solidFill>
                  <a:srgbClr val="080808"/>
                </a:solidFill>
                <a:latin typeface="Arial"/>
              </a:rPr>
              <a:t>语言的前后对比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spd="med">
    <p:split dir="in" orient="vert"/>
    <p:sndAc>
      <p:stSnd>
        <p:snd r:embed="rId2" name="chimes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13:53:57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39:46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