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997-8407-4C46-B6DD-DAE9FCE9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479-85F5-4FFC-BE03-FD0B17FF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341-49D5-4EFC-B45A-02308193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310-27A8-4963-8866-5E3F83EB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6FE5-4250-4441-A756-310B859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D85D-0BB9-4ECB-AA2F-0CF77509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D771-BB00-4E77-A545-D44F3A51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B42-6C5C-464B-964F-74C6774B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72E2-5A9E-48CC-9884-96D3CC0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1BB8-10DA-4F9D-9B67-FB9281E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A0FF-D44B-4B8A-872A-944AE16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F47-B5E6-49C4-BC33-EA98BC1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585-132E-44D7-9A8A-655EB2E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4E93-D4FB-4367-8DDF-208445F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880C-1773-4FA2-96BC-3FC4B90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12F4-2F50-493C-A2A9-3F326BE3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5A7-C8F5-4F5D-8AAC-313863E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2BCE-0E62-44D2-ABBC-4B54ACE2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5B5F-CD9A-4A40-A323-284EDFC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5011-2270-4C62-BA52-A9F89B2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71C9-2D09-4528-A967-6CECFC5A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460E-F938-4F6D-AED7-55069C3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3BE-01AA-4AC9-8EAF-D0C80EAD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5C3F-303D-4A95-9BE5-3C0EF88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0E50-B38E-4CA4-AF8D-7CD996A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2408-0711-485B-A091-64F2F18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A519-1FA7-4580-A052-32368A7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DFBE-21CA-4767-9049-0D0EAA3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E45B-42DC-493C-AE82-9278ADC2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7E50-4105-4980-A527-D52897BC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3A5-14E8-491D-9D03-048FB67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F4C-7D7D-46D7-BA4C-EFEEA9D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6A6-2424-47AA-9927-91DAE23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29A-63BE-48AE-9053-9360914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138-6734-4D75-80A1-9886A12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436-2825-4A94-9D3B-F5A0601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DFD0-2289-4490-BD25-0562E8111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1C1-B3D1-4F9F-BB68-A686647C1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96D5-0B2A-417C-A1EE-EC0F7F6A93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E3C-D410-4F07-883C-528902BD0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Comic Sans MS"/>
              </a:rPr>
              <a:t>伯牙绝弦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鼓琴，志在高山，钟子期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／若／泰山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  钟子期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／若／江河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gaoshanliushui.mp3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560" y="54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子期死，伯牙谓世再无知音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乃破琴绝弦，终身不复鼓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19.mp3" descr=""/>
          <p:cNvPicPr/>
          <p:nvPr/>
        </p:nvPicPr>
        <p:blipFill>
          <a:blip r:embed="rId2"/>
          <a:stretch/>
        </p:blipFill>
        <p:spPr>
          <a:xfrm>
            <a:off x="7451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395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善鼓琴，钟子期善听。伯牙鼓琴，志在高山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若泰山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若江河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子期死，伯牙谓世再无知音，乃破琴绝弦，终身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gaoshanliushui.mp3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！ 老师们辛苦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9640" y="1484280"/>
            <a:ext cx="7920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炊烟袅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明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春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白雪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杨柳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霞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403280" y="2832120"/>
            <a:ext cx="7921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2720" y="2832120"/>
            <a:ext cx="176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善／鼓琴，钟子期／善听。伯牙鼓琴，志在高山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／若／泰山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  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／若／江河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子期死，伯牙／谓／世／再无知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乃／破琴／绝弦，终身／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1376280" y="1268280"/>
            <a:ext cx="45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072440" y="981000"/>
            <a:ext cx="78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伯牙善鼓琴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7527240" y="981000"/>
            <a:ext cx="789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钟子期善听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11280" y="51804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牙鼓琴，志在高山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钟子期曰：“善哉，峨峨兮若泰山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611720" y="83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志在流水，钟子期曰：“善哉，洋洋兮若江河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0" y="2349360"/>
            <a:ext cx="6985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风徐徐           明月皎皎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芳草萋萋           杨柳依依      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春雨潇潇           白雪皑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云雾蒙蒙           霞光灼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993000" y="148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伯牙鼓琴，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善哉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善哉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1547640" y="36450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14"/>
          <p:cNvPicPr/>
          <p:nvPr/>
        </p:nvPicPr>
        <p:blipFill>
          <a:blip r:embed="rId16"/>
          <a:stretch/>
        </p:blipFill>
        <p:spPr>
          <a:xfrm>
            <a:off x="539640" y="314172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伯牙作为楚国著名的宫廷乐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名满天下，虽然听者众多，但听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都是那些毫无价值的、没有意义的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空虚的、肤浅的赞美，他始终觉得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人真正听懂他的琴声，所以独自一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来到山间排遣内心的孤独和寂寞，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万万没想到，此时，此地，此人，钟子期，一个山野村夫却能听得懂他的琴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740640" y="4941720"/>
            <a:ext cx="1657080" cy="1743120"/>
            <a:chOff x="6740640" y="4941720"/>
            <a:chExt cx="1657080" cy="1743120"/>
          </a:xfrm>
        </p:grpSpPr>
        <p:pic>
          <p:nvPicPr>
            <p:cNvPr id="211" name="Picture 4" descr=""/>
            <p:cNvPicPr/>
            <p:nvPr/>
          </p:nvPicPr>
          <p:blipFill>
            <a:blip r:embed="rId1"/>
            <a:stretch/>
          </p:blipFill>
          <p:spPr>
            <a:xfrm>
              <a:off x="6740640" y="4941720"/>
              <a:ext cx="1657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6740640" y="4941720"/>
              <a:ext cx="165708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3" name="gaoshanliushui.mp3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4:0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