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9632-1BA8-44D6-BEBF-37932C1C0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A712-365C-4D66-972E-3567C006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D1F8-7FA1-4359-B6B8-A92E62C1D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0665-46A8-4C0C-A1B1-340075819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AABE-6743-4C7C-99AF-8C3E8B646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A70A9-C5DD-449C-8EFF-2E121E83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69B1-D5CF-450C-9889-5C559A74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059D-F192-4624-895B-0917DB5D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5406-FB4C-46D6-BE3C-6CD60D8E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0737C-2655-4CC6-8AE4-E0B77560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A0C9-D818-4AA7-90FE-5F1CA829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F0F9-C628-4502-99F9-A723ADA9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E9C3-CEF6-4F3D-A7EE-C3D2179A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74F1-7CC4-4476-87F0-E7065A93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0206-1448-4F63-BFA0-C4A09607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483D-2AD3-4948-83F4-959EBAA57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B3C63-6B5A-4868-8EC3-9DDCA83E5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AB50F-4FB1-441F-9E47-D36015F16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ADC90-E213-4B34-97A3-A8B00D1E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5FB27-8D34-415A-87D5-246B7FF1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27D07-E7CD-480B-8F8C-2EDB2C2B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88B4C-8469-4558-AECF-6AD111CA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2CA0-2F0C-49EC-B5F0-F3605679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DF8AC-3791-463B-A2EA-65C23567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AEAB0-9BB8-4CEB-97B5-55A5D1D6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B22F6-FAA4-46BB-A921-870E3499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281F0-012A-45B1-9DE4-191D6E80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EA6F2-1B1E-4B45-AC9D-B0335FDF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69CD7-6895-4C19-AA0A-F299EC2C8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EFA25-289B-4EEA-A552-FC0B8AEC3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4E1D-3AE5-47B0-B847-BA7D747A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AC4D-EDC6-4FA0-BDC8-1B1E809D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832A-8E5C-447C-B5F2-9CD28611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3744-5092-45F5-8B7B-15B57542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6148-3984-4D99-AE5D-DE498662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B7FD-3604-4445-A918-EDEB4E6D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572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52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89D5-0C08-4382-AE31-72803FEA0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572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1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52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32C8-47FC-40EE-B735-4A8FA1593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C30F-7449-4B2E-BD4D-B91B3D832EC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4B55-A6F0-4732-B7ED-F113E65309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曾侯乙编钟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84360" y="3141720"/>
            <a:ext cx="40132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ffffb7"/>
                </a:solidFill>
                <a:latin typeface="Arial Black"/>
                <a:ea typeface="黑体"/>
              </a:rPr>
              <a:t>编   钟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0" y="260280"/>
            <a:ext cx="64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楷体_GBK"/>
                <a:ea typeface="方正楷体_GBK"/>
              </a:rPr>
              <a:t>语文</a:t>
            </a:r>
            <a:r>
              <a:rPr b="1" lang="en-US" sz="3200" spc="-1" strike="noStrike">
                <a:solidFill>
                  <a:srgbClr val="ffffff"/>
                </a:solidFill>
                <a:latin typeface="方正楷体_GBK"/>
                <a:ea typeface="方正楷体_GBK"/>
              </a:rPr>
              <a:t>S</a:t>
            </a:r>
            <a:r>
              <a:rPr b="1" lang="zh-CN" sz="3200" spc="-1" strike="noStrike">
                <a:solidFill>
                  <a:srgbClr val="ffffff"/>
                </a:solidFill>
                <a:latin typeface="方正楷体_GBK"/>
                <a:ea typeface="方正楷体_GBK"/>
              </a:rPr>
              <a:t>版六年级语文下册第五单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 Black"/>
                <a:ea typeface="楷体_GB2312"/>
              </a:rPr>
              <a:t>练读拓展：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1.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为课文的编钟照片配一段说明文字，把造型设计叙述清楚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2.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为课文的编钟出土照片配一段说明文字，把出土的时间、地点、当时情况作简要说明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3.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设计一份曾侯乙编钟音乐演奏会节目单（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5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自然段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79640" y="2492280"/>
            <a:ext cx="424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 Black"/>
                <a:ea typeface="方正楷体_GBK"/>
              </a:rPr>
              <a:t>谢谢指导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使用规范说明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ff66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7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曾侯乙编钟1"/>
          <p:cNvPicPr/>
          <p:nvPr/>
        </p:nvPicPr>
        <p:blipFill>
          <a:blip r:embed="rId2"/>
          <a:stretch/>
        </p:blipFill>
        <p:spPr>
          <a:xfrm>
            <a:off x="2882880" y="895320"/>
            <a:ext cx="337824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4" descr="编钟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曾侯乙编钟封底"/>
          <p:cNvPicPr/>
          <p:nvPr/>
        </p:nvPicPr>
        <p:blipFill>
          <a:blip r:embed="rId2"/>
          <a:stretch/>
        </p:blipFill>
        <p:spPr>
          <a:xfrm>
            <a:off x="0" y="981000"/>
            <a:ext cx="89726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93218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 Black"/>
                <a:ea typeface="楷体_GB2312"/>
              </a:rPr>
              <a:t>默读课文，思考：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2708280"/>
            <a:ext cx="800748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课文围绕编钟写了哪些内容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文中哪些段落介绍了曾侯乙编钟？开篇第一自然段内容与后面有什么不同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曾侯乙编钟2"/>
          <p:cNvPicPr/>
          <p:nvPr/>
        </p:nvPicPr>
        <p:blipFill>
          <a:blip r:embed="rId2"/>
          <a:stretch/>
        </p:blipFill>
        <p:spPr>
          <a:xfrm>
            <a:off x="2627280" y="1125360"/>
            <a:ext cx="3465720" cy="49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 Black"/>
                <a:ea typeface="楷体_GB2312"/>
              </a:rPr>
              <a:t>请看下面课文结构图：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51" name="Organization Chart 7"/>
          <p:cNvGrpSpPr/>
          <p:nvPr/>
        </p:nvGrpSpPr>
        <p:grpSpPr>
          <a:xfrm>
            <a:off x="809640" y="1866960"/>
            <a:ext cx="7992360" cy="4176000"/>
            <a:chOff x="809640" y="1866960"/>
            <a:chExt cx="7992360" cy="4176000"/>
          </a:xfrm>
        </p:grpSpPr>
        <p:cxnSp>
          <p:nvCxnSpPr>
            <p:cNvPr id="152" name="_s1028"/>
            <p:cNvCxnSpPr>
              <a:stCxn id="153" idx="0"/>
              <a:endCxn id="154" idx="2"/>
            </p:cNvCxnSpPr>
            <p:nvPr/>
          </p:nvCxnSpPr>
          <p:spPr>
            <a:xfrm flipV="1">
              <a:off x="4803480" y="4473360"/>
              <a:ext cx="2880" cy="522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5" name="_s1029"/>
            <p:cNvCxnSpPr>
              <a:stCxn id="156" idx="0"/>
              <a:endCxn id="154" idx="2"/>
            </p:cNvCxnSpPr>
            <p:nvPr/>
          </p:nvCxnSpPr>
          <p:spPr>
            <a:xfrm flipV="1" rot="16200000">
              <a:off x="5943240" y="3338640"/>
              <a:ext cx="522720" cy="2797920"/>
            </a:xfrm>
            <a:prstGeom prst="bentConnector3">
              <a:avLst>
                <a:gd name="adj1" fmla="val 2184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7" name="_s1030"/>
            <p:cNvCxnSpPr>
              <a:stCxn id="158" idx="0"/>
              <a:endCxn id="154" idx="2"/>
            </p:cNvCxnSpPr>
            <p:nvPr/>
          </p:nvCxnSpPr>
          <p:spPr>
            <a:xfrm flipH="1" flipV="1" rot="5400000">
              <a:off x="3145680" y="3339000"/>
              <a:ext cx="522720" cy="2797920"/>
            </a:xfrm>
            <a:prstGeom prst="bentConnector3">
              <a:avLst>
                <a:gd name="adj1" fmla="val 2184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9" name="_s1031"/>
            <p:cNvCxnSpPr>
              <a:stCxn id="154" idx="0"/>
              <a:endCxn id="160" idx="2"/>
            </p:cNvCxnSpPr>
            <p:nvPr/>
          </p:nvCxnSpPr>
          <p:spPr>
            <a:xfrm flipV="1" rot="16200000">
              <a:off x="3845160" y="2472120"/>
              <a:ext cx="522720" cy="1398960"/>
            </a:xfrm>
            <a:prstGeom prst="bentConnector3">
              <a:avLst>
                <a:gd name="adj1" fmla="val 2184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1" name="_s1032"/>
            <p:cNvCxnSpPr>
              <a:stCxn id="162" idx="0"/>
              <a:endCxn id="160" idx="2"/>
            </p:cNvCxnSpPr>
            <p:nvPr/>
          </p:nvCxnSpPr>
          <p:spPr>
            <a:xfrm flipH="1" flipV="1" rot="5400000">
              <a:off x="2446560" y="2472120"/>
              <a:ext cx="522720" cy="1399680"/>
            </a:xfrm>
            <a:prstGeom prst="bentConnector3">
              <a:avLst>
                <a:gd name="adj1" fmla="val 2184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60" name="_s1033"/>
            <p:cNvSpPr/>
            <p:nvPr/>
          </p:nvSpPr>
          <p:spPr>
            <a:xfrm>
              <a:off x="2208600" y="1866960"/>
              <a:ext cx="2397600" cy="10440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编钟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_s1034"/>
            <p:cNvSpPr/>
            <p:nvPr/>
          </p:nvSpPr>
          <p:spPr>
            <a:xfrm>
              <a:off x="809640" y="3432960"/>
              <a:ext cx="2397600" cy="10440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历史由来（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1</a:t>
              </a: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）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_s1035"/>
            <p:cNvSpPr/>
            <p:nvPr/>
          </p:nvSpPr>
          <p:spPr>
            <a:xfrm>
              <a:off x="3606840" y="3432960"/>
              <a:ext cx="2397600" cy="10440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基本情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_s1036"/>
            <p:cNvSpPr/>
            <p:nvPr/>
          </p:nvSpPr>
          <p:spPr>
            <a:xfrm>
              <a:off x="809640" y="4998960"/>
              <a:ext cx="2397600" cy="10440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重要价值（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2</a:t>
              </a: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）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_s1037"/>
            <p:cNvSpPr/>
            <p:nvPr/>
          </p:nvSpPr>
          <p:spPr>
            <a:xfrm>
              <a:off x="6404400" y="4998960"/>
              <a:ext cx="2397600" cy="10440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  </a:t>
              </a: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演奏效果（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5.6</a:t>
              </a: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）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_s1038"/>
            <p:cNvSpPr/>
            <p:nvPr/>
          </p:nvSpPr>
          <p:spPr>
            <a:xfrm>
              <a:off x="3606840" y="4998960"/>
              <a:ext cx="2397600" cy="10440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主要特点（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3.4</a:t>
              </a: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）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 Black"/>
                <a:ea typeface="楷体_GB2312"/>
              </a:rPr>
              <a:t>读课文，围绕下列问题讨论：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5280" y="2708280"/>
            <a:ext cx="800748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曾侯乙编钟有哪些特点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曾侯乙编钟有什么价值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50560" y="1904760"/>
            <a:ext cx="8893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（造型结构精巧   音乐性能良好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（数量最多，保存最好，音律最全，气势最宏伟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（恢宏的气势，精湛的铸造工艺，非凡的音乐效果，内容丰富的乐律铭文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01:44:52Z</dcterms:created>
  <dc:creator/>
  <dc:description>ppt模板下载网站 http://www.eeppt.com</dc:description>
  <cp:keywords>ppt模板下载网站 http:/www.eeppt.com</cp:keywords>
  <dc:language>en-US</dc:language>
  <cp:lastModifiedBy/>
  <dcterms:modified xsi:type="dcterms:W3CDTF">2015-05-20T13:50:59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