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gif" ContentType="image/gi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64B-629D-4372-9A93-30E7660A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300-DBDA-4EA4-9F63-E2A60A33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1AD-60D4-4CF5-A4C3-B07E9B45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51A-DE61-44C4-8DD1-FD80B857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FF31-2F2B-4F2E-B9FD-C9333914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503B-58E1-44EA-8997-0DACF787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E2ED-0265-4B41-BDAC-38751D9F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36CC-B355-4C55-B7C4-E4E73912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4A40-6BD4-43AB-9C50-B037B954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CD7F-F6B4-4BAD-BA79-25DA53D6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82A6-6D94-4036-BCDD-6C38DE8D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9F7-5C76-453F-A491-C1386526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8B86-58B8-4E72-BA87-9F723A5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FBDD-E22A-4747-A017-B5829B2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5618-199F-45E9-8A59-8DC00C57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A3D2-0FC7-4CDD-86ED-3B7C8013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E74B-7D76-4552-AB31-E294E7ED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F1F-0B67-4E4F-8F87-D09DADF5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5EC-BACC-45AB-8F88-B20A12A4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F42-4151-4F29-BC88-3EBFB0C5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C01-0229-46B1-B46F-C7BBAA07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15D-D40F-4BF3-9A61-7FB0B37C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592-E018-4DC2-8B54-D953ED19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4A0-E5B4-4346-911B-55796F34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7C31-A438-4D50-A397-7391EF3034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 u="sng">
                <a:solidFill>
                  <a:srgbClr val="000000"/>
                </a:solidFill>
                <a:uFillTx/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8547-D99C-47DE-9D55-1946528855C1}" type="datetime">
              <a:rPr b="1" lang="zh-CN" sz="1400" spc="-1" strike="noStrike" u="sng">
                <a:solidFill>
                  <a:srgbClr val="000000"/>
                </a:solidFill>
                <a:uFillTx/>
                <a:latin typeface="楷体_GB2312"/>
              </a:rPr>
              <a:t>26/7/31</a:t>
            </a:fld>
            <a:endParaRPr b="1" lang="en-US" sz="1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 u="sng">
                <a:solidFill>
                  <a:srgbClr val="000000"/>
                </a:solidFill>
                <a:uFillTx/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E081-21BD-4E90-86D1-5B62283A4143}" type="slidenum">
              <a:rPr b="1" lang="zh-CN" sz="1400" spc="-1" strike="noStrike" u="sng">
                <a:solidFill>
                  <a:srgbClr val="000000"/>
                </a:solidFill>
                <a:uFillTx/>
                <a:latin typeface="楷体_GB2312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>
              <a:alpha val="98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pic>
        <p:nvPicPr>
          <p:cNvPr id="83" name="Picture 3" descr="11"/>
          <p:cNvPicPr/>
          <p:nvPr/>
        </p:nvPicPr>
        <p:blipFill>
          <a:blip r:embed="rId1"/>
          <a:stretch/>
        </p:blipFill>
        <p:spPr>
          <a:xfrm>
            <a:off x="-179280" y="0"/>
            <a:ext cx="9447120" cy="7086600"/>
          </a:xfrm>
          <a:prstGeom prst="rect">
            <a:avLst/>
          </a:prstGeom>
          <a:ln w="0">
            <a:noFill/>
          </a:ln>
        </p:spPr>
      </p:pic>
      <p:pic>
        <p:nvPicPr>
          <p:cNvPr id="84" name="WordArt 4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5589720" cy="1401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332000" y="4724280"/>
            <a:ext cx="619272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</a:rPr>
              <a:t>河口区河安小学   路伟</a:t>
            </a:r>
            <a:endParaRPr b="1" lang="en-US" sz="4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pic>
        <p:nvPicPr>
          <p:cNvPr id="86" name="开头音乐.mp3" descr=""/>
          <p:cNvPicPr/>
          <p:nvPr/>
        </p:nvPicPr>
        <p:blipFill>
          <a:blip r:embed="rId3"/>
          <a:stretch/>
        </p:blipFill>
        <p:spPr>
          <a:xfrm>
            <a:off x="81532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641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807200" y="52560"/>
            <a:ext cx="554508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随着这个奇迹，我们仿佛看到了安静第一次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来到这个花园的情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那是一次又一次的磕磕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绊绊，甚至一次又一次地摔倒，她只是想拢住一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朵花，却一次又一次地失误、一次又一次地扑空。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可是，她是多爱这里啊！就这样，一天又一天，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年又一年，终于有一天，终于有一天，那是她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生中的第八个春天，奇迹发生了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安静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在花丛中穿梭，她走得很流畅，没有一点儿磕磕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绊绊。最后安静在一株月季花前停下来。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她慢慢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地伸出双手，在花香的指引下，极其准确地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伸向一朵沾着露珠的月季花。安静的手指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悄然合拢，竟然拢住了那只蝴蝶，真是一个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奇迹！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pic>
        <p:nvPicPr>
          <p:cNvPr id="111" name="初雪.mp3" descr=""/>
          <p:cNvPicPr/>
          <p:nvPr/>
        </p:nvPicPr>
        <p:blipFill>
          <a:blip r:embed="rId2"/>
          <a:stretch/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60769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807200" y="52560"/>
            <a:ext cx="554508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随着这个奇迹，我们仿佛看到了安静第一次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来到这个花园的情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那是一次又一次的磕磕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绊绊，甚至一次又一次地摔倒，她只是想拢住一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朵花，却一次又一次地失误、一次又一次地扑空。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可是，她是多爱这里啊！就这样，一天又一天，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年又一年，终于有一天，终于有一天，那是她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生中的第八个春天，奇迹发生了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安静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在花丛中穿梭，她走得很流畅，没有一点儿磕磕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绊绊。最后安静在一株月季花前停下来。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她慢慢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地伸出双手，在花香的指引下，极其准确地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伸向一朵沾着露珠的月季花。安静的手指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悄然合拢，竟然拢住了那只蝴蝶，真是一个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奇迹！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7_1024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179280" y="333360"/>
            <a:ext cx="626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2637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蝴蝶在她的手指间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扑腾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，安静的脸上充满了惊讶。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_27881588d5327d34f1f74c87cf8e47d78ba305886bf8209"/>
          <p:cNvPicPr/>
          <p:nvPr/>
        </p:nvPicPr>
        <p:blipFill>
          <a:blip r:embed="rId2"/>
          <a:stretch/>
        </p:blipFill>
        <p:spPr>
          <a:xfrm>
            <a:off x="7380360" y="1125360"/>
            <a:ext cx="1368360" cy="1211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50920" y="18900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40464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许久，她张开手指，蝴蝶扑闪着翅膀飞走了，安静仰起头来张望。此刻安静的心上，一定划过一条美丽的弧线，蝴蝶在她八岁的人生划过一道极其优美的曲线，述说着飞翔的概念。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_27881588d5327d34f1f74c87cf8e47d78ba305886bf8209"/>
          <p:cNvPicPr/>
          <p:nvPr/>
        </p:nvPicPr>
        <p:blipFill>
          <a:blip r:embed="rId2"/>
          <a:stretch/>
        </p:blipFill>
        <p:spPr>
          <a:xfrm>
            <a:off x="7380360" y="1125360"/>
            <a:ext cx="1368360" cy="1211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250920" y="18900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9280" y="404640"/>
            <a:ext cx="6697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许久，她张开手指，蝴蝶扑闪着翅膀飞走了，安静仰起头来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张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。此刻安静的心上，一定划过一条美丽的弧线，蝴蝶在她八岁的人生划过一道极其优美的曲线，述说着飞翔的概念。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42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684360" y="69228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宋体"/>
              </a:rPr>
              <a:t>谁都有生活的权利，谁都可以创造一个属于自己的缤纷世界。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060814162422262"/>
          <p:cNvPicPr/>
          <p:nvPr/>
        </p:nvPicPr>
        <p:blipFill>
          <a:blip r:embed="rId1"/>
          <a:stretch/>
        </p:blipFill>
        <p:spPr>
          <a:xfrm>
            <a:off x="0" y="0"/>
            <a:ext cx="497196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5768640" y="692280"/>
            <a:ext cx="213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海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凯勒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796800" y="1916280"/>
            <a:ext cx="67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《假如给我三天光明》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003640" y="299736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世上除了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眼睛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看世界，还有一种内在的视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那可能是更真实的，那就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用心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去看这个世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07_1024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179280" y="333360"/>
            <a:ext cx="626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16000" y="2133720"/>
            <a:ext cx="54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8800" spc="-1" strike="noStrike">
                <a:solidFill>
                  <a:srgbClr val="0066ff"/>
                </a:solidFill>
                <a:latin typeface="楷体_GB2312"/>
              </a:rPr>
              <a:t>谢 谢</a:t>
            </a:r>
            <a:endParaRPr b="1" lang="en-US" sz="8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楷体_GB2312"/>
              </a:rPr>
              <a:t>www.eeppt.com</a:t>
            </a:r>
            <a:endParaRPr b="1" lang="en-US" sz="1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 u="sng">
                <a:solidFill>
                  <a:srgbClr val="000000"/>
                </a:solidFill>
                <a:uFillTx/>
                <a:latin typeface="楷体_GB2312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 u="sng">
                <a:solidFill>
                  <a:srgbClr val="000000"/>
                </a:solidFill>
                <a:uFillTx/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2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84360" y="69228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宋体"/>
              </a:rPr>
              <a:t>谁都有生活的权利，谁都可以创造一个属于自己的缤纷世界。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7_1024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189000"/>
            <a:ext cx="669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547640" y="4365720"/>
            <a:ext cx="576360" cy="1152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81720 h 1152360"/>
              <a:gd name="textAreaBottom" fmla="*/ 107064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5"/>
                  <a:pt x="10800" y="4909"/>
                </a:cubicBezTo>
                <a:lnTo>
                  <a:pt x="10800" y="5891"/>
                </a:lnTo>
                <a:cubicBezTo>
                  <a:pt x="10800" y="8346"/>
                  <a:pt x="5400" y="10800"/>
                  <a:pt x="0" y="10800"/>
                </a:cubicBezTo>
                <a:cubicBezTo>
                  <a:pt x="5400" y="10800"/>
                  <a:pt x="10800" y="13255"/>
                  <a:pt x="10800" y="15709"/>
                </a:cubicBezTo>
                <a:lnTo>
                  <a:pt x="10800" y="16691"/>
                </a:lnTo>
                <a:cubicBezTo>
                  <a:pt x="10800" y="1914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684360" y="4869000"/>
            <a:ext cx="142560" cy="1008000"/>
          </a:xfrm>
          <a:custGeom>
            <a:avLst/>
            <a:gdLst>
              <a:gd name="textAreaLeft" fmla="*/ 91080 w 142560"/>
              <a:gd name="textAreaRight" fmla="*/ 142920 w 1425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79280" y="62064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小径 流连 弧线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浓郁 瞬间 流畅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花繁叶茂 清香袅袅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磕磕绊绊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悄然合拢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38843daba1b5a55a4a36d640"/>
          <p:cNvPicPr/>
          <p:nvPr/>
        </p:nvPicPr>
        <p:blipFill>
          <a:blip r:embed="rId1"/>
          <a:stretch/>
        </p:blipFill>
        <p:spPr>
          <a:xfrm>
            <a:off x="-608040" y="0"/>
            <a:ext cx="97520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643280" y="4508640"/>
            <a:ext cx="252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124000" y="458136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月季花开了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楷体_GB2312"/>
              </a:rPr>
              <a:t>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1280" y="357336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桃花开了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124000" y="263700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小区的绿地上花繁叶茂。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楷体_GB2312"/>
              </a:rPr>
              <a:t>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124000" y="177336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春天来了，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楷体_GB2312"/>
              </a:rPr>
              <a:t>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pic>
        <p:nvPicPr>
          <p:cNvPr id="100" name="伤感背景音乐.mp3" descr=""/>
          <p:cNvPicPr/>
          <p:nvPr/>
        </p:nvPicPr>
        <p:blipFill>
          <a:blip r:embed="rId2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7_1024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79280" y="1773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浓郁的花香吸引着安静。这个小女孩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整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在花香中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流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42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684360" y="69228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宋体"/>
              </a:rPr>
              <a:t>谁都有生活的权利，谁都可以创造一个属于自己的缤纷世界。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7_1024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179280" y="333360"/>
            <a:ext cx="62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安静的手指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悄然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合拢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竟然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拢住了那只蝴蝶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真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是一个奇迹！</a:t>
            </a:r>
            <a:endParaRPr b="1" lang="en-US" sz="44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安静的手指合拢，拢住了那只蝴蝶。是一个奇迹。</a:t>
            </a:r>
            <a:endParaRPr b="1" lang="en-US" sz="4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安静走到了一片草地上，她的手指悄然合拢，她似乎摸到这些小草比昨天又长高了一截；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楷体_GB2312"/>
              </a:rPr>
              <a:t>她来到了一棵开满了花的桃树下，她的手指悄然合拢，她似乎（                  ）；                   她来到一棵长满绿叶的小树下，她的手指悄然合拢，她似乎（                  ）。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2:54:11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3:52:02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