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03D-7E27-4407-A9CF-F656867C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C8C-B54B-4F47-9F48-4549F536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AD0-CD51-4D34-9AA2-06376618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958-84BD-4EF0-A63F-7F48E419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8A1-4272-42FB-A7FE-3F5CD71D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5C9-7EE4-4CCF-A6C3-E073C748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646-FF13-4D40-AD8C-D327B2F4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C55-9750-4B98-B422-2D461154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B99-F2B2-4668-829A-E4BE99D9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A56-D62F-482A-BC4A-6371569E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040-71F2-4180-B430-A64D7062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257-704B-4051-ABCD-636F4DB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C9F7-E4C9-477F-B2B7-BA6DB00DCC7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609480" y="2060640"/>
            <a:ext cx="8001000" cy="4190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66680" y="152280"/>
            <a:ext cx="6416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隶书"/>
                <a:ea typeface="隶书"/>
              </a:rPr>
              <a:t>陈涉世家</a:t>
            </a:r>
            <a:endParaRPr b="1" lang="en-US" sz="6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546880" y="565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4800600" y="1295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]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9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39640" y="404640"/>
            <a:ext cx="3727440" cy="2632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476360" y="1052640"/>
            <a:ext cx="741852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胜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天下苦秦久矣。吾闻二世少子也，不当立，当立者乃公子扶苏。扶苏以数谏故，上使外将兵。今或闻无罪，二世杀之。百姓多闻其贤，未知其死也。项燕为楚将，数有功，爱士卒，楚人怜之。或以为死，或以为亡。今诚以吾众诈自称公子扶苏、项燕，为天下唱，宜多应者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吴广以为然。乃行卜。卜者知其指意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足下事皆成，有功。然足下卜之鬼乎！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胜、吴广喜，念鬼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此教我先威众耳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0"/>
          <p:cNvPicPr/>
          <p:nvPr/>
        </p:nvPicPr>
        <p:blipFill>
          <a:blip r:embed="rId2"/>
          <a:stretch/>
        </p:blipFill>
        <p:spPr>
          <a:xfrm>
            <a:off x="0" y="0"/>
            <a:ext cx="4284720" cy="3025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25280" y="4941720"/>
            <a:ext cx="8893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乃丹书帛曰：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陈胜王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，置人所罾鱼腹中。卒买鱼烹食，得鱼腹中书，固以怪之矣。又间令吴广之次所旁丛祠中，夜篝火，狐鸣呼曰：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大楚兴，陈胜王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。卒皆夜惊恐。旦日，卒中往往语，皆指目陈胜。 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4" descr="11"/>
          <p:cNvPicPr/>
          <p:nvPr/>
        </p:nvPicPr>
        <p:blipFill>
          <a:blip r:embed="rId3"/>
          <a:stretch/>
        </p:blipFill>
        <p:spPr>
          <a:xfrm>
            <a:off x="4824360" y="1628640"/>
            <a:ext cx="431964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84200" y="5229360"/>
            <a:ext cx="8174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  </a:t>
            </a:r>
            <a:r>
              <a:rPr b="1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吴广素爱人，士卒多为用者。将尉醉，广故数言欲亡，忿恚尉，令辱之，以激怒其众。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7" name="Picture 5" descr="12"/>
          <p:cNvPicPr/>
          <p:nvPr/>
        </p:nvPicPr>
        <p:blipFill>
          <a:blip r:embed="rId2"/>
          <a:stretch/>
        </p:blipFill>
        <p:spPr>
          <a:xfrm>
            <a:off x="1278000" y="404640"/>
            <a:ext cx="6588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3"/>
          <p:cNvPicPr/>
          <p:nvPr/>
        </p:nvPicPr>
        <p:blipFill>
          <a:blip r:embed="rId2"/>
          <a:stretch/>
        </p:blipFill>
        <p:spPr>
          <a:xfrm>
            <a:off x="1114560" y="333360"/>
            <a:ext cx="6913440" cy="4883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682560" y="5373720"/>
            <a:ext cx="7778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尉果笞广。尉剑挺，广起，夺而杀尉。陈胜佐之，并杀两尉。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14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24000" y="260280"/>
            <a:ext cx="5124240" cy="3619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538200" y="2362320"/>
            <a:ext cx="8066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召令徒属曰：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公等遇雨，皆已失期，失期当斩。借第令毋斩，而戍死者固十六七。且壮士不死即已，死即举大名耳，王侯将相宁有种乎！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徒属皆曰：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敬受命。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乃诈称公子扶苏、项燕，从民欲也。袒右，称大楚。为坛而盟，祭以尉首。陈胜自立为将军，吴广为都尉。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524640"/>
            <a:ext cx="7632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说课ppt模板</a:t>
            </a: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http://www.eeppt.com/moban/kejian/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6"/>
          <p:cNvPicPr/>
          <p:nvPr/>
        </p:nvPicPr>
        <p:blipFill>
          <a:blip r:embed="rId2"/>
          <a:stretch/>
        </p:blipFill>
        <p:spPr>
          <a:xfrm>
            <a:off x="1332000" y="189000"/>
            <a:ext cx="6480000" cy="4576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206280" y="5084640"/>
            <a:ext cx="87314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攻大泽乡，收而攻蕲。蕲下，乃令符离人葛婴将兵徇蕲以东。攻铚、酂、苦、柘、谯，皆下之。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1"/>
          <p:cNvPicPr/>
          <p:nvPr/>
        </p:nvPicPr>
        <p:blipFill>
          <a:blip r:embed="rId2"/>
          <a:stretch/>
        </p:blipFill>
        <p:spPr>
          <a:xfrm>
            <a:off x="1403280" y="476280"/>
            <a:ext cx="6337440" cy="4476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466560" y="5157720"/>
            <a:ext cx="82108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行收兵，比至陈，车六七百乘，骑千余，卒数万人。</a:t>
            </a:r>
            <a:endParaRPr b="1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18"/>
          <p:cNvPicPr/>
          <p:nvPr/>
        </p:nvPicPr>
        <p:blipFill>
          <a:blip r:embed="rId2"/>
          <a:stretch/>
        </p:blipFill>
        <p:spPr>
          <a:xfrm>
            <a:off x="0" y="0"/>
            <a:ext cx="4211640" cy="29750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609480" y="4869000"/>
            <a:ext cx="7923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攻陈，陈守令皆不在独守丞与战谯门中，弗胜，守丞死，乃入据陈。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9" name="Picture 5" descr="30"/>
          <p:cNvPicPr/>
          <p:nvPr/>
        </p:nvPicPr>
        <p:blipFill>
          <a:blip r:embed="rId3"/>
          <a:stretch/>
        </p:blipFill>
        <p:spPr>
          <a:xfrm>
            <a:off x="4788000" y="1484280"/>
            <a:ext cx="4356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4"/>
          <p:cNvPicPr/>
          <p:nvPr/>
        </p:nvPicPr>
        <p:blipFill>
          <a:blip r:embed="rId2"/>
          <a:stretch/>
        </p:blipFill>
        <p:spPr>
          <a:xfrm>
            <a:off x="1511280" y="404640"/>
            <a:ext cx="6120000" cy="43228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324000" y="4941720"/>
            <a:ext cx="8496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数日，号令召三老、豪杰与皆来会计事。三老、豪杰皆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将军身被坚执锐，伐无道，诛暴秦，复立楚国之社稷，功宜为王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9"/>
          <p:cNvPicPr/>
          <p:nvPr/>
        </p:nvPicPr>
        <p:blipFill>
          <a:blip r:embed="rId2"/>
          <a:stretch/>
        </p:blipFill>
        <p:spPr>
          <a:xfrm>
            <a:off x="1150920" y="260280"/>
            <a:ext cx="6840720" cy="4830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1727280" y="5516640"/>
            <a:ext cx="568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陈涉乃立为王，号为张楚。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920" y="83340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司马迁：汉朝著名（                    ）。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著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该书是我国第一部（                ），全书共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篇，记载了从传说中（            ）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（             ）之间长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的历史。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纪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家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传。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其高度的文学性和艺术性被鲁迅评价为（                           ）。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020000" y="57452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545000" y="2637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纪传体史书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940360" y="298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黄帝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403280" y="344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汉武帝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455840" y="5084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史家之绝唱，无韵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离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211640" y="841320"/>
            <a:ext cx="39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史学家、文学家、思想家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27"/>
          <p:cNvPicPr/>
          <p:nvPr/>
        </p:nvPicPr>
        <p:blipFill>
          <a:blip r:embed="rId2"/>
          <a:stretch/>
        </p:blipFill>
        <p:spPr>
          <a:xfrm>
            <a:off x="1204920" y="333360"/>
            <a:ext cx="6732720" cy="4756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162000" y="5445000"/>
            <a:ext cx="8820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当此时，诸郡县苦秦吏者，皆刑其长吏，杀之以应陈涉。 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14400" y="457200"/>
            <a:ext cx="7620120" cy="60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辍耕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阳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嗟乎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鸿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闾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谏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谯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笞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忿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罾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怅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社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適戍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苟富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度已失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间令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袒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被坚执锐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阅读全文，回答问题。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所记叙的主要内容是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文中找出记叙起义的内容的段落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农民成为领袖是有一定基础的，文中哪段介绍了陈胜青年时不同于常人表现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9" name="Picture 4" descr="05"/>
          <p:cNvPicPr/>
          <p:nvPr/>
        </p:nvPicPr>
        <p:blipFill>
          <a:blip r:embed="rId2"/>
          <a:stretch/>
        </p:blipFill>
        <p:spPr>
          <a:xfrm>
            <a:off x="4427640" y="1982880"/>
            <a:ext cx="4716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胜者，阳城人也，字涉。吴广者，阳夏人也，字叔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胜是阳城人，字涉。吴广是阳夏人，字叔。</a:t>
            </a:r>
            <a:r>
              <a:rPr b="1" lang="zh-CN" sz="2800" spc="-1" strike="noStrike">
                <a:solidFill>
                  <a:srgbClr val="000000"/>
                </a:solidFill>
                <a:latin typeface=" 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504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290480" y="1371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7980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5DB3-4209-4B95-908D-4B8E50B87CEB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涉少时，尝与人佣耕，辍耕之垄上，怅恨久之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苟富贵，无相忘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曾经同别人一道被雇佣耕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停止耕作走往田埂上（休息）。之，去、往。</a:t>
            </a:r>
            <a:r>
              <a:rPr b="1" lang="en-US" sz="2400" spc="-1" strike="noStrike">
                <a:solidFill>
                  <a:srgbClr val="3333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因失望而叹恨了好久。怅，失望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苟，倘使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F2BA-0451-4CD1-B43B-399BCBB28724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3124080" y="25146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1143000" y="29718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743200" y="29718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1066680" y="35053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2362320" y="350532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216576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佣者笑而应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若为佣耕，何富贵也？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涉太息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嗟乎，燕雀安知鸿鹄之志哉！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若，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太息，长叹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嗟乎，感叹词，相当 于“唉”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燕雀怎么知道鸿鹄的志向呢！燕雀，比喻见识短浅的人。鸿鹄，天鹅。这里比喻有远大抱负的人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61480" y="1371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823640" y="14479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55880" y="28479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80160" y="33336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461040" y="33051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1860840" y="38098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46760" y="3824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3048120" y="3962520"/>
            <a:ext cx="838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佣者笑而应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若为佣耕，何富贵也？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涉太息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嗟乎，燕雀安知鸿鹄之志哉！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838080" y="4495680"/>
            <a:ext cx="2819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02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914400" y="1295280"/>
            <a:ext cx="61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阅读第一段，回答下列问题。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42880" y="2590920"/>
            <a:ext cx="8601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胜原来是什么身份？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哪句话最能表现陈胜青年时就有远大志向？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句话的意思是什么？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句中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燕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鸿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比喻什么人？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二世元年七月，发闾左適戍渔阳九百人，屯大泽乡。陈胜、吴广皆次当行，为屯长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公元前</a:t>
            </a:r>
            <a:r>
              <a:rPr b="1" lang="en-US" sz="2400" spc="-1" strike="noStrike">
                <a:solidFill>
                  <a:srgbClr val="333300"/>
                </a:solidFill>
                <a:latin typeface=" "/>
              </a:rPr>
              <a:t>209</a:t>
            </a: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年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征发贫苦人民去驻守渔阳。闾左就用来指贫苦人民。適，同“谪”。適戍，发配去守边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屯，停驻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都（被）编入谪戍的队伍。次，编次。当行，当在征发之列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戍守队伍的小头目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6434-C064-4CC7-BE26-FDE16E27DFED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239436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775240" y="4419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2394360" y="4419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1219320" y="25146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Line 23"/>
          <p:cNvSpPr/>
          <p:nvPr/>
        </p:nvSpPr>
        <p:spPr>
          <a:xfrm>
            <a:off x="1143000" y="2971800"/>
            <a:ext cx="2819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3200400" y="39625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1143000" y="44956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会天大雨，道不通，度已失期。失期，法皆斩。陈胜、吴广乃谋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今亡亦死，举大计亦死，等死，死国可乎？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会，适逢，恰巧遇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失期，误期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亡，逃亡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举大计，发动大事，指起义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等，同样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死国，为国事而死。</a:t>
            </a:r>
            <a:r>
              <a:rPr b="1" lang="zh-CN" sz="24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E9D7-D209-4FC9-8C1E-C8E0CAAD0C59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1222560" y="23907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7752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651320" y="4292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2324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1074960" y="4869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3232440" y="4343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3613320" y="4343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1074960" y="5229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2700360" y="4797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3883320" y="4869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8720" y="6093000"/>
            <a:ext cx="7334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http://www.eeppt.com/moban/kejian/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陈胜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天下苦秦久矣。吾闻二世少子也，不当立，当立者乃公子扶苏。扶苏以数谏故，上使外将兵。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苦秦，苦于秦（的统治）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立，封建君主即位叫做“立”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扶苏，秦始皇的长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因为屡次劝戒的缘故。谏，古代下对上直言劝戒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皇上派（他）在外面带兵。文言文中，</a:t>
            </a: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“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使</a:t>
            </a: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”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后面的宾语</a:t>
            </a: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“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333300"/>
                </a:solidFill>
                <a:latin typeface=" "/>
              </a:rPr>
              <a:t>”</a:t>
            </a:r>
            <a:r>
              <a:rPr b="1" lang="zh-CN" sz="2400" spc="-1" strike="noStrike">
                <a:solidFill>
                  <a:srgbClr val="333300"/>
                </a:solidFill>
                <a:latin typeface="Times New Roman"/>
              </a:rPr>
              <a:t>常省略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 "/>
                <a:ea typeface="Times New Roman"/>
              </a:rPr>
              <a:t>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0A6B-F296-4AB4-9881-A7D7F5AA34DB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1750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133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3841920" y="2438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361332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219320" y="4292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1981080" y="449568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3881520" y="44956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Line 24"/>
          <p:cNvSpPr/>
          <p:nvPr/>
        </p:nvSpPr>
        <p:spPr>
          <a:xfrm>
            <a:off x="1143000" y="495288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4" name="Picture 3" descr="《陈胜吴广》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228600" y="30492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揭竿而起 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公元前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l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年，秦始皇在一次巡游途中死于沙丘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今河南北平乡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。宦官赵高串通丞相李斯，立少子胡亥为二世皇帝，并矫诏赐死长子扶苏。秦二世专制残暴，民怨沸腾，局势动荡不安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公元前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9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年，九百名贫苦农民，在被征发防守边境的途中，遇雨被困于大泽乡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今安徽宿县西南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，误了行期。秦律规定：失期当斩。民众被迫铤而走险，死地求生。众人推陈胜、吴广为首，合谋杀死秦尉，削木为兵，揭竿而起，爆发了反秦起事。陈胜在陈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今河南淮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地称王，国号“张楚”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陈胜兵分三路攻秦，逼近秦都咸阳。秦二世派章邯征发修筑骊山墓的刑徒为兵，击溃了攻秦的主力。这时，起事的将领在六国旧贵族的支持下纷纷自立为王，反秦形势大乱。不久，吴广被部将所杀；陈胜也被叛徒刺死，起义失败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26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今或闻无罪，二世杀之。百姓多闻其贤，未知其死也。项燕为楚将，数有功，爱士卒，楚人怜之。或以为死，或以为亡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"/>
              </a:rPr>
              <a:t>项燕，楚国大将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"/>
              </a:rPr>
              <a:t>怜，爱怜。</a:t>
            </a:r>
            <a:r>
              <a:rPr b="1" lang="zh-CN" sz="20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0" y="192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E50E-D029-4DEF-AE4F-17968C3C3D3F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1795680" y="4797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1724400" y="3860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2156040" y="3860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今诚以吾众诈自称公子扶苏、项燕，为天下唱，宜多应者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吴广以为然。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"/>
              </a:rPr>
              <a:t>果真把我们的人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"/>
              </a:rPr>
              <a:t>唱，同“倡”，倡导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 "/>
              </a:rPr>
              <a:t>应当有很多响应的人。宜，应当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014B-92CD-4766-A4E2-5D84E5738437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632240" y="2392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2089440" y="2392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427480" y="23954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320868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803680" y="24051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1175040" y="38289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1632240" y="38289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1970280" y="3832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2346480" y="3841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乃行卜。卜者知其指意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足下事皆成，有功。然足下卜之鬼乎！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胜、吴广喜，念鬼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此教我先威众耳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乃行卜，就去占卜。</a:t>
            </a:r>
            <a:r>
              <a:rPr b="1" lang="en-US" sz="26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指意，意图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足下，古人对于别人的敬称，指对方。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把事情向鬼神卜问一下吧！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念鬼，考虑卜鬼的事，念，考虑、思索。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 "/>
              </a:rPr>
              <a:t>威众，威服众人。威，动词。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595040" y="14810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0CAE-576E-45FA-B870-7E39E4ED998F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1835280" y="386064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1143000" y="43434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1555920" y="2849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2013120" y="2849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1194120" y="34005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3785040" y="2862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1222560" y="2419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1603800" y="2419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Text Box 27"/>
          <p:cNvSpPr/>
          <p:nvPr/>
        </p:nvSpPr>
        <p:spPr>
          <a:xfrm>
            <a:off x="2061000" y="2419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Text Box 28"/>
          <p:cNvSpPr/>
          <p:nvPr/>
        </p:nvSpPr>
        <p:spPr>
          <a:xfrm>
            <a:off x="3596040" y="3933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Text Box 29"/>
          <p:cNvSpPr/>
          <p:nvPr/>
        </p:nvSpPr>
        <p:spPr>
          <a:xfrm>
            <a:off x="323244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Text Box 30"/>
          <p:cNvSpPr/>
          <p:nvPr/>
        </p:nvSpPr>
        <p:spPr>
          <a:xfrm>
            <a:off x="2843280" y="4797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2" name="Text Box 31"/>
          <p:cNvSpPr/>
          <p:nvPr/>
        </p:nvSpPr>
        <p:spPr>
          <a:xfrm>
            <a:off x="2328840" y="48150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3" name="Text Box 32"/>
          <p:cNvSpPr/>
          <p:nvPr/>
        </p:nvSpPr>
        <p:spPr>
          <a:xfrm>
            <a:off x="1116000" y="5805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4" name="Text Box 33"/>
          <p:cNvSpPr/>
          <p:nvPr/>
        </p:nvSpPr>
        <p:spPr>
          <a:xfrm>
            <a:off x="3851280" y="53737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乃丹书帛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陈胜王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，置人所罾鱼腹中。卒买鱼烹食，得鱼腹中书，固以怪之矣。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495680" y="16765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就用丹砂（在）绸子上写“陈胜王”（三个字）。丹，丹砂。这里是用丹砂的意思。书，写。王，动词，为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放在别人所捕获的鱼的肚子里。罾，鱼网。这里作动词，就是用网捕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本来已经认为这事怪异了。以，同“已”。</a:t>
            </a:r>
            <a:r>
              <a:rPr b="1" lang="en-US" sz="28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4290480" y="11430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0B7A-1279-41A6-B297-9587637C23F9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5" name="Line 22"/>
          <p:cNvSpPr/>
          <p:nvPr/>
        </p:nvSpPr>
        <p:spPr>
          <a:xfrm>
            <a:off x="914400" y="2514600"/>
            <a:ext cx="2209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Line 23"/>
          <p:cNvSpPr/>
          <p:nvPr/>
        </p:nvSpPr>
        <p:spPr>
          <a:xfrm>
            <a:off x="685800" y="2971800"/>
            <a:ext cx="1523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Line 24"/>
          <p:cNvSpPr/>
          <p:nvPr/>
        </p:nvSpPr>
        <p:spPr>
          <a:xfrm>
            <a:off x="2514600" y="297180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685800" y="350532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619280" y="450864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又间令吴广之次所旁丛祠中，夜篝火，狐鸣呼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大楚兴，陈胜王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。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卒皆夜惊恐。旦日，卒中往往语，皆指目陈胜。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篝火，用笼子罩着火。这里的意思是用篝火装作“鬼火”。篝，笼子，这里是用笼子罩的意思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狐鸣，作狐狸嗥叫的凄厉声音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旦日，明天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往往语，到处谈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指目，用手指并用眼睛注视着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504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FA00-07C8-4CAD-9F86-8787E9A73E9E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117504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117504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43864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155592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4" name="Text Box 19"/>
          <p:cNvSpPr/>
          <p:nvPr/>
        </p:nvSpPr>
        <p:spPr>
          <a:xfrm>
            <a:off x="282276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155592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1508400" y="5373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2011680" y="5373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1175040" y="54100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9" name="Text Box 24"/>
          <p:cNvSpPr/>
          <p:nvPr/>
        </p:nvSpPr>
        <p:spPr>
          <a:xfrm>
            <a:off x="3203640" y="53737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0" name="Text Box 25"/>
          <p:cNvSpPr/>
          <p:nvPr/>
        </p:nvSpPr>
        <p:spPr>
          <a:xfrm>
            <a:off x="3667320" y="5300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92" name="Picture 4" descr="1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阅读第二段，回答问题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次起义的时间、地点是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国历史上第一次农民大起义的直接原因是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次起义的根本原因是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胜认为发动起义可以利用的有利条件是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制造舆论、鼓动人心、树立威信，陈胜、吴广使用了哪些办法？表现了他们的什么特点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吴广素爱人，士卒多为用者。将尉醉，广故数言欲亡，忿恚尉，令辱之，以激怒其众。尉果笞广。尉剑挺，广起，夺而杀尉。陈胜佐之，并杀两尉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为（他）所用的人很多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将尉，率领（戍卒）的军官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使尉恼怒。恚</a:t>
            </a:r>
            <a:r>
              <a:rPr b="1" lang="zh-CN" sz="2400" spc="-1" strike="noStrike">
                <a:solidFill>
                  <a:srgbClr val="000000"/>
                </a:solidFill>
                <a:latin typeface=" "/>
                <a:ea typeface="Times New Roman"/>
              </a:rPr>
              <a:t>   ，</a:t>
            </a: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恼怒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使（尉）责辱他。之，指吴广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笞，竹板。这里作动词，用竹板打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剑挺，剑拔出鞘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并，一道，共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BA0D-8C94-4D49-9F2E-BAEF5EA4E5DD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870120" y="48290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36896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125136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170856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20894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247032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Text Box 20"/>
          <p:cNvSpPr/>
          <p:nvPr/>
        </p:nvSpPr>
        <p:spPr>
          <a:xfrm>
            <a:off x="330876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870120" y="3838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Text Box 23"/>
          <p:cNvSpPr/>
          <p:nvPr/>
        </p:nvSpPr>
        <p:spPr>
          <a:xfrm>
            <a:off x="1251360" y="3838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1708560" y="3838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254664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29275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33847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8" name="Text Box 28"/>
          <p:cNvSpPr/>
          <p:nvPr/>
        </p:nvSpPr>
        <p:spPr>
          <a:xfrm>
            <a:off x="2851560" y="48290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9" name="Text Box 29"/>
          <p:cNvSpPr/>
          <p:nvPr/>
        </p:nvSpPr>
        <p:spPr>
          <a:xfrm>
            <a:off x="2470320" y="48290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0" name="Text Box 30"/>
          <p:cNvSpPr/>
          <p:nvPr/>
        </p:nvSpPr>
        <p:spPr>
          <a:xfrm>
            <a:off x="2470320" y="5867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召令徒属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公等遇雨，皆已失期，失期当斩。借第令毋斩，而戍死者固十六七。且壮士不死即已，死即举大名耳，王侯将相宁有种乎！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徒属皆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宋体"/>
                <a:ea typeface="隶书"/>
              </a:rPr>
              <a:t>敬受命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召集并号令所属的人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公等，你们诸位。公，对对方的敬称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即使仅能免于斩刑。借，即使。第，仅。令，使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十六七，十个里面占六七个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王侯将相难道有天生的贵种吗！宁，难道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 "/>
              </a:rPr>
              <a:t>受命，听从（你的）号令。</a:t>
            </a:r>
            <a:r>
              <a:rPr b="1" lang="zh-CN" sz="20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5504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764B-1EE2-44AB-8F0A-B5F32A6C1877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1251360" y="23623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3841920" y="23623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1555920" y="3672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1632240" y="23623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2013120" y="23623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2470320" y="23623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1175040" y="28195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1175040" y="36576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3227760" y="32288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3608640" y="32288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3989520" y="32288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117504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155592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193716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2438280" y="510552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1143000" y="548640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8" name="Text Box 30"/>
          <p:cNvSpPr/>
          <p:nvPr/>
        </p:nvSpPr>
        <p:spPr>
          <a:xfrm>
            <a:off x="2927520" y="5867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2546640" y="58532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乃诈称公子扶苏、项燕，从民欲也。袒右，称大楚。为坛而盟，祭以尉首。陈胜自立为将军，吴广为都尉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依从人民的愿望。</a:t>
            </a:r>
            <a:r>
              <a:rPr b="1" lang="zh-CN" sz="2400" spc="-1" strike="noStrike">
                <a:solidFill>
                  <a:srgbClr val="000000"/>
                </a:solidFill>
                <a:latin typeface=" "/>
                <a:ea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露出右臂（作为起义的标志）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（用土）筑台，并（在台上）宣誓。盟，动词，盟誓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用（两）尉的头祭天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次于将军的军官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4595040" y="12193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6923-7DA7-4C55-A85D-222632F3D59E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4008600" y="34005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12067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158796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20131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17504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163224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2413440" y="29066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7752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315612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2851560" y="39117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3251520" y="38973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361332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399456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239436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285156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635280" y="1573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3" descr="01"/>
          <p:cNvPicPr/>
          <p:nvPr/>
        </p:nvPicPr>
        <p:blipFill>
          <a:blip r:embed="rId2"/>
          <a:stretch/>
        </p:blipFill>
        <p:spPr>
          <a:xfrm>
            <a:off x="1170000" y="333360"/>
            <a:ext cx="6804000" cy="4805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196920" y="5157720"/>
            <a:ext cx="8750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胜者，阳城人也，字涉。吴广者，阳夏人也，字叔。陈涉少时，尝与人佣耕，辍耕之垄上，怅恨久之，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苟富贵，无相忘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9" name="陈涉世家.mp3" descr=""/>
          <p:cNvPicPr/>
          <p:nvPr/>
        </p:nvPicPr>
        <p:blipFill>
          <a:blip r:embed="rId3"/>
          <a:stretch/>
        </p:blipFill>
        <p:spPr>
          <a:xfrm>
            <a:off x="8244000" y="620640"/>
            <a:ext cx="388800" cy="389160"/>
          </a:xfrm>
          <a:prstGeom prst="rect">
            <a:avLst/>
          </a:prstGeom>
          <a:ln w="0">
            <a:noFill/>
          </a:ln>
        </p:spPr>
      </p:pic>
      <p:pic>
        <p:nvPicPr>
          <p:cNvPr id="60" name="十面埋伏.mp3" descr=""/>
          <p:cNvPicPr/>
          <p:nvPr/>
        </p:nvPicPr>
        <p:blipFill>
          <a:blip r:embed="rId4"/>
          <a:stretch/>
        </p:blipFill>
        <p:spPr>
          <a:xfrm>
            <a:off x="8172360" y="148428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攻大泽乡，收而攻蕲。蕲下，乃令符离人葛婴将兵徇蕲以东。攻铚、酂、苦、柘、谯，皆下之。行收兵，比至陈，车六七百乘，骑千余，卒数万人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收集大泽乡的义军，攻打蕲县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下，攻下，攻克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在今安徽宿州市东北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徇，攻取（土地）。指率军巡行，使人降服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秦时地名，铚、谯，在今安徽省。酂、苦、柘，在今河南省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行军中沿路收纳兵员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比，等到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 "/>
              </a:rPr>
              <a:t>陈，秦时县名，今河南淮阳县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1F01-D8B6-4DCC-9782-03A29EC3A04B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2789640" y="2790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3429000" y="23623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1589400" y="37051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1179720" y="4119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3809880" y="2376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1128600" y="27907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509840" y="28051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1557360" y="32338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1938240" y="324792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195120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4" name="Text Box 25"/>
          <p:cNvSpPr/>
          <p:nvPr/>
        </p:nvSpPr>
        <p:spPr>
          <a:xfrm>
            <a:off x="277524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5" name="Text Box 26"/>
          <p:cNvSpPr/>
          <p:nvPr/>
        </p:nvSpPr>
        <p:spPr>
          <a:xfrm>
            <a:off x="3613320" y="41148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1175040" y="45720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攻大泽乡，收而攻蕲。蕲下，乃令符离人葛婴将兵徇蕲以东。攻铚、酂、苦、柘、谯，皆下之。行收兵，比至陈，车六七百乘，骑千余，卒数万人。 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8" name="Text Box 29"/>
          <p:cNvSpPr/>
          <p:nvPr/>
        </p:nvSpPr>
        <p:spPr>
          <a:xfrm>
            <a:off x="1143000" y="4986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9" name="Text Box 30"/>
          <p:cNvSpPr/>
          <p:nvPr/>
        </p:nvSpPr>
        <p:spPr>
          <a:xfrm>
            <a:off x="1523880" y="50007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0" name="Text Box 31"/>
          <p:cNvSpPr/>
          <p:nvPr/>
        </p:nvSpPr>
        <p:spPr>
          <a:xfrm>
            <a:off x="3581280" y="45720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1" name="Text Box 32"/>
          <p:cNvSpPr/>
          <p:nvPr/>
        </p:nvSpPr>
        <p:spPr>
          <a:xfrm>
            <a:off x="2347920" y="498636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2" name="Text Box 33"/>
          <p:cNvSpPr/>
          <p:nvPr/>
        </p:nvSpPr>
        <p:spPr>
          <a:xfrm>
            <a:off x="3152880" y="49816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3" name="Rectangle 34"/>
          <p:cNvSpPr/>
          <p:nvPr/>
        </p:nvSpPr>
        <p:spPr>
          <a:xfrm>
            <a:off x="838080" y="8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攻陈，陈守令皆不在，独守丞与战谯门中。弗胜，守丞死，乃入据陈。数日，号令召三老、豪杰与皆来会计事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郡守、县令都不在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郡守的副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有望楼的城门洞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封建社会里掌管教化的乡官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豪杰，这里指当地有声望的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一起来集会议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2" name="Text Box 13"/>
          <p:cNvSpPr/>
          <p:nvPr/>
        </p:nvSpPr>
        <p:spPr>
          <a:xfrm>
            <a:off x="4055760" y="63244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874D-6F0D-40E3-ADA9-B64B590F766F}" type="slidenum"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775240" y="24098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25466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3156120" y="2438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3537360" y="24382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87012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8" name="Text Box 19"/>
          <p:cNvSpPr/>
          <p:nvPr/>
        </p:nvSpPr>
        <p:spPr>
          <a:xfrm>
            <a:off x="125136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19" name="Text Box 20"/>
          <p:cNvSpPr/>
          <p:nvPr/>
        </p:nvSpPr>
        <p:spPr>
          <a:xfrm>
            <a:off x="285156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1265400" y="33717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1" name="Text Box 23"/>
          <p:cNvSpPr/>
          <p:nvPr/>
        </p:nvSpPr>
        <p:spPr>
          <a:xfrm>
            <a:off x="1646640" y="34005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027520" y="340056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1265400" y="48434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1646640" y="484344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247032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2851560" y="48769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8" name="Line 37"/>
          <p:cNvSpPr/>
          <p:nvPr/>
        </p:nvSpPr>
        <p:spPr>
          <a:xfrm>
            <a:off x="838080" y="548640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9" name="Line 38"/>
          <p:cNvSpPr/>
          <p:nvPr/>
        </p:nvSpPr>
        <p:spPr>
          <a:xfrm>
            <a:off x="3200400" y="502920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68580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三老、豪杰皆曰：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将军身被坚执锐，伐无道，诛暴秦，复立楚国之社稷，功宜为王。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亲身穿着战甲，拿着武器，意思是亲自作战。被同“披”，坚，指铁甲。锐，指武器。这里用表示事物特点的形容词来指代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国家。社，土地神。稷，谷神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7" name="Text Box 9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0038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338472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117504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1" name="Text Box 15"/>
          <p:cNvSpPr/>
          <p:nvPr/>
        </p:nvSpPr>
        <p:spPr>
          <a:xfrm>
            <a:off x="147996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2" name="Text Box 16"/>
          <p:cNvSpPr/>
          <p:nvPr/>
        </p:nvSpPr>
        <p:spPr>
          <a:xfrm>
            <a:off x="1937160" y="33526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1937160" y="4343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4" name="Text Box 18"/>
          <p:cNvSpPr/>
          <p:nvPr/>
        </p:nvSpPr>
        <p:spPr>
          <a:xfrm>
            <a:off x="2394360" y="43434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5" name="Rectangle 19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涉乃立为王，号为张楚。当此时，诸郡县苦秦吏者，皆刑其长吏，杀之以应陈涉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定国号叫“张楚”（张大楚国的意思）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 "/>
              </a:rPr>
              <a:t>惩罚当地郡县长官，刑，惩罚。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9748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5656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原文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46324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4595040" y="15238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词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]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1175040" y="289548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1600560" y="292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7" name="Text Box 13"/>
          <p:cNvSpPr/>
          <p:nvPr/>
        </p:nvSpPr>
        <p:spPr>
          <a:xfrm>
            <a:off x="1905120" y="28638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2362320" y="28954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2743200" y="38098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3200400" y="38098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3581280" y="380988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1143000" y="4343400"/>
            <a:ext cx="3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1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4" descr="14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1160" y="0"/>
            <a:ext cx="9677520" cy="68356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阅读第三段，回答下列问题。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吴广忿恚尉的目的是什么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出陈胜、吴广向徒属进行宣传动员的内容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出起义军在陈胜、吴广领导下胜利进军的语句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哪儿看出起义得到了广大群众的拥护响应？这句话与前文哪句话照应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胜者，阳城人也，字涉。吴广者，阳夏人也，字叔。陈涉少时，尝与人佣耕，辍耕之垄上，怅恨久之，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苟富贵，无相忘。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佣者笑而应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若为佣耕，何富贵也？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涉太息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嗟乎，燕雀安知鸿鹄之志哉！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     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二世元年七月，发闾左適戍渔阳九百人，屯大泽乡。陈胜、吴广皆次当行，为屯长。会天大雨，道不通，度已失期。失期，法皆斩。陈胜、吴广乃谋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今亡亦死，举大计亦死，等死，死国可乎？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胜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天下苦秦久矣。吾闻二世少子也，不当立，当立者乃公子扶苏。扶苏以数谏故，上使外将兵。今或闻无罪，二世杀之。百姓多闻其贤，未知其死也。项燕为楚将，数有功，爱士卒，楚人怜之。或以为死，或以为亡。今诚以吾众诈自称公子扶苏、项燕，为天下唱，宜多应者。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吴广以为然。乃行卜。卜者知其指意，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足下事皆成，有功。然足下卜之鬼乎！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胜、吴广喜，念鬼，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此教我先威众耳。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乃丹书帛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胜王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，置人所罾鱼腹中。卒买鱼烹食，得鱼腹中书，固以怪之矣。又间令吴广之次所旁丛祠中，夜篝火，狐鸣呼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大楚兴，陈胜王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。卒皆夜惊恐。旦日，卒中往往语，皆指目陈胜。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890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86709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44798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4020120" y="62485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E68C-440E-482E-83AC-E0600B7D83C5}" type="slidenum">
              <a:rPr b="1" lang="en-US" sz="2400" spc="-1" strike="noStrike">
                <a:solidFill>
                  <a:srgbClr val="795241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隶书"/>
                <a:ea typeface="隶书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吴广素爱人，士卒多为用者。将尉醉，广故数言欲亡，忿恚尉，令辱之，以激怒其众。尉果笞广。尉剑挺，广起，夺而杀尉。陈胜佐之，并杀两尉。召令徒属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公等遇雨，皆已失期，失期当斩。借第令毋斩，而戍死者固十六七。且壮士不死即已，死即举大名耳，王侯将相宁有种乎！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徒属皆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敬受命。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乃诈称公子扶苏、项燕，从民欲也。袒右，称大楚。为坛而盟，祭以尉首。陈胜自立为将军，吴广为都尉。攻大泽乡，收而攻蕲。蕲下，乃令符离人葛婴将兵徇蕲以东。攻铚、酂、苦、柘、谯，皆下之。行收兵，比至陈，车六七百乘，骑千余，卒数万人。攻陈，陈守令皆不在独守丞与战谯门中，弗胜，守丞死，乃入据陈。数日，号令召三老、豪杰与皆来会计事。三老、豪杰皆曰：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将军身被坚执锐，伐无道，诛暴秦，复立楚国之社稷，功宜为王。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r>
              <a:rPr b="0" lang="zh-CN" sz="2000" spc="-1" strike="noStrike">
                <a:solidFill>
                  <a:srgbClr val="000066"/>
                </a:solidFill>
                <a:latin typeface="隶书"/>
                <a:ea typeface="隶书"/>
              </a:rPr>
              <a:t>陈涉乃立为王，号为张楚。当此时，诸郡县苦秦吏者，皆刑其长吏，杀之以应陈涉。 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66"/>
                </a:solidFill>
                <a:latin typeface="隶书"/>
                <a:ea typeface="隶书"/>
              </a:rPr>
              <a:t>陈涉世家 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[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汉</a:t>
            </a:r>
            <a:r>
              <a:rPr b="0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] </a:t>
            </a:r>
            <a:r>
              <a:rPr b="0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司马迁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93a1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3634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2"/>
          <p:cNvPicPr/>
          <p:nvPr/>
        </p:nvPicPr>
        <p:blipFill>
          <a:blip r:embed="rId2"/>
          <a:stretch/>
        </p:blipFill>
        <p:spPr>
          <a:xfrm>
            <a:off x="1547640" y="476280"/>
            <a:ext cx="6048720" cy="4271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324000" y="5013360"/>
            <a:ext cx="9342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佣者笑而应曰：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若为佣耕，何富贵也？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陈涉太息曰：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嗟乎，燕雀安知鸿鹄之志哉！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  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87280" y="5157720"/>
            <a:ext cx="8569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隶书"/>
                <a:ea typeface="隶书"/>
              </a:rPr>
              <a:t>   </a:t>
            </a:r>
            <a:r>
              <a:rPr b="0" lang="zh-CN" sz="3200" spc="-1" strike="noStrike">
                <a:solidFill>
                  <a:srgbClr val="000066"/>
                </a:solidFill>
                <a:latin typeface="隶书"/>
                <a:ea typeface="隶书"/>
              </a:rPr>
              <a:t>二世元年七月，发闾左適戍渔阳九百人，屯大泽乡。陈胜、吴广皆次当行，为屯长。</a:t>
            </a:r>
            <a:endParaRPr b="1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4" name="Picture 4" descr="05"/>
          <p:cNvPicPr/>
          <p:nvPr/>
        </p:nvPicPr>
        <p:blipFill>
          <a:blip r:embed="rId2"/>
          <a:stretch/>
        </p:blipFill>
        <p:spPr>
          <a:xfrm>
            <a:off x="1224000" y="404640"/>
            <a:ext cx="669600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6"/>
          <p:cNvPicPr/>
          <p:nvPr/>
        </p:nvPicPr>
        <p:blipFill>
          <a:blip r:embed="rId2"/>
          <a:stretch/>
        </p:blipFill>
        <p:spPr>
          <a:xfrm>
            <a:off x="1008000" y="404640"/>
            <a:ext cx="7128000" cy="5034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150920" y="5805360"/>
            <a:ext cx="684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会天大雨，道不通，度已失期。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8"/>
          <p:cNvPicPr/>
          <p:nvPr/>
        </p:nvPicPr>
        <p:blipFill>
          <a:blip r:embed="rId2"/>
          <a:stretch/>
        </p:blipFill>
        <p:spPr>
          <a:xfrm>
            <a:off x="1150920" y="404640"/>
            <a:ext cx="6840720" cy="4830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2482920" y="5589720"/>
            <a:ext cx="4178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失期，法皆斩。</a:t>
            </a:r>
            <a:endParaRPr b="1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9"/>
          <p:cNvPicPr/>
          <p:nvPr/>
        </p:nvPicPr>
        <p:blipFill>
          <a:blip r:embed="rId2"/>
          <a:stretch/>
        </p:blipFill>
        <p:spPr>
          <a:xfrm>
            <a:off x="1204920" y="404640"/>
            <a:ext cx="6734160" cy="47563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682560" y="5373720"/>
            <a:ext cx="7778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陈胜、吴广乃谋曰：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隶书"/>
                <a:ea typeface="隶书"/>
              </a:rPr>
              <a:t>今亡亦死，举大计亦死，等死，死国可乎？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”</a:t>
            </a:r>
            <a:endParaRPr b="1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04:13:1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4:17Z</dcterms:modified>
  <cp:revision>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