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520-E7D9-433E-B99C-0D3B07C4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FFB-C3E0-41FD-BF1A-3B034131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9B5-D389-412E-B159-580B7AFC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D8C-E3EF-4130-A51A-56299843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DD3-0E54-45AE-869A-8676A5C5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AC0-2682-425F-B9E2-EE406335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B88-2D6F-428F-842A-4B636F36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A7C-21B9-4852-9414-CFA1B44F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8CD-786C-4181-9513-4C0BC2FC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1FA-A81B-44CC-BA58-1E9AA811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732-A868-4738-A2BE-DC18B03B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F31-1EFC-4445-AD16-BD235B9D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CD47-1D0F-474D-B9AA-DD4B82A257B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i.baidu.com/poeticchemistry/album/item/09f4c7005557b7cd267fb586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sucaiw.com/../images.asp?url=http://py.sucaiw.com/&#21160;&#30011;&#31867;/&#19968;&#33324;&#21160;&#30011;/&#9733;&#20799;&#31461;//&amp;pic=gif&amp;num=356&amp;ext=.gif&amp;picall=388" TargetMode="External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i.baidu.com/poeticchemistry/album/item/09f4c7005557b7cd267fb586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bbs.163vk.com/dispbbs.asp?boardid=75&amp;id=499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fgly.cn/bbs/viewthread.php?tid=10354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bbs.800j.cc/bbs/viewthread.php?tid=32321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i.baidu.com/poeticchemistry/album/item/09f4c7005557b7cd267fb586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zhuti.org/shoujitupian/index_449.html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.n318.com/xx/tbctk/ynj/xkbywd2c/200606/166197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hi.baidu.com/&#39118;&#39128;yu&#39128;/album/item/791c9eb677938bef31add188.html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anghui.qdslyy.cn/article.asp?id=319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春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406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《</a:t>
            </a:r>
            <a:r>
              <a:rPr b="1" lang="zh-CN" sz="5700" spc="-1" strike="noStrike">
                <a:solidFill>
                  <a:srgbClr val="000000"/>
                </a:solidFill>
                <a:latin typeface="Garamond"/>
              </a:rPr>
              <a:t>春晓</a:t>
            </a: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》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900000" y="134136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孟浩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5" descr="09f4c7005557b7cd267fb5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3348000" y="4365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楷体_GB2312"/>
              </a:rPr>
              <a:t>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5867280" y="443700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点击放大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429000"/>
            <a:ext cx="2195640" cy="21207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4"/>
          <p:cNvSpPr/>
          <p:nvPr/>
        </p:nvSpPr>
        <p:spPr>
          <a:xfrm>
            <a:off x="0" y="1413000"/>
            <a:ext cx="1476360" cy="1584360"/>
          </a:xfrm>
          <a:prstGeom prst="wedgeEllipseCallout">
            <a:avLst>
              <a:gd name="adj1" fmla="val 30754"/>
              <a:gd name="adj2" fmla="val 7455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帮我认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417120" y="22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047400" y="14461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宋体"/>
              </a:rPr>
              <a:t>ju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7449120" y="22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5504400" y="22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1"/>
          <p:cNvSpPr/>
          <p:nvPr/>
        </p:nvSpPr>
        <p:spPr>
          <a:xfrm>
            <a:off x="5459040" y="1425600"/>
            <a:ext cx="6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宋体"/>
              </a:rPr>
              <a:t>t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6892200" y="1341360"/>
            <a:ext cx="162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宋体"/>
              </a:rPr>
              <a:t>wé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3054960" y="3645000"/>
            <a:ext cx="16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宋体"/>
              </a:rPr>
              <a:t>mi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5636520" y="3716280"/>
            <a:ext cx="120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宋体"/>
              </a:rPr>
              <a:t>ch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春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4427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   </a:t>
            </a: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《</a:t>
            </a:r>
            <a:r>
              <a:rPr b="1" lang="zh-CN" sz="5700" spc="-1" strike="noStrike">
                <a:solidFill>
                  <a:srgbClr val="0066ff"/>
                </a:solidFill>
                <a:latin typeface="Garamond"/>
              </a:rPr>
              <a:t>春晓</a:t>
            </a: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》</a:t>
            </a:r>
            <a:br>
              <a:rPr sz="5700"/>
            </a:b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       </a:t>
            </a:r>
            <a:r>
              <a:rPr b="1" lang="zh-CN" sz="4200" spc="-1" strike="noStrike">
                <a:solidFill>
                  <a:srgbClr val="0066ff"/>
                </a:solidFill>
                <a:latin typeface="Garamond"/>
              </a:rPr>
              <a:t>孟浩然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2216160"/>
            <a:ext cx="4321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春眠不觉晓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处处闻啼鸟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夜来风雨声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花落知多少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7" descr="09f4c7005557b7cd267fb5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2008513227509765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20070406_2d79421661b62da8643eoq7OPkfEiNo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200532916829784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09f4c7005557b7cd267fb5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920" y="404280"/>
            <a:ext cx="325116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6633"/>
                </a:solidFill>
                <a:latin typeface="Garamond"/>
              </a:rPr>
              <a:t>《</a:t>
            </a:r>
            <a:r>
              <a:rPr b="1" lang="zh-CN" sz="5700" spc="-1" strike="noStrike">
                <a:solidFill>
                  <a:srgbClr val="006633"/>
                </a:solidFill>
                <a:latin typeface="Garamond"/>
              </a:rPr>
              <a:t>春晓</a:t>
            </a:r>
            <a:r>
              <a:rPr b="1" lang="en-US" sz="5700" spc="-1" strike="noStrike">
                <a:solidFill>
                  <a:srgbClr val="006633"/>
                </a:solidFill>
                <a:latin typeface="Garamond"/>
              </a:rPr>
              <a:t>》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55640" y="2637000"/>
            <a:ext cx="43210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春眠∕不∕觉</a:t>
            </a:r>
            <a:r>
              <a:rPr b="1" lang="zh-CN" sz="3900" spc="-1" strike="noStrike">
                <a:solidFill>
                  <a:srgbClr val="cc3300"/>
                </a:solidFill>
                <a:latin typeface="Arial"/>
              </a:rPr>
              <a:t>晓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处处∕闻∕啼</a:t>
            </a:r>
            <a:r>
              <a:rPr b="1" lang="zh-CN" sz="3900" spc="-1" strike="noStrike">
                <a:solidFill>
                  <a:srgbClr val="cc3300"/>
                </a:solidFill>
                <a:latin typeface="Arial"/>
              </a:rPr>
              <a:t>鸟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夜来∕风雨∕声，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花落∕知∕多</a:t>
            </a:r>
            <a:r>
              <a:rPr b="1" lang="zh-CN" sz="3900" spc="-1" strike="noStrike">
                <a:solidFill>
                  <a:srgbClr val="cc3300"/>
                </a:solidFill>
                <a:latin typeface="Arial"/>
              </a:rPr>
              <a:t>少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129560" y="1557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Arial"/>
              </a:rPr>
              <a:t>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bbad191e3fc74d096595628df9e92ae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07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5775120" y="530064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处处闻啼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200663538143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791c9eb677938bef31add18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92006562137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2395440" y="62064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00"/>
                </a:solidFill>
                <a:latin typeface="Arial"/>
              </a:rPr>
              <a:t>花落知多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春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春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4427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   </a:t>
            </a: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《</a:t>
            </a:r>
            <a:r>
              <a:rPr b="1" lang="zh-CN" sz="5700" spc="-1" strike="noStrike">
                <a:solidFill>
                  <a:srgbClr val="0066ff"/>
                </a:solidFill>
                <a:latin typeface="Garamond"/>
              </a:rPr>
              <a:t>春晓</a:t>
            </a: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》</a:t>
            </a:r>
            <a:br>
              <a:rPr sz="5700"/>
            </a:b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       </a:t>
            </a:r>
            <a:r>
              <a:rPr b="1" lang="zh-CN" sz="4200" spc="-1" strike="noStrike">
                <a:solidFill>
                  <a:srgbClr val="0066ff"/>
                </a:solidFill>
                <a:latin typeface="Garamond"/>
              </a:rPr>
              <a:t>孟浩然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2216160"/>
            <a:ext cx="4321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春眠不觉晓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处处闻啼鸟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夜来风雨声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花落知多少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4:43:17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46:32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