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9F0-5EFE-4AD4-A8B9-1900A6C3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AFA2-B9CD-4431-81A3-52696E80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821-0A7F-4EC7-BC57-E4338697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3CD-AF14-4549-93EF-5D6A4BD3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BACB-A62C-4FCA-BAB6-05203499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533-0F18-4D6A-994C-C388D900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A03-3F35-43A6-81C1-0EEE20B2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D7CA-B4D8-4446-AD96-80C13E68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4143-8341-4EAF-9938-2FEB1EB4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213-D8CB-4343-89E7-BD11F8F0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DA17-DC8E-4520-B385-F6FC3DB5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56A-A284-4133-A71A-55EBA90B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2AC0-CCC6-4810-BD84-8A7C78786C1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8219-AC75-4B41-9EDC-576BC71345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幻灯片2"/>
          <p:cNvPicPr/>
          <p:nvPr/>
        </p:nvPicPr>
        <p:blipFill>
          <a:blip r:embed="rId1"/>
          <a:stretch/>
        </p:blipFill>
        <p:spPr>
          <a:xfrm>
            <a:off x="1584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矩形 2"/>
          <p:cNvSpPr/>
          <p:nvPr/>
        </p:nvSpPr>
        <p:spPr>
          <a:xfrm>
            <a:off x="4222800" y="196920"/>
            <a:ext cx="46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华文隶书"/>
                <a:ea typeface="华文隶书"/>
              </a:rPr>
              <a:t>茶园茶山背景</a:t>
            </a:r>
            <a:r>
              <a:rPr b="0" lang="zh-CN" sz="3200" spc="-1" strike="noStrike">
                <a:solidFill>
                  <a:srgbClr val="00b050"/>
                </a:solidFill>
                <a:latin typeface="华文隶书"/>
                <a:ea typeface="华文隶书"/>
              </a:rPr>
              <a:t>PPT</a:t>
            </a:r>
            <a:r>
              <a:rPr b="0" lang="zh-CN" sz="3200" spc="-1" strike="noStrike">
                <a:solidFill>
                  <a:srgbClr val="00b050"/>
                </a:solidFill>
                <a:latin typeface="华文隶书"/>
                <a:ea typeface="华文隶书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3"/>
          <p:cNvSpPr/>
          <p:nvPr/>
        </p:nvSpPr>
        <p:spPr>
          <a:xfrm>
            <a:off x="4788000" y="866880"/>
            <a:ext cx="3744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6" name="矩形 2"/>
          <p:cNvSpPr/>
          <p:nvPr/>
        </p:nvSpPr>
        <p:spPr>
          <a:xfrm>
            <a:off x="471960" y="398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1149480" y="2851200"/>
            <a:ext cx="705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471960" y="398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152360" y="2139840"/>
            <a:ext cx="62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双击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152360" y="2984400"/>
            <a:ext cx="62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2.</a:t>
            </a:r>
            <a:r>
              <a:rPr b="0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双击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1152360" y="3830760"/>
            <a:ext cx="62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3.</a:t>
            </a:r>
            <a:r>
              <a:rPr b="0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双击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4" name="矩形 2"/>
          <p:cNvSpPr/>
          <p:nvPr/>
        </p:nvSpPr>
        <p:spPr>
          <a:xfrm>
            <a:off x="762480" y="398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双击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"/>
          <p:cNvSpPr/>
          <p:nvPr/>
        </p:nvSpPr>
        <p:spPr>
          <a:xfrm>
            <a:off x="1152360" y="2139840"/>
            <a:ext cx="62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双击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4T02:10:00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6:20:22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