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1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BADEB-A1B0-4C30-8B3D-FA0626DAF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60220-CCFC-40A2-83EB-205D1EF38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64B25-AEAE-4D0F-B811-341EF681B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C8918-F099-4B03-A36E-FD05B266C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713D3-E189-4E37-A957-A1CC7CF13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09E6F-4269-4F2A-B3B9-B082A72EA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6B3C9-B3C1-472E-94CA-74FC1E181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193FC-5C85-4AFA-A2C7-34C9E8FD1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A8394-1ED5-4982-8B99-C244C63E4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C2EDD-18C4-4471-92A6-0CD4F755A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58388-E1C3-474A-9646-86DA394B3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98A7C-B585-4655-ABB1-AC673F5E8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87A9E-2C0A-4615-8155-B841E5C6407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168"/>
          <p:cNvSpPr/>
          <p:nvPr/>
        </p:nvSpPr>
        <p:spPr>
          <a:xfrm>
            <a:off x="9696600" y="-3240"/>
            <a:ext cx="12191760" cy="6858000"/>
          </a:xfrm>
          <a:prstGeom prst="rect">
            <a:avLst/>
          </a:prstGeom>
          <a:solidFill>
            <a:srgbClr val="eead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矩形 174"/>
          <p:cNvSpPr/>
          <p:nvPr/>
        </p:nvSpPr>
        <p:spPr>
          <a:xfrm flipH="1">
            <a:off x="-9722520" y="-15840"/>
            <a:ext cx="12192120" cy="6858000"/>
          </a:xfrm>
          <a:prstGeom prst="rect">
            <a:avLst/>
          </a:prstGeom>
          <a:solidFill>
            <a:srgbClr val="eead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矩形 169"/>
          <p:cNvSpPr/>
          <p:nvPr/>
        </p:nvSpPr>
        <p:spPr>
          <a:xfrm>
            <a:off x="10269360" y="7920"/>
            <a:ext cx="12192120" cy="6858000"/>
          </a:xfrm>
          <a:prstGeom prst="rect">
            <a:avLst/>
          </a:prstGeom>
          <a:solidFill>
            <a:srgbClr val="80b3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175"/>
          <p:cNvSpPr/>
          <p:nvPr/>
        </p:nvSpPr>
        <p:spPr>
          <a:xfrm flipH="1">
            <a:off x="-10295640" y="-3240"/>
            <a:ext cx="12192120" cy="6858000"/>
          </a:xfrm>
          <a:prstGeom prst="rect">
            <a:avLst/>
          </a:prstGeom>
          <a:solidFill>
            <a:srgbClr val="80b3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170"/>
          <p:cNvSpPr/>
          <p:nvPr/>
        </p:nvSpPr>
        <p:spPr>
          <a:xfrm>
            <a:off x="10898280" y="7920"/>
            <a:ext cx="12191760" cy="6858000"/>
          </a:xfrm>
          <a:prstGeom prst="rect">
            <a:avLst/>
          </a:prstGeom>
          <a:solidFill>
            <a:srgbClr val="df50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176"/>
          <p:cNvSpPr/>
          <p:nvPr/>
        </p:nvSpPr>
        <p:spPr>
          <a:xfrm flipH="1">
            <a:off x="-10923480" y="-3240"/>
            <a:ext cx="12191760" cy="6858000"/>
          </a:xfrm>
          <a:prstGeom prst="rect">
            <a:avLst/>
          </a:prstGeom>
          <a:solidFill>
            <a:srgbClr val="df50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171"/>
          <p:cNvSpPr/>
          <p:nvPr/>
        </p:nvSpPr>
        <p:spPr>
          <a:xfrm>
            <a:off x="11550600" y="6480"/>
            <a:ext cx="12192120" cy="6858000"/>
          </a:xfrm>
          <a:prstGeom prst="rect">
            <a:avLst/>
          </a:prstGeom>
          <a:solidFill>
            <a:srgbClr val="e9e6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177"/>
          <p:cNvSpPr/>
          <p:nvPr/>
        </p:nvSpPr>
        <p:spPr>
          <a:xfrm flipH="1">
            <a:off x="-11632320" y="-23760"/>
            <a:ext cx="12192120" cy="6881760"/>
          </a:xfrm>
          <a:prstGeom prst="rect">
            <a:avLst/>
          </a:prstGeom>
          <a:solidFill>
            <a:srgbClr val="e9e6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271"/>
          <p:cNvSpPr/>
          <p:nvPr/>
        </p:nvSpPr>
        <p:spPr>
          <a:xfrm>
            <a:off x="12276000" y="4680"/>
            <a:ext cx="121921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274"/>
          <p:cNvSpPr/>
          <p:nvPr/>
        </p:nvSpPr>
        <p:spPr>
          <a:xfrm flipH="1">
            <a:off x="-12557880" y="3240"/>
            <a:ext cx="121921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272"/>
          <p:cNvSpPr/>
          <p:nvPr/>
        </p:nvSpPr>
        <p:spPr>
          <a:xfrm>
            <a:off x="13188960" y="-6480"/>
            <a:ext cx="12192120" cy="6858000"/>
          </a:xfrm>
          <a:prstGeom prst="rect">
            <a:avLst/>
          </a:prstGeom>
          <a:solidFill>
            <a:srgbClr val="3d2c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275"/>
          <p:cNvSpPr/>
          <p:nvPr/>
        </p:nvSpPr>
        <p:spPr>
          <a:xfrm flipH="1">
            <a:off x="-13469760" y="-7920"/>
            <a:ext cx="12191760" cy="6858000"/>
          </a:xfrm>
          <a:prstGeom prst="rect">
            <a:avLst/>
          </a:prstGeom>
          <a:solidFill>
            <a:srgbClr val="3d2c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矩形 273"/>
          <p:cNvGrpSpPr/>
          <p:nvPr/>
        </p:nvGrpSpPr>
        <p:grpSpPr>
          <a:xfrm>
            <a:off x="14130360" y="79200"/>
            <a:ext cx="12191760" cy="6857640"/>
            <a:chOff x="14130360" y="79200"/>
            <a:chExt cx="12191760" cy="6857640"/>
          </a:xfrm>
        </p:grpSpPr>
        <p:pic>
          <p:nvPicPr>
            <p:cNvPr id="54" name="矩形 273" descr=""/>
            <p:cNvPicPr/>
            <p:nvPr/>
          </p:nvPicPr>
          <p:blipFill>
            <a:blip r:embed="rId2"/>
            <a:stretch/>
          </p:blipFill>
          <p:spPr>
            <a:xfrm>
              <a:off x="14130360" y="82080"/>
              <a:ext cx="12190680" cy="685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14131440" y="79200"/>
              <a:ext cx="12190680" cy="685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" name="矩形 276"/>
          <p:cNvGrpSpPr/>
          <p:nvPr/>
        </p:nvGrpSpPr>
        <p:grpSpPr>
          <a:xfrm>
            <a:off x="-14411160" y="12600"/>
            <a:ext cx="12191760" cy="6858000"/>
            <a:chOff x="-14411160" y="12600"/>
            <a:chExt cx="12191760" cy="6858000"/>
          </a:xfrm>
        </p:grpSpPr>
        <p:pic>
          <p:nvPicPr>
            <p:cNvPr id="57" name="矩形 276" descr=""/>
            <p:cNvPicPr/>
            <p:nvPr/>
          </p:nvPicPr>
          <p:blipFill>
            <a:blip r:embed="rId3"/>
            <a:stretch/>
          </p:blipFill>
          <p:spPr>
            <a:xfrm>
              <a:off x="-14409720" y="12600"/>
              <a:ext cx="1219032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"/>
            <p:cNvSpPr/>
            <p:nvPr/>
          </p:nvSpPr>
          <p:spPr>
            <a:xfrm>
              <a:off x="-14411160" y="12600"/>
              <a:ext cx="1218996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9" name="组合 250" descr=""/>
          <p:cNvPicPr/>
          <p:nvPr/>
        </p:nvPicPr>
        <p:blipFill>
          <a:blip r:embed="rId4"/>
          <a:stretch/>
        </p:blipFill>
        <p:spPr>
          <a:xfrm>
            <a:off x="291960" y="-1736640"/>
            <a:ext cx="11607840" cy="10331280"/>
          </a:xfrm>
          <a:prstGeom prst="rect">
            <a:avLst/>
          </a:prstGeom>
          <a:ln w="0">
            <a:noFill/>
          </a:ln>
        </p:spPr>
      </p:pic>
      <p:sp>
        <p:nvSpPr>
          <p:cNvPr id="60" name="椭圆 5"/>
          <p:cNvSpPr/>
          <p:nvPr/>
        </p:nvSpPr>
        <p:spPr>
          <a:xfrm>
            <a:off x="4494240" y="1827360"/>
            <a:ext cx="3203640" cy="3203280"/>
          </a:xfrm>
          <a:prstGeom prst="ellipse">
            <a:avLst/>
          </a:prstGeom>
          <a:solidFill>
            <a:srgbClr val="3e2e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椭圆 6"/>
          <p:cNvSpPr/>
          <p:nvPr/>
        </p:nvSpPr>
        <p:spPr>
          <a:xfrm>
            <a:off x="4672080" y="2004840"/>
            <a:ext cx="2847960" cy="2848320"/>
          </a:xfrm>
          <a:prstGeom prst="ellipse">
            <a:avLst/>
          </a:prstGeom>
          <a:solidFill>
            <a:srgbClr val="eead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椭圆 7"/>
          <p:cNvSpPr/>
          <p:nvPr/>
        </p:nvSpPr>
        <p:spPr>
          <a:xfrm>
            <a:off x="4900680" y="2233440"/>
            <a:ext cx="2390760" cy="2391120"/>
          </a:xfrm>
          <a:prstGeom prst="ellipse">
            <a:avLst/>
          </a:prstGeom>
          <a:solidFill>
            <a:srgbClr val="83b2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任意多边形 36"/>
          <p:cNvSpPr/>
          <p:nvPr/>
        </p:nvSpPr>
        <p:spPr>
          <a:xfrm rot="21252600">
            <a:off x="4168440" y="814320"/>
            <a:ext cx="1992240" cy="633600"/>
          </a:xfrm>
          <a:custGeom>
            <a:avLst/>
            <a:gdLst/>
            <a:ahLst/>
            <a:rect l="l" t="t" r="r" b="b"/>
            <a:pathLst>
              <a:path w="5353050" h="1765575">
                <a:moveTo>
                  <a:pt x="5353050" y="16933"/>
                </a:moveTo>
                <a:cubicBezTo>
                  <a:pt x="5270500" y="16933"/>
                  <a:pt x="5203190" y="-21167"/>
                  <a:pt x="5105400" y="16933"/>
                </a:cubicBezTo>
                <a:cubicBezTo>
                  <a:pt x="4949190" y="110913"/>
                  <a:pt x="4914900" y="319193"/>
                  <a:pt x="4705350" y="436033"/>
                </a:cubicBezTo>
                <a:cubicBezTo>
                  <a:pt x="4464050" y="460163"/>
                  <a:pt x="4344670" y="263313"/>
                  <a:pt x="4095750" y="302683"/>
                </a:cubicBezTo>
                <a:cubicBezTo>
                  <a:pt x="3844290" y="422063"/>
                  <a:pt x="3859530" y="678603"/>
                  <a:pt x="3638550" y="797983"/>
                </a:cubicBezTo>
                <a:cubicBezTo>
                  <a:pt x="3432810" y="815763"/>
                  <a:pt x="3318510" y="612563"/>
                  <a:pt x="3067050" y="645583"/>
                </a:cubicBezTo>
                <a:cubicBezTo>
                  <a:pt x="2851150" y="734483"/>
                  <a:pt x="2863850" y="1013883"/>
                  <a:pt x="2647950" y="1140883"/>
                </a:cubicBezTo>
                <a:cubicBezTo>
                  <a:pt x="2399030" y="1135803"/>
                  <a:pt x="2249170" y="932603"/>
                  <a:pt x="2038350" y="988483"/>
                </a:cubicBezTo>
                <a:cubicBezTo>
                  <a:pt x="1832610" y="1081193"/>
                  <a:pt x="1802130" y="1333923"/>
                  <a:pt x="1581150" y="1426633"/>
                </a:cubicBezTo>
                <a:cubicBezTo>
                  <a:pt x="1315720" y="1478703"/>
                  <a:pt x="1202690" y="1256453"/>
                  <a:pt x="990600" y="1331383"/>
                </a:cubicBezTo>
                <a:cubicBezTo>
                  <a:pt x="805180" y="1402503"/>
                  <a:pt x="787400" y="1671743"/>
                  <a:pt x="571500" y="1750483"/>
                </a:cubicBezTo>
                <a:cubicBezTo>
                  <a:pt x="365760" y="1834303"/>
                  <a:pt x="190500" y="1537123"/>
                  <a:pt x="0" y="1636183"/>
                </a:cubicBezTo>
              </a:path>
            </a:pathLst>
          </a:custGeom>
          <a:noFill/>
          <a:ln w="763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任意多边形 155"/>
          <p:cNvSpPr/>
          <p:nvPr/>
        </p:nvSpPr>
        <p:spPr>
          <a:xfrm rot="18576000">
            <a:off x="2815920" y="2138040"/>
            <a:ext cx="1992240" cy="633600"/>
          </a:xfrm>
          <a:custGeom>
            <a:avLst/>
            <a:gdLst/>
            <a:ahLst/>
            <a:rect l="l" t="t" r="r" b="b"/>
            <a:pathLst>
              <a:path w="5353050" h="1764759">
                <a:moveTo>
                  <a:pt x="5353050" y="16933"/>
                </a:moveTo>
                <a:cubicBezTo>
                  <a:pt x="5270500" y="16933"/>
                  <a:pt x="5203190" y="-21167"/>
                  <a:pt x="5105400" y="16933"/>
                </a:cubicBezTo>
                <a:cubicBezTo>
                  <a:pt x="4949190" y="110913"/>
                  <a:pt x="4914900" y="319193"/>
                  <a:pt x="4705350" y="436033"/>
                </a:cubicBezTo>
                <a:cubicBezTo>
                  <a:pt x="4464050" y="460163"/>
                  <a:pt x="4344670" y="263313"/>
                  <a:pt x="4095750" y="302683"/>
                </a:cubicBezTo>
                <a:cubicBezTo>
                  <a:pt x="3844290" y="422063"/>
                  <a:pt x="3859530" y="678603"/>
                  <a:pt x="3638550" y="797983"/>
                </a:cubicBezTo>
                <a:cubicBezTo>
                  <a:pt x="3432810" y="815763"/>
                  <a:pt x="3318510" y="612563"/>
                  <a:pt x="3067050" y="645583"/>
                </a:cubicBezTo>
                <a:cubicBezTo>
                  <a:pt x="2851150" y="734483"/>
                  <a:pt x="2863850" y="1013883"/>
                  <a:pt x="2647950" y="1140883"/>
                </a:cubicBezTo>
                <a:cubicBezTo>
                  <a:pt x="2399030" y="1135803"/>
                  <a:pt x="2249170" y="932603"/>
                  <a:pt x="2038350" y="988483"/>
                </a:cubicBezTo>
                <a:cubicBezTo>
                  <a:pt x="1832610" y="1081193"/>
                  <a:pt x="1802130" y="1333923"/>
                  <a:pt x="1581150" y="1426633"/>
                </a:cubicBezTo>
                <a:cubicBezTo>
                  <a:pt x="1315720" y="1478703"/>
                  <a:pt x="1202690" y="1256453"/>
                  <a:pt x="990600" y="1331383"/>
                </a:cubicBezTo>
                <a:cubicBezTo>
                  <a:pt x="805180" y="1402503"/>
                  <a:pt x="787400" y="1671743"/>
                  <a:pt x="571500" y="1750483"/>
                </a:cubicBezTo>
                <a:cubicBezTo>
                  <a:pt x="365760" y="1834303"/>
                  <a:pt x="166037" y="1516494"/>
                  <a:pt x="-1" y="1636183"/>
                </a:cubicBezTo>
              </a:path>
            </a:pathLst>
          </a:custGeom>
          <a:noFill/>
          <a:ln w="763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任意多边形 156"/>
          <p:cNvSpPr/>
          <p:nvPr/>
        </p:nvSpPr>
        <p:spPr>
          <a:xfrm rot="15843000">
            <a:off x="2801880" y="4016160"/>
            <a:ext cx="1993680" cy="631800"/>
          </a:xfrm>
          <a:custGeom>
            <a:avLst/>
            <a:gdLst/>
            <a:ahLst/>
            <a:rect l="l" t="t" r="r" b="b"/>
            <a:pathLst>
              <a:path w="5356000" h="1764274">
                <a:moveTo>
                  <a:pt x="5356000" y="16933"/>
                </a:moveTo>
                <a:cubicBezTo>
                  <a:pt x="5273450" y="16933"/>
                  <a:pt x="5206140" y="-21167"/>
                  <a:pt x="5108350" y="16933"/>
                </a:cubicBezTo>
                <a:cubicBezTo>
                  <a:pt x="4952140" y="110913"/>
                  <a:pt x="4917850" y="319193"/>
                  <a:pt x="4708300" y="436033"/>
                </a:cubicBezTo>
                <a:cubicBezTo>
                  <a:pt x="4467000" y="460163"/>
                  <a:pt x="4347620" y="263313"/>
                  <a:pt x="4098700" y="302683"/>
                </a:cubicBezTo>
                <a:cubicBezTo>
                  <a:pt x="3847240" y="422063"/>
                  <a:pt x="3862480" y="678603"/>
                  <a:pt x="3641500" y="797983"/>
                </a:cubicBezTo>
                <a:cubicBezTo>
                  <a:pt x="3435760" y="815763"/>
                  <a:pt x="3321460" y="612563"/>
                  <a:pt x="3070000" y="645583"/>
                </a:cubicBezTo>
                <a:cubicBezTo>
                  <a:pt x="2854100" y="734483"/>
                  <a:pt x="2866800" y="1013883"/>
                  <a:pt x="2650900" y="1140883"/>
                </a:cubicBezTo>
                <a:cubicBezTo>
                  <a:pt x="2401980" y="1135803"/>
                  <a:pt x="2252120" y="932603"/>
                  <a:pt x="2041300" y="988483"/>
                </a:cubicBezTo>
                <a:cubicBezTo>
                  <a:pt x="1835560" y="1081193"/>
                  <a:pt x="1805080" y="1333923"/>
                  <a:pt x="1584100" y="1426633"/>
                </a:cubicBezTo>
                <a:cubicBezTo>
                  <a:pt x="1318670" y="1478703"/>
                  <a:pt x="1205640" y="1256453"/>
                  <a:pt x="993550" y="1331383"/>
                </a:cubicBezTo>
                <a:cubicBezTo>
                  <a:pt x="808130" y="1402503"/>
                  <a:pt x="790350" y="1671743"/>
                  <a:pt x="574450" y="1750483"/>
                </a:cubicBezTo>
                <a:cubicBezTo>
                  <a:pt x="368710" y="1834303"/>
                  <a:pt x="190500" y="1504552"/>
                  <a:pt x="0" y="1603612"/>
                </a:cubicBezTo>
              </a:path>
            </a:pathLst>
          </a:custGeom>
          <a:noFill/>
          <a:ln w="763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任意多边形 157"/>
          <p:cNvSpPr/>
          <p:nvPr/>
        </p:nvSpPr>
        <p:spPr>
          <a:xfrm flipH="1" rot="11137800">
            <a:off x="4116960" y="5346360"/>
            <a:ext cx="2004840" cy="633240"/>
          </a:xfrm>
          <a:custGeom>
            <a:avLst/>
            <a:gdLst/>
            <a:ahLst/>
            <a:rect l="l" t="t" r="r" b="b"/>
            <a:pathLst>
              <a:path w="5387442" h="1766154">
                <a:moveTo>
                  <a:pt x="5387442" y="16933"/>
                </a:moveTo>
                <a:cubicBezTo>
                  <a:pt x="5304892" y="16933"/>
                  <a:pt x="5237582" y="-21167"/>
                  <a:pt x="5139792" y="16933"/>
                </a:cubicBezTo>
                <a:cubicBezTo>
                  <a:pt x="4983582" y="110913"/>
                  <a:pt x="4949292" y="319193"/>
                  <a:pt x="4739742" y="436033"/>
                </a:cubicBezTo>
                <a:cubicBezTo>
                  <a:pt x="4498442" y="460163"/>
                  <a:pt x="4379062" y="263313"/>
                  <a:pt x="4130142" y="302683"/>
                </a:cubicBezTo>
                <a:cubicBezTo>
                  <a:pt x="3878682" y="422063"/>
                  <a:pt x="3893922" y="678603"/>
                  <a:pt x="3672942" y="797983"/>
                </a:cubicBezTo>
                <a:cubicBezTo>
                  <a:pt x="3467202" y="815763"/>
                  <a:pt x="3352902" y="612563"/>
                  <a:pt x="3101442" y="645583"/>
                </a:cubicBezTo>
                <a:cubicBezTo>
                  <a:pt x="2885542" y="734483"/>
                  <a:pt x="2898242" y="1013883"/>
                  <a:pt x="2682342" y="1140883"/>
                </a:cubicBezTo>
                <a:cubicBezTo>
                  <a:pt x="2433422" y="1135803"/>
                  <a:pt x="2283562" y="932603"/>
                  <a:pt x="2072742" y="988483"/>
                </a:cubicBezTo>
                <a:cubicBezTo>
                  <a:pt x="1867002" y="1081193"/>
                  <a:pt x="1836522" y="1333923"/>
                  <a:pt x="1615542" y="1426633"/>
                </a:cubicBezTo>
                <a:cubicBezTo>
                  <a:pt x="1350112" y="1478703"/>
                  <a:pt x="1237082" y="1256453"/>
                  <a:pt x="1024992" y="1331383"/>
                </a:cubicBezTo>
                <a:cubicBezTo>
                  <a:pt x="839572" y="1402503"/>
                  <a:pt x="821792" y="1671743"/>
                  <a:pt x="605892" y="1750483"/>
                </a:cubicBezTo>
                <a:cubicBezTo>
                  <a:pt x="400152" y="1834303"/>
                  <a:pt x="149259" y="1548732"/>
                  <a:pt x="0" y="1671350"/>
                </a:cubicBezTo>
              </a:path>
            </a:pathLst>
          </a:custGeom>
          <a:noFill/>
          <a:ln w="763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任意多边形 158"/>
          <p:cNvSpPr/>
          <p:nvPr/>
        </p:nvSpPr>
        <p:spPr>
          <a:xfrm flipH="1" rot="8572800">
            <a:off x="6059160" y="5382720"/>
            <a:ext cx="1985760" cy="638280"/>
          </a:xfrm>
          <a:custGeom>
            <a:avLst/>
            <a:gdLst/>
            <a:ahLst/>
            <a:rect l="l" t="t" r="r" b="b"/>
            <a:pathLst>
              <a:path w="5335299" h="1779165">
                <a:moveTo>
                  <a:pt x="5335298" y="859"/>
                </a:moveTo>
                <a:cubicBezTo>
                  <a:pt x="5252748" y="859"/>
                  <a:pt x="5164575" y="-7852"/>
                  <a:pt x="5066785" y="30248"/>
                </a:cubicBezTo>
                <a:cubicBezTo>
                  <a:pt x="4910575" y="124228"/>
                  <a:pt x="4876285" y="332508"/>
                  <a:pt x="4666735" y="449348"/>
                </a:cubicBezTo>
                <a:cubicBezTo>
                  <a:pt x="4425435" y="473478"/>
                  <a:pt x="4306055" y="276628"/>
                  <a:pt x="4057135" y="315998"/>
                </a:cubicBezTo>
                <a:cubicBezTo>
                  <a:pt x="3805675" y="435378"/>
                  <a:pt x="3820915" y="691918"/>
                  <a:pt x="3599935" y="811298"/>
                </a:cubicBezTo>
                <a:cubicBezTo>
                  <a:pt x="3394195" y="829078"/>
                  <a:pt x="3279895" y="625878"/>
                  <a:pt x="3028435" y="658898"/>
                </a:cubicBezTo>
                <a:cubicBezTo>
                  <a:pt x="2812535" y="747798"/>
                  <a:pt x="2825235" y="1027198"/>
                  <a:pt x="2609335" y="1154198"/>
                </a:cubicBezTo>
                <a:cubicBezTo>
                  <a:pt x="2360415" y="1149118"/>
                  <a:pt x="2210555" y="945918"/>
                  <a:pt x="1999735" y="1001798"/>
                </a:cubicBezTo>
                <a:cubicBezTo>
                  <a:pt x="1793995" y="1094508"/>
                  <a:pt x="1763515" y="1347238"/>
                  <a:pt x="1542535" y="1439948"/>
                </a:cubicBezTo>
                <a:cubicBezTo>
                  <a:pt x="1277105" y="1492018"/>
                  <a:pt x="1164075" y="1269768"/>
                  <a:pt x="951985" y="1344698"/>
                </a:cubicBezTo>
                <a:cubicBezTo>
                  <a:pt x="766565" y="1415818"/>
                  <a:pt x="748785" y="1685058"/>
                  <a:pt x="532885" y="1763798"/>
                </a:cubicBezTo>
                <a:cubicBezTo>
                  <a:pt x="327145" y="1847618"/>
                  <a:pt x="178770" y="1554298"/>
                  <a:pt x="1" y="1702454"/>
                </a:cubicBezTo>
              </a:path>
            </a:pathLst>
          </a:custGeom>
          <a:noFill/>
          <a:ln w="763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任意多边形 159"/>
          <p:cNvSpPr/>
          <p:nvPr/>
        </p:nvSpPr>
        <p:spPr>
          <a:xfrm flipH="1" rot="5823600">
            <a:off x="7403040" y="4097880"/>
            <a:ext cx="2016360" cy="633240"/>
          </a:xfrm>
          <a:custGeom>
            <a:avLst/>
            <a:gdLst/>
            <a:ahLst/>
            <a:rect l="l" t="t" r="r" b="b"/>
            <a:pathLst>
              <a:path w="5418478" h="1769781">
                <a:moveTo>
                  <a:pt x="5418477" y="29545"/>
                </a:moveTo>
                <a:cubicBezTo>
                  <a:pt x="5330784" y="3025"/>
                  <a:pt x="5203190" y="-16961"/>
                  <a:pt x="5105400" y="21139"/>
                </a:cubicBezTo>
                <a:cubicBezTo>
                  <a:pt x="4949190" y="115119"/>
                  <a:pt x="4914900" y="323399"/>
                  <a:pt x="4705350" y="440239"/>
                </a:cubicBezTo>
                <a:cubicBezTo>
                  <a:pt x="4464050" y="464369"/>
                  <a:pt x="4344670" y="267519"/>
                  <a:pt x="4095750" y="306889"/>
                </a:cubicBezTo>
                <a:cubicBezTo>
                  <a:pt x="3844290" y="426269"/>
                  <a:pt x="3859530" y="682809"/>
                  <a:pt x="3638550" y="802189"/>
                </a:cubicBezTo>
                <a:cubicBezTo>
                  <a:pt x="3432810" y="819969"/>
                  <a:pt x="3318510" y="616769"/>
                  <a:pt x="3067050" y="649789"/>
                </a:cubicBezTo>
                <a:cubicBezTo>
                  <a:pt x="2851150" y="738689"/>
                  <a:pt x="2863850" y="1018089"/>
                  <a:pt x="2647950" y="1145089"/>
                </a:cubicBezTo>
                <a:cubicBezTo>
                  <a:pt x="2399030" y="1140009"/>
                  <a:pt x="2249170" y="936809"/>
                  <a:pt x="2038350" y="992689"/>
                </a:cubicBezTo>
                <a:cubicBezTo>
                  <a:pt x="1832610" y="1085399"/>
                  <a:pt x="1802130" y="1338129"/>
                  <a:pt x="1581150" y="1430839"/>
                </a:cubicBezTo>
                <a:cubicBezTo>
                  <a:pt x="1315720" y="1482909"/>
                  <a:pt x="1202690" y="1260659"/>
                  <a:pt x="990600" y="1335589"/>
                </a:cubicBezTo>
                <a:cubicBezTo>
                  <a:pt x="805180" y="1406709"/>
                  <a:pt x="787400" y="1675949"/>
                  <a:pt x="571500" y="1754689"/>
                </a:cubicBezTo>
                <a:cubicBezTo>
                  <a:pt x="365760" y="1838509"/>
                  <a:pt x="190500" y="1541329"/>
                  <a:pt x="0" y="1640389"/>
                </a:cubicBezTo>
              </a:path>
            </a:pathLst>
          </a:custGeom>
          <a:noFill/>
          <a:ln w="763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任意多边形 160"/>
          <p:cNvSpPr/>
          <p:nvPr/>
        </p:nvSpPr>
        <p:spPr>
          <a:xfrm flipH="1" rot="3103800">
            <a:off x="7445520" y="2186640"/>
            <a:ext cx="2000160" cy="633600"/>
          </a:xfrm>
          <a:custGeom>
            <a:avLst/>
            <a:gdLst/>
            <a:ahLst/>
            <a:rect l="l" t="t" r="r" b="b"/>
            <a:pathLst>
              <a:path w="5375186" h="1767558">
                <a:moveTo>
                  <a:pt x="5375186" y="16933"/>
                </a:moveTo>
                <a:cubicBezTo>
                  <a:pt x="5292636" y="16933"/>
                  <a:pt x="5225326" y="-21167"/>
                  <a:pt x="5127536" y="16933"/>
                </a:cubicBezTo>
                <a:cubicBezTo>
                  <a:pt x="4971326" y="110913"/>
                  <a:pt x="4937036" y="319193"/>
                  <a:pt x="4727486" y="436033"/>
                </a:cubicBezTo>
                <a:cubicBezTo>
                  <a:pt x="4486186" y="460163"/>
                  <a:pt x="4366806" y="263313"/>
                  <a:pt x="4117886" y="302683"/>
                </a:cubicBezTo>
                <a:cubicBezTo>
                  <a:pt x="3866426" y="422063"/>
                  <a:pt x="3881666" y="678603"/>
                  <a:pt x="3660686" y="797983"/>
                </a:cubicBezTo>
                <a:cubicBezTo>
                  <a:pt x="3454946" y="815763"/>
                  <a:pt x="3340646" y="612563"/>
                  <a:pt x="3089186" y="645583"/>
                </a:cubicBezTo>
                <a:cubicBezTo>
                  <a:pt x="2873286" y="734483"/>
                  <a:pt x="2885986" y="1013883"/>
                  <a:pt x="2670086" y="1140883"/>
                </a:cubicBezTo>
                <a:cubicBezTo>
                  <a:pt x="2421166" y="1135803"/>
                  <a:pt x="2271306" y="932603"/>
                  <a:pt x="2060486" y="988483"/>
                </a:cubicBezTo>
                <a:cubicBezTo>
                  <a:pt x="1854746" y="1081193"/>
                  <a:pt x="1824266" y="1333923"/>
                  <a:pt x="1603286" y="1426633"/>
                </a:cubicBezTo>
                <a:cubicBezTo>
                  <a:pt x="1337856" y="1478703"/>
                  <a:pt x="1224826" y="1256453"/>
                  <a:pt x="1012736" y="1331383"/>
                </a:cubicBezTo>
                <a:cubicBezTo>
                  <a:pt x="827316" y="1402503"/>
                  <a:pt x="809536" y="1671743"/>
                  <a:pt x="593636" y="1750483"/>
                </a:cubicBezTo>
                <a:cubicBezTo>
                  <a:pt x="387896" y="1834303"/>
                  <a:pt x="190500" y="1577056"/>
                  <a:pt x="0" y="1676116"/>
                </a:cubicBezTo>
              </a:path>
            </a:pathLst>
          </a:custGeom>
          <a:noFill/>
          <a:ln w="763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183"/>
          <p:cNvSpPr/>
          <p:nvPr/>
        </p:nvSpPr>
        <p:spPr>
          <a:xfrm>
            <a:off x="3774960" y="2781360"/>
            <a:ext cx="4683240" cy="6634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矩形 184"/>
          <p:cNvSpPr/>
          <p:nvPr/>
        </p:nvSpPr>
        <p:spPr>
          <a:xfrm>
            <a:off x="3776760" y="3430440"/>
            <a:ext cx="4682880" cy="6638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9"/>
          <p:cNvSpPr/>
          <p:nvPr/>
        </p:nvSpPr>
        <p:spPr>
          <a:xfrm>
            <a:off x="3776760" y="2779560"/>
            <a:ext cx="4682880" cy="663840"/>
          </a:xfrm>
          <a:prstGeom prst="rect">
            <a:avLst/>
          </a:prstGeom>
          <a:solidFill>
            <a:srgbClr val="d3b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10"/>
          <p:cNvSpPr/>
          <p:nvPr/>
        </p:nvSpPr>
        <p:spPr>
          <a:xfrm>
            <a:off x="3778200" y="3429000"/>
            <a:ext cx="4683240" cy="663480"/>
          </a:xfrm>
          <a:prstGeom prst="rect">
            <a:avLst/>
          </a:prstGeom>
          <a:solidFill>
            <a:srgbClr val="d3b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文本框 178"/>
          <p:cNvSpPr/>
          <p:nvPr/>
        </p:nvSpPr>
        <p:spPr>
          <a:xfrm>
            <a:off x="6972840" y="30034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矩形 181"/>
          <p:cNvSpPr/>
          <p:nvPr/>
        </p:nvSpPr>
        <p:spPr>
          <a:xfrm>
            <a:off x="8352000" y="2779560"/>
            <a:ext cx="102960" cy="663840"/>
          </a:xfrm>
          <a:prstGeom prst="rect">
            <a:avLst/>
          </a:prstGeom>
          <a:solidFill>
            <a:srgbClr val="d3b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矩形 182"/>
          <p:cNvSpPr/>
          <p:nvPr/>
        </p:nvSpPr>
        <p:spPr>
          <a:xfrm>
            <a:off x="3776760" y="3429000"/>
            <a:ext cx="102960" cy="663480"/>
          </a:xfrm>
          <a:prstGeom prst="rect">
            <a:avLst/>
          </a:prstGeom>
          <a:solidFill>
            <a:srgbClr val="d3b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任意多边形 257"/>
          <p:cNvSpPr/>
          <p:nvPr/>
        </p:nvSpPr>
        <p:spPr>
          <a:xfrm>
            <a:off x="6105600" y="2973240"/>
            <a:ext cx="446040" cy="911520"/>
          </a:xfrm>
          <a:custGeom>
            <a:avLst/>
            <a:gdLst/>
            <a:ahLst/>
            <a:rect l="l" t="t" r="r" b="b"/>
            <a:pathLst>
              <a:path w="534487" h="1089756">
                <a:moveTo>
                  <a:pt x="0" y="0"/>
                </a:moveTo>
                <a:lnTo>
                  <a:pt x="98491" y="9929"/>
                </a:lnTo>
                <a:cubicBezTo>
                  <a:pt x="347313" y="60845"/>
                  <a:pt x="534487" y="281004"/>
                  <a:pt x="534487" y="544878"/>
                </a:cubicBezTo>
                <a:cubicBezTo>
                  <a:pt x="534487" y="808753"/>
                  <a:pt x="347313" y="1028911"/>
                  <a:pt x="98491" y="1079827"/>
                </a:cubicBezTo>
                <a:lnTo>
                  <a:pt x="0" y="1089756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任意多边形 255"/>
          <p:cNvSpPr/>
          <p:nvPr/>
        </p:nvSpPr>
        <p:spPr>
          <a:xfrm>
            <a:off x="5640480" y="2973240"/>
            <a:ext cx="465120" cy="911520"/>
          </a:xfrm>
          <a:custGeom>
            <a:avLst/>
            <a:gdLst/>
            <a:ahLst/>
            <a:rect l="l" t="t" r="r" b="b"/>
            <a:pathLst>
              <a:path w="557599" h="1092086">
                <a:moveTo>
                  <a:pt x="557599" y="1090921"/>
                </a:moveTo>
                <a:lnTo>
                  <a:pt x="546043" y="1092086"/>
                </a:lnTo>
                <a:cubicBezTo>
                  <a:pt x="244472" y="1092086"/>
                  <a:pt x="0" y="847614"/>
                  <a:pt x="0" y="546043"/>
                </a:cubicBezTo>
                <a:cubicBezTo>
                  <a:pt x="0" y="244472"/>
                  <a:pt x="244472" y="0"/>
                  <a:pt x="546043" y="0"/>
                </a:cubicBezTo>
                <a:lnTo>
                  <a:pt x="557599" y="1165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圆角矩形 266"/>
          <p:cNvSpPr/>
          <p:nvPr/>
        </p:nvSpPr>
        <p:spPr>
          <a:xfrm flipH="1">
            <a:off x="6562080" y="3414600"/>
            <a:ext cx="1547640" cy="255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440" bIns="-28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圆角矩形 267"/>
          <p:cNvSpPr/>
          <p:nvPr/>
        </p:nvSpPr>
        <p:spPr>
          <a:xfrm flipH="1" rot="16200000">
            <a:off x="5285160" y="2180880"/>
            <a:ext cx="1549440" cy="255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440" bIns="-28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圆角矩形 268"/>
          <p:cNvSpPr/>
          <p:nvPr/>
        </p:nvSpPr>
        <p:spPr>
          <a:xfrm rot="10800000">
            <a:off x="4070160" y="3417480"/>
            <a:ext cx="1547640" cy="255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440" bIns="-28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圆角矩形 269"/>
          <p:cNvSpPr/>
          <p:nvPr/>
        </p:nvSpPr>
        <p:spPr>
          <a:xfrm rot="16200000">
            <a:off x="5288760" y="4653360"/>
            <a:ext cx="1547640" cy="255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440" bIns="-28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任意多边形 165"/>
          <p:cNvSpPr/>
          <p:nvPr/>
        </p:nvSpPr>
        <p:spPr>
          <a:xfrm>
            <a:off x="-1768320" y="-4435560"/>
            <a:ext cx="15728760" cy="15729120"/>
          </a:xfrm>
          <a:custGeom>
            <a:avLst/>
            <a:gdLst/>
            <a:ahLst/>
            <a:rect l="l" t="t" r="r" b="b"/>
            <a:pathLst>
              <a:path w="3946824" h="3946824">
                <a:moveTo>
                  <a:pt x="1973412" y="173187"/>
                </a:moveTo>
                <a:cubicBezTo>
                  <a:pt x="979175" y="173187"/>
                  <a:pt x="173187" y="979175"/>
                  <a:pt x="173187" y="1973412"/>
                </a:cubicBezTo>
                <a:cubicBezTo>
                  <a:pt x="173187" y="2967649"/>
                  <a:pt x="979175" y="3773637"/>
                  <a:pt x="1973412" y="3773637"/>
                </a:cubicBezTo>
                <a:cubicBezTo>
                  <a:pt x="2967649" y="3773637"/>
                  <a:pt x="3773637" y="2967649"/>
                  <a:pt x="3773637" y="1973412"/>
                </a:cubicBezTo>
                <a:cubicBezTo>
                  <a:pt x="3773637" y="979175"/>
                  <a:pt x="2967649" y="173187"/>
                  <a:pt x="1973412" y="173187"/>
                </a:cubicBezTo>
                <a:close/>
                <a:moveTo>
                  <a:pt x="1973412" y="0"/>
                </a:moveTo>
                <a:cubicBezTo>
                  <a:pt x="3063297" y="0"/>
                  <a:pt x="3946824" y="883527"/>
                  <a:pt x="3946824" y="1973412"/>
                </a:cubicBezTo>
                <a:cubicBezTo>
                  <a:pt x="3946824" y="3063297"/>
                  <a:pt x="3063297" y="3946824"/>
                  <a:pt x="1973412" y="3946824"/>
                </a:cubicBezTo>
                <a:cubicBezTo>
                  <a:pt x="883527" y="3946824"/>
                  <a:pt x="0" y="3063297"/>
                  <a:pt x="0" y="1973412"/>
                </a:cubicBezTo>
                <a:cubicBezTo>
                  <a:pt x="0" y="883527"/>
                  <a:pt x="883527" y="0"/>
                  <a:pt x="1973412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任意多边形 166"/>
          <p:cNvSpPr/>
          <p:nvPr/>
        </p:nvSpPr>
        <p:spPr>
          <a:xfrm>
            <a:off x="-2057400" y="-4724280"/>
            <a:ext cx="16306920" cy="16306560"/>
          </a:xfrm>
          <a:custGeom>
            <a:avLst/>
            <a:gdLst/>
            <a:ahLst/>
            <a:rect l="l" t="t" r="r" b="b"/>
            <a:pathLst>
              <a:path w="3946824" h="3946824">
                <a:moveTo>
                  <a:pt x="1973412" y="173187"/>
                </a:moveTo>
                <a:cubicBezTo>
                  <a:pt x="979175" y="173187"/>
                  <a:pt x="173187" y="979175"/>
                  <a:pt x="173187" y="1973412"/>
                </a:cubicBezTo>
                <a:cubicBezTo>
                  <a:pt x="173187" y="2967649"/>
                  <a:pt x="979175" y="3773637"/>
                  <a:pt x="1973412" y="3773637"/>
                </a:cubicBezTo>
                <a:cubicBezTo>
                  <a:pt x="2967649" y="3773637"/>
                  <a:pt x="3773637" y="2967649"/>
                  <a:pt x="3773637" y="1973412"/>
                </a:cubicBezTo>
                <a:cubicBezTo>
                  <a:pt x="3773637" y="979175"/>
                  <a:pt x="2967649" y="173187"/>
                  <a:pt x="1973412" y="173187"/>
                </a:cubicBezTo>
                <a:close/>
                <a:moveTo>
                  <a:pt x="1973412" y="0"/>
                </a:moveTo>
                <a:cubicBezTo>
                  <a:pt x="3063297" y="0"/>
                  <a:pt x="3946824" y="883527"/>
                  <a:pt x="3946824" y="1973412"/>
                </a:cubicBezTo>
                <a:cubicBezTo>
                  <a:pt x="3946824" y="3063297"/>
                  <a:pt x="3063297" y="3946824"/>
                  <a:pt x="1973412" y="3946824"/>
                </a:cubicBezTo>
                <a:cubicBezTo>
                  <a:pt x="883527" y="3946824"/>
                  <a:pt x="0" y="3063297"/>
                  <a:pt x="0" y="1973412"/>
                </a:cubicBezTo>
                <a:cubicBezTo>
                  <a:pt x="0" y="883527"/>
                  <a:pt x="883527" y="0"/>
                  <a:pt x="1973412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任意多边形 180"/>
          <p:cNvSpPr/>
          <p:nvPr/>
        </p:nvSpPr>
        <p:spPr>
          <a:xfrm>
            <a:off x="-2095560" y="-4762440"/>
            <a:ext cx="16383240" cy="16382880"/>
          </a:xfrm>
          <a:custGeom>
            <a:avLst/>
            <a:gdLst/>
            <a:ahLst/>
            <a:rect l="l" t="t" r="r" b="b"/>
            <a:pathLst>
              <a:path w="3946824" h="3946824">
                <a:moveTo>
                  <a:pt x="1973412" y="173187"/>
                </a:moveTo>
                <a:cubicBezTo>
                  <a:pt x="979175" y="173187"/>
                  <a:pt x="173187" y="979175"/>
                  <a:pt x="173187" y="1973412"/>
                </a:cubicBezTo>
                <a:cubicBezTo>
                  <a:pt x="173187" y="2967649"/>
                  <a:pt x="979175" y="3773637"/>
                  <a:pt x="1973412" y="3773637"/>
                </a:cubicBezTo>
                <a:cubicBezTo>
                  <a:pt x="2967649" y="3773637"/>
                  <a:pt x="3773637" y="2967649"/>
                  <a:pt x="3773637" y="1973412"/>
                </a:cubicBezTo>
                <a:cubicBezTo>
                  <a:pt x="3773637" y="979175"/>
                  <a:pt x="2967649" y="173187"/>
                  <a:pt x="1973412" y="173187"/>
                </a:cubicBezTo>
                <a:close/>
                <a:moveTo>
                  <a:pt x="1973412" y="0"/>
                </a:moveTo>
                <a:cubicBezTo>
                  <a:pt x="3063297" y="0"/>
                  <a:pt x="3946824" y="883527"/>
                  <a:pt x="3946824" y="1973412"/>
                </a:cubicBezTo>
                <a:cubicBezTo>
                  <a:pt x="3946824" y="3063297"/>
                  <a:pt x="3063297" y="3946824"/>
                  <a:pt x="1973412" y="3946824"/>
                </a:cubicBezTo>
                <a:cubicBezTo>
                  <a:pt x="883527" y="3946824"/>
                  <a:pt x="0" y="3063297"/>
                  <a:pt x="0" y="1973412"/>
                </a:cubicBezTo>
                <a:cubicBezTo>
                  <a:pt x="0" y="883527"/>
                  <a:pt x="883527" y="0"/>
                  <a:pt x="1973412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230"/>
          <p:cNvSpPr/>
          <p:nvPr/>
        </p:nvSpPr>
        <p:spPr>
          <a:xfrm>
            <a:off x="6937200" y="3521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4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4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4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autoRev="1" nodeType="withEffect" fill="hold" presetClass="emph" presetID="6">
                                  <p:stCondLst>
                                    <p:cond delay="900"/>
                                  </p:stCondLst>
                                  <p:childTnLst>
                                    <p:animScale>
                                      <p:cBhvr>
                                        <p:cTn id="11" dur="150" fill="hold"/>
                                        <p:tgtEl>
                                          <p:spTgt spid="60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10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4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4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4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autoRev="1" nodeType="withEffect" fill="hold" presetClass="emph" presetID="6">
                                  <p:stCondLst>
                                    <p:cond delay="1200"/>
                                  </p:stCondLst>
                                  <p:childTnLst>
                                    <p:animScale>
                                      <p:cBhvr>
                                        <p:cTn id="18" dur="150" fill="hold"/>
                                        <p:tgtEl>
                                          <p:spTgt spid="61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0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4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4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4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autoRev="1" nodeType="withEffect" fill="hold" presetClass="emph" presetID="6">
                                  <p:stCondLst>
                                    <p:cond delay="1500"/>
                                  </p:stCondLst>
                                  <p:childTnLst>
                                    <p:animScale>
                                      <p:cBhvr>
                                        <p:cTn id="25" dur="150" fill="hold"/>
                                        <p:tgtEl>
                                          <p:spTgt spid="62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25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2" presetSubtype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" dur="25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2" presetSubtype="8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25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2" presetSubtype="2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" dur="25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xit" presetID="1">
                                  <p:stCondLst>
                                    <p:cond delay="19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" nodeType="withEffect" fill="hold" presetClass="exit" presetID="1">
                                  <p:stCondLst>
                                    <p:cond delay="19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xit" presetID="1">
                                  <p:stCondLst>
                                    <p:cond delay="19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nodeType="withEffect" fill="hold" presetClass="exit" presetID="1">
                                  <p:stCondLst>
                                    <p:cond delay="19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2" presetSubtype="2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8" dur="25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2" presetSubtype="2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1" dur="25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2" presetSubtype="2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" dur="25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0">
                                  <p:stCondLst>
                                    <p:cond delay="190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75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75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75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0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75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75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75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0">
                                  <p:stCondLst>
                                    <p:cond delay="27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75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75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75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2" presetSubtype="1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" dur="2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" dur="2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2" presetSubtype="2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8" dur="2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2" presetSubtype="2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1" dur="2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2" presetSubtype="4">
                                  <p:stCondLst>
                                    <p:cond delay="26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2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2" presetSubtype="4">
                                  <p:stCondLst>
                                    <p:cond delay="28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2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2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22" presetSubtype="1">
                                  <p:stCondLst>
                                    <p:cond delay="310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92" dur="2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xit" presetID="22" presetSubtype="1">
                                  <p:stCondLst>
                                    <p:cond delay="330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95" dur="2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xit" presetID="22" presetSubtype="2">
                                  <p:stCondLst>
                                    <p:cond delay="350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98" dur="2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" nodeType="withEffect" fill="hold" presetClass="exit" presetID="22" presetSubtype="2">
                                  <p:stCondLst>
                                    <p:cond delay="370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01" dur="2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xit" presetID="22" presetSubtype="4">
                                  <p:stCondLst>
                                    <p:cond delay="390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04" dur="2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xit" presetID="22" presetSubtype="4">
                                  <p:stCondLst>
                                    <p:cond delay="410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07" dur="2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xit" presetID="22" presetSubtype="8">
                                  <p:stCondLst>
                                    <p:cond delay="430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0" dur="2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0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4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3600000">
                                      <p:cBhvr>
                                        <p:cTn id="116" dur="68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7" nodeType="withEffect" fill="hold" presetClass="exit" presetID="17" presetSubtype="10">
                                  <p:stCondLst>
                                    <p:cond delay="47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8" dur="300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300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xit" presetID="17" presetSubtype="10">
                                  <p:stCondLst>
                                    <p:cond delay="47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2" dur="3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3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xit" presetID="17" presetSubtype="10">
                                  <p:stCondLst>
                                    <p:cond delay="47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6" dur="300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300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autoRev="1" nodeType="withEffect" fill="hold" presetClass="emph" presetID="6">
                                  <p:stCondLst>
                                    <p:cond delay="4900"/>
                                  </p:stCondLst>
                                  <p:childTnLst>
                                    <p:animScale>
                                      <p:cBhvr>
                                        <p:cTn id="130" dur="150" fill="hold"/>
                                        <p:tgtEl>
                                          <p:spTgt spid="6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31" nodeType="withEffect" fill="hold" presetClass="exit" presetID="10">
                                  <p:stCondLst>
                                    <p:cond delay="5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2" dur="3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3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4" dur="3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autoRev="1" nodeType="withEffect" fill="hold" presetClass="emph" presetID="6">
                                  <p:stCondLst>
                                    <p:cond delay="5000"/>
                                  </p:stCondLst>
                                  <p:childTnLst>
                                    <p:animScale>
                                      <p:cBhvr>
                                        <p:cTn id="137" dur="150" fill="hold"/>
                                        <p:tgtEl>
                                          <p:spTgt spid="6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38" nodeType="withEffect" fill="hold" presetClass="exit" presetID="10">
                                  <p:stCondLst>
                                    <p:cond delay="5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9" dur="3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3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1" dur="3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autoRev="1" nodeType="withEffect" fill="hold" presetClass="emph" presetID="6">
                                  <p:stCondLst>
                                    <p:cond delay="5100"/>
                                  </p:stCondLst>
                                  <p:childTnLst>
                                    <p:animScale>
                                      <p:cBhvr>
                                        <p:cTn id="144" dur="150" fill="hold"/>
                                        <p:tgtEl>
                                          <p:spTgt spid="6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45" nodeType="withEffect" fill="hold" presetClass="exit" presetID="10">
                                  <p:stCondLst>
                                    <p:cond delay="53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6" dur="3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3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8" dur="3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22" presetSubtype="1">
                                  <p:stCondLst>
                                    <p:cond delay="530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2" dur="3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2" presetSubtype="4">
                                  <p:stCondLst>
                                    <p:cond delay="560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" dur="3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xit" presetID="22" presetSubtype="1">
                                  <p:stCondLst>
                                    <p:cond delay="580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157" dur="3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xit" presetID="22" presetSubtype="4">
                                  <p:stCondLst>
                                    <p:cond delay="600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60" dur="3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10">
                                  <p:stCondLst>
                                    <p:cond delay="530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2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2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2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2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2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0">
                                  <p:stCondLst>
                                    <p:cond delay="530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2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2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2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2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2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10">
                                  <p:stCondLst>
                                    <p:cond delay="530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2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2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2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2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2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0">
                                  <p:stCondLst>
                                    <p:cond delay="530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2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2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2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2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2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0" nodeType="withEffect" fill="hold" presetClass="path" presetID="42">
                                  <p:stCondLst>
                                    <p:cond delay="5500"/>
                                  </p:stCondLst>
                                  <p:childTnLst>
                                    <p:animMotion origin="layout" path="M 4.58333E-006 2.59259E-006 L -0.00026 -0.15093 E">
                                      <p:cBhvr>
                                        <p:cTn id="191" dur="300" fill="hold"/>
                                        <p:tgtEl>
                                          <p:spTgt spid="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2" nodeType="withEffect" fill="hold" presetClass="path" presetID="42">
                                  <p:stCondLst>
                                    <p:cond delay="5500"/>
                                  </p:stCondLst>
                                  <p:childTnLst>
                                    <p:animMotion origin="layout" path="M -2.70833E-006 1.48148E-006 L 0.0569 -0.0007 E">
                                      <p:cBhvr>
                                        <p:cTn id="193" dur="3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4" nodeType="withEffect" fill="hold" presetClass="path" presetID="42">
                                  <p:stCondLst>
                                    <p:cond delay="5500"/>
                                  </p:stCondLst>
                                  <p:childTnLst>
                                    <p:animMotion origin="layout" path="M 4.58333E-006 4.44444E-006 L 0.00013 0.15 E">
                                      <p:cBhvr>
                                        <p:cTn id="195" dur="300" fill="hold"/>
                                        <p:tgtEl>
                                          <p:spTgt spid="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6" nodeType="withEffect" fill="hold" presetClass="path" presetID="42">
                                  <p:stCondLst>
                                    <p:cond delay="5500"/>
                                  </p:stCondLst>
                                  <p:childTnLst>
                                    <p:animMotion origin="layout" path="M 4.375E-006 -1.48148E-006 L -0.08816 -0.00023 E">
                                      <p:cBhvr>
                                        <p:cTn id="197" dur="300" fill="hold"/>
                                        <p:tgtEl>
                                          <p:spTgt spid="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8" nodeType="withEffect" fill="hold" presetClass="exit" presetID="22" presetSubtype="4">
                                  <p:stCondLst>
                                    <p:cond delay="570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99" dur="3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xit" presetID="22" presetSubtype="8">
                                  <p:stCondLst>
                                    <p:cond delay="570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2" dur="3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" nodeType="withEffect" fill="hold" presetClass="exit" presetID="22" presetSubtype="1">
                                  <p:stCondLst>
                                    <p:cond delay="570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205" dur="3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xit" presetID="22" presetSubtype="2">
                                  <p:stCondLst>
                                    <p:cond delay="570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8" dur="3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470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4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4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480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4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4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2" presetSubtype="2">
                                  <p:stCondLst>
                                    <p:cond delay="490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4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4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2" presetSubtype="2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4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4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2" presetSubtype="2">
                                  <p:stCondLst>
                                    <p:cond delay="510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4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4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2" presetSubtype="2">
                                  <p:stCondLst>
                                    <p:cond delay="520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4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4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2" presetSubtype="2">
                                  <p:stCondLst>
                                    <p:cond delay="530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4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4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2" presetSubtype="8">
                                  <p:stCondLst>
                                    <p:cond delay="480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4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4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2" presetSubtype="8">
                                  <p:stCondLst>
                                    <p:cond delay="490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4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4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4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4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2" presetSubtype="8">
                                  <p:stCondLst>
                                    <p:cond delay="510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4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4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2" presetSubtype="8">
                                  <p:stCondLst>
                                    <p:cond delay="520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4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4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2" presetSubtype="8">
                                  <p:stCondLst>
                                    <p:cond delay="530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4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4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2" presetSubtype="8">
                                  <p:stCondLst>
                                    <p:cond delay="540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4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4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6" nodeType="withEffect" fill="hold" presetClass="path" presetID="42">
                                  <p:stCondLst>
                                    <p:cond delay="6700"/>
                                  </p:stCondLst>
                                  <p:childTnLst>
                                    <p:animMotion origin="layout" path="M -2.5E-006 2.96296E-006 L -0.79323 0.00324 E">
                                      <p:cBhvr>
                                        <p:cTn id="267" dur="500" fill="hold"/>
                                        <p:tgtEl>
                                          <p:spTgt spid="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8" nodeType="withEffect" fill="hold" presetClass="path" presetID="42">
                                  <p:stCondLst>
                                    <p:cond delay="6800"/>
                                  </p:stCondLst>
                                  <p:childTnLst>
                                    <p:animMotion origin="layout" path="M 2.29167E-006 2.59259E-006 L -0.8418 -0.00162 E">
                                      <p:cBhvr>
                                        <p:cTn id="269" dur="500" fill="hold"/>
                                        <p:tgtEl>
                                          <p:spTgt spid="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0" nodeType="withEffect" fill="hold" presetClass="path" presetID="42">
                                  <p:stCondLst>
                                    <p:cond delay="6900"/>
                                  </p:stCondLst>
                                  <p:childTnLst>
                                    <p:animMotion origin="layout" path="M -2.08333E-007 2.59259E-006 L -0.89388 0.00254 E">
                                      <p:cBhvr>
                                        <p:cTn id="271" dur="500" fill="hold"/>
                                        <p:tgtEl>
                                          <p:spTgt spid="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2" nodeType="withEffect" fill="hold" presetClass="path" presetID="42">
                                  <p:stCondLst>
                                    <p:cond delay="7000"/>
                                  </p:stCondLst>
                                  <p:childTnLst>
                                    <p:animMotion origin="layout" path="M 4.16667E-006 4.07407E-006 L -0.94792 4.07407E-006 E">
                                      <p:cBhvr>
                                        <p:cTn id="273" dur="500" fill="hold"/>
                                        <p:tgtEl>
                                          <p:spTgt spid="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4" nodeType="withEffect" fill="hold" presetClass="path" presetID="42">
                                  <p:stCondLst>
                                    <p:cond delay="7100"/>
                                  </p:stCondLst>
                                  <p:childTnLst>
                                    <p:animMotion origin="layout" path="M -1.04167E-006 -4.44444E-006 L -1.00651 -0.00069 E">
                                      <p:cBhvr>
                                        <p:cTn id="275" dur="500" fill="hold"/>
                                        <p:tgtEl>
                                          <p:spTgt spid="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6" nodeType="withEffect" fill="hold" presetClass="path" presetID="42">
                                  <p:stCondLst>
                                    <p:cond delay="7200"/>
                                  </p:stCondLst>
                                  <p:childTnLst>
                                    <p:animMotion origin="layout" path="M -8.33333E-007 -4.07407E-006 L -1.08073 0.00093 E">
                                      <p:cBhvr>
                                        <p:cTn id="277" dur="500" fill="hold"/>
                                        <p:tgtEl>
                                          <p:spTgt spid="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8" nodeType="withEffect" fill="hold" presetClass="path" presetID="42">
                                  <p:stCondLst>
                                    <p:cond delay="7300"/>
                                  </p:stCondLst>
                                  <p:childTnLst>
                                    <p:animMotion origin="layout" path="M -4.58333E-006 -1.11111E-006 L -1.15833 -0.00116 E">
                                      <p:cBhvr>
                                        <p:cTn id="279" dur="500" fill="hold"/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0" nodeType="withEffect" fill="hold" presetClass="path" presetID="42">
                                  <p:stCondLst>
                                    <p:cond delay="6700"/>
                                  </p:stCondLst>
                                  <p:childTnLst>
                                    <p:animMotion origin="layout" path="M -4.16667E-006 4.81481E-006 L 0.79714 0.00185 E">
                                      <p:cBhvr>
                                        <p:cTn id="281" dur="500" fill="hold"/>
                                        <p:tgtEl>
                                          <p:spTgt spid="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2" nodeType="withEffect" fill="hold" presetClass="path" presetID="42">
                                  <p:stCondLst>
                                    <p:cond delay="6800"/>
                                  </p:stCondLst>
                                  <p:childTnLst>
                                    <p:animMotion origin="layout" path="M 1.04167E-006 2.96296E-006 L 0.84336 0.00139 E">
                                      <p:cBhvr>
                                        <p:cTn id="283" dur="500" fill="hold"/>
                                        <p:tgtEl>
                                          <p:spTgt spid="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4" nodeType="withEffect" fill="hold" presetClass="path" presetID="42">
                                  <p:stCondLst>
                                    <p:cond delay="6900"/>
                                  </p:stCondLst>
                                  <p:childTnLst>
                                    <p:animMotion origin="layout" path="M 3.54167E-006 2.96296E-006 L 0.89544 0.00231 E">
                                      <p:cBhvr>
                                        <p:cTn id="285" dur="500" fill="hold"/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6" nodeType="withEffect" fill="hold" presetClass="path" presetID="42">
                                  <p:stCondLst>
                                    <p:cond delay="7000"/>
                                  </p:stCondLst>
                                  <p:childTnLst>
                                    <p:animMotion origin="layout" path="M -3.54167E-006 1.85185E-006 L 0.95404 0.00324 E">
                                      <p:cBhvr>
                                        <p:cTn id="287" dur="500" fill="hold"/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8" nodeType="withEffect" fill="hold" presetClass="path" presetID="42">
                                  <p:stCondLst>
                                    <p:cond delay="7100"/>
                                  </p:stCondLst>
                                  <p:childTnLst>
                                    <p:animMotion origin="layout" path="M -2.08333E-006 -2.96296E-006 L 1.03073 0.00093 E">
                                      <p:cBhvr>
                                        <p:cTn id="289" dur="500" fill="hold"/>
                                        <p:tgtEl>
                                          <p:spTgt spid="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0" nodeType="withEffect" fill="hold" presetClass="path" presetID="42">
                                  <p:stCondLst>
                                    <p:cond delay="7200"/>
                                  </p:stCondLst>
                                  <p:childTnLst>
                                    <p:animMotion origin="layout" path="M -2.29167E-006 -2.59259E-006 L 1.10586 0.00023 E">
                                      <p:cBhvr>
                                        <p:cTn id="291" dur="500" fill="hold"/>
                                        <p:tgtEl>
                                          <p:spTgt spid="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2" nodeType="withEffect" fill="hold" presetClass="path" presetID="42">
                                  <p:stCondLst>
                                    <p:cond delay="7300"/>
                                  </p:stCondLst>
                                  <p:childTnLst>
                                    <p:animMotion origin="layout" path="M 1.45833E-006 -1.85185E-006 L 1.1819 -0.00185 E">
                                      <p:cBhvr>
                                        <p:cTn id="293" dur="500" fill="hold"/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" name="组合 237"/>
          <p:cNvGrpSpPr/>
          <p:nvPr/>
        </p:nvGrpSpPr>
        <p:grpSpPr>
          <a:xfrm>
            <a:off x="3820680" y="2712960"/>
            <a:ext cx="4345920" cy="703440"/>
            <a:chOff x="3820680" y="2712960"/>
            <a:chExt cx="4345920" cy="703440"/>
          </a:xfrm>
        </p:grpSpPr>
        <p:sp>
          <p:nvSpPr>
            <p:cNvPr id="88" name="文本框 187"/>
            <p:cNvSpPr/>
            <p:nvPr/>
          </p:nvSpPr>
          <p:spPr>
            <a:xfrm>
              <a:off x="3820680" y="2712960"/>
              <a:ext cx="485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ffff"/>
                  </a:solidFill>
                  <a:latin typeface="张海山锐谐体"/>
                  <a:ea typeface="张海山锐谐体"/>
                </a:rPr>
                <a:t>请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文本框 188"/>
            <p:cNvSpPr/>
            <p:nvPr/>
          </p:nvSpPr>
          <p:spPr>
            <a:xfrm>
              <a:off x="4464000" y="2712960"/>
              <a:ext cx="485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ffff"/>
                  </a:solidFill>
                  <a:latin typeface="张海山锐谐体"/>
                  <a:ea typeface="张海山锐谐体"/>
                </a:rPr>
                <a:t>在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文本框 189"/>
            <p:cNvSpPr/>
            <p:nvPr/>
          </p:nvSpPr>
          <p:spPr>
            <a:xfrm>
              <a:off x="5107320" y="2712960"/>
              <a:ext cx="485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ffff"/>
                  </a:solidFill>
                  <a:latin typeface="张海山锐谐体"/>
                  <a:ea typeface="张海山锐谐体"/>
                </a:rPr>
                <a:t>此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文本框 190"/>
            <p:cNvSpPr/>
            <p:nvPr/>
          </p:nvSpPr>
          <p:spPr>
            <a:xfrm>
              <a:off x="5750640" y="2712960"/>
              <a:ext cx="485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ffff"/>
                  </a:solidFill>
                  <a:latin typeface="张海山锐谐体"/>
                  <a:ea typeface="张海山锐谐体"/>
                </a:rPr>
                <a:t>输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文本框 191"/>
            <p:cNvSpPr/>
            <p:nvPr/>
          </p:nvSpPr>
          <p:spPr>
            <a:xfrm>
              <a:off x="6393960" y="2712960"/>
              <a:ext cx="485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ffff"/>
                  </a:solidFill>
                  <a:latin typeface="张海山锐谐体"/>
                  <a:ea typeface="张海山锐谐体"/>
                </a:rPr>
                <a:t>入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文本框 192"/>
            <p:cNvSpPr/>
            <p:nvPr/>
          </p:nvSpPr>
          <p:spPr>
            <a:xfrm>
              <a:off x="7037640" y="2712960"/>
              <a:ext cx="485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ffff"/>
                  </a:solidFill>
                  <a:latin typeface="张海山锐谐体"/>
                  <a:ea typeface="张海山锐谐体"/>
                </a:rPr>
                <a:t>内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文本框 193"/>
            <p:cNvSpPr/>
            <p:nvPr/>
          </p:nvSpPr>
          <p:spPr>
            <a:xfrm>
              <a:off x="7680960" y="2712960"/>
              <a:ext cx="485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ffff"/>
                  </a:solidFill>
                  <a:latin typeface="张海山锐谐体"/>
                  <a:ea typeface="张海山锐谐体"/>
                </a:rPr>
                <a:t>容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5" name="组合 6" descr=""/>
          <p:cNvPicPr/>
          <p:nvPr/>
        </p:nvPicPr>
        <p:blipFill>
          <a:blip r:embed="rId2"/>
          <a:stretch/>
        </p:blipFill>
        <p:spPr>
          <a:xfrm>
            <a:off x="1139760" y="-2620800"/>
            <a:ext cx="10588680" cy="11698200"/>
          </a:xfrm>
          <a:prstGeom prst="rect">
            <a:avLst/>
          </a:prstGeom>
          <a:ln w="0">
            <a:noFill/>
          </a:ln>
        </p:spPr>
      </p:pic>
      <p:sp>
        <p:nvSpPr>
          <p:cNvPr id="96" name="直接连接符 2"/>
          <p:cNvSpPr/>
          <p:nvPr/>
        </p:nvSpPr>
        <p:spPr>
          <a:xfrm>
            <a:off x="3632040" y="3467160"/>
            <a:ext cx="46231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文本框 226"/>
          <p:cNvSpPr/>
          <p:nvPr/>
        </p:nvSpPr>
        <p:spPr>
          <a:xfrm>
            <a:off x="3265560" y="350352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张海山锐谐体"/>
                <a:ea typeface="张海山锐谐体"/>
              </a:rPr>
              <a:t>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文本框 227"/>
          <p:cNvSpPr/>
          <p:nvPr/>
        </p:nvSpPr>
        <p:spPr>
          <a:xfrm>
            <a:off x="3843360" y="350352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张海山锐谐体"/>
                <a:ea typeface="张海山锐谐体"/>
              </a:rPr>
              <a:t>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文本框 228"/>
          <p:cNvSpPr/>
          <p:nvPr/>
        </p:nvSpPr>
        <p:spPr>
          <a:xfrm>
            <a:off x="4421160" y="350352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张海山锐谐体"/>
                <a:ea typeface="张海山锐谐体"/>
              </a:rPr>
              <a:t>此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文本框 229"/>
          <p:cNvSpPr/>
          <p:nvPr/>
        </p:nvSpPr>
        <p:spPr>
          <a:xfrm>
            <a:off x="4997520" y="350352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张海山锐谐体"/>
                <a:ea typeface="张海山锐谐体"/>
              </a:rPr>
              <a:t>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文本框 230"/>
          <p:cNvSpPr/>
          <p:nvPr/>
        </p:nvSpPr>
        <p:spPr>
          <a:xfrm>
            <a:off x="5575320" y="350352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张海山锐谐体"/>
                <a:ea typeface="张海山锐谐体"/>
              </a:rPr>
              <a:t>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文本框 231"/>
          <p:cNvSpPr/>
          <p:nvPr/>
        </p:nvSpPr>
        <p:spPr>
          <a:xfrm>
            <a:off x="7885440" y="350352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张海山锐谐体"/>
                <a:ea typeface="张海山锐谐体"/>
              </a:rPr>
              <a:t>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文本框 232"/>
          <p:cNvSpPr/>
          <p:nvPr/>
        </p:nvSpPr>
        <p:spPr>
          <a:xfrm>
            <a:off x="8463240" y="350352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张海山锐谐体"/>
                <a:ea typeface="张海山锐谐体"/>
              </a:rPr>
              <a:t>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文本框 233"/>
          <p:cNvSpPr/>
          <p:nvPr/>
        </p:nvSpPr>
        <p:spPr>
          <a:xfrm>
            <a:off x="6153480" y="350352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张海山锐谐体"/>
                <a:ea typeface="张海山锐谐体"/>
              </a:rPr>
              <a:t>增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文本框 234"/>
          <p:cNvSpPr/>
          <p:nvPr/>
        </p:nvSpPr>
        <p:spPr>
          <a:xfrm>
            <a:off x="6730200" y="350352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张海山锐谐体"/>
                <a:ea typeface="张海山锐谐体"/>
              </a:rPr>
              <a:t>填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文本框 235"/>
          <p:cNvSpPr/>
          <p:nvPr/>
        </p:nvSpPr>
        <p:spPr>
          <a:xfrm>
            <a:off x="7307280" y="350352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张海山锐谐体"/>
                <a:ea typeface="张海山锐谐体"/>
              </a:rPr>
              <a:t>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任意多边形 258"/>
          <p:cNvSpPr/>
          <p:nvPr/>
        </p:nvSpPr>
        <p:spPr>
          <a:xfrm rot="77400">
            <a:off x="4652640" y="2350800"/>
            <a:ext cx="160200" cy="326880"/>
          </a:xfrm>
          <a:custGeom>
            <a:avLst/>
            <a:gdLst/>
            <a:ahLst/>
            <a:rect l="l" t="t" r="r" b="b"/>
            <a:pathLst>
              <a:path w="534487" h="1089756">
                <a:moveTo>
                  <a:pt x="0" y="0"/>
                </a:moveTo>
                <a:lnTo>
                  <a:pt x="98491" y="9929"/>
                </a:lnTo>
                <a:cubicBezTo>
                  <a:pt x="347313" y="60845"/>
                  <a:pt x="534487" y="281004"/>
                  <a:pt x="534487" y="544878"/>
                </a:cubicBezTo>
                <a:cubicBezTo>
                  <a:pt x="534487" y="808753"/>
                  <a:pt x="347313" y="1028911"/>
                  <a:pt x="98491" y="1079827"/>
                </a:cubicBezTo>
                <a:lnTo>
                  <a:pt x="0" y="1089756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任意多边形 259"/>
          <p:cNvSpPr/>
          <p:nvPr/>
        </p:nvSpPr>
        <p:spPr>
          <a:xfrm rot="77400">
            <a:off x="4484160" y="2346480"/>
            <a:ext cx="168480" cy="328320"/>
          </a:xfrm>
          <a:custGeom>
            <a:avLst/>
            <a:gdLst/>
            <a:ahLst/>
            <a:rect l="l" t="t" r="r" b="b"/>
            <a:pathLst>
              <a:path w="557599" h="1092086">
                <a:moveTo>
                  <a:pt x="557599" y="1090921"/>
                </a:moveTo>
                <a:lnTo>
                  <a:pt x="546043" y="1092086"/>
                </a:lnTo>
                <a:cubicBezTo>
                  <a:pt x="244472" y="1092086"/>
                  <a:pt x="0" y="847614"/>
                  <a:pt x="0" y="546043"/>
                </a:cubicBezTo>
                <a:cubicBezTo>
                  <a:pt x="0" y="244472"/>
                  <a:pt x="244472" y="0"/>
                  <a:pt x="546043" y="0"/>
                </a:cubicBezTo>
                <a:lnTo>
                  <a:pt x="557599" y="1165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圆角矩形 260"/>
          <p:cNvSpPr/>
          <p:nvPr/>
        </p:nvSpPr>
        <p:spPr>
          <a:xfrm rot="1137000">
            <a:off x="4804920" y="2587320"/>
            <a:ext cx="284400" cy="172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560" bIns="-34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圆角矩形 261"/>
          <p:cNvSpPr/>
          <p:nvPr/>
        </p:nvSpPr>
        <p:spPr>
          <a:xfrm rot="1137000">
            <a:off x="4206960" y="2423880"/>
            <a:ext cx="285840" cy="1584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圆角矩形 262"/>
          <p:cNvSpPr/>
          <p:nvPr/>
        </p:nvSpPr>
        <p:spPr>
          <a:xfrm rot="6537000">
            <a:off x="4625640" y="2217240"/>
            <a:ext cx="284040" cy="1764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圆角矩形 263"/>
          <p:cNvSpPr/>
          <p:nvPr/>
        </p:nvSpPr>
        <p:spPr>
          <a:xfrm flipH="1" rot="17337000">
            <a:off x="4388040" y="2792880"/>
            <a:ext cx="285840" cy="1764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圆角矩形 264"/>
          <p:cNvSpPr/>
          <p:nvPr/>
        </p:nvSpPr>
        <p:spPr>
          <a:xfrm flipH="1" rot="20037600">
            <a:off x="4772160" y="2311560"/>
            <a:ext cx="555480" cy="93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0" bIns="-39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圆角矩形 265"/>
          <p:cNvSpPr/>
          <p:nvPr/>
        </p:nvSpPr>
        <p:spPr>
          <a:xfrm rot="14637000">
            <a:off x="4555800" y="2912400"/>
            <a:ext cx="555840" cy="972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圆角矩形 267"/>
          <p:cNvSpPr/>
          <p:nvPr/>
        </p:nvSpPr>
        <p:spPr>
          <a:xfrm rot="14637000">
            <a:off x="4174200" y="2105640"/>
            <a:ext cx="557280" cy="972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圆角矩形 268"/>
          <p:cNvSpPr/>
          <p:nvPr/>
        </p:nvSpPr>
        <p:spPr>
          <a:xfrm flipH="1" rot="20037600">
            <a:off x="3982680" y="2701800"/>
            <a:ext cx="555480" cy="972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任意多边形 292"/>
          <p:cNvSpPr/>
          <p:nvPr/>
        </p:nvSpPr>
        <p:spPr>
          <a:xfrm rot="77400">
            <a:off x="6519600" y="4080960"/>
            <a:ext cx="160200" cy="327240"/>
          </a:xfrm>
          <a:custGeom>
            <a:avLst/>
            <a:gdLst/>
            <a:ahLst/>
            <a:rect l="l" t="t" r="r" b="b"/>
            <a:pathLst>
              <a:path w="534487" h="1089756">
                <a:moveTo>
                  <a:pt x="0" y="0"/>
                </a:moveTo>
                <a:lnTo>
                  <a:pt x="98491" y="9929"/>
                </a:lnTo>
                <a:cubicBezTo>
                  <a:pt x="347313" y="60845"/>
                  <a:pt x="534487" y="281004"/>
                  <a:pt x="534487" y="544878"/>
                </a:cubicBezTo>
                <a:cubicBezTo>
                  <a:pt x="534487" y="808753"/>
                  <a:pt x="347313" y="1028911"/>
                  <a:pt x="98491" y="1079827"/>
                </a:cubicBezTo>
                <a:lnTo>
                  <a:pt x="0" y="1089756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任意多边形 293"/>
          <p:cNvSpPr/>
          <p:nvPr/>
        </p:nvSpPr>
        <p:spPr>
          <a:xfrm rot="77400">
            <a:off x="6351120" y="4078440"/>
            <a:ext cx="168480" cy="326880"/>
          </a:xfrm>
          <a:custGeom>
            <a:avLst/>
            <a:gdLst/>
            <a:ahLst/>
            <a:rect l="l" t="t" r="r" b="b"/>
            <a:pathLst>
              <a:path w="557599" h="1092086">
                <a:moveTo>
                  <a:pt x="557599" y="1090921"/>
                </a:moveTo>
                <a:lnTo>
                  <a:pt x="546043" y="1092086"/>
                </a:lnTo>
                <a:cubicBezTo>
                  <a:pt x="244472" y="1092086"/>
                  <a:pt x="0" y="847614"/>
                  <a:pt x="0" y="546043"/>
                </a:cubicBezTo>
                <a:cubicBezTo>
                  <a:pt x="0" y="244472"/>
                  <a:pt x="244472" y="0"/>
                  <a:pt x="546043" y="0"/>
                </a:cubicBezTo>
                <a:lnTo>
                  <a:pt x="557599" y="1165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圆角矩形 294"/>
          <p:cNvSpPr/>
          <p:nvPr/>
        </p:nvSpPr>
        <p:spPr>
          <a:xfrm rot="1137000">
            <a:off x="6671880" y="4317480"/>
            <a:ext cx="284040" cy="1764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圆角矩形 295"/>
          <p:cNvSpPr/>
          <p:nvPr/>
        </p:nvSpPr>
        <p:spPr>
          <a:xfrm rot="1137000">
            <a:off x="6075000" y="4154040"/>
            <a:ext cx="284040" cy="1584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圆角矩形 296"/>
          <p:cNvSpPr/>
          <p:nvPr/>
        </p:nvSpPr>
        <p:spPr>
          <a:xfrm rot="6537000">
            <a:off x="6493680" y="3948480"/>
            <a:ext cx="284040" cy="1584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圆角矩形 297"/>
          <p:cNvSpPr/>
          <p:nvPr/>
        </p:nvSpPr>
        <p:spPr>
          <a:xfrm flipH="1" rot="17337000">
            <a:off x="6255000" y="4523400"/>
            <a:ext cx="285840" cy="1764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圆角矩形 298"/>
          <p:cNvSpPr/>
          <p:nvPr/>
        </p:nvSpPr>
        <p:spPr>
          <a:xfrm flipH="1" rot="20037600">
            <a:off x="6637680" y="4041360"/>
            <a:ext cx="555840" cy="972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圆角矩形 299"/>
          <p:cNvSpPr/>
          <p:nvPr/>
        </p:nvSpPr>
        <p:spPr>
          <a:xfrm rot="14637000">
            <a:off x="6422760" y="4642560"/>
            <a:ext cx="555480" cy="972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圆角矩形 300"/>
          <p:cNvSpPr/>
          <p:nvPr/>
        </p:nvSpPr>
        <p:spPr>
          <a:xfrm rot="14637000">
            <a:off x="6040800" y="3835800"/>
            <a:ext cx="557280" cy="93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0" bIns="-39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圆角矩形 301"/>
          <p:cNvSpPr/>
          <p:nvPr/>
        </p:nvSpPr>
        <p:spPr>
          <a:xfrm flipH="1" rot="20037600">
            <a:off x="5850000" y="4432320"/>
            <a:ext cx="555480" cy="93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0" bIns="-39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任意多边形 302"/>
          <p:cNvSpPr/>
          <p:nvPr/>
        </p:nvSpPr>
        <p:spPr>
          <a:xfrm rot="77400">
            <a:off x="8716680" y="2445840"/>
            <a:ext cx="160200" cy="325440"/>
          </a:xfrm>
          <a:custGeom>
            <a:avLst/>
            <a:gdLst/>
            <a:ahLst/>
            <a:rect l="l" t="t" r="r" b="b"/>
            <a:pathLst>
              <a:path w="534487" h="1089756">
                <a:moveTo>
                  <a:pt x="0" y="0"/>
                </a:moveTo>
                <a:lnTo>
                  <a:pt x="98491" y="9929"/>
                </a:lnTo>
                <a:cubicBezTo>
                  <a:pt x="347313" y="60845"/>
                  <a:pt x="534487" y="281004"/>
                  <a:pt x="534487" y="544878"/>
                </a:cubicBezTo>
                <a:cubicBezTo>
                  <a:pt x="534487" y="808753"/>
                  <a:pt x="347313" y="1028911"/>
                  <a:pt x="98491" y="1079827"/>
                </a:cubicBezTo>
                <a:lnTo>
                  <a:pt x="0" y="1089756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任意多边形 303"/>
          <p:cNvSpPr/>
          <p:nvPr/>
        </p:nvSpPr>
        <p:spPr>
          <a:xfrm rot="77400">
            <a:off x="8550000" y="2441520"/>
            <a:ext cx="166680" cy="327240"/>
          </a:xfrm>
          <a:custGeom>
            <a:avLst/>
            <a:gdLst/>
            <a:ahLst/>
            <a:rect l="l" t="t" r="r" b="b"/>
            <a:pathLst>
              <a:path w="557599" h="1092086">
                <a:moveTo>
                  <a:pt x="557599" y="1090921"/>
                </a:moveTo>
                <a:lnTo>
                  <a:pt x="546043" y="1092086"/>
                </a:lnTo>
                <a:cubicBezTo>
                  <a:pt x="244472" y="1092086"/>
                  <a:pt x="0" y="847614"/>
                  <a:pt x="0" y="546043"/>
                </a:cubicBezTo>
                <a:cubicBezTo>
                  <a:pt x="0" y="244472"/>
                  <a:pt x="244472" y="0"/>
                  <a:pt x="546043" y="0"/>
                </a:cubicBezTo>
                <a:lnTo>
                  <a:pt x="557599" y="1165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圆角矩形 304"/>
          <p:cNvSpPr/>
          <p:nvPr/>
        </p:nvSpPr>
        <p:spPr>
          <a:xfrm rot="1137000">
            <a:off x="8868960" y="2682360"/>
            <a:ext cx="284040" cy="162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920" bIns="-34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圆角矩形 305"/>
          <p:cNvSpPr/>
          <p:nvPr/>
        </p:nvSpPr>
        <p:spPr>
          <a:xfrm rot="1137000">
            <a:off x="8272080" y="2517480"/>
            <a:ext cx="284040" cy="1584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圆角矩形 306"/>
          <p:cNvSpPr/>
          <p:nvPr/>
        </p:nvSpPr>
        <p:spPr>
          <a:xfrm rot="6537000">
            <a:off x="8690760" y="2311560"/>
            <a:ext cx="284040" cy="1584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圆角矩形 307"/>
          <p:cNvSpPr/>
          <p:nvPr/>
        </p:nvSpPr>
        <p:spPr>
          <a:xfrm flipH="1" rot="17337000">
            <a:off x="8453880" y="2888280"/>
            <a:ext cx="284040" cy="154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圆角矩形 308"/>
          <p:cNvSpPr/>
          <p:nvPr/>
        </p:nvSpPr>
        <p:spPr>
          <a:xfrm flipH="1" rot="20037600">
            <a:off x="8835840" y="2406600"/>
            <a:ext cx="555480" cy="972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圆角矩形 309"/>
          <p:cNvSpPr/>
          <p:nvPr/>
        </p:nvSpPr>
        <p:spPr>
          <a:xfrm rot="14637000">
            <a:off x="8619120" y="3006720"/>
            <a:ext cx="556920" cy="972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圆角矩形 310"/>
          <p:cNvSpPr/>
          <p:nvPr/>
        </p:nvSpPr>
        <p:spPr>
          <a:xfrm rot="14637000">
            <a:off x="8238600" y="2199960"/>
            <a:ext cx="555840" cy="93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0" bIns="-39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圆角矩形 311"/>
          <p:cNvSpPr/>
          <p:nvPr/>
        </p:nvSpPr>
        <p:spPr>
          <a:xfrm flipH="1" rot="20037600">
            <a:off x="8046720" y="2797200"/>
            <a:ext cx="555480" cy="792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040" bIns="-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314"/>
          <p:cNvSpPr/>
          <p:nvPr/>
        </p:nvSpPr>
        <p:spPr>
          <a:xfrm rot="19449600">
            <a:off x="7197480" y="-11409120"/>
            <a:ext cx="17440200" cy="14986080"/>
          </a:xfrm>
          <a:prstGeom prst="rect">
            <a:avLst/>
          </a:prstGeom>
          <a:solidFill>
            <a:srgbClr val="e9ac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矩形 315"/>
          <p:cNvSpPr/>
          <p:nvPr/>
        </p:nvSpPr>
        <p:spPr>
          <a:xfrm rot="19449600">
            <a:off x="-11893320" y="2823840"/>
            <a:ext cx="16689600" cy="14986080"/>
          </a:xfrm>
          <a:prstGeom prst="rect">
            <a:avLst/>
          </a:prstGeom>
          <a:solidFill>
            <a:srgbClr val="e9ac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矩形 317"/>
          <p:cNvSpPr/>
          <p:nvPr/>
        </p:nvSpPr>
        <p:spPr>
          <a:xfrm rot="19449600">
            <a:off x="8008560" y="-11998080"/>
            <a:ext cx="17440200" cy="14986080"/>
          </a:xfrm>
          <a:prstGeom prst="rect">
            <a:avLst/>
          </a:prstGeom>
          <a:solidFill>
            <a:srgbClr val="80b0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矩形 318"/>
          <p:cNvSpPr/>
          <p:nvPr/>
        </p:nvSpPr>
        <p:spPr>
          <a:xfrm rot="19449600">
            <a:off x="-12641040" y="3408120"/>
            <a:ext cx="16689600" cy="14985720"/>
          </a:xfrm>
          <a:prstGeom prst="rect">
            <a:avLst/>
          </a:prstGeom>
          <a:solidFill>
            <a:srgbClr val="80b0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矩形 322"/>
          <p:cNvSpPr/>
          <p:nvPr/>
        </p:nvSpPr>
        <p:spPr>
          <a:xfrm rot="19449600">
            <a:off x="8838720" y="-12564720"/>
            <a:ext cx="17440560" cy="14987520"/>
          </a:xfrm>
          <a:prstGeom prst="rect">
            <a:avLst/>
          </a:prstGeom>
          <a:solidFill>
            <a:srgbClr val="de4d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矩形 323"/>
          <p:cNvSpPr/>
          <p:nvPr/>
        </p:nvSpPr>
        <p:spPr>
          <a:xfrm rot="19449600">
            <a:off x="-13438080" y="3983040"/>
            <a:ext cx="16687800" cy="14987520"/>
          </a:xfrm>
          <a:prstGeom prst="rect">
            <a:avLst/>
          </a:prstGeom>
          <a:solidFill>
            <a:srgbClr val="de4d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矩形 324"/>
          <p:cNvSpPr/>
          <p:nvPr/>
        </p:nvSpPr>
        <p:spPr>
          <a:xfrm rot="19449600">
            <a:off x="9629280" y="-13127040"/>
            <a:ext cx="17440560" cy="14986080"/>
          </a:xfrm>
          <a:prstGeom prst="rect">
            <a:avLst/>
          </a:prstGeom>
          <a:solidFill>
            <a:srgbClr val="e8e4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矩形 325"/>
          <p:cNvSpPr/>
          <p:nvPr/>
        </p:nvSpPr>
        <p:spPr>
          <a:xfrm rot="19449600">
            <a:off x="-14215680" y="4557600"/>
            <a:ext cx="16687800" cy="14987880"/>
          </a:xfrm>
          <a:prstGeom prst="rect">
            <a:avLst/>
          </a:prstGeom>
          <a:solidFill>
            <a:srgbClr val="e8e4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矩形 326"/>
          <p:cNvSpPr/>
          <p:nvPr/>
        </p:nvSpPr>
        <p:spPr>
          <a:xfrm rot="19449600">
            <a:off x="10473840" y="-13741560"/>
            <a:ext cx="17440560" cy="14986080"/>
          </a:xfrm>
          <a:prstGeom prst="rect">
            <a:avLst/>
          </a:prstGeom>
          <a:solidFill>
            <a:srgbClr val="3e2d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矩形 327"/>
          <p:cNvSpPr/>
          <p:nvPr/>
        </p:nvSpPr>
        <p:spPr>
          <a:xfrm rot="19449600">
            <a:off x="-15087600" y="5129280"/>
            <a:ext cx="16687800" cy="14987520"/>
          </a:xfrm>
          <a:prstGeom prst="rect">
            <a:avLst/>
          </a:prstGeom>
          <a:solidFill>
            <a:srgbClr val="3e2d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图片 359" descr=""/>
          <p:cNvPicPr/>
          <p:nvPr/>
        </p:nvPicPr>
        <p:blipFill>
          <a:blip r:embed="rId3"/>
          <a:srcRect l="49981" t="0" r="0" b="0"/>
          <a:stretch/>
        </p:blipFill>
        <p:spPr>
          <a:xfrm rot="19444800">
            <a:off x="11598120" y="-13268160"/>
            <a:ext cx="13560480" cy="15258960"/>
          </a:xfrm>
          <a:prstGeom prst="rect">
            <a:avLst/>
          </a:prstGeom>
          <a:ln w="0">
            <a:noFill/>
          </a:ln>
        </p:spPr>
      </p:pic>
      <p:pic>
        <p:nvPicPr>
          <p:cNvPr id="148" name="图片 358" descr=""/>
          <p:cNvPicPr/>
          <p:nvPr/>
        </p:nvPicPr>
        <p:blipFill>
          <a:blip r:embed="rId4"/>
          <a:srcRect l="49810" t="-5261" r="50022" b="100005"/>
          <a:stretch/>
        </p:blipFill>
        <p:spPr>
          <a:xfrm rot="19444800">
            <a:off x="1337760" y="-3460320"/>
            <a:ext cx="46080" cy="803160"/>
          </a:xfrm>
          <a:prstGeom prst="rect">
            <a:avLst/>
          </a:prstGeom>
          <a:ln w="0">
            <a:noFill/>
          </a:ln>
        </p:spPr>
      </p:pic>
      <p:pic>
        <p:nvPicPr>
          <p:cNvPr id="149" name="图片 357" descr=""/>
          <p:cNvPicPr/>
          <p:nvPr/>
        </p:nvPicPr>
        <p:blipFill>
          <a:blip r:embed="rId5"/>
          <a:srcRect l="0" t="0" r="50187" b="0"/>
          <a:stretch/>
        </p:blipFill>
        <p:spPr>
          <a:xfrm rot="19444800">
            <a:off x="-13048920" y="4524480"/>
            <a:ext cx="13503240" cy="15258960"/>
          </a:xfrm>
          <a:prstGeom prst="rect">
            <a:avLst/>
          </a:prstGeom>
          <a:ln w="0">
            <a:noFill/>
          </a:ln>
        </p:spPr>
      </p:pic>
      <p:pic>
        <p:nvPicPr>
          <p:cNvPr id="150" name="图片 356" descr=""/>
          <p:cNvPicPr/>
          <p:nvPr/>
        </p:nvPicPr>
        <p:blipFill>
          <a:blip r:embed="rId6"/>
          <a:srcRect l="49816" t="100005" r="50016" b="-5250"/>
          <a:stretch/>
        </p:blipFill>
        <p:spPr>
          <a:xfrm rot="19444800">
            <a:off x="10761840" y="9547200"/>
            <a:ext cx="45720" cy="801720"/>
          </a:xfrm>
          <a:prstGeom prst="rect">
            <a:avLst/>
          </a:prstGeom>
          <a:ln w="0">
            <a:noFill/>
          </a:ln>
        </p:spPr>
      </p:pic>
      <p:sp>
        <p:nvSpPr>
          <p:cNvPr id="151" name="矩形 320"/>
          <p:cNvSpPr/>
          <p:nvPr/>
        </p:nvSpPr>
        <p:spPr>
          <a:xfrm rot="19449600">
            <a:off x="-249120" y="1358640"/>
            <a:ext cx="977760" cy="14986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矩形 321"/>
          <p:cNvSpPr/>
          <p:nvPr/>
        </p:nvSpPr>
        <p:spPr>
          <a:xfrm rot="19449600">
            <a:off x="18309960" y="8830800"/>
            <a:ext cx="977760" cy="14986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0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3600000">
                                      <p:cBhvr>
                                        <p:cTn id="299" dur="7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1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1">
                                  <p:stCondLst>
                                    <p:cond delay="260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1">
                                  <p:stCondLst>
                                    <p:cond delay="260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1">
                                  <p:stCondLst>
                                    <p:cond delay="260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1">
                                  <p:stCondLst>
                                    <p:cond delay="260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1">
                                  <p:stCondLst>
                                    <p:cond delay="260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1">
                                  <p:stCondLst>
                                    <p:cond delay="260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1">
                                  <p:stCondLst>
                                    <p:cond delay="260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1">
                                  <p:stCondLst>
                                    <p:cond delay="260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1">
                                  <p:stCondLst>
                                    <p:cond delay="260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1">
                                  <p:stCondLst>
                                    <p:cond delay="260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22" presetSubtype="1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4" dur="25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2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7" dur="25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10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3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3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2" dur="3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nodeType="withEffect" fill="hold" presetClass="path" presetID="42">
                                  <p:stCondLst>
                                    <p:cond delay="1700"/>
                                  </p:stCondLst>
                                  <p:childTnLst>
                                    <p:animMotion origin="layout" path="M -2.70833E-006 -1.48148E-006 L 0.02227 -0.01991 E">
                                      <p:cBhvr>
                                        <p:cTn id="334" dur="500" fill="hold"/>
                                        <p:tgtEl>
                                          <p:spTgt spid="1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5" nodeType="withEffect" fill="hold" presetClass="exit" presetID="22" presetSubtype="4">
                                  <p:stCondLst>
                                    <p:cond delay="190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336" dur="3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10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3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3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2" dur="3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path" presetID="42">
                                  <p:stCondLst>
                                    <p:cond delay="1800"/>
                                  </p:stCondLst>
                                  <p:childTnLst>
                                    <p:animMotion origin="layout" path="M -4.375E-006 1.11111E-006 L -0.00963 -0.03426 E">
                                      <p:cBhvr>
                                        <p:cTn id="344" dur="500" fill="hold"/>
                                        <p:tgtEl>
                                          <p:spTgt spid="1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5" nodeType="withEffect" fill="hold" presetClass="exit" presetID="22" presetSubtype="4">
                                  <p:stCondLst>
                                    <p:cond delay="200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346" dur="3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10">
                                  <p:stCondLst>
                                    <p:cond delay="190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3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3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2" dur="3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path" presetID="42">
                                  <p:stCondLst>
                                    <p:cond delay="1900"/>
                                  </p:stCondLst>
                                  <p:childTnLst>
                                    <p:animMotion origin="layout" path="M 8.33333E-007 4.07407E-006 L -0.02162 0.01828 E">
                                      <p:cBhvr>
                                        <p:cTn id="354" dur="500" fill="hold"/>
                                        <p:tgtEl>
                                          <p:spTgt spid="1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5" nodeType="withEffect" fill="hold" presetClass="exit" presetID="22" presetSubtype="4">
                                  <p:stCondLst>
                                    <p:cond delay="210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356" dur="3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10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3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3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2" dur="3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path" presetID="42">
                                  <p:stCondLst>
                                    <p:cond delay="1700"/>
                                  </p:stCondLst>
                                  <p:childTnLst>
                                    <p:animMotion origin="layout" path="M -4.375E-006 -2.96296E-006 L 0.01029 0.0375 E">
                                      <p:cBhvr>
                                        <p:cTn id="364" dur="500" fill="hold"/>
                                        <p:tgtEl>
                                          <p:spTgt spid="1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5" nodeType="withEffect" fill="hold" presetClass="exit" presetID="22" presetSubtype="4">
                                  <p:stCondLst>
                                    <p:cond delay="190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366" dur="3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10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3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3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2" dur="3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path" presetID="42">
                                  <p:stCondLst>
                                    <p:cond delay="1800"/>
                                  </p:stCondLst>
                                  <p:childTnLst>
                                    <p:animMotion origin="layout" path="M -4.58333E-006 -4.81481E-006 L -0.00546 0.0294 E">
                                      <p:cBhvr>
                                        <p:cTn id="374" dur="500" fill="hold"/>
                                        <p:tgtEl>
                                          <p:spTgt spid="1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75" nodeType="withEffect" fill="hold" presetClass="exit" presetID="22" presetSubtype="4">
                                  <p:stCondLst>
                                    <p:cond delay="200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376" dur="3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10">
                                  <p:stCondLst>
                                    <p:cond delay="190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3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3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2" dur="3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nodeType="withEffect" fill="hold" presetClass="path" presetID="42">
                                  <p:stCondLst>
                                    <p:cond delay="1900"/>
                                  </p:stCondLst>
                                  <p:childTnLst>
                                    <p:animMotion origin="layout" path="M 8.33333E-007 -2.22222E-006 L 0.0151 0.00949 E">
                                      <p:cBhvr>
                                        <p:cTn id="384" dur="500" fill="hold"/>
                                        <p:tgtEl>
                                          <p:spTgt spid="1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85" nodeType="withEffect" fill="hold" presetClass="exit" presetID="22" presetSubtype="4">
                                  <p:stCondLst>
                                    <p:cond delay="210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386" dur="3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10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3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3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2" dur="3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" nodeType="withEffect" fill="hold" presetClass="path" presetID="42">
                                  <p:stCondLst>
                                    <p:cond delay="1700"/>
                                  </p:stCondLst>
                                  <p:childTnLst>
                                    <p:animMotion origin="layout" path="M 4.375E-006 2.96296E-006 L 0.0052 -0.02894 E">
                                      <p:cBhvr>
                                        <p:cTn id="394" dur="500" fill="hold"/>
                                        <p:tgtEl>
                                          <p:spTgt spid="1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95" nodeType="withEffect" fill="hold" presetClass="exit" presetID="22" presetSubtype="4">
                                  <p:stCondLst>
                                    <p:cond delay="190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396" dur="3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10">
                                  <p:stCondLst>
                                    <p:cond delay="190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2" dur="3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" nodeType="withEffect" fill="hold" presetClass="path" presetID="42">
                                  <p:stCondLst>
                                    <p:cond delay="1900"/>
                                  </p:stCondLst>
                                  <p:childTnLst>
                                    <p:animMotion origin="layout" path="M -8.33333E-007 3.7037E-007 L -0.01562 -0.00949 E">
                                      <p:cBhvr>
                                        <p:cTn id="404" dur="500" fill="hold"/>
                                        <p:tgtEl>
                                          <p:spTgt spid="1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05" nodeType="withEffect" fill="hold" presetClass="exit" presetID="22" presetSubtype="4">
                                  <p:stCondLst>
                                    <p:cond delay="210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406" dur="3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8" nodeType="withEffect" fill="hold" presetClass="exit" presetID="22" presetSubtype="1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409" dur="15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1" nodeType="withEffect" fill="hold" presetClass="exit" presetID="22" presetSubtype="4">
                                  <p:stCondLst>
                                    <p:cond delay="260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412" dur="15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22" presetSubtype="1">
                                  <p:stCondLst>
                                    <p:cond delay="190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6" dur="25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22" presetSubtype="4">
                                  <p:stCondLst>
                                    <p:cond delay="210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9" dur="25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10">
                                  <p:stCondLst>
                                    <p:cond delay="210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3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3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4" dur="3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path" presetID="42">
                                  <p:stCondLst>
                                    <p:cond delay="2100"/>
                                  </p:stCondLst>
                                  <p:childTnLst>
                                    <p:animMotion origin="layout" path="M 2.29167E-006 3.7037E-006 L 0.02226 -0.01991 E">
                                      <p:cBhvr>
                                        <p:cTn id="426" dur="500" fill="hold"/>
                                        <p:tgtEl>
                                          <p:spTgt spid="1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27" nodeType="withEffect" fill="hold" presetClass="exit" presetID="22" presetSubtype="4">
                                  <p:stCondLst>
                                    <p:cond delay="210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428" dur="3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10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3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3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4" dur="3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5" nodeType="withEffect" fill="hold" presetClass="path" presetID="42">
                                  <p:stCondLst>
                                    <p:cond delay="2200"/>
                                  </p:stCondLst>
                                  <p:childTnLst>
                                    <p:animMotion origin="layout" path="M 6.25E-007 -3.7037E-006 L -0.00964 -0.03426 E">
                                      <p:cBhvr>
                                        <p:cTn id="436" dur="5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7" nodeType="withEffect" fill="hold" presetClass="exit" presetID="22" presetSubtype="4">
                                  <p:stCondLst>
                                    <p:cond delay="240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438" dur="3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10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3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3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4" dur="3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42">
                                  <p:stCondLst>
                                    <p:cond delay="2200"/>
                                  </p:stCondLst>
                                  <p:childTnLst>
                                    <p:animMotion origin="layout" path="M -4.16667E-006 -7.40741E-007 L -0.02161 0.01829 E">
                                      <p:cBhvr>
                                        <p:cTn id="446" dur="500" fill="hold"/>
                                        <p:tgtEl>
                                          <p:spTgt spid="1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xit" presetID="22" presetSubtype="4">
                                  <p:stCondLst>
                                    <p:cond delay="240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448" dur="3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10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3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3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4" dur="3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" nodeType="withEffect" fill="hold" presetClass="path" presetID="42">
                                  <p:stCondLst>
                                    <p:cond delay="2300"/>
                                  </p:stCondLst>
                                  <p:childTnLst>
                                    <p:animMotion origin="layout" path="M 6.25E-007 2.22222E-006 L 0.01029 0.0375 E">
                                      <p:cBhvr>
                                        <p:cTn id="456" dur="500" fill="hold"/>
                                        <p:tgtEl>
                                          <p:spTgt spid="1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57" nodeType="withEffect" fill="hold" presetClass="exit" presetID="22" presetSubtype="4">
                                  <p:stCondLst>
                                    <p:cond delay="250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458" dur="3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10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3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3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4" dur="3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5" nodeType="withEffect" fill="hold" presetClass="path" presetID="42">
                                  <p:stCondLst>
                                    <p:cond delay="2200"/>
                                  </p:stCondLst>
                                  <p:childTnLst>
                                    <p:animMotion origin="layout" path="M 4.16667E-007 3.7037E-007 L -0.00547 0.0294 E">
                                      <p:cBhvr>
                                        <p:cTn id="466" dur="500" fill="hold"/>
                                        <p:tgtEl>
                                          <p:spTgt spid="1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67" nodeType="withEffect" fill="hold" presetClass="exit" presetID="22" presetSubtype="4">
                                  <p:stCondLst>
                                    <p:cond delay="240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468" dur="3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10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3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3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4" dur="3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5" nodeType="withEffect" fill="hold" presetClass="path" presetID="42">
                                  <p:stCondLst>
                                    <p:cond delay="2200"/>
                                  </p:stCondLst>
                                  <p:childTnLst>
                                    <p:animMotion origin="layout" path="M -4.16667E-006 2.96296E-006 L 0.01511 0.00949 E">
                                      <p:cBhvr>
                                        <p:cTn id="476" dur="500" fill="hold"/>
                                        <p:tgtEl>
                                          <p:spTgt spid="1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77" nodeType="withEffect" fill="hold" presetClass="exit" presetID="22" presetSubtype="4">
                                  <p:stCondLst>
                                    <p:cond delay="240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478" dur="3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10">
                                  <p:stCondLst>
                                    <p:cond delay="210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3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3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4" dur="3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5" nodeType="withEffect" fill="hold" presetClass="path" presetID="42">
                                  <p:stCondLst>
                                    <p:cond delay="2100"/>
                                  </p:stCondLst>
                                  <p:childTnLst>
                                    <p:animMotion origin="layout" path="M -6.25E-007 -1.85185E-006 L 0.00521 -0.02893 E">
                                      <p:cBhvr>
                                        <p:cTn id="486" dur="500" fill="hold"/>
                                        <p:tgtEl>
                                          <p:spTgt spid="1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87" nodeType="withEffect" fill="hold" presetClass="exit" presetID="22" presetSubtype="4">
                                  <p:stCondLst>
                                    <p:cond delay="230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488" dur="3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10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3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3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4" dur="3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5" nodeType="withEffect" fill="hold" presetClass="path" presetID="42">
                                  <p:stCondLst>
                                    <p:cond delay="2300"/>
                                  </p:stCondLst>
                                  <p:childTnLst>
                                    <p:animMotion origin="layout" path="M 4.16667E-006 -4.44444E-006 L -0.01563 -0.00949 E">
                                      <p:cBhvr>
                                        <p:cTn id="496" dur="500" fill="hold"/>
                                        <p:tgtEl>
                                          <p:spTgt spid="1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7" nodeType="withEffect" fill="hold" presetClass="exit" presetID="22" presetSubtype="4">
                                  <p:stCondLst>
                                    <p:cond delay="250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498" dur="3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0" nodeType="withEffect" fill="hold" presetClass="exit" presetID="22" presetSubtype="1">
                                  <p:stCondLst>
                                    <p:cond delay="270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501" dur="15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3" nodeType="withEffect" fill="hold" presetClass="exit" presetID="22" presetSubtype="4">
                                  <p:stCondLst>
                                    <p:cond delay="280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504" dur="15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22" presetSubtype="1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8" dur="25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22" presetSubtype="4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1" dur="25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10">
                                  <p:stCondLst>
                                    <p:cond delay="270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3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3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6" dur="3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7" nodeType="withEffect" fill="hold" presetClass="path" presetID="42">
                                  <p:stCondLst>
                                    <p:cond delay="2700"/>
                                  </p:stCondLst>
                                  <p:childTnLst>
                                    <p:animMotion origin="layout" path="M 3.95833E-006 -3.7037E-007 L 0.02226 -0.01991 E">
                                      <p:cBhvr>
                                        <p:cTn id="518" dur="500" fill="hold"/>
                                        <p:tgtEl>
                                          <p:spTgt spid="1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19" nodeType="withEffect" fill="hold" presetClass="exit" presetID="22" presetSubtype="4">
                                  <p:stCondLst>
                                    <p:cond delay="290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520" dur="3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280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3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3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6" dur="3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7" nodeType="withEffect" fill="hold" presetClass="path" presetID="42">
                                  <p:stCondLst>
                                    <p:cond delay="2800"/>
                                  </p:stCondLst>
                                  <p:childTnLst>
                                    <p:animMotion origin="layout" path="M 2.29167E-006 2.22222E-006 L -0.00964 -0.03426 E">
                                      <p:cBhvr>
                                        <p:cTn id="528" dur="500" fill="hold"/>
                                        <p:tgtEl>
                                          <p:spTgt spid="1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29" nodeType="withEffect" fill="hold" presetClass="exit" presetID="22" presetSubtype="4">
                                  <p:stCondLst>
                                    <p:cond delay="300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530" dur="3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2" nodeType="withEffect" fill="hold" presetClass="entr" presetID="10">
                                  <p:stCondLst>
                                    <p:cond delay="290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4" dur="3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3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6" dur="3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path" presetID="42">
                                  <p:stCondLst>
                                    <p:cond delay="2900"/>
                                  </p:stCondLst>
                                  <p:childTnLst>
                                    <p:animMotion origin="layout" path="M -2.5E-006 -3.33333E-006 L -0.02161 0.01829 E">
                                      <p:cBhvr>
                                        <p:cTn id="538" dur="500" fill="hold"/>
                                        <p:tgtEl>
                                          <p:spTgt spid="1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39" nodeType="withEffect" fill="hold" presetClass="exit" presetID="22" presetSubtype="4">
                                  <p:stCondLst>
                                    <p:cond delay="310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540" dur="3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2" nodeType="withEffect" fill="hold" presetClass="entr" presetID="10">
                                  <p:stCondLst>
                                    <p:cond delay="280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4" dur="3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3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6" dur="3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7" nodeType="withEffect" fill="hold" presetClass="path" presetID="42">
                                  <p:stCondLst>
                                    <p:cond delay="2800"/>
                                  </p:stCondLst>
                                  <p:childTnLst>
                                    <p:animMotion origin="layout" path="M 2.29167E-006 -3.7037E-007 L 0.01028 0.0375 E">
                                      <p:cBhvr>
                                        <p:cTn id="548" dur="500" fill="hold"/>
                                        <p:tgtEl>
                                          <p:spTgt spid="1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49" nodeType="withEffect" fill="hold" presetClass="exit" presetID="22" presetSubtype="4">
                                  <p:stCondLst>
                                    <p:cond delay="300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550" dur="3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270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4" dur="3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3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6" dur="3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7" nodeType="withEffect" fill="hold" presetClass="path" presetID="42">
                                  <p:stCondLst>
                                    <p:cond delay="2700"/>
                                  </p:stCondLst>
                                  <p:childTnLst>
                                    <p:animMotion origin="layout" path="M 2.08333E-006 -2.22222E-006 L -0.00547 0.0294 E">
                                      <p:cBhvr>
                                        <p:cTn id="558" dur="500" fill="hold"/>
                                        <p:tgtEl>
                                          <p:spTgt spid="1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59" nodeType="withEffect" fill="hold" presetClass="exit" presetID="22" presetSubtype="4">
                                  <p:stCondLst>
                                    <p:cond delay="290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560" dur="3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10">
                                  <p:stCondLst>
                                    <p:cond delay="280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4" dur="3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3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6" dur="3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7" nodeType="withEffect" fill="hold" presetClass="path" presetID="42">
                                  <p:stCondLst>
                                    <p:cond delay="2800"/>
                                  </p:stCondLst>
                                  <p:childTnLst>
                                    <p:animMotion origin="layout" path="M -2.5E-006 -1.11111E-006 L 0.01511 0.00949 E">
                                      <p:cBhvr>
                                        <p:cTn id="568" dur="500" fill="hold"/>
                                        <p:tgtEl>
                                          <p:spTgt spid="1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69" nodeType="withEffect" fill="hold" presetClass="exit" presetID="22" presetSubtype="4">
                                  <p:stCondLst>
                                    <p:cond delay="300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570" dur="3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290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4" dur="3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3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6" dur="3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7" nodeType="withEffect" fill="hold" presetClass="path" presetID="42">
                                  <p:stCondLst>
                                    <p:cond delay="2900"/>
                                  </p:stCondLst>
                                  <p:childTnLst>
                                    <p:animMotion origin="layout" path="M 1.04167E-006 4.07407E-006 L 0.00521 -0.02894 E">
                                      <p:cBhvr>
                                        <p:cTn id="578" dur="500" fill="hold"/>
                                        <p:tgtEl>
                                          <p:spTgt spid="1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79" nodeType="withEffect" fill="hold" presetClass="exit" presetID="22" presetSubtype="4">
                                  <p:stCondLst>
                                    <p:cond delay="310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580" dur="3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2" nodeType="withEffect" fill="hold" presetClass="entr" presetID="10">
                                  <p:stCondLst>
                                    <p:cond delay="280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4" dur="3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3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6" dur="3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7" nodeType="withEffect" fill="hold" presetClass="path" presetID="42">
                                  <p:stCondLst>
                                    <p:cond delay="2800"/>
                                  </p:stCondLst>
                                  <p:childTnLst>
                                    <p:animMotion origin="layout" path="M -4.16667E-006 2.96296E-006 L -0.01562 -0.00949 E">
                                      <p:cBhvr>
                                        <p:cTn id="588" dur="500" fill="hold"/>
                                        <p:tgtEl>
                                          <p:spTgt spid="1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89" nodeType="withEffect" fill="hold" presetClass="exit" presetID="22" presetSubtype="4">
                                  <p:stCondLst>
                                    <p:cond delay="300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590" dur="3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2" nodeType="withEffect" fill="hold" presetClass="exit" presetID="22" presetSubtype="1">
                                  <p:stCondLst>
                                    <p:cond delay="330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593" dur="15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xit" presetID="22" presetSubtype="4">
                                  <p:stCondLst>
                                    <p:cond delay="340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596" dur="15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8" nodeType="withEffect" fill="hold" presetClass="entr" presetID="2" presetSubtype="12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2" nodeType="withEffect" fill="hold" presetClass="entr" presetID="2" presetSubtype="3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4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5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6" nodeType="withEffect" fill="hold" presetClass="entr" presetID="2" presetSubtype="12">
                                  <p:stCondLst>
                                    <p:cond delay="260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0" nodeType="withEffect" fill="hold" presetClass="entr" presetID="2" presetSubtype="3">
                                  <p:stCondLst>
                                    <p:cond delay="260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2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3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4" nodeType="withEffect" fill="hold" presetClass="entr" presetID="2" presetSubtype="12">
                                  <p:stCondLst>
                                    <p:cond delay="290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6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7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8" nodeType="withEffect" fill="hold" presetClass="entr" presetID="2" presetSubtype="3">
                                  <p:stCondLst>
                                    <p:cond delay="290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2" nodeType="withEffect" fill="hold" presetClass="entr" presetID="2" presetSubtype="3">
                                  <p:stCondLst>
                                    <p:cond delay="320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4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5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6" nodeType="withEffect" fill="hold" presetClass="entr" presetID="2" presetSubtype="12">
                                  <p:stCondLst>
                                    <p:cond delay="320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8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9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0" nodeType="withEffect" fill="hold" presetClass="entr" presetID="2" presetSubtype="12">
                                  <p:stCondLst>
                                    <p:cond delay="360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4" nodeType="withEffect" fill="hold" presetClass="entr" presetID="2" presetSubtype="3">
                                  <p:stCondLst>
                                    <p:cond delay="360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6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7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8" nodeType="withEffect" fill="hold" presetClass="entr" presetID="2" presetSubtype="12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0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1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2" nodeType="withEffect" fill="hold" presetClass="entr" presetID="2" presetSubtype="3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文本框 191"/>
          <p:cNvSpPr/>
          <p:nvPr/>
        </p:nvSpPr>
        <p:spPr>
          <a:xfrm>
            <a:off x="3265560" y="350352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张海山锐谐体"/>
                <a:ea typeface="张海山锐谐体"/>
              </a:rPr>
              <a:t>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文本框 192"/>
          <p:cNvSpPr/>
          <p:nvPr/>
        </p:nvSpPr>
        <p:spPr>
          <a:xfrm>
            <a:off x="3843360" y="350352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张海山锐谐体"/>
                <a:ea typeface="张海山锐谐体"/>
              </a:rPr>
              <a:t>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文本框 193"/>
          <p:cNvSpPr/>
          <p:nvPr/>
        </p:nvSpPr>
        <p:spPr>
          <a:xfrm>
            <a:off x="4421160" y="350352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张海山锐谐体"/>
                <a:ea typeface="张海山锐谐体"/>
              </a:rPr>
              <a:t>此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文本框 194"/>
          <p:cNvSpPr/>
          <p:nvPr/>
        </p:nvSpPr>
        <p:spPr>
          <a:xfrm>
            <a:off x="4997520" y="350352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张海山锐谐体"/>
                <a:ea typeface="张海山锐谐体"/>
              </a:rPr>
              <a:t>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文本框 195"/>
          <p:cNvSpPr/>
          <p:nvPr/>
        </p:nvSpPr>
        <p:spPr>
          <a:xfrm>
            <a:off x="5575320" y="350352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张海山锐谐体"/>
                <a:ea typeface="张海山锐谐体"/>
              </a:rPr>
              <a:t>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文本框 196"/>
          <p:cNvSpPr/>
          <p:nvPr/>
        </p:nvSpPr>
        <p:spPr>
          <a:xfrm>
            <a:off x="7885440" y="350352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张海山锐谐体"/>
                <a:ea typeface="张海山锐谐体"/>
              </a:rPr>
              <a:t>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文本框 197"/>
          <p:cNvSpPr/>
          <p:nvPr/>
        </p:nvSpPr>
        <p:spPr>
          <a:xfrm>
            <a:off x="8463240" y="350352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张海山锐谐体"/>
                <a:ea typeface="张海山锐谐体"/>
              </a:rPr>
              <a:t>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文本框 198"/>
          <p:cNvSpPr/>
          <p:nvPr/>
        </p:nvSpPr>
        <p:spPr>
          <a:xfrm>
            <a:off x="6153480" y="350352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张海山锐谐体"/>
                <a:ea typeface="张海山锐谐体"/>
              </a:rPr>
              <a:t>增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文本框 199"/>
          <p:cNvSpPr/>
          <p:nvPr/>
        </p:nvSpPr>
        <p:spPr>
          <a:xfrm>
            <a:off x="6730200" y="350352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张海山锐谐体"/>
                <a:ea typeface="张海山锐谐体"/>
              </a:rPr>
              <a:t>填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文本框 200"/>
          <p:cNvSpPr/>
          <p:nvPr/>
        </p:nvSpPr>
        <p:spPr>
          <a:xfrm>
            <a:off x="7307280" y="350352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张海山锐谐体"/>
                <a:ea typeface="张海山锐谐体"/>
              </a:rPr>
              <a:t>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矩形 213"/>
          <p:cNvSpPr/>
          <p:nvPr/>
        </p:nvSpPr>
        <p:spPr>
          <a:xfrm>
            <a:off x="3208320" y="2730600"/>
            <a:ext cx="5788080" cy="6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文本框 183"/>
          <p:cNvSpPr/>
          <p:nvPr/>
        </p:nvSpPr>
        <p:spPr>
          <a:xfrm>
            <a:off x="3944160" y="269388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张海山锐谐体"/>
                <a:ea typeface="张海山锐谐体"/>
              </a:rPr>
              <a:t>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文本框 184"/>
          <p:cNvSpPr/>
          <p:nvPr/>
        </p:nvSpPr>
        <p:spPr>
          <a:xfrm>
            <a:off x="4587120" y="269388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张海山锐谐体"/>
                <a:ea typeface="张海山锐谐体"/>
              </a:rPr>
              <a:t>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文本框 185"/>
          <p:cNvSpPr/>
          <p:nvPr/>
        </p:nvSpPr>
        <p:spPr>
          <a:xfrm>
            <a:off x="5230800" y="269388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张海山锐谐体"/>
                <a:ea typeface="张海山锐谐体"/>
              </a:rPr>
              <a:t>此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文本框 186"/>
          <p:cNvSpPr/>
          <p:nvPr/>
        </p:nvSpPr>
        <p:spPr>
          <a:xfrm>
            <a:off x="5874480" y="269388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张海山锐谐体"/>
                <a:ea typeface="张海山锐谐体"/>
              </a:rPr>
              <a:t>输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文本框 187"/>
          <p:cNvSpPr/>
          <p:nvPr/>
        </p:nvSpPr>
        <p:spPr>
          <a:xfrm>
            <a:off x="6517440" y="269388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张海山锐谐体"/>
                <a:ea typeface="张海山锐谐体"/>
              </a:rPr>
              <a:t>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文本框 188"/>
          <p:cNvSpPr/>
          <p:nvPr/>
        </p:nvSpPr>
        <p:spPr>
          <a:xfrm>
            <a:off x="7161120" y="269388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张海山锐谐体"/>
                <a:ea typeface="张海山锐谐体"/>
              </a:rPr>
              <a:t>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文本框 189"/>
          <p:cNvSpPr/>
          <p:nvPr/>
        </p:nvSpPr>
        <p:spPr>
          <a:xfrm>
            <a:off x="7804800" y="269388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张海山锐谐体"/>
                <a:ea typeface="张海山锐谐体"/>
              </a:rPr>
              <a:t>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1" name="矩形 3"/>
          <p:cNvGrpSpPr/>
          <p:nvPr/>
        </p:nvGrpSpPr>
        <p:grpSpPr>
          <a:xfrm>
            <a:off x="14551200" y="-10113840"/>
            <a:ext cx="12204360" cy="6870600"/>
            <a:chOff x="14551200" y="-10113840"/>
            <a:chExt cx="12204360" cy="6870600"/>
          </a:xfrm>
        </p:grpSpPr>
        <p:pic>
          <p:nvPicPr>
            <p:cNvPr id="172" name="矩形 3" descr=""/>
            <p:cNvPicPr/>
            <p:nvPr/>
          </p:nvPicPr>
          <p:blipFill>
            <a:blip r:embed="rId2"/>
            <a:stretch/>
          </p:blipFill>
          <p:spPr>
            <a:xfrm>
              <a:off x="14551200" y="-10113840"/>
              <a:ext cx="12204360" cy="687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3" name=""/>
            <p:cNvSpPr/>
            <p:nvPr/>
          </p:nvSpPr>
          <p:spPr>
            <a:xfrm>
              <a:off x="14554080" y="-10104480"/>
              <a:ext cx="121914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4" name="组合 4" descr=""/>
          <p:cNvPicPr/>
          <p:nvPr/>
        </p:nvPicPr>
        <p:blipFill>
          <a:blip r:embed="rId3"/>
          <a:stretch/>
        </p:blipFill>
        <p:spPr>
          <a:xfrm>
            <a:off x="360360" y="-2554200"/>
            <a:ext cx="10966320" cy="11764800"/>
          </a:xfrm>
          <a:prstGeom prst="rect">
            <a:avLst/>
          </a:prstGeom>
          <a:ln w="0">
            <a:noFill/>
          </a:ln>
        </p:spPr>
      </p:pic>
      <p:sp>
        <p:nvSpPr>
          <p:cNvPr id="175" name="直接连接符 190"/>
          <p:cNvSpPr/>
          <p:nvPr/>
        </p:nvSpPr>
        <p:spPr>
          <a:xfrm>
            <a:off x="3784680" y="3429000"/>
            <a:ext cx="4622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矩形 201"/>
          <p:cNvSpPr/>
          <p:nvPr/>
        </p:nvSpPr>
        <p:spPr>
          <a:xfrm rot="19449600">
            <a:off x="7197480" y="-11409120"/>
            <a:ext cx="17440200" cy="14986080"/>
          </a:xfrm>
          <a:prstGeom prst="rect">
            <a:avLst/>
          </a:prstGeom>
          <a:solidFill>
            <a:srgbClr val="e9ac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矩形 202"/>
          <p:cNvSpPr/>
          <p:nvPr/>
        </p:nvSpPr>
        <p:spPr>
          <a:xfrm rot="19449600">
            <a:off x="-11893320" y="2823840"/>
            <a:ext cx="16689600" cy="14986080"/>
          </a:xfrm>
          <a:prstGeom prst="rect">
            <a:avLst/>
          </a:prstGeom>
          <a:solidFill>
            <a:srgbClr val="e9ac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图片 217" descr=""/>
          <p:cNvPicPr/>
          <p:nvPr/>
        </p:nvPicPr>
        <p:blipFill>
          <a:blip r:embed="rId4"/>
          <a:srcRect l="49981" t="0" r="0" b="0"/>
          <a:stretch/>
        </p:blipFill>
        <p:spPr>
          <a:xfrm rot="19444800">
            <a:off x="8435520" y="-11010960"/>
            <a:ext cx="13559040" cy="15258960"/>
          </a:xfrm>
          <a:prstGeom prst="rect">
            <a:avLst/>
          </a:prstGeom>
          <a:ln w="0">
            <a:noFill/>
          </a:ln>
        </p:spPr>
      </p:pic>
      <p:pic>
        <p:nvPicPr>
          <p:cNvPr id="179" name="图片 218" descr=""/>
          <p:cNvPicPr/>
          <p:nvPr/>
        </p:nvPicPr>
        <p:blipFill>
          <a:blip r:embed="rId5"/>
          <a:srcRect l="0" t="0" r="50187" b="0"/>
          <a:stretch/>
        </p:blipFill>
        <p:spPr>
          <a:xfrm rot="19444800">
            <a:off x="-9720000" y="2392200"/>
            <a:ext cx="13503240" cy="15259320"/>
          </a:xfrm>
          <a:prstGeom prst="rect">
            <a:avLst/>
          </a:prstGeom>
          <a:ln w="0">
            <a:noFill/>
          </a:ln>
        </p:spPr>
      </p:pic>
      <p:sp>
        <p:nvSpPr>
          <p:cNvPr id="180" name="矩形 203"/>
          <p:cNvSpPr/>
          <p:nvPr/>
        </p:nvSpPr>
        <p:spPr>
          <a:xfrm rot="19449600">
            <a:off x="8008560" y="-11998080"/>
            <a:ext cx="17440200" cy="14986080"/>
          </a:xfrm>
          <a:prstGeom prst="rect">
            <a:avLst/>
          </a:prstGeom>
          <a:solidFill>
            <a:srgbClr val="80b0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矩形 204"/>
          <p:cNvSpPr/>
          <p:nvPr/>
        </p:nvSpPr>
        <p:spPr>
          <a:xfrm rot="19449600">
            <a:off x="-12641040" y="3408120"/>
            <a:ext cx="16689600" cy="14985720"/>
          </a:xfrm>
          <a:prstGeom prst="rect">
            <a:avLst/>
          </a:prstGeom>
          <a:solidFill>
            <a:srgbClr val="80b0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矩形 205"/>
          <p:cNvSpPr/>
          <p:nvPr/>
        </p:nvSpPr>
        <p:spPr>
          <a:xfrm rot="19449600">
            <a:off x="8838720" y="-12564720"/>
            <a:ext cx="17440560" cy="14987520"/>
          </a:xfrm>
          <a:prstGeom prst="rect">
            <a:avLst/>
          </a:prstGeom>
          <a:solidFill>
            <a:srgbClr val="de4d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矩形 206"/>
          <p:cNvSpPr/>
          <p:nvPr/>
        </p:nvSpPr>
        <p:spPr>
          <a:xfrm rot="19449600">
            <a:off x="-13438080" y="3983040"/>
            <a:ext cx="16687800" cy="14987520"/>
          </a:xfrm>
          <a:prstGeom prst="rect">
            <a:avLst/>
          </a:prstGeom>
          <a:solidFill>
            <a:srgbClr val="de4d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图片 215" descr=""/>
          <p:cNvPicPr/>
          <p:nvPr/>
        </p:nvPicPr>
        <p:blipFill>
          <a:blip r:embed="rId6"/>
          <a:srcRect l="49981" t="0" r="0" b="0"/>
          <a:stretch/>
        </p:blipFill>
        <p:spPr>
          <a:xfrm rot="19444800">
            <a:off x="10005480" y="-12115440"/>
            <a:ext cx="13560480" cy="15260760"/>
          </a:xfrm>
          <a:prstGeom prst="rect">
            <a:avLst/>
          </a:prstGeom>
          <a:ln w="0">
            <a:noFill/>
          </a:ln>
        </p:spPr>
      </p:pic>
      <p:pic>
        <p:nvPicPr>
          <p:cNvPr id="185" name="图片 216" descr=""/>
          <p:cNvPicPr/>
          <p:nvPr/>
        </p:nvPicPr>
        <p:blipFill>
          <a:blip r:embed="rId7"/>
          <a:srcRect l="0" t="0" r="50187" b="0"/>
          <a:stretch/>
        </p:blipFill>
        <p:spPr>
          <a:xfrm rot="19444800">
            <a:off x="-11439000" y="3484440"/>
            <a:ext cx="13503240" cy="15259320"/>
          </a:xfrm>
          <a:prstGeom prst="rect">
            <a:avLst/>
          </a:prstGeom>
          <a:ln w="0">
            <a:noFill/>
          </a:ln>
        </p:spPr>
      </p:pic>
      <p:sp>
        <p:nvSpPr>
          <p:cNvPr id="186" name="矩形 207"/>
          <p:cNvSpPr/>
          <p:nvPr/>
        </p:nvSpPr>
        <p:spPr>
          <a:xfrm rot="19449600">
            <a:off x="9629280" y="-13127040"/>
            <a:ext cx="17440560" cy="14986080"/>
          </a:xfrm>
          <a:prstGeom prst="rect">
            <a:avLst/>
          </a:prstGeom>
          <a:solidFill>
            <a:srgbClr val="e8e4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矩形 208"/>
          <p:cNvSpPr/>
          <p:nvPr/>
        </p:nvSpPr>
        <p:spPr>
          <a:xfrm rot="19449600">
            <a:off x="-14215680" y="4557600"/>
            <a:ext cx="16687800" cy="14987880"/>
          </a:xfrm>
          <a:prstGeom prst="rect">
            <a:avLst/>
          </a:prstGeom>
          <a:solidFill>
            <a:srgbClr val="e8e4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矩形 209"/>
          <p:cNvSpPr/>
          <p:nvPr/>
        </p:nvSpPr>
        <p:spPr>
          <a:xfrm rot="19449600">
            <a:off x="10473840" y="-13741560"/>
            <a:ext cx="17440560" cy="14986080"/>
          </a:xfrm>
          <a:prstGeom prst="rect">
            <a:avLst/>
          </a:prstGeom>
          <a:solidFill>
            <a:srgbClr val="3e2d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矩形 210"/>
          <p:cNvSpPr/>
          <p:nvPr/>
        </p:nvSpPr>
        <p:spPr>
          <a:xfrm rot="19449600">
            <a:off x="-15087600" y="5129280"/>
            <a:ext cx="16687800" cy="14987520"/>
          </a:xfrm>
          <a:prstGeom prst="rect">
            <a:avLst/>
          </a:prstGeom>
          <a:solidFill>
            <a:srgbClr val="3e2d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图片 211" descr=""/>
          <p:cNvPicPr/>
          <p:nvPr/>
        </p:nvPicPr>
        <p:blipFill>
          <a:blip r:embed="rId8"/>
          <a:srcRect l="49981" t="0" r="0" b="0"/>
          <a:stretch/>
        </p:blipFill>
        <p:spPr>
          <a:xfrm rot="19444800">
            <a:off x="11598120" y="-13268160"/>
            <a:ext cx="13560480" cy="15258960"/>
          </a:xfrm>
          <a:prstGeom prst="rect">
            <a:avLst/>
          </a:prstGeom>
          <a:ln w="0">
            <a:noFill/>
          </a:ln>
        </p:spPr>
      </p:pic>
      <p:pic>
        <p:nvPicPr>
          <p:cNvPr id="191" name="图片 212" descr=""/>
          <p:cNvPicPr/>
          <p:nvPr/>
        </p:nvPicPr>
        <p:blipFill>
          <a:blip r:embed="rId9"/>
          <a:srcRect l="0" t="0" r="50187" b="0"/>
          <a:stretch/>
        </p:blipFill>
        <p:spPr>
          <a:xfrm rot="19444800">
            <a:off x="-13048920" y="4524480"/>
            <a:ext cx="13503240" cy="15258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6" dur="indefinite" restart="never" nodeType="tmRoot">
          <p:childTnLst>
            <p:seq>
              <p:cTn id="647" dur="indefinite" nodeType="mainSeq">
                <p:childTnLst>
                  <p:par>
                    <p:cTn id="648" fill="hold">
                      <p:stCondLst>
                        <p:cond delay="0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3600000">
                                      <p:cBhvr>
                                        <p:cTn id="651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52" autoRev="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53" dur="150" fill="hold"/>
                                        <p:tgtEl>
                                          <p:spTgt spid="164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65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26 -0.00092 L 0.00234 0.03287 C 0.00039 -0.000230000000000001 -0.00508 -0.03541 -0.00833 -0.06574 C -0.00326 -0.02314 0.00117 0.01366 0.00443 0.06042 E">
                                      <p:cBhvr>
                                        <p:cTn id="655" dur="500" fill="hold"/>
                                        <p:tgtEl>
                                          <p:spTgt spid="1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56" nodeType="withEffect" fill="hold" presetClass="exit" presetID="23" presetSubtype="32">
                                  <p:stCondLst>
                                    <p:cond delay="3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57" dur="20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20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0" autoRev="1" nodeType="withEffect" fill="hold" presetClass="emph" presetID="6">
                                  <p:stCondLst>
                                    <p:cond delay="100"/>
                                  </p:stCondLst>
                                  <p:childTnLst>
                                    <p:animScale>
                                      <p:cBhvr>
                                        <p:cTn id="661" dur="150" fill="hold"/>
                                        <p:tgtEl>
                                          <p:spTgt spid="165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662" nodeType="withEffect" fill="hold" presetClass="path" presetID="0">
                                  <p:stCondLst>
                                    <p:cond delay="100"/>
                                  </p:stCondLst>
                                  <p:childTnLst>
                                    <p:animMotion origin="layout" path="M -0.00026 -0.00092 L 0.00234 0.03287 C 0.00039 -0.000230000000000001 -0.00508 -0.03541 -0.00833 -0.06574 C -0.00326 -0.02314 0.00117 0.01366 0.00443 0.06042 E">
                                      <p:cBhvr>
                                        <p:cTn id="663" dur="500" fill="hold"/>
                                        <p:tgtEl>
                                          <p:spTgt spid="1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64" nodeType="withEffect" fill="hold" presetClass="exit" presetID="23" presetSubtype="32">
                                  <p:stCondLst>
                                    <p:cond delay="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65" dur="20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20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8" autoRev="1" nodeType="withEffect" fill="hold" presetClass="emph" presetID="6">
                                  <p:stCondLst>
                                    <p:cond delay="200"/>
                                  </p:stCondLst>
                                  <p:childTnLst>
                                    <p:animScale>
                                      <p:cBhvr>
                                        <p:cTn id="669" dur="150" fill="hold"/>
                                        <p:tgtEl>
                                          <p:spTgt spid="166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670" nodeType="withEffect" fill="hold" presetClass="path" presetID="0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-0.00026 -0.00092 L 0.00234 0.03287 C 0.00039 -0.000230000000000001 -0.00508 -0.03541 -0.00833 -0.06574 C -0.00326 -0.02314 0.00117 0.01366 0.00443 0.06042 E">
                                      <p:cBhvr>
                                        <p:cTn id="671" dur="500" fill="hold"/>
                                        <p:tgtEl>
                                          <p:spTgt spid="1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72" nodeType="withEffect" fill="hold" presetClass="exit" presetID="23" presetSubtype="32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73" dur="20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20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6" autoRev="1" nodeType="withEffect" fill="hold" presetClass="emph" presetID="6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677" dur="150" fill="hold"/>
                                        <p:tgtEl>
                                          <p:spTgt spid="167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678" nodeType="withEffect" fill="hold" presetClass="path" presetID="0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-0.00026 -0.00092 L 0.00234 0.03287 C 0.00039 -0.000230000000000001 -0.00508 -0.03541 -0.00833 -0.06574 C -0.00326 -0.02314 0.00117 0.01366 0.00443 0.06042 E">
                                      <p:cBhvr>
                                        <p:cTn id="679" dur="500" fill="hold"/>
                                        <p:tgtEl>
                                          <p:spTgt spid="1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80" nodeType="withEffect" fill="hold" presetClass="exit" presetID="23" presetSubtype="32">
                                  <p:stCondLst>
                                    <p:cond delay="6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81" dur="20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20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4" autoRev="1" nodeType="withEffect" fill="hold" presetClass="emph" presetID="6">
                                  <p:stCondLst>
                                    <p:cond delay="600"/>
                                  </p:stCondLst>
                                  <p:childTnLst>
                                    <p:animScale>
                                      <p:cBhvr>
                                        <p:cTn id="685" dur="150" fill="hold"/>
                                        <p:tgtEl>
                                          <p:spTgt spid="168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686" nodeType="withEffect" fill="hold" presetClass="path" presetID="0">
                                  <p:stCondLst>
                                    <p:cond delay="400"/>
                                  </p:stCondLst>
                                  <p:childTnLst>
                                    <p:animMotion origin="layout" path="M -0.00026 -0.00092 L 0.00234 0.03287 C 0.00039 -0.000230000000000001 -0.00508 -0.03541 -0.00833 -0.06574 C -0.00326 -0.02314 0.00117 0.01366 0.00443 0.06042 E">
                                      <p:cBhvr>
                                        <p:cTn id="687" dur="500" fill="hold"/>
                                        <p:tgtEl>
                                          <p:spTgt spid="1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88" nodeType="withEffect" fill="hold" presetClass="exit" presetID="23" presetSubtype="32">
                                  <p:stCondLst>
                                    <p:cond delay="7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89" dur="20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20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2" autoRev="1" nodeType="withEffect" fill="hold" presetClass="emph" presetID="6">
                                  <p:stCondLst>
                                    <p:cond delay="500"/>
                                  </p:stCondLst>
                                  <p:childTnLst>
                                    <p:animScale>
                                      <p:cBhvr>
                                        <p:cTn id="693" dur="150" fill="hold"/>
                                        <p:tgtEl>
                                          <p:spTgt spid="169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694" nodeType="with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0.00026 -0.00092 L 0.00234 0.03287 C 0.00039 -0.000230000000000001 -0.00508 -0.03541 -0.00833 -0.06574 C -0.00326 -0.02314 0.00117 0.01366 0.00443 0.06042 E">
                                      <p:cBhvr>
                                        <p:cTn id="695" dur="500" fill="hold"/>
                                        <p:tgtEl>
                                          <p:spTgt spid="1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96" nodeType="withEffect" fill="hold" presetClass="exit" presetID="23" presetSubtype="32">
                                  <p:stCondLst>
                                    <p:cond delay="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97" dur="20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20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0" autoRev="1" nodeType="withEffect" fill="hold" presetClass="emph" presetID="6">
                                  <p:stCondLst>
                                    <p:cond delay="600"/>
                                  </p:stCondLst>
                                  <p:childTnLst>
                                    <p:animScale>
                                      <p:cBhvr>
                                        <p:cTn id="701" dur="150" fill="hold"/>
                                        <p:tgtEl>
                                          <p:spTgt spid="170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702" nodeType="withEffect" fill="hold" presetClass="path" presetID="0">
                                  <p:stCondLst>
                                    <p:cond delay="600"/>
                                  </p:stCondLst>
                                  <p:childTnLst>
                                    <p:animMotion origin="layout" path="M -0.00026 -0.00092 L 0.00234 0.03287 C 0.00039 -0.000230000000000001 -0.00508 -0.03541 -0.00833 -0.06574 C -0.00326 -0.02314 0.00117 0.01366 0.00443 0.06042 E">
                                      <p:cBhvr>
                                        <p:cTn id="703" dur="500" fill="hold"/>
                                        <p:tgtEl>
                                          <p:spTgt spid="1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04" nodeType="withEffect" fill="hold" presetClass="exit" presetID="23" presetSubtype="32">
                                  <p:stCondLst>
                                    <p:cond delay="9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05" dur="20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20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8" autoRev="1" nodeType="withEffect" fill="hold" presetClass="emph" presetID="6">
                                  <p:stCondLst>
                                    <p:cond delay="200"/>
                                  </p:stCondLst>
                                  <p:childTnLst>
                                    <p:animScale>
                                      <p:cBhvr>
                                        <p:cTn id="709" dur="150" fill="hold"/>
                                        <p:tgtEl>
                                          <p:spTgt spid="153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710" nodeType="withEffect" fill="hold" presetClass="path" presetID="0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-0.00091 -0.00069 L 0.00377 -0.02963 C -0.00313 -0.00347 -0.00847 0.01968 -0.01289 0.05417 C -0.01524 0.01551 -0.00261 -0.04792 0.01562 -0.0625 E">
                                      <p:cBhvr>
                                        <p:cTn id="711" dur="500" fill="hold"/>
                                        <p:tgtEl>
                                          <p:spTgt spid="1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12" nodeType="withEffect" fill="hold" presetClass="exit" presetID="23" presetSubtype="32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13" dur="20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20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6" autoRev="1" nodeType="withEffect" fill="hold" presetClass="emph" presetID="6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717" dur="150" fill="hold"/>
                                        <p:tgtEl>
                                          <p:spTgt spid="154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718" nodeType="withEffect" fill="hold" presetClass="path" presetID="0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-0.00104 -0.00069 L 0.00365 -0.02986 C -0.00325 -0.00347 -0.00507 0.02037 -0.0095 0.05486 C -0.01184 0.0162 -0.00273 -0.04815 0.01563 -0.0625 E">
                                      <p:cBhvr>
                                        <p:cTn id="719" dur="500" fill="hold"/>
                                        <p:tgtEl>
                                          <p:spTgt spid="1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20" nodeType="withEffect" fill="hold" presetClass="exit" presetID="23" presetSubtype="32">
                                  <p:stCondLst>
                                    <p:cond delay="6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21" dur="20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20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4" autoRev="1" nodeType="withEffect" fill="hold" presetClass="emph" presetID="6">
                                  <p:stCondLst>
                                    <p:cond delay="400"/>
                                  </p:stCondLst>
                                  <p:childTnLst>
                                    <p:animScale>
                                      <p:cBhvr>
                                        <p:cTn id="725" dur="150" fill="hold"/>
                                        <p:tgtEl>
                                          <p:spTgt spid="155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726" nodeType="withEffect" fill="hold" presetClass="path" presetID="0">
                                  <p:stCondLst>
                                    <p:cond delay="400"/>
                                  </p:stCondLst>
                                  <p:childTnLst>
                                    <p:animMotion origin="layout" path="M -0.00091 -0.00069 L 0.00378 -0.02986 C -0.00312 -0.00347 -0.00378 0.0169 -0.0082 0.05139 C -0.01055 0.01273 -0.0026 -0.04815 0.01563 -0.0625 E">
                                      <p:cBhvr>
                                        <p:cTn id="727" dur="500" fill="hold"/>
                                        <p:tgtEl>
                                          <p:spTgt spid="1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28" nodeType="withEffect" fill="hold" presetClass="exit" presetID="23" presetSubtype="32">
                                  <p:stCondLst>
                                    <p:cond delay="7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29" dur="20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20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2" autoRev="1" nodeType="withEffect" fill="hold" presetClass="emph" presetID="6">
                                  <p:stCondLst>
                                    <p:cond delay="500"/>
                                  </p:stCondLst>
                                  <p:childTnLst>
                                    <p:animScale>
                                      <p:cBhvr>
                                        <p:cTn id="733" dur="150" fill="hold"/>
                                        <p:tgtEl>
                                          <p:spTgt spid="156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734" nodeType="with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0.00092 -0.00069 L 0.00377 -0.02986 C -0.00313 -0.00347 -0.00378 0.01898 -0.00821 0.05347 C -0.01055 0.01482 -0.00261 -0.04792 0.01562 -0.0625 E">
                                      <p:cBhvr>
                                        <p:cTn id="735" dur="5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36" nodeType="withEffect" fill="hold" presetClass="exit" presetID="23" presetSubtype="32">
                                  <p:stCondLst>
                                    <p:cond delay="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37" dur="20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20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0" autoRev="1" nodeType="withEffect" fill="hold" presetClass="emph" presetID="6">
                                  <p:stCondLst>
                                    <p:cond delay="600"/>
                                  </p:stCondLst>
                                  <p:childTnLst>
                                    <p:animScale>
                                      <p:cBhvr>
                                        <p:cTn id="741" dur="150" fill="hold"/>
                                        <p:tgtEl>
                                          <p:spTgt spid="157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742" nodeType="withEffect" fill="hold" presetClass="path" presetID="0">
                                  <p:stCondLst>
                                    <p:cond delay="600"/>
                                  </p:stCondLst>
                                  <p:childTnLst>
                                    <p:animMotion origin="layout" path="M -0.00104 -0.00069 L 0.00365 -0.02986 C -0.00325 -0.00347 -0.00234 0.01829 -0.00677 0.05278 C -0.00911 0.01412 -0.00273 -0.04815 0.01563 -0.0625 E">
                                      <p:cBhvr>
                                        <p:cTn id="743" dur="500" fill="hold"/>
                                        <p:tgtEl>
                                          <p:spTgt spid="1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44" nodeType="withEffect" fill="hold" presetClass="exit" presetID="23" presetSubtype="32">
                                  <p:stCondLst>
                                    <p:cond delay="9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45" dur="20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20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8" autoRev="1" nodeType="withEffect" fill="hold" presetClass="emph" presetID="6">
                                  <p:stCondLst>
                                    <p:cond delay="700"/>
                                  </p:stCondLst>
                                  <p:childTnLst>
                                    <p:animScale>
                                      <p:cBhvr>
                                        <p:cTn id="749" dur="150" fill="hold"/>
                                        <p:tgtEl>
                                          <p:spTgt spid="160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750" nodeType="withEffect" fill="hold" presetClass="path" presetID="0">
                                  <p:stCondLst>
                                    <p:cond delay="700"/>
                                  </p:stCondLst>
                                  <p:childTnLst>
                                    <p:animMotion origin="layout" path="M -0.00091 -0.00069 L 0.00377 -0.02986 C -0.00313 -0.00347 -0.00026 0.01968 -0.00469 0.05417 C -0.00703 0.01551 -0.00261 -0.04792 0.01562 -0.0625 E">
                                      <p:cBhvr>
                                        <p:cTn id="751" dur="500" fill="hold"/>
                                        <p:tgtEl>
                                          <p:spTgt spid="1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52" nodeType="withEffect" fill="hold" presetClass="exit" presetID="23" presetSubtype="32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53" dur="20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20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6" autoRev="1" nodeType="withEffect" fill="hold" presetClass="emph" presetID="6">
                                  <p:stCondLst>
                                    <p:cond delay="800"/>
                                  </p:stCondLst>
                                  <p:childTnLst>
                                    <p:animScale>
                                      <p:cBhvr>
                                        <p:cTn id="757" dur="150" fill="hold"/>
                                        <p:tgtEl>
                                          <p:spTgt spid="161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758" nodeType="withEffect" fill="hold" presetClass="path" presetID="0">
                                  <p:stCondLst>
                                    <p:cond delay="800"/>
                                  </p:stCondLst>
                                  <p:childTnLst>
                                    <p:animMotion origin="layout" path="M -0.00026 -3.7037E-007 L 0.00495 -0.0294 C -0.00221 -0.00278 0.00013 0.01597 -0.00429 0.05069 C 0.00443 0.00949 0.01016 -0.04352 0.0168 -0.06181 E">
                                      <p:cBhvr>
                                        <p:cTn id="759" dur="500" fill="hold"/>
                                        <p:tgtEl>
                                          <p:spTgt spid="1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60" nodeType="withEffect" fill="hold" presetClass="exit" presetID="23" presetSubtype="32">
                                  <p:stCondLst>
                                    <p:cond delay="1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61" dur="20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" dur="20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4" autoRev="1" nodeType="withEffect" fill="hold" presetClass="emph" presetID="6">
                                  <p:stCondLst>
                                    <p:cond delay="900"/>
                                  </p:stCondLst>
                                  <p:childTnLst>
                                    <p:animScale>
                                      <p:cBhvr>
                                        <p:cTn id="765" dur="150" fill="hold"/>
                                        <p:tgtEl>
                                          <p:spTgt spid="162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766" nodeType="withEffect" fill="hold" presetClass="path" presetID="0">
                                  <p:stCondLst>
                                    <p:cond delay="900"/>
                                  </p:stCondLst>
                                  <p:childTnLst>
                                    <p:animMotion origin="layout" path="M -0.00026 -3.7037E-007 L 0.00482 -0.03009 C -0.00234 -0.00278 -0.00195 0.01806 -0.00625 0.05278 C 0.0112 0.01898 0.01107 -0.04583 0.01471 -0.0625 E">
                                      <p:cBhvr>
                                        <p:cTn id="767" dur="500" fill="hold"/>
                                        <p:tgtEl>
                                          <p:spTgt spid="1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68" nodeType="withEffect" fill="hold" presetClass="exit" presetID="23" presetSubtype="32">
                                  <p:stCondLst>
                                    <p:cond delay="1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69" dur="20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20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2" autoRev="1" nodeType="withEffect" fill="hold" presetClass="emph" presetID="6">
                                  <p:stCondLst>
                                    <p:cond delay="1000"/>
                                  </p:stCondLst>
                                  <p:childTnLst>
                                    <p:animScale>
                                      <p:cBhvr>
                                        <p:cTn id="773" dur="150" fill="hold"/>
                                        <p:tgtEl>
                                          <p:spTgt spid="158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774" nodeType="withEffect" fill="hold" presetClass="path" presetID="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-0.00013 -0.00069 L 0.00456 -0.02986 C -0.00013 -0.00116 0.00131 0.01991 -0.00494 0.0544 C 0.00795 0.01574 0.01342 -0.04236 0.01667 -0.06157 E">
                                      <p:cBhvr>
                                        <p:cTn id="775" dur="500" fill="hold"/>
                                        <p:tgtEl>
                                          <p:spTgt spid="1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76" nodeType="withEffect" fill="hold" presetClass="exit" presetID="23" presetSubtype="32">
                                  <p:stCondLst>
                                    <p:cond delay="13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77" dur="20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20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0" autoRev="1" nodeType="withEffect" fill="hold" presetClass="emph" presetID="6">
                                  <p:stCondLst>
                                    <p:cond delay="1100"/>
                                  </p:stCondLst>
                                  <p:childTnLst>
                                    <p:animScale>
                                      <p:cBhvr>
                                        <p:cTn id="781" dur="150" fill="hold"/>
                                        <p:tgtEl>
                                          <p:spTgt spid="159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782" nodeType="withEffect" fill="hold" presetClass="path" presetID="0">
                                  <p:stCondLst>
                                    <p:cond delay="1100"/>
                                  </p:stCondLst>
                                  <p:childTnLst>
                                    <p:animMotion origin="layout" path="M -0.00013 -0.00069 C 0.00143 -0.01042 -0.00247 -0.02083 -0.00104 -0.03032 C -0.00208 -0.00347 0.00195 0.01782 0.0043 0.05139 C 0.02695 0.01273 0.01055 -0.04699 0.00885 -0.06181 E">
                                      <p:cBhvr>
                                        <p:cTn id="783" dur="500" fill="hold"/>
                                        <p:tgtEl>
                                          <p:spTgt spid="1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84" nodeType="withEffect" fill="hold" presetClass="exit" presetID="23" presetSubtype="32">
                                  <p:stCondLst>
                                    <p:cond delay="1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85" dur="20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20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8" nodeType="withEffect" fill="hold" presetClass="path" presetID="42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-4.375E-006 1.85185E-006 L 0.23243 -0.30023 E">
                                      <p:cBhvr>
                                        <p:cTn id="789" dur="500" fill="hold"/>
                                        <p:tgtEl>
                                          <p:spTgt spid="1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90" nodeType="withEffect" fill="hold" presetClass="path" presetID="42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1.04167E-006 4.81481E-006 L -0.23919 0.30856 E">
                                      <p:cBhvr>
                                        <p:cTn id="791" dur="500" fill="hold"/>
                                        <p:tgtEl>
                                          <p:spTgt spid="1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92" nodeType="withEffect" fill="hold" presetClass="path" presetID="42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3.75E-006 -3.33333E-006 L 0.29296 -0.38402 E">
                                      <p:cBhvr>
                                        <p:cTn id="793" dur="500" fill="hold"/>
                                        <p:tgtEl>
                                          <p:spTgt spid="1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94" nodeType="withEffect" fill="hold" presetClass="path" presetID="42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4.58333E-006 4.44444E-006 L -0.30339 0.39027 E">
                                      <p:cBhvr>
                                        <p:cTn id="795" dur="500" fill="hold"/>
                                        <p:tgtEl>
                                          <p:spTgt spid="1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96" nodeType="withEffect" fill="hold" presetClass="path" presetID="42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4.16667E-007 -2.59259E-006 L 0.29505 -0.40301 E">
                                      <p:cBhvr>
                                        <p:cTn id="797" dur="350" fill="hold"/>
                                        <p:tgtEl>
                                          <p:spTgt spid="1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98" nodeType="withEffect" fill="hold" presetClass="path" presetID="42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3.33333E-006 -4.44444E-006 L -0.30808 0.39723 E">
                                      <p:cBhvr>
                                        <p:cTn id="799" dur="350" fill="hold"/>
                                        <p:tgtEl>
                                          <p:spTgt spid="1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00" nodeType="withEffect" fill="hold" presetClass="path" presetID="42">
                                  <p:stCondLst>
                                    <p:cond delay="700"/>
                                  </p:stCondLst>
                                  <p:childTnLst>
                                    <p:animMotion origin="layout" path="M -1.45833E-006 3.7037E-007 L 0.35925 -0.46505 E">
                                      <p:cBhvr>
                                        <p:cTn id="801" dur="500" fill="hold"/>
                                        <p:tgtEl>
                                          <p:spTgt spid="1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02" nodeType="withEffect" fill="hold" presetClass="path" presetID="42">
                                  <p:stCondLst>
                                    <p:cond delay="700"/>
                                  </p:stCondLst>
                                  <p:childTnLst>
                                    <p:animMotion origin="layout" path="M -4.375E-006 1.85185E-006 L -0.37148 0.48102 E">
                                      <p:cBhvr>
                                        <p:cTn id="803" dur="500" fill="hold"/>
                                        <p:tgtEl>
                                          <p:spTgt spid="1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04" nodeType="withEffect" fill="hold" presetClass="path" presetID="42">
                                  <p:stCondLst>
                                    <p:cond delay="900"/>
                                  </p:stCondLst>
                                  <p:childTnLst>
                                    <p:animMotion origin="layout" path="M 1.875E-006 -2.22222E-006 L -0.4332 0.56042 E">
                                      <p:cBhvr>
                                        <p:cTn id="805" dur="500" fill="hold"/>
                                        <p:tgtEl>
                                          <p:spTgt spid="1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06" nodeType="withEffect" fill="hold" presetClass="path" presetID="42">
                                  <p:stCondLst>
                                    <p:cond delay="900"/>
                                  </p:stCondLst>
                                  <p:childTnLst>
                                    <p:animMotion origin="layout" path="M 6.25E-007 4.07407E-006 L 0.4207 -0.55718 E">
                                      <p:cBhvr>
                                        <p:cTn id="807" dur="500" fill="hold"/>
                                        <p:tgtEl>
                                          <p:spTgt spid="1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08" nodeType="withEffect" fill="hold" presetClass="path" presetID="42">
                                  <p:stCondLst>
                                    <p:cond delay="900"/>
                                  </p:stCondLst>
                                  <p:childTnLst>
                                    <p:animMotion origin="layout" path="M -4.79167E-006 -1.85185E-006 L 0.43607 -0.55393 E">
                                      <p:cBhvr>
                                        <p:cTn id="809" dur="350" fill="hold"/>
                                        <p:tgtEl>
                                          <p:spTgt spid="1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10" nodeType="withEffect" fill="hold" presetClass="path" presetID="42">
                                  <p:stCondLst>
                                    <p:cond delay="900"/>
                                  </p:stCondLst>
                                  <p:childTnLst>
                                    <p:animMotion origin="layout" path="M -2.91667E-006 -4.81481E-006 L -0.43515 0.56135 E">
                                      <p:cBhvr>
                                        <p:cTn id="811" dur="350" fill="hold"/>
                                        <p:tgtEl>
                                          <p:spTgt spid="1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12" nodeType="withEffect" fill="hold" presetClass="path" presetID="42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1.04167E-006 1.11111E-006 L -0.5056 0.63889 E">
                                      <p:cBhvr>
                                        <p:cTn id="813" dur="500" fill="hold"/>
                                        <p:tgtEl>
                                          <p:spTgt spid="1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14" nodeType="withEffect" fill="hold" presetClass="path" presetID="42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-5E-006 7.40741E-007 L 0.49688 -0.62801 E">
                                      <p:cBhvr>
                                        <p:cTn id="815" dur="500" fill="hold"/>
                                        <p:tgtEl>
                                          <p:spTgt spid="1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16" nodeType="withEffect" fill="hold" presetClass="path" presetID="42">
                                  <p:stCondLst>
                                    <p:cond delay="1200"/>
                                  </p:stCondLst>
                                  <p:childTnLst>
                                    <p:animMotion origin="layout" path="M -3.54167E-006 -2.22222E-006 L 0.55638 -0.72222 E">
                                      <p:cBhvr>
                                        <p:cTn id="817" dur="500" fill="hold"/>
                                        <p:tgtEl>
                                          <p:spTgt spid="1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18" nodeType="withEffect" fill="hold" presetClass="path" presetID="42">
                                  <p:stCondLst>
                                    <p:cond delay="1200"/>
                                  </p:stCondLst>
                                  <p:childTnLst>
                                    <p:animMotion origin="layout" path="M -1.875E-006 2.22222E-006 L -0.56367 0.72778 E">
                                      <p:cBhvr>
                                        <p:cTn id="819" dur="500" fill="hold"/>
                                        <p:tgtEl>
                                          <p:spTgt spid="1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直接连接符 183"/>
          <p:cNvSpPr/>
          <p:nvPr/>
        </p:nvSpPr>
        <p:spPr>
          <a:xfrm>
            <a:off x="3699000" y="3429000"/>
            <a:ext cx="47941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文本框 186"/>
          <p:cNvSpPr/>
          <p:nvPr/>
        </p:nvSpPr>
        <p:spPr>
          <a:xfrm>
            <a:off x="3982320" y="273852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张海山锐谐体"/>
                <a:ea typeface="张海山锐谐体"/>
              </a:rPr>
              <a:t>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文本框 187"/>
          <p:cNvSpPr/>
          <p:nvPr/>
        </p:nvSpPr>
        <p:spPr>
          <a:xfrm>
            <a:off x="4626000" y="273852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张海山锐谐体"/>
                <a:ea typeface="张海山锐谐体"/>
              </a:rPr>
              <a:t>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文本框 188"/>
          <p:cNvSpPr/>
          <p:nvPr/>
        </p:nvSpPr>
        <p:spPr>
          <a:xfrm>
            <a:off x="5269680" y="273852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张海山锐谐体"/>
                <a:ea typeface="张海山锐谐体"/>
              </a:rPr>
              <a:t>此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文本框 189"/>
          <p:cNvSpPr/>
          <p:nvPr/>
        </p:nvSpPr>
        <p:spPr>
          <a:xfrm>
            <a:off x="5912640" y="273852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张海山锐谐体"/>
                <a:ea typeface="张海山锐谐体"/>
              </a:rPr>
              <a:t>输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文本框 190"/>
          <p:cNvSpPr/>
          <p:nvPr/>
        </p:nvSpPr>
        <p:spPr>
          <a:xfrm>
            <a:off x="6556320" y="273852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张海山锐谐体"/>
                <a:ea typeface="张海山锐谐体"/>
              </a:rPr>
              <a:t>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文本框 191"/>
          <p:cNvSpPr/>
          <p:nvPr/>
        </p:nvSpPr>
        <p:spPr>
          <a:xfrm>
            <a:off x="7199280" y="273852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张海山锐谐体"/>
                <a:ea typeface="张海山锐谐体"/>
              </a:rPr>
              <a:t>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文本框 192"/>
          <p:cNvSpPr/>
          <p:nvPr/>
        </p:nvSpPr>
        <p:spPr>
          <a:xfrm>
            <a:off x="7842960" y="273852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张海山锐谐体"/>
                <a:ea typeface="张海山锐谐体"/>
              </a:rPr>
              <a:t>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文本框 193"/>
          <p:cNvSpPr/>
          <p:nvPr/>
        </p:nvSpPr>
        <p:spPr>
          <a:xfrm>
            <a:off x="3303720" y="350352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张海山锐谐体"/>
                <a:ea typeface="张海山锐谐体"/>
              </a:rPr>
              <a:t>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文本框 194"/>
          <p:cNvSpPr/>
          <p:nvPr/>
        </p:nvSpPr>
        <p:spPr>
          <a:xfrm>
            <a:off x="3881520" y="350352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张海山锐谐体"/>
                <a:ea typeface="张海山锐谐体"/>
              </a:rPr>
              <a:t>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文本框 195"/>
          <p:cNvSpPr/>
          <p:nvPr/>
        </p:nvSpPr>
        <p:spPr>
          <a:xfrm>
            <a:off x="4459320" y="350352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张海山锐谐体"/>
                <a:ea typeface="张海山锐谐体"/>
              </a:rPr>
              <a:t>此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文本框 196"/>
          <p:cNvSpPr/>
          <p:nvPr/>
        </p:nvSpPr>
        <p:spPr>
          <a:xfrm>
            <a:off x="5037120" y="350352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张海山锐谐体"/>
                <a:ea typeface="张海山锐谐体"/>
              </a:rPr>
              <a:t>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文本框 197"/>
          <p:cNvSpPr/>
          <p:nvPr/>
        </p:nvSpPr>
        <p:spPr>
          <a:xfrm>
            <a:off x="5613480" y="350352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张海山锐谐体"/>
                <a:ea typeface="张海山锐谐体"/>
              </a:rPr>
              <a:t>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文本框 198"/>
          <p:cNvSpPr/>
          <p:nvPr/>
        </p:nvSpPr>
        <p:spPr>
          <a:xfrm>
            <a:off x="7885440" y="350352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张海山锐谐体"/>
                <a:ea typeface="张海山锐谐体"/>
              </a:rPr>
              <a:t>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文本框 199"/>
          <p:cNvSpPr/>
          <p:nvPr/>
        </p:nvSpPr>
        <p:spPr>
          <a:xfrm>
            <a:off x="8463240" y="350352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张海山锐谐体"/>
                <a:ea typeface="张海山锐谐体"/>
              </a:rPr>
              <a:t>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文本框 200"/>
          <p:cNvSpPr/>
          <p:nvPr/>
        </p:nvSpPr>
        <p:spPr>
          <a:xfrm>
            <a:off x="6191280" y="350352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张海山锐谐体"/>
                <a:ea typeface="张海山锐谐体"/>
              </a:rPr>
              <a:t>增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文本框 201"/>
          <p:cNvSpPr/>
          <p:nvPr/>
        </p:nvSpPr>
        <p:spPr>
          <a:xfrm>
            <a:off x="6730200" y="350352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张海山锐谐体"/>
                <a:ea typeface="张海山锐谐体"/>
              </a:rPr>
              <a:t>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文本框 202"/>
          <p:cNvSpPr/>
          <p:nvPr/>
        </p:nvSpPr>
        <p:spPr>
          <a:xfrm>
            <a:off x="7307280" y="350352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张海山锐谐体"/>
                <a:ea typeface="张海山锐谐体"/>
              </a:rPr>
              <a:t>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等腰三角形 203"/>
          <p:cNvSpPr/>
          <p:nvPr/>
        </p:nvSpPr>
        <p:spPr>
          <a:xfrm rot="12202200">
            <a:off x="8607240" y="2986200"/>
            <a:ext cx="63360" cy="38088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直角三角形 204"/>
          <p:cNvSpPr/>
          <p:nvPr/>
        </p:nvSpPr>
        <p:spPr>
          <a:xfrm flipH="1" rot="407400">
            <a:off x="8588880" y="3400560"/>
            <a:ext cx="396720" cy="4608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1680" bIns="-31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等腰三角形 205"/>
          <p:cNvSpPr/>
          <p:nvPr/>
        </p:nvSpPr>
        <p:spPr>
          <a:xfrm rot="14572800">
            <a:off x="8731440" y="3110400"/>
            <a:ext cx="68400" cy="3812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矩形 237"/>
          <p:cNvSpPr/>
          <p:nvPr/>
        </p:nvSpPr>
        <p:spPr>
          <a:xfrm>
            <a:off x="7148520" y="-573120"/>
            <a:ext cx="465120" cy="376200"/>
          </a:xfrm>
          <a:prstGeom prst="rect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矩形 238"/>
          <p:cNvSpPr/>
          <p:nvPr/>
        </p:nvSpPr>
        <p:spPr>
          <a:xfrm>
            <a:off x="9696600" y="-3240"/>
            <a:ext cx="12191760" cy="6858000"/>
          </a:xfrm>
          <a:prstGeom prst="rect">
            <a:avLst/>
          </a:prstGeom>
          <a:solidFill>
            <a:srgbClr val="eead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矩形 239"/>
          <p:cNvSpPr/>
          <p:nvPr/>
        </p:nvSpPr>
        <p:spPr>
          <a:xfrm flipH="1">
            <a:off x="-9722520" y="-15840"/>
            <a:ext cx="12192120" cy="6858000"/>
          </a:xfrm>
          <a:prstGeom prst="rect">
            <a:avLst/>
          </a:prstGeom>
          <a:solidFill>
            <a:srgbClr val="eead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矩形 240"/>
          <p:cNvSpPr/>
          <p:nvPr/>
        </p:nvSpPr>
        <p:spPr>
          <a:xfrm>
            <a:off x="10269360" y="7920"/>
            <a:ext cx="12192120" cy="6858000"/>
          </a:xfrm>
          <a:prstGeom prst="rect">
            <a:avLst/>
          </a:prstGeom>
          <a:solidFill>
            <a:srgbClr val="80b3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矩形 241"/>
          <p:cNvSpPr/>
          <p:nvPr/>
        </p:nvSpPr>
        <p:spPr>
          <a:xfrm flipH="1">
            <a:off x="-10295640" y="-3240"/>
            <a:ext cx="12192120" cy="6858000"/>
          </a:xfrm>
          <a:prstGeom prst="rect">
            <a:avLst/>
          </a:prstGeom>
          <a:solidFill>
            <a:srgbClr val="80b3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矩形 242"/>
          <p:cNvSpPr/>
          <p:nvPr/>
        </p:nvSpPr>
        <p:spPr>
          <a:xfrm>
            <a:off x="10898280" y="7920"/>
            <a:ext cx="12191760" cy="6858000"/>
          </a:xfrm>
          <a:prstGeom prst="rect">
            <a:avLst/>
          </a:prstGeom>
          <a:solidFill>
            <a:srgbClr val="df50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矩形 243"/>
          <p:cNvSpPr/>
          <p:nvPr/>
        </p:nvSpPr>
        <p:spPr>
          <a:xfrm flipH="1">
            <a:off x="-10923480" y="-3240"/>
            <a:ext cx="12191760" cy="6858000"/>
          </a:xfrm>
          <a:prstGeom prst="rect">
            <a:avLst/>
          </a:prstGeom>
          <a:solidFill>
            <a:srgbClr val="df50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矩形 244"/>
          <p:cNvSpPr/>
          <p:nvPr/>
        </p:nvSpPr>
        <p:spPr>
          <a:xfrm>
            <a:off x="11550600" y="6480"/>
            <a:ext cx="12192120" cy="6858000"/>
          </a:xfrm>
          <a:prstGeom prst="rect">
            <a:avLst/>
          </a:prstGeom>
          <a:solidFill>
            <a:srgbClr val="e9e6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矩形 245"/>
          <p:cNvSpPr/>
          <p:nvPr/>
        </p:nvSpPr>
        <p:spPr>
          <a:xfrm flipH="1">
            <a:off x="-11632320" y="-23760"/>
            <a:ext cx="12192120" cy="6881760"/>
          </a:xfrm>
          <a:prstGeom prst="rect">
            <a:avLst/>
          </a:prstGeom>
          <a:solidFill>
            <a:srgbClr val="e9e6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矩形 246"/>
          <p:cNvSpPr/>
          <p:nvPr/>
        </p:nvSpPr>
        <p:spPr>
          <a:xfrm>
            <a:off x="12276000" y="4680"/>
            <a:ext cx="121921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矩形 247"/>
          <p:cNvSpPr/>
          <p:nvPr/>
        </p:nvSpPr>
        <p:spPr>
          <a:xfrm>
            <a:off x="13188960" y="-6480"/>
            <a:ext cx="12192120" cy="6858000"/>
          </a:xfrm>
          <a:prstGeom prst="rect">
            <a:avLst/>
          </a:prstGeom>
          <a:solidFill>
            <a:srgbClr val="3d2c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矩形 248"/>
          <p:cNvSpPr/>
          <p:nvPr/>
        </p:nvSpPr>
        <p:spPr>
          <a:xfrm flipH="1">
            <a:off x="-13469760" y="-7920"/>
            <a:ext cx="12191760" cy="6858000"/>
          </a:xfrm>
          <a:prstGeom prst="rect">
            <a:avLst/>
          </a:prstGeom>
          <a:solidFill>
            <a:srgbClr val="3d2c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5" name="矩形 249"/>
          <p:cNvGrpSpPr/>
          <p:nvPr/>
        </p:nvGrpSpPr>
        <p:grpSpPr>
          <a:xfrm>
            <a:off x="14130360" y="79200"/>
            <a:ext cx="12191760" cy="6857640"/>
            <a:chOff x="14130360" y="79200"/>
            <a:chExt cx="12191760" cy="6857640"/>
          </a:xfrm>
        </p:grpSpPr>
        <p:pic>
          <p:nvPicPr>
            <p:cNvPr id="226" name="矩形 249" descr=""/>
            <p:cNvPicPr/>
            <p:nvPr/>
          </p:nvPicPr>
          <p:blipFill>
            <a:blip r:embed="rId2"/>
            <a:stretch/>
          </p:blipFill>
          <p:spPr>
            <a:xfrm>
              <a:off x="14130360" y="82080"/>
              <a:ext cx="12190680" cy="685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7" name=""/>
            <p:cNvSpPr/>
            <p:nvPr/>
          </p:nvSpPr>
          <p:spPr>
            <a:xfrm>
              <a:off x="14131440" y="79200"/>
              <a:ext cx="12190680" cy="685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8" name="矩形 250"/>
          <p:cNvGrpSpPr/>
          <p:nvPr/>
        </p:nvGrpSpPr>
        <p:grpSpPr>
          <a:xfrm>
            <a:off x="-14411160" y="12600"/>
            <a:ext cx="12191760" cy="6858000"/>
            <a:chOff x="-14411160" y="12600"/>
            <a:chExt cx="12191760" cy="6858000"/>
          </a:xfrm>
        </p:grpSpPr>
        <p:pic>
          <p:nvPicPr>
            <p:cNvPr id="229" name="矩形 250" descr=""/>
            <p:cNvPicPr/>
            <p:nvPr/>
          </p:nvPicPr>
          <p:blipFill>
            <a:blip r:embed="rId3"/>
            <a:stretch/>
          </p:blipFill>
          <p:spPr>
            <a:xfrm>
              <a:off x="-14409720" y="12600"/>
              <a:ext cx="1219032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" name=""/>
            <p:cNvSpPr/>
            <p:nvPr/>
          </p:nvSpPr>
          <p:spPr>
            <a:xfrm>
              <a:off x="-14411160" y="12600"/>
              <a:ext cx="1218996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1" name="任意多边形 251"/>
          <p:cNvSpPr/>
          <p:nvPr/>
        </p:nvSpPr>
        <p:spPr>
          <a:xfrm>
            <a:off x="-1768320" y="-4435560"/>
            <a:ext cx="15728760" cy="15729120"/>
          </a:xfrm>
          <a:custGeom>
            <a:avLst/>
            <a:gdLst/>
            <a:ahLst/>
            <a:rect l="l" t="t" r="r" b="b"/>
            <a:pathLst>
              <a:path w="3946824" h="3946824">
                <a:moveTo>
                  <a:pt x="1973412" y="173187"/>
                </a:moveTo>
                <a:cubicBezTo>
                  <a:pt x="979175" y="173187"/>
                  <a:pt x="173187" y="979175"/>
                  <a:pt x="173187" y="1973412"/>
                </a:cubicBezTo>
                <a:cubicBezTo>
                  <a:pt x="173187" y="2967649"/>
                  <a:pt x="979175" y="3773637"/>
                  <a:pt x="1973412" y="3773637"/>
                </a:cubicBezTo>
                <a:cubicBezTo>
                  <a:pt x="2967649" y="3773637"/>
                  <a:pt x="3773637" y="2967649"/>
                  <a:pt x="3773637" y="1973412"/>
                </a:cubicBezTo>
                <a:cubicBezTo>
                  <a:pt x="3773637" y="979175"/>
                  <a:pt x="2967649" y="173187"/>
                  <a:pt x="1973412" y="173187"/>
                </a:cubicBezTo>
                <a:close/>
                <a:moveTo>
                  <a:pt x="1973412" y="0"/>
                </a:moveTo>
                <a:cubicBezTo>
                  <a:pt x="3063297" y="0"/>
                  <a:pt x="3946824" y="883527"/>
                  <a:pt x="3946824" y="1973412"/>
                </a:cubicBezTo>
                <a:cubicBezTo>
                  <a:pt x="3946824" y="3063297"/>
                  <a:pt x="3063297" y="3946824"/>
                  <a:pt x="1973412" y="3946824"/>
                </a:cubicBezTo>
                <a:cubicBezTo>
                  <a:pt x="883527" y="3946824"/>
                  <a:pt x="0" y="3063297"/>
                  <a:pt x="0" y="1973412"/>
                </a:cubicBezTo>
                <a:cubicBezTo>
                  <a:pt x="0" y="883527"/>
                  <a:pt x="883527" y="0"/>
                  <a:pt x="1973412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任意多边形 252"/>
          <p:cNvSpPr/>
          <p:nvPr/>
        </p:nvSpPr>
        <p:spPr>
          <a:xfrm>
            <a:off x="-1768320" y="-4435560"/>
            <a:ext cx="15728760" cy="15729120"/>
          </a:xfrm>
          <a:custGeom>
            <a:avLst/>
            <a:gdLst/>
            <a:ahLst/>
            <a:rect l="l" t="t" r="r" b="b"/>
            <a:pathLst>
              <a:path w="3946824" h="3946824">
                <a:moveTo>
                  <a:pt x="1973412" y="173187"/>
                </a:moveTo>
                <a:cubicBezTo>
                  <a:pt x="979175" y="173187"/>
                  <a:pt x="173187" y="979175"/>
                  <a:pt x="173187" y="1973412"/>
                </a:cubicBezTo>
                <a:cubicBezTo>
                  <a:pt x="173187" y="2967649"/>
                  <a:pt x="979175" y="3773637"/>
                  <a:pt x="1973412" y="3773637"/>
                </a:cubicBezTo>
                <a:cubicBezTo>
                  <a:pt x="2967649" y="3773637"/>
                  <a:pt x="3773637" y="2967649"/>
                  <a:pt x="3773637" y="1973412"/>
                </a:cubicBezTo>
                <a:cubicBezTo>
                  <a:pt x="3773637" y="979175"/>
                  <a:pt x="2967649" y="173187"/>
                  <a:pt x="1973412" y="173187"/>
                </a:cubicBezTo>
                <a:close/>
                <a:moveTo>
                  <a:pt x="1973412" y="0"/>
                </a:moveTo>
                <a:cubicBezTo>
                  <a:pt x="3063297" y="0"/>
                  <a:pt x="3946824" y="883527"/>
                  <a:pt x="3946824" y="1973412"/>
                </a:cubicBezTo>
                <a:cubicBezTo>
                  <a:pt x="3946824" y="3063297"/>
                  <a:pt x="3063297" y="3946824"/>
                  <a:pt x="1973412" y="3946824"/>
                </a:cubicBezTo>
                <a:cubicBezTo>
                  <a:pt x="883527" y="3946824"/>
                  <a:pt x="0" y="3063297"/>
                  <a:pt x="0" y="1973412"/>
                </a:cubicBezTo>
                <a:cubicBezTo>
                  <a:pt x="0" y="883527"/>
                  <a:pt x="883527" y="0"/>
                  <a:pt x="1973412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任意多边形 253"/>
          <p:cNvSpPr/>
          <p:nvPr/>
        </p:nvSpPr>
        <p:spPr>
          <a:xfrm>
            <a:off x="-1768320" y="-4435560"/>
            <a:ext cx="15728760" cy="15729120"/>
          </a:xfrm>
          <a:custGeom>
            <a:avLst/>
            <a:gdLst/>
            <a:ahLst/>
            <a:rect l="l" t="t" r="r" b="b"/>
            <a:pathLst>
              <a:path w="3946824" h="3946824">
                <a:moveTo>
                  <a:pt x="1973412" y="173187"/>
                </a:moveTo>
                <a:cubicBezTo>
                  <a:pt x="979175" y="173187"/>
                  <a:pt x="173187" y="979175"/>
                  <a:pt x="173187" y="1973412"/>
                </a:cubicBezTo>
                <a:cubicBezTo>
                  <a:pt x="173187" y="2967649"/>
                  <a:pt x="979175" y="3773637"/>
                  <a:pt x="1973412" y="3773637"/>
                </a:cubicBezTo>
                <a:cubicBezTo>
                  <a:pt x="2967649" y="3773637"/>
                  <a:pt x="3773637" y="2967649"/>
                  <a:pt x="3773637" y="1973412"/>
                </a:cubicBezTo>
                <a:cubicBezTo>
                  <a:pt x="3773637" y="979175"/>
                  <a:pt x="2967649" y="173187"/>
                  <a:pt x="1973412" y="173187"/>
                </a:cubicBezTo>
                <a:close/>
                <a:moveTo>
                  <a:pt x="1973412" y="0"/>
                </a:moveTo>
                <a:cubicBezTo>
                  <a:pt x="3063297" y="0"/>
                  <a:pt x="3946824" y="883527"/>
                  <a:pt x="3946824" y="1973412"/>
                </a:cubicBezTo>
                <a:cubicBezTo>
                  <a:pt x="3946824" y="3063297"/>
                  <a:pt x="3063297" y="3946824"/>
                  <a:pt x="1973412" y="3946824"/>
                </a:cubicBezTo>
                <a:cubicBezTo>
                  <a:pt x="883527" y="3946824"/>
                  <a:pt x="0" y="3063297"/>
                  <a:pt x="0" y="1973412"/>
                </a:cubicBezTo>
                <a:cubicBezTo>
                  <a:pt x="0" y="883527"/>
                  <a:pt x="883527" y="0"/>
                  <a:pt x="1973412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组合 4" descr=""/>
          <p:cNvPicPr/>
          <p:nvPr/>
        </p:nvPicPr>
        <p:blipFill>
          <a:blip r:embed="rId4"/>
          <a:stretch/>
        </p:blipFill>
        <p:spPr>
          <a:xfrm>
            <a:off x="291960" y="-1736640"/>
            <a:ext cx="11607840" cy="10331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20" dur="indefinite" restart="never" nodeType="tmRoot">
          <p:childTnLst>
            <p:seq>
              <p:cTn id="821" dur="indefinite" nodeType="mainSeq">
                <p:childTnLst>
                  <p:par>
                    <p:cTn id="822" fill="hold">
                      <p:stCondLst>
                        <p:cond delay="0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3600000">
                                      <p:cBhvr>
                                        <p:cTn id="825" dur="78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2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8" dur="4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1" dur="15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15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3" dur="15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4" nodeType="withEffect" fill="hold" presetClass="path" presetID="42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-3.75E-006 -4.44444E-006 L 0.0125 -0.04467 E">
                                      <p:cBhvr>
                                        <p:cTn id="835" dur="300" fill="hold"/>
                                        <p:tgtEl>
                                          <p:spTgt spid="2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36" nodeType="with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37" dur="15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15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39" dur="15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3" dur="15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15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5" dur="15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6" nodeType="withEffect" fill="hold" presetClass="path" presetID="42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-3.33333E-006 -4.07407E-006 L 0.02969 0.0125 E">
                                      <p:cBhvr>
                                        <p:cTn id="847" dur="150" fill="hold"/>
                                        <p:tgtEl>
                                          <p:spTgt spid="2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48" nodeType="with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49" dur="15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15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51" dur="15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5" dur="15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6" dur="15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7" dur="15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8" nodeType="withEffect" fill="hold" presetClass="path" presetID="42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-4.16667E-007 -1.48148E-006 L 0.0293 -0.02292 E">
                                      <p:cBhvr>
                                        <p:cTn id="859" dur="300" fill="hold"/>
                                        <p:tgtEl>
                                          <p:spTgt spid="2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60" nodeType="with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61" dur="150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150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63" dur="15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14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5" nodeType="with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7" dur="2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8" dur="2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9" nodeType="with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4.375E-006 -0.00069 L -4.375E-006 0.0132 C 0.00118 -0.00439 0.00079 -0.02199 0.00026 -0.03865 C 0.00248 -0.01481 0.00365 0.01505 0.00196 0.04746 E">
                                      <p:cBhvr>
                                        <p:cTn id="870" dur="500" fill="hold"/>
                                        <p:tgtEl>
                                          <p:spTgt spid="1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71" autoRev="1" nodeType="withEffect" fill="hold" presetClass="emph" presetID="6">
                                  <p:stCondLst>
                                    <p:cond delay="700"/>
                                  </p:stCondLst>
                                  <p:childTnLst>
                                    <p:animScale>
                                      <p:cBhvr>
                                        <p:cTn id="872" dur="150" fill="hold"/>
                                        <p:tgtEl>
                                          <p:spTgt spid="193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23" presetSubtype="16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5" dur="2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2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7" nodeType="withEffect" fill="hold" presetClass="path" presetID="0">
                                  <p:stCondLst>
                                    <p:cond delay="600"/>
                                  </p:stCondLst>
                                  <p:childTnLst>
                                    <p:animMotion origin="layout" path="M -4.375E-006 -0.00069 L -4.375E-006 0.0132 C 0.00118 -0.00439 0.00079 -0.02199 0.00026 -0.03865 C 0.00248 -0.01481 0.00365 0.01505 0.00196 0.04746 E">
                                      <p:cBhvr>
                                        <p:cTn id="878" dur="500" fill="hold"/>
                                        <p:tgtEl>
                                          <p:spTgt spid="1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79" autoRev="1" nodeType="withEffect" fill="hold" presetClass="emph" presetID="6">
                                  <p:stCondLst>
                                    <p:cond delay="800"/>
                                  </p:stCondLst>
                                  <p:childTnLst>
                                    <p:animScale>
                                      <p:cBhvr>
                                        <p:cTn id="880" dur="150" fill="hold"/>
                                        <p:tgtEl>
                                          <p:spTgt spid="194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881" nodeType="withEffect" fill="hold" presetClass="entr" presetID="23" presetSubtype="16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3" dur="2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4" dur="2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5" nodeType="withEffect" fill="hold" presetClass="path" presetID="0">
                                  <p:stCondLst>
                                    <p:cond delay="700"/>
                                  </p:stCondLst>
                                  <p:childTnLst>
                                    <p:animMotion origin="layout" path="M -4.375E-006 -0.00069 L -4.375E-006 0.0132 C 0.00118 -0.00439 0.00079 -0.02199 0.00026 -0.03865 C 0.00248 -0.01481 0.00365 0.01505 0.00196 0.04746 E">
                                      <p:cBhvr>
                                        <p:cTn id="886" dur="500" fill="hold"/>
                                        <p:tgtEl>
                                          <p:spTgt spid="1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87" autoRev="1" nodeType="withEffect" fill="hold" presetClass="emph" presetID="6">
                                  <p:stCondLst>
                                    <p:cond delay="900"/>
                                  </p:stCondLst>
                                  <p:childTnLst>
                                    <p:animScale>
                                      <p:cBhvr>
                                        <p:cTn id="888" dur="150" fill="hold"/>
                                        <p:tgtEl>
                                          <p:spTgt spid="195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889" nodeType="withEffect" fill="hold" presetClass="entr" presetID="23" presetSubtype="16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1" dur="2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2" dur="2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3" nodeType="withEffect" fill="hold" presetClass="path" presetID="0">
                                  <p:stCondLst>
                                    <p:cond delay="800"/>
                                  </p:stCondLst>
                                  <p:childTnLst>
                                    <p:animMotion origin="layout" path="M -4.375E-006 -0.00069 L -4.375E-006 0.0132 C 0.00118 -0.00439 0.00079 -0.02199 0.00026 -0.03865 C 0.00248 -0.01481 0.00365 0.01505 0.00196 0.04746 E">
                                      <p:cBhvr>
                                        <p:cTn id="894" dur="500" fill="hold"/>
                                        <p:tgtEl>
                                          <p:spTgt spid="1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95" autoRev="1" nodeType="withEffect" fill="hold" presetClass="emph" presetID="6">
                                  <p:stCondLst>
                                    <p:cond delay="1000"/>
                                  </p:stCondLst>
                                  <p:childTnLst>
                                    <p:animScale>
                                      <p:cBhvr>
                                        <p:cTn id="896" dur="150" fill="hold"/>
                                        <p:tgtEl>
                                          <p:spTgt spid="196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897" nodeType="withEffect" fill="hold" presetClass="entr" presetID="23" presetSubtype="16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9" dur="2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0" dur="2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1" nodeType="withEffect" fill="hold" presetClass="path" presetID="0">
                                  <p:stCondLst>
                                    <p:cond delay="900"/>
                                  </p:stCondLst>
                                  <p:childTnLst>
                                    <p:animMotion origin="layout" path="M -4.375E-006 -0.00069 L -4.375E-006 0.0132 C 0.00118 -0.00439 0.00079 -0.02199 0.00026 -0.03865 C 0.00248 -0.01481 0.00365 0.01505 0.00196 0.04746 E">
                                      <p:cBhvr>
                                        <p:cTn id="902" dur="500" fill="hold"/>
                                        <p:tgtEl>
                                          <p:spTgt spid="1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03" autoRev="1" nodeType="withEffect" fill="hold" presetClass="emph" presetID="6">
                                  <p:stCondLst>
                                    <p:cond delay="1100"/>
                                  </p:stCondLst>
                                  <p:childTnLst>
                                    <p:animScale>
                                      <p:cBhvr>
                                        <p:cTn id="904" dur="150" fill="hold"/>
                                        <p:tgtEl>
                                          <p:spTgt spid="197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905" nodeType="with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7" dur="2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8" dur="2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9" nodeType="withEffect" fill="hold" presetClass="path" presetID="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-4.375E-006 -0.00069 L -4.375E-006 0.0132 C 0.00118 -0.00439 0.00079 -0.02199 0.00026 -0.03865 C 0.00248 -0.01481 0.00365 0.01505 0.00196 0.04746 E">
                                      <p:cBhvr>
                                        <p:cTn id="910" dur="500" fill="hold"/>
                                        <p:tgtEl>
                                          <p:spTgt spid="1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11" autoRev="1" nodeType="withEffect" fill="hold" presetClass="emph" presetID="6">
                                  <p:stCondLst>
                                    <p:cond delay="1200"/>
                                  </p:stCondLst>
                                  <p:childTnLst>
                                    <p:animScale>
                                      <p:cBhvr>
                                        <p:cTn id="912" dur="150" fill="hold"/>
                                        <p:tgtEl>
                                          <p:spTgt spid="198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913" nodeType="withEffect" fill="hold" presetClass="entr" presetID="23" presetSubtype="16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5" dur="2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6" dur="2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7" nodeType="withEffect" fill="hold" presetClass="path" presetID="0">
                                  <p:stCondLst>
                                    <p:cond delay="1100"/>
                                  </p:stCondLst>
                                  <p:childTnLst>
                                    <p:animMotion origin="layout" path="M -4.375E-006 -0.00069 L -4.375E-006 0.0132 C 0.00118 -0.00439 0.00079 -0.02199 0.00026 -0.03865 C 0.00248 -0.01481 0.00365 0.01505 0.00196 0.04746 E">
                                      <p:cBhvr>
                                        <p:cTn id="918" dur="500" fill="hold"/>
                                        <p:tgtEl>
                                          <p:spTgt spid="1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19" autoRev="1" nodeType="withEffect" fill="hold" presetClass="emph" presetID="6">
                                  <p:stCondLst>
                                    <p:cond delay="1300"/>
                                  </p:stCondLst>
                                  <p:childTnLst>
                                    <p:animScale>
                                      <p:cBhvr>
                                        <p:cTn id="920" dur="150" fill="hold"/>
                                        <p:tgtEl>
                                          <p:spTgt spid="199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921" nodeType="withEffect" fill="hold" presetClass="entr" presetID="23" presetSubtype="16">
                                  <p:stCondLst>
                                    <p:cond delay="66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3" dur="2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2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5" nodeType="withEffect" fill="hold" presetClass="path" presetID="0">
                                  <p:stCondLst>
                                    <p:cond delay="660"/>
                                  </p:stCondLst>
                                  <p:childTnLst>
                                    <p:animMotion origin="layout" path="M -3.33333E-006 -0.00023 L 0.0017 -0.01736 L -0.00117 0.02315 C 0.00065 -0.00116 0.00417 -0.0331 0.00625 -0.05671 E">
                                      <p:cBhvr>
                                        <p:cTn id="926" dur="500" fill="hold"/>
                                        <p:tgtEl>
                                          <p:spTgt spid="2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27" autoRev="1" nodeType="withEffect" fill="hold" presetClass="emph" presetID="6">
                                  <p:stCondLst>
                                    <p:cond delay="900"/>
                                  </p:stCondLst>
                                  <p:childTnLst>
                                    <p:animScale>
                                      <p:cBhvr>
                                        <p:cTn id="928" dur="150" fill="hold"/>
                                        <p:tgtEl>
                                          <p:spTgt spid="200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929" nodeType="withEffect" fill="hold" presetClass="entr" presetID="23" presetSubtype="16">
                                  <p:stCondLst>
                                    <p:cond delay="72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1" dur="2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2" dur="2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3" nodeType="withEffect" fill="hold" presetClass="path" presetID="0">
                                  <p:stCondLst>
                                    <p:cond delay="720"/>
                                  </p:stCondLst>
                                  <p:childTnLst>
                                    <p:animMotion origin="layout" path="M -3.33333E-006 -0.00023 L 0.0017 -0.01736 L -0.00117 0.02315 C 0.00065 -0.00116 0.00417 -0.0331 0.00625 -0.05671 E">
                                      <p:cBhvr>
                                        <p:cTn id="934" dur="500" fill="hold"/>
                                        <p:tgtEl>
                                          <p:spTgt spid="2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35" autoRev="1" nodeType="withEffect" fill="hold" presetClass="emph" presetID="6">
                                  <p:stCondLst>
                                    <p:cond delay="900"/>
                                  </p:stCondLst>
                                  <p:childTnLst>
                                    <p:animScale>
                                      <p:cBhvr>
                                        <p:cTn id="936" dur="150" fill="hold"/>
                                        <p:tgtEl>
                                          <p:spTgt spid="201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937" nodeType="withEffect" fill="hold" presetClass="entr" presetID="23" presetSubtype="16">
                                  <p:stCondLst>
                                    <p:cond delay="78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9" dur="2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0" dur="2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1" nodeType="withEffect" fill="hold" presetClass="path" presetID="0">
                                  <p:stCondLst>
                                    <p:cond delay="780"/>
                                  </p:stCondLst>
                                  <p:childTnLst>
                                    <p:animMotion origin="layout" path="M -3.33333E-006 -0.00023 L 0.0017 -0.01736 L -0.00117 0.02315 C 0.00065 -0.00116 0.00417 -0.0331 0.00625 -0.05671 E">
                                      <p:cBhvr>
                                        <p:cTn id="942" dur="500" fill="hold"/>
                                        <p:tgtEl>
                                          <p:spTgt spid="2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43" autoRev="1" nodeType="withEffect" fill="hold" presetClass="emph" presetID="6">
                                  <p:stCondLst>
                                    <p:cond delay="1000"/>
                                  </p:stCondLst>
                                  <p:childTnLst>
                                    <p:animScale>
                                      <p:cBhvr>
                                        <p:cTn id="944" dur="150" fill="hold"/>
                                        <p:tgtEl>
                                          <p:spTgt spid="202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23" presetSubtype="16">
                                  <p:stCondLst>
                                    <p:cond delay="84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7" dur="2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8" dur="2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9" nodeType="withEffect" fill="hold" presetClass="path" presetID="0">
                                  <p:stCondLst>
                                    <p:cond delay="840"/>
                                  </p:stCondLst>
                                  <p:childTnLst>
                                    <p:animMotion origin="layout" path="M -3.33333E-006 -0.00023 L 0.0017 -0.01736 L -0.00117 0.02315 C 0.00065 -0.00116 0.00417 -0.0331 0.00625 -0.05671 E">
                                      <p:cBhvr>
                                        <p:cTn id="950" dur="500" fill="hold"/>
                                        <p:tgtEl>
                                          <p:spTgt spid="2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51" autoRev="1" nodeType="withEffect" fill="hold" presetClass="emph" presetID="6">
                                  <p:stCondLst>
                                    <p:cond delay="1100"/>
                                  </p:stCondLst>
                                  <p:childTnLst>
                                    <p:animScale>
                                      <p:cBhvr>
                                        <p:cTn id="952" dur="150" fill="hold"/>
                                        <p:tgtEl>
                                          <p:spTgt spid="203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953" nodeType="withEffect" fill="hold" presetClass="entr" presetID="23" presetSubtype="16">
                                  <p:stCondLst>
                                    <p:cond delay="98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5" dur="2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6" dur="2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7" nodeType="withEffect" fill="hold" presetClass="path" presetID="0">
                                  <p:stCondLst>
                                    <p:cond delay="980"/>
                                  </p:stCondLst>
                                  <p:childTnLst>
                                    <p:animMotion origin="layout" path="M -3.33333E-006 -0.00023 L 0.0017 -0.01736 L -0.00117 0.02315 C 0.00065 -0.00116 0.00417 -0.0331 0.00625 -0.05671 E">
                                      <p:cBhvr>
                                        <p:cTn id="958" dur="500" fill="hold"/>
                                        <p:tgtEl>
                                          <p:spTgt spid="2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59" autoRev="1" nodeType="withEffect" fill="hold" presetClass="emph" presetID="6">
                                  <p:stCondLst>
                                    <p:cond delay="1200"/>
                                  </p:stCondLst>
                                  <p:childTnLst>
                                    <p:animScale>
                                      <p:cBhvr>
                                        <p:cTn id="960" dur="150" fill="hold"/>
                                        <p:tgtEl>
                                          <p:spTgt spid="204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961" nodeType="withEffect" fill="hold" presetClass="entr" presetID="23" presetSubtype="16">
                                  <p:stCondLst>
                                    <p:cond delay="104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3" dur="2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" dur="2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5" nodeType="withEffect" fill="hold" presetClass="path" presetID="0">
                                  <p:stCondLst>
                                    <p:cond delay="1040"/>
                                  </p:stCondLst>
                                  <p:childTnLst>
                                    <p:animMotion origin="layout" path="M -3.33333E-006 -0.00023 L 0.0017 -0.01736 L -0.00117 0.02315 C 0.00065 -0.00116 0.00417 -0.0331 0.00625 -0.05671 E">
                                      <p:cBhvr>
                                        <p:cTn id="966" dur="500" fill="hold"/>
                                        <p:tgtEl>
                                          <p:spTgt spid="2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67" autoRev="1" nodeType="withEffect" fill="hold" presetClass="emph" presetID="6">
                                  <p:stCondLst>
                                    <p:cond delay="1300"/>
                                  </p:stCondLst>
                                  <p:childTnLst>
                                    <p:animScale>
                                      <p:cBhvr>
                                        <p:cTn id="968" dur="150" fill="hold"/>
                                        <p:tgtEl>
                                          <p:spTgt spid="207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969" nodeType="withEffect" fill="hold" presetClass="entr" presetID="23" presetSubtype="16">
                                  <p:stCondLst>
                                    <p:cond delay="108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1" dur="2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2" dur="2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3" nodeType="withEffect" fill="hold" presetClass="path" presetID="0">
                                  <p:stCondLst>
                                    <p:cond delay="1080"/>
                                  </p:stCondLst>
                                  <p:childTnLst>
                                    <p:animMotion origin="layout" path="M -3.33333E-006 -0.00023 L 0.0017 -0.01736 L -0.00117 0.02315 C 0.00065 -0.00116 0.00417 -0.0331 0.00625 -0.05671 E">
                                      <p:cBhvr>
                                        <p:cTn id="974" dur="500" fill="hold"/>
                                        <p:tgtEl>
                                          <p:spTgt spid="2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75" autoRev="1" nodeType="withEffect" fill="hold" presetClass="emph" presetID="6">
                                  <p:stCondLst>
                                    <p:cond delay="1300"/>
                                  </p:stCondLst>
                                  <p:childTnLst>
                                    <p:animScale>
                                      <p:cBhvr>
                                        <p:cTn id="976" dur="150" fill="hold"/>
                                        <p:tgtEl>
                                          <p:spTgt spid="208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977" nodeType="withEffect" fill="hold" presetClass="entr" presetID="23" presetSubtype="16">
                                  <p:stCondLst>
                                    <p:cond delay="114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9" dur="2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0" dur="2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1" nodeType="withEffect" fill="hold" presetClass="path" presetID="0">
                                  <p:stCondLst>
                                    <p:cond delay="1140"/>
                                  </p:stCondLst>
                                  <p:childTnLst>
                                    <p:animMotion origin="layout" path="M -3.33333E-006 -0.00023 L 0.0017 -0.01736 L -0.00117 0.02315 C 0.00065 -0.00116 0.00417 -0.0331 0.00625 -0.05671 E">
                                      <p:cBhvr>
                                        <p:cTn id="982" dur="500" fill="hold"/>
                                        <p:tgtEl>
                                          <p:spTgt spid="2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83" autoRev="1" nodeType="withEffect" fill="hold" presetClass="emph" presetID="6">
                                  <p:stCondLst>
                                    <p:cond delay="1400"/>
                                  </p:stCondLst>
                                  <p:childTnLst>
                                    <p:animScale>
                                      <p:cBhvr>
                                        <p:cTn id="984" dur="150" fill="hold"/>
                                        <p:tgtEl>
                                          <p:spTgt spid="209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985" nodeType="withEffect" fill="hold" presetClass="entr" presetID="23" presetSubtype="16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7" dur="2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8" dur="2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9" nodeType="withEffect" fill="hold" presetClass="path" presetID="0">
                                  <p:stCondLst>
                                    <p:cond delay="1200"/>
                                  </p:stCondLst>
                                  <p:childTnLst>
                                    <p:animMotion origin="layout" path="M -3.33333E-006 -0.00023 L 0.0017 -0.01736 L -0.00117 0.02315 C 0.00065 -0.00116 0.00417 -0.0331 0.00625 -0.05671 E">
                                      <p:cBhvr>
                                        <p:cTn id="990" dur="500" fill="hold"/>
                                        <p:tgtEl>
                                          <p:spTgt spid="2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91" autoRev="1" nodeType="withEffect" fill="hold" presetClass="emph" presetID="6">
                                  <p:stCondLst>
                                    <p:cond delay="1500"/>
                                  </p:stCondLst>
                                  <p:childTnLst>
                                    <p:animScale>
                                      <p:cBhvr>
                                        <p:cTn id="992" dur="150" fill="hold"/>
                                        <p:tgtEl>
                                          <p:spTgt spid="205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993" nodeType="withEffect" fill="hold" presetClass="entr" presetID="23" presetSubtype="16">
                                  <p:stCondLst>
                                    <p:cond delay="126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5" dur="2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6" dur="2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7" nodeType="withEffect" fill="hold" presetClass="path" presetID="0">
                                  <p:stCondLst>
                                    <p:cond delay="1260"/>
                                  </p:stCondLst>
                                  <p:childTnLst>
                                    <p:animMotion origin="layout" path="M -3.33333E-006 -0.00023 L 0.0017 -0.01736 L -0.00117 0.02315 C 0.00065 -0.00116 0.00417 -0.0331 0.00625 -0.05671 E">
                                      <p:cBhvr>
                                        <p:cTn id="998" dur="500" fill="hold"/>
                                        <p:tgtEl>
                                          <p:spTgt spid="2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99" autoRev="1" nodeType="withEffect" fill="hold" presetClass="emph" presetID="6">
                                  <p:stCondLst>
                                    <p:cond delay="1500"/>
                                  </p:stCondLst>
                                  <p:childTnLst>
                                    <p:animScale>
                                      <p:cBhvr>
                                        <p:cTn id="1000" dur="150" fill="hold"/>
                                        <p:tgtEl>
                                          <p:spTgt spid="206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1001" nodeType="withEffect" fill="hold" presetClass="entr" presetID="10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3" dur="75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4" dur="75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5" dur="75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6" nodeType="with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8" dur="75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9" dur="75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0" dur="75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1" nodeType="withEffect" fill="hold" presetClass="entr" presetID="10">
                                  <p:stCondLst>
                                    <p:cond delay="370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3" dur="75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4" dur="75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5" dur="75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2" presetSubtype="2">
                                  <p:stCondLst>
                                    <p:cond delay="470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8" dur="4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9" dur="4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0" nodeType="withEffect" fill="hold" presetClass="entr" presetID="2" presetSubtype="2">
                                  <p:stCondLst>
                                    <p:cond delay="480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2" dur="4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3" dur="4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4" nodeType="withEffect" fill="hold" presetClass="entr" presetID="2" presetSubtype="2">
                                  <p:stCondLst>
                                    <p:cond delay="490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6" dur="4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7" dur="4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8" nodeType="withEffect" fill="hold" presetClass="entr" presetID="2" presetSubtype="2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0" dur="4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1" dur="4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2" nodeType="withEffect" fill="hold" presetClass="entr" presetID="2" presetSubtype="2">
                                  <p:stCondLst>
                                    <p:cond delay="510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4" dur="4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5" dur="4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6" nodeType="withEffect" fill="hold" presetClass="entr" presetID="2" presetSubtype="2">
                                  <p:stCondLst>
                                    <p:cond delay="520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8" dur="4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9" dur="4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0" nodeType="withEffect" fill="hold" presetClass="entr" presetID="2" presetSubtype="2">
                                  <p:stCondLst>
                                    <p:cond delay="530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2" dur="4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3" dur="4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4" nodeType="withEffect" fill="hold" presetClass="entr" presetID="2" presetSubtype="8">
                                  <p:stCondLst>
                                    <p:cond delay="480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6" dur="4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7" dur="4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8" nodeType="withEffect" fill="hold" presetClass="entr" presetID="2" presetSubtype="8">
                                  <p:stCondLst>
                                    <p:cond delay="490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0" dur="4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1" dur="4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2" nodeType="withEffect" fill="hold" presetClass="entr" presetID="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4" dur="4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5" dur="4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6" nodeType="withEffect" fill="hold" presetClass="entr" presetID="2" presetSubtype="8">
                                  <p:stCondLst>
                                    <p:cond delay="510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8" dur="4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9" dur="4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0" nodeType="withEffect" fill="hold" presetClass="entr" presetID="2" presetSubtype="8">
                                  <p:stCondLst>
                                    <p:cond delay="530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2" dur="4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3" dur="4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4" nodeType="withEffect" fill="hold" presetClass="entr" presetID="2" presetSubtype="8">
                                  <p:stCondLst>
                                    <p:cond delay="540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6" dur="4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7" dur="4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8" nodeType="withEffect" fill="hold" presetClass="path" presetID="42">
                                  <p:stCondLst>
                                    <p:cond delay="6700"/>
                                  </p:stCondLst>
                                  <p:childTnLst>
                                    <p:animMotion origin="layout" path="M -2.5E-006 2.96296E-006 L -0.79323 0.00324 E">
                                      <p:cBhvr>
                                        <p:cTn id="1069" dur="500" fill="hold"/>
                                        <p:tgtEl>
                                          <p:spTgt spid="2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70" nodeType="withEffect" fill="hold" presetClass="path" presetID="42">
                                  <p:stCondLst>
                                    <p:cond delay="6800"/>
                                  </p:stCondLst>
                                  <p:childTnLst>
                                    <p:animMotion origin="layout" path="M 2.29167E-006 2.59259E-006 L -0.8418 -0.00162 E">
                                      <p:cBhvr>
                                        <p:cTn id="1071" dur="5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72" nodeType="withEffect" fill="hold" presetClass="path" presetID="42">
                                  <p:stCondLst>
                                    <p:cond delay="6900"/>
                                  </p:stCondLst>
                                  <p:childTnLst>
                                    <p:animMotion origin="layout" path="M -2.08333E-007 2.59259E-006 L -0.89388 0.00254 E">
                                      <p:cBhvr>
                                        <p:cTn id="1073" dur="500" fill="hold"/>
                                        <p:tgtEl>
                                          <p:spTgt spid="2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74" nodeType="withEffect" fill="hold" presetClass="path" presetID="42">
                                  <p:stCondLst>
                                    <p:cond delay="7000"/>
                                  </p:stCondLst>
                                  <p:childTnLst>
                                    <p:animMotion origin="layout" path="M 4.16667E-006 4.07407E-006 L -0.94792 4.07407E-006 E">
                                      <p:cBhvr>
                                        <p:cTn id="1075" dur="500" fill="hold"/>
                                        <p:tgtEl>
                                          <p:spTgt spid="2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76" nodeType="withEffect" fill="hold" presetClass="path" presetID="42">
                                  <p:stCondLst>
                                    <p:cond delay="7100"/>
                                  </p:stCondLst>
                                  <p:childTnLst>
                                    <p:animMotion origin="layout" path="M -1.04167E-006 -4.44444E-006 L -1.00651 -0.00069 E">
                                      <p:cBhvr>
                                        <p:cTn id="1077" dur="500" fill="hold"/>
                                        <p:tgtEl>
                                          <p:spTgt spid="2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78" nodeType="withEffect" fill="hold" presetClass="path" presetID="42">
                                  <p:stCondLst>
                                    <p:cond delay="7200"/>
                                  </p:stCondLst>
                                  <p:childTnLst>
                                    <p:animMotion origin="layout" path="M -8.33333E-007 -4.07407E-006 L -1.08073 0.00093 E">
                                      <p:cBhvr>
                                        <p:cTn id="1079" dur="500" fill="hold"/>
                                        <p:tgtEl>
                                          <p:spTgt spid="2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80" nodeType="withEffect" fill="hold" presetClass="path" presetID="42">
                                  <p:stCondLst>
                                    <p:cond delay="7300"/>
                                  </p:stCondLst>
                                  <p:childTnLst>
                                    <p:animMotion origin="layout" path="M -4.58333E-006 -1.11111E-006 L -1.15833 -0.00116 E">
                                      <p:cBhvr>
                                        <p:cTn id="1081" dur="500" fill="hold"/>
                                        <p:tgtEl>
                                          <p:spTgt spid="2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82" nodeType="withEffect" fill="hold" presetClass="path" presetID="42">
                                  <p:stCondLst>
                                    <p:cond delay="6700"/>
                                  </p:stCondLst>
                                  <p:childTnLst>
                                    <p:animMotion origin="layout" path="M -4.16667E-006 4.81481E-006 L 0.79714 0.00185 E">
                                      <p:cBhvr>
                                        <p:cTn id="1083" dur="500" fill="hold"/>
                                        <p:tgtEl>
                                          <p:spTgt spid="2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84" nodeType="withEffect" fill="hold" presetClass="path" presetID="42">
                                  <p:stCondLst>
                                    <p:cond delay="6800"/>
                                  </p:stCondLst>
                                  <p:childTnLst>
                                    <p:animMotion origin="layout" path="M 1.04167E-006 2.96296E-006 L 0.84336 0.00139 E">
                                      <p:cBhvr>
                                        <p:cTn id="1085" dur="500" fill="hold"/>
                                        <p:tgtEl>
                                          <p:spTgt spid="2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86" nodeType="withEffect" fill="hold" presetClass="path" presetID="42">
                                  <p:stCondLst>
                                    <p:cond delay="6900"/>
                                  </p:stCondLst>
                                  <p:childTnLst>
                                    <p:animMotion origin="layout" path="M 3.54167E-006 2.96296E-006 L 0.89544 0.00231 E">
                                      <p:cBhvr>
                                        <p:cTn id="1087" dur="500" fill="hold"/>
                                        <p:tgtEl>
                                          <p:spTgt spid="2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88" nodeType="withEffect" fill="hold" presetClass="path" presetID="42">
                                  <p:stCondLst>
                                    <p:cond delay="7000"/>
                                  </p:stCondLst>
                                  <p:childTnLst>
                                    <p:animMotion origin="layout" path="M -3.54167E-006 1.85185E-006 L 0.95404 0.00324 E">
                                      <p:cBhvr>
                                        <p:cTn id="1089" dur="500" fill="hold"/>
                                        <p:tgtEl>
                                          <p:spTgt spid="2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90" nodeType="withEffect" fill="hold" presetClass="path" presetID="42">
                                  <p:stCondLst>
                                    <p:cond delay="7200"/>
                                  </p:stCondLst>
                                  <p:childTnLst>
                                    <p:animMotion origin="layout" path="M -2.29167E-006 -2.59259E-006 L 1.10586 0.00023 E">
                                      <p:cBhvr>
                                        <p:cTn id="1091" dur="500" fill="hold"/>
                                        <p:tgtEl>
                                          <p:spTgt spid="2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92" nodeType="withEffect" fill="hold" presetClass="path" presetID="42">
                                  <p:stCondLst>
                                    <p:cond delay="7300"/>
                                  </p:stCondLst>
                                  <p:childTnLst>
                                    <p:animMotion origin="layout" path="M 1.45833E-006 -1.85185E-006 L 1.1819 -0.00185 E">
                                      <p:cBhvr>
                                        <p:cTn id="1093" dur="500" fill="hold"/>
                                        <p:tgtEl>
                                          <p:spTgt spid="2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24960" y="189000"/>
            <a:ext cx="1094292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 Light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44360" y="1269720"/>
            <a:ext cx="1190304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Rectangle 7"/>
          <p:cNvSpPr/>
          <p:nvPr/>
        </p:nvSpPr>
        <p:spPr>
          <a:xfrm>
            <a:off x="9715680" y="333360"/>
            <a:ext cx="185256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pt模板下载网站http://www.eeppt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21T12:11:46Z</dcterms:created>
  <dc:creator>www.eeppt.com</dc:creator>
  <dc:description>ppt模板下载网站 http://www.eeppt.com</dc:description>
  <cp:keywords>ppt模板下载网站 http:/www.eeppt.com</cp:keywords>
  <dc:language>en-US</dc:language>
  <cp:lastModifiedBy/>
  <dcterms:modified xsi:type="dcterms:W3CDTF">2015-05-20T15:57:45Z</dcterms:modified>
  <cp:revision>6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