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531-EB54-4D57-87BE-C948955D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68D-598C-4298-9895-FC174D46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EC74-974D-4B0A-96A9-1DBA287E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35F-B90E-45EA-87DD-9A9F085F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E867-007E-408B-9B11-30E3C35A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A3BD-C81B-4FD8-AFA1-2F184F9A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FDA2-E157-4983-B017-7EE726CF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7F9A-6BBF-4AE0-B934-0E6E45F8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47FD-E204-4C54-A3CB-6C8A74C1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65B6-91B8-400E-BEAA-241FD6AF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99C-ACEF-4F73-BC97-BC2A3136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2F01-FC2F-4E05-AE32-37D8C335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35E1-DB94-4899-91E9-40DECBC2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9D59-966A-4E66-8DAA-9DC140CD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0761-E83D-42B0-98D2-68AA693B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0E0B-2A5C-46A5-8884-D2BBB37D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353E-CA4E-4273-99CA-4CBAED84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AFD1-1D04-48F2-9976-6E31E8DB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487-95F5-4D25-B647-00FA9DDF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F0C3-252C-4296-9569-7A55006F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697-31B4-4B59-BD6C-2BCD2351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9D7-E580-449A-8FEA-E7056674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DB82-5D69-4CF9-B393-316C6A64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3E0-46AE-4CCB-B397-6FD83F80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600" y="1714680"/>
            <a:ext cx="80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506B-5B76-40CE-894D-DEBC7622EE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600" y="1714680"/>
            <a:ext cx="80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1F19-8098-4F1B-B47F-7AB6C9572EF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AC85-FB6B-454B-8D83-ED6D7F0FCB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"/>
          <p:cNvSpPr/>
          <p:nvPr/>
        </p:nvSpPr>
        <p:spPr>
          <a:xfrm>
            <a:off x="4214880" y="521172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5875200" y="5854680"/>
            <a:ext cx="2768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28880" y="50004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模板的使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28760" y="1928880"/>
            <a:ext cx="820728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配色方案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格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幻灯片设计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配色方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编辑配色方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添加修改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下调整。直接选择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括标题和文本格式的设置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0" y="5500800"/>
            <a:ext cx="3243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感谢您的关注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50:1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0:14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