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77B9-34C9-4121-9FDB-9EE96CC0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720072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3811680"/>
            <a:ext cx="720072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6641-22BF-4A43-BB89-DC0A736C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08920" y="76500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381168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08920" y="381168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53E8-5A4A-4AE7-B9FC-829B070C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23184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53960" y="765000"/>
            <a:ext cx="23184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8640" y="765000"/>
            <a:ext cx="23184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3811680"/>
            <a:ext cx="23184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53960" y="3811680"/>
            <a:ext cx="23184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8640" y="3811680"/>
            <a:ext cx="23184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5EF6-9115-4FE6-9AD1-BD8C7068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765000"/>
            <a:ext cx="7200720" cy="58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59E-571E-4691-8544-298D6661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7200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A7CD-1531-4BBD-ADDB-05ED3AA9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3513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08920" y="765000"/>
            <a:ext cx="3513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5020-7E70-4B7D-85E7-28099660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EA53-9CEF-4A5C-90C6-652AD896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79280" y="115560"/>
            <a:ext cx="68403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spcBef>
                <a:spcPts val="451"/>
              </a:spcBef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E9EB-3459-4AF3-AED9-F1D4571F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08920" y="765000"/>
            <a:ext cx="3513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381168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CFCE-955F-4ACA-8978-02E5F40E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3513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08920" y="76500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08920" y="381168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DC99-1269-4299-B6A2-5CFC8715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08920" y="76500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3811680"/>
            <a:ext cx="720072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8BE-7DC7-4D17-ACC7-BFEC74C8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"/>
          <p:cNvPicPr/>
          <p:nvPr/>
        </p:nvPicPr>
        <p:blipFill>
          <a:blip r:embed="rId2"/>
          <a:srcRect l="0" t="0" r="288" b="1642"/>
          <a:stretch/>
        </p:blipFill>
        <p:spPr>
          <a:xfrm>
            <a:off x="-7920" y="-4680"/>
            <a:ext cx="915192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</a:tabLst>
              <a:defRPr b="1" lang="zh-CN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</a:tabLst>
            </a:pPr>
            <a:fld id="{BA637F59-0590-47A2-82DD-F2978E9CDB91}" type="datetime">
              <a:rPr b="1" lang="zh-CN" sz="1200" spc="-1" strike="noStrike">
                <a:solidFill>
                  <a:srgbClr val="8b8b8b"/>
                </a:solidFill>
                <a:latin typeface="Arial"/>
                <a:ea typeface="微软雅黑"/>
              </a:rPr>
              <a:t>26/7/30</a:t>
            </a:fld>
            <a:endParaRPr b="1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</a:tabLst>
              <a:defRPr b="1" lang="zh-CN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</a:tabLst>
            </a:pPr>
            <a:fld id="{9CCD205F-D629-4AF3-B7D6-145B155DFA3D}" type="slidenum">
              <a:rPr b="1" lang="zh-CN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1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619280" y="765000"/>
            <a:ext cx="7200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c3c3c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51"/>
              </a:spcBef>
              <a:buClr>
                <a:srgbClr val="3c3c3c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451"/>
              </a:spcBef>
              <a:buClr>
                <a:srgbClr val="3c3c3c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3" marL="1371600">
              <a:lnSpc>
                <a:spcPct val="150000"/>
              </a:lnSpc>
              <a:spcBef>
                <a:spcPts val="451"/>
              </a:spcBef>
              <a:buClr>
                <a:srgbClr val="3c3c3c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4" marL="1828800">
              <a:lnSpc>
                <a:spcPct val="150000"/>
              </a:lnSpc>
              <a:spcBef>
                <a:spcPts val="451"/>
              </a:spcBef>
              <a:buClr>
                <a:srgbClr val="3c3c3c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5" marL="18288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6" marL="18288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/moban/gongzuo/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1"/>
          <a:srcRect l="576" t="390" r="576" b="2090"/>
          <a:stretch/>
        </p:blipFill>
        <p:spPr>
          <a:xfrm>
            <a:off x="19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575160"/>
            <a:ext cx="8137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5400" spc="-1" strike="noStrike">
                <a:solidFill>
                  <a:srgbClr val="3b3b3b"/>
                </a:solidFill>
                <a:latin typeface="微软雅黑"/>
                <a:ea typeface="微软雅黑"/>
              </a:rPr>
              <a:t>大学生职业生涯规划</a:t>
            </a:r>
            <a:r>
              <a:rPr b="1" lang="zh-CN" sz="5400" spc="-1" strike="noStrike">
                <a:solidFill>
                  <a:srgbClr val="3b3b3b"/>
                </a:solidFill>
                <a:latin typeface="微软雅黑"/>
                <a:ea typeface="微软雅黑"/>
              </a:rPr>
              <a:t>PPT</a:t>
            </a:r>
            <a:endParaRPr b="1" lang="en-US" sz="5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71360" y="5472720"/>
            <a:ext cx="3328560" cy="5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92000" y="692280"/>
            <a:ext cx="684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设定行动计划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26920" y="1773360"/>
            <a:ext cx="7848720" cy="4319640"/>
            <a:chOff x="826920" y="1773360"/>
            <a:chExt cx="7848720" cy="4319640"/>
          </a:xfrm>
        </p:grpSpPr>
        <p:sp>
          <p:nvSpPr>
            <p:cNvPr id="245" name=""/>
            <p:cNvSpPr/>
            <p:nvPr/>
          </p:nvSpPr>
          <p:spPr>
            <a:xfrm>
              <a:off x="2610000" y="1773360"/>
              <a:ext cx="6065640" cy="2094120"/>
            </a:xfrm>
            <a:prstGeom prst="rightArrow">
              <a:avLst>
                <a:gd name="adj1" fmla="val 75000"/>
                <a:gd name="adj2" fmla="val 49120"/>
              </a:avLst>
            </a:prstGeom>
            <a:solidFill>
              <a:srgbClr val="cae2f8">
                <a:alpha val="89000"/>
              </a:srgbClr>
            </a:solidFill>
            <a:ln w="25560">
              <a:solidFill>
                <a:srgbClr val="cae2f8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6920" y="2241000"/>
              <a:ext cx="1779480" cy="1159920"/>
            </a:xfrm>
            <a:prstGeom prst="roundRect">
              <a:avLst>
                <a:gd name="adj" fmla="val 16667"/>
              </a:avLst>
            </a:prstGeom>
            <a:solidFill>
              <a:srgbClr val="00ad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82360" y="2297520"/>
              <a:ext cx="1668240" cy="10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应对劣势</a:t>
              </a:r>
              <a:endParaRPr b="1" lang="en-US" sz="28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10000" y="3998880"/>
              <a:ext cx="6065640" cy="2094120"/>
            </a:xfrm>
            <a:prstGeom prst="rightArrow">
              <a:avLst>
                <a:gd name="adj1" fmla="val 75000"/>
                <a:gd name="adj2" fmla="val 49120"/>
              </a:avLst>
            </a:prstGeom>
            <a:solidFill>
              <a:srgbClr val="fee5c8">
                <a:alpha val="89000"/>
              </a:srgbClr>
            </a:solidFill>
            <a:ln w="25560">
              <a:solidFill>
                <a:srgbClr val="fee5c8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6920" y="4544640"/>
              <a:ext cx="1779480" cy="1159920"/>
            </a:xfrm>
            <a:prstGeom prst="roundRect">
              <a:avLst>
                <a:gd name="adj" fmla="val 16667"/>
              </a:avLst>
            </a:prstGeom>
            <a:solidFill>
              <a:srgbClr val="fdbe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82360" y="4601160"/>
              <a:ext cx="1668240" cy="10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应对威胁</a:t>
              </a:r>
              <a:endParaRPr b="1" lang="en-US" sz="28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B892-56DB-47DB-897D-56BABD675A6B}" type="slidenum">
              <a:t>10</a:t>
            </a:fld>
          </a:p>
        </p:txBody>
      </p:sp>
    </p:spTree>
  </p:cSld>
  <p:transition spd="slow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46200" y="476280"/>
            <a:ext cx="6842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个人生涯愿景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10960" y="836640"/>
            <a:ext cx="8936280" cy="5905440"/>
            <a:chOff x="210960" y="836640"/>
            <a:chExt cx="8936280" cy="5905440"/>
          </a:xfrm>
        </p:grpSpPr>
        <p:sp>
          <p:nvSpPr>
            <p:cNvPr id="253" name=""/>
            <p:cNvSpPr/>
            <p:nvPr/>
          </p:nvSpPr>
          <p:spPr>
            <a:xfrm>
              <a:off x="210960" y="836640"/>
              <a:ext cx="8936280" cy="1636560"/>
            </a:xfrm>
            <a:prstGeom prst="rightArrow">
              <a:avLst>
                <a:gd name="adj1" fmla="val 50000"/>
                <a:gd name="adj2" fmla="val 3974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0960" y="1245600"/>
              <a:ext cx="8611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254160" tIns="68760" bIns="20664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短期目标</a:t>
              </a:r>
              <a:endParaRPr b="1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10960" y="2101320"/>
              <a:ext cx="2059560" cy="302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a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0960" y="2101320"/>
              <a:ext cx="2059560" cy="30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70520" y="1381680"/>
              <a:ext cx="6876720" cy="1636560"/>
            </a:xfrm>
            <a:prstGeom prst="rightArrow">
              <a:avLst>
                <a:gd name="adj1" fmla="val 50000"/>
                <a:gd name="adj2" fmla="val 3974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70520" y="1791000"/>
              <a:ext cx="65512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254160" tIns="68760" bIns="20664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中期目标</a:t>
              </a:r>
              <a:endParaRPr b="1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70520" y="2646720"/>
              <a:ext cx="2059560" cy="295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70520" y="2646720"/>
              <a:ext cx="2059560" cy="29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30440" y="1927080"/>
              <a:ext cx="4816800" cy="1636560"/>
            </a:xfrm>
            <a:prstGeom prst="rightArrow">
              <a:avLst>
                <a:gd name="adj1" fmla="val 50000"/>
                <a:gd name="adj2" fmla="val 397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30440" y="2336400"/>
              <a:ext cx="44913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254160" tIns="68760" bIns="20664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长期目标</a:t>
              </a:r>
              <a:endParaRPr b="1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30440" y="3192120"/>
              <a:ext cx="2059560" cy="29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b0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30440" y="3192120"/>
              <a:ext cx="2059560" cy="29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90360" y="2472480"/>
              <a:ext cx="2756880" cy="1636560"/>
            </a:xfrm>
            <a:prstGeom prst="rightArrow">
              <a:avLst>
                <a:gd name="adj1" fmla="val 50000"/>
                <a:gd name="adj2" fmla="val 3974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90360" y="2881800"/>
              <a:ext cx="243144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254160" tIns="68760" bIns="20664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人生理想</a:t>
              </a:r>
              <a:endParaRPr b="1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90360" y="3737520"/>
              <a:ext cx="2078640" cy="30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ad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90360" y="3737520"/>
              <a:ext cx="2078640" cy="30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123B-3ACF-49AF-8C6C-B6C183F23151}" type="slidenum">
              <a:t>11</a:t>
            </a:fld>
          </a:p>
        </p:txBody>
      </p:sp>
    </p:spTree>
  </p:cSld>
  <p:transition spd="slow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03280" y="835200"/>
            <a:ext cx="6842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及时评估标准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618920" y="765000"/>
            <a:ext cx="7273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c3c3c"/>
              </a:buClr>
              <a:buSzPct val="25000"/>
              <a:buFont typeface="Arial"/>
              <a:buChar char="•"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29A9-046A-450E-B2F0-88BC7A4644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087640" y="2198520"/>
            <a:ext cx="540072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cademy Engraved LET"/>
              </a:rPr>
              <a:t>Thanks</a:t>
            </a:r>
            <a:br>
              <a:rPr sz="3600"/>
            </a:br>
            <a:r>
              <a:rPr b="0" lang="en-US" sz="3600" spc="-1" strike="noStrike">
                <a:solidFill>
                  <a:srgbClr val="262626"/>
                </a:solidFill>
                <a:latin typeface="Academy Engraved LET"/>
              </a:rPr>
              <a:t>Any Question</a:t>
            </a:r>
            <a:r>
              <a:rPr b="0" lang="zh-CN" sz="3600" spc="-1" strike="noStrike">
                <a:solidFill>
                  <a:srgbClr val="262626"/>
                </a:solidFill>
                <a:latin typeface="Academy Engraved LET"/>
              </a:rPr>
              <a:t>？</a:t>
            </a:r>
            <a:endParaRPr b="1" lang="en-US" sz="36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76920" y="4021560"/>
            <a:ext cx="3423600" cy="302400"/>
          </a:xfrm>
          <a:prstGeom prst="rect">
            <a:avLst/>
          </a:prstGeom>
          <a:solidFill>
            <a:srgbClr val="0082b3"/>
          </a:solidFill>
          <a:ln w="0">
            <a:noFill/>
          </a:ln>
        </p:spPr>
        <p:txBody>
          <a:bodyPr lIns="90000" rIns="90000" tIns="46800" bIns="46800" anchor="ctr">
            <a:normAutofit fontScale="65000"/>
          </a:bodyPr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谢谢大家</a:t>
            </a:r>
            <a:endParaRPr b="0" lang="en-US" sz="14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F8D1-FF38-4201-A147-BB6117D479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3c3c3c"/>
                </a:solidFill>
                <a:latin typeface="微软雅黑"/>
              </a:rPr>
              <a:t>使用规范说明</a:t>
            </a: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539640" y="1197000"/>
            <a:ext cx="8209080" cy="4280040"/>
            <a:chOff x="539640" y="1197000"/>
            <a:chExt cx="8209080" cy="4280040"/>
          </a:xfrm>
        </p:grpSpPr>
        <p:sp>
          <p:nvSpPr>
            <p:cNvPr id="46" name=""/>
            <p:cNvSpPr/>
            <p:nvPr/>
          </p:nvSpPr>
          <p:spPr>
            <a:xfrm>
              <a:off x="1186920" y="1197000"/>
              <a:ext cx="6979320" cy="4280040"/>
            </a:xfrm>
            <a:prstGeom prst="rightArrow">
              <a:avLst>
                <a:gd name="adj1" fmla="val 50000"/>
                <a:gd name="adj2" fmla="val 50007"/>
              </a:avLst>
            </a:prstGeom>
            <a:solidFill>
              <a:srgbClr val="cae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964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ad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364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个人生涯规划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2260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7696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自我认知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0592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b008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5992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职业生涯机会评估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8924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ade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4324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确定职业发展目标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220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bbb5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2656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设定行动计划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5552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ad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0952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及时评估调整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3884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9284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结束语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0524-943E-4525-921B-363C429A416C}" type="slidenum">
              <a:t>2</a:t>
            </a:fld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203640" y="8510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明确职业方向</a:t>
            </a:r>
            <a:endParaRPr b="1" lang="en-US" sz="4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3280" y="765000"/>
            <a:ext cx="6840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个人生涯愿景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98080" y="1773000"/>
            <a:ext cx="7481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96000" y="1052640"/>
            <a:ext cx="424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自我评估</a:t>
            </a:r>
            <a:endParaRPr b="1" lang="en-US" sz="7200" spc="-1" strike="noStrike">
              <a:solidFill>
                <a:srgbClr val="3c3c3c"/>
              </a:solidFill>
              <a:latin typeface="微软雅黑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24000" y="333360"/>
            <a:ext cx="4824360" cy="6048360"/>
            <a:chOff x="324000" y="333360"/>
            <a:chExt cx="4824360" cy="6048360"/>
          </a:xfrm>
        </p:grpSpPr>
        <p:sp>
          <p:nvSpPr>
            <p:cNvPr id="67" name=""/>
            <p:cNvSpPr/>
            <p:nvPr/>
          </p:nvSpPr>
          <p:spPr>
            <a:xfrm>
              <a:off x="324000" y="667800"/>
              <a:ext cx="4824360" cy="571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00a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4000" y="667800"/>
              <a:ext cx="4824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400" rIns="374400" tIns="414720" bIns="1130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14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5200" y="333360"/>
              <a:ext cx="3377160" cy="669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6880" y="365760"/>
              <a:ext cx="33138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0" bIns="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姓名</a:t>
              </a:r>
              <a:endParaRPr b="1" lang="en-US" sz="22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1696320"/>
              <a:ext cx="4824360" cy="571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4000" y="1696320"/>
              <a:ext cx="4824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400" rIns="374400" tIns="414720" bIns="1130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14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5200" y="1361880"/>
              <a:ext cx="3377160" cy="669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6880" y="1394280"/>
              <a:ext cx="33138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0" bIns="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学校</a:t>
              </a:r>
              <a:endParaRPr b="1" lang="en-US" sz="22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4000" y="2724840"/>
              <a:ext cx="4824360" cy="571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eb0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4000" y="2724840"/>
              <a:ext cx="4824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400" rIns="374400" tIns="414720" bIns="1130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14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5200" y="2390400"/>
              <a:ext cx="3377160" cy="669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6880" y="2422800"/>
              <a:ext cx="33138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0" bIns="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院系班级</a:t>
              </a:r>
              <a:endParaRPr b="1" lang="en-US" sz="22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4000" y="3753360"/>
              <a:ext cx="4824360" cy="571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00ad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4000" y="3753360"/>
              <a:ext cx="4824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400" rIns="374400" tIns="414720" bIns="1130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14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5200" y="3418920"/>
              <a:ext cx="3377160" cy="669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6880" y="3451320"/>
              <a:ext cx="33138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0" bIns="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性格</a:t>
              </a:r>
              <a:endParaRPr b="1" lang="en-US" sz="22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4781880"/>
              <a:ext cx="4824360" cy="571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4000" y="4781880"/>
              <a:ext cx="4824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400" rIns="374400" tIns="414720" bIns="1130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14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5200" y="4447440"/>
              <a:ext cx="3377160" cy="669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6880" y="4479840"/>
              <a:ext cx="33138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0" bIns="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兴趣爱好</a:t>
              </a:r>
              <a:endParaRPr b="1" lang="en-US" sz="22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000" y="5810400"/>
              <a:ext cx="4824360" cy="571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00a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4000" y="5810400"/>
              <a:ext cx="4824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400" rIns="374400" tIns="414720" bIns="1130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14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5200" y="5475960"/>
              <a:ext cx="3377160" cy="669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6880" y="5508360"/>
              <a:ext cx="33138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0" bIns="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自我评价 </a:t>
              </a:r>
              <a:endParaRPr b="1" lang="en-US" sz="22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956-71AD-4C55-B706-036ADEC319BF}" type="slidenum">
              <a:t>5</a:t>
            </a:fld>
          </a:p>
        </p:txBody>
      </p:sp>
    </p:spTree>
  </p:cSld>
  <p:transition spd="slow">
    <p:push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0920" y="404640"/>
            <a:ext cx="6842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环境评估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834920" y="1557360"/>
            <a:ext cx="6893280" cy="4906800"/>
            <a:chOff x="1834920" y="1557360"/>
            <a:chExt cx="6893280" cy="4906800"/>
          </a:xfrm>
        </p:grpSpPr>
        <p:sp>
          <p:nvSpPr>
            <p:cNvPr id="93" name=""/>
            <p:cNvSpPr/>
            <p:nvPr/>
          </p:nvSpPr>
          <p:spPr>
            <a:xfrm rot="5400000">
              <a:off x="1570320" y="1822680"/>
              <a:ext cx="1763640" cy="123444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234440"/>
                <a:gd name="textAreaBottom" fmla="*/ 1234800 h 123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1" y="0"/>
                  </a:lnTo>
                  <a:lnTo>
                    <a:pt x="21600" y="10800"/>
                  </a:lnTo>
                  <a:lnTo>
                    <a:pt x="14041" y="21600"/>
                  </a:lnTo>
                  <a:lnTo>
                    <a:pt x="0" y="21600"/>
                  </a:lnTo>
                  <a:lnTo>
                    <a:pt x="755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7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35280" y="2175480"/>
              <a:ext cx="12344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家庭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5325840" y="-698760"/>
              <a:ext cx="1146240" cy="565848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007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69720" y="1613160"/>
              <a:ext cx="5602320" cy="10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2240" rIns="41400" tIns="41400" bIns="4140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1213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5400000">
              <a:off x="1570320" y="3393720"/>
              <a:ext cx="1763640" cy="123444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234440"/>
                <a:gd name="textAreaBottom" fmla="*/ 1234800 h 123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1" y="0"/>
                  </a:lnTo>
                  <a:lnTo>
                    <a:pt x="21600" y="10800"/>
                  </a:lnTo>
                  <a:lnTo>
                    <a:pt x="14041" y="21600"/>
                  </a:lnTo>
                  <a:lnTo>
                    <a:pt x="0" y="21600"/>
                  </a:lnTo>
                  <a:lnTo>
                    <a:pt x="755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5db7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35280" y="3746520"/>
              <a:ext cx="12344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教育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5400000">
              <a:off x="5325840" y="872640"/>
              <a:ext cx="1146240" cy="565848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5db7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69720" y="3185280"/>
              <a:ext cx="5602320" cy="10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2240" rIns="41400" tIns="41400" bIns="4140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1213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5400000">
              <a:off x="1570320" y="4965120"/>
              <a:ext cx="1763640" cy="123444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234440"/>
                <a:gd name="textAreaBottom" fmla="*/ 1234800 h 123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1" y="0"/>
                  </a:lnTo>
                  <a:lnTo>
                    <a:pt x="21600" y="10800"/>
                  </a:lnTo>
                  <a:lnTo>
                    <a:pt x="14041" y="21600"/>
                  </a:lnTo>
                  <a:lnTo>
                    <a:pt x="0" y="21600"/>
                  </a:lnTo>
                  <a:lnTo>
                    <a:pt x="755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5db7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35280" y="5317920"/>
              <a:ext cx="12344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社会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5400000">
              <a:off x="5325840" y="2444040"/>
              <a:ext cx="1146240" cy="565848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5db7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69720" y="4756680"/>
              <a:ext cx="5602320" cy="10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2240" rIns="41400" tIns="41400" bIns="4140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1213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34EB-7A0A-42DD-A15A-DCA8BD9942F2}" type="slidenum">
              <a:t>6</a:t>
            </a:fld>
          </a:p>
        </p:txBody>
      </p:sp>
    </p:spTree>
  </p:cSld>
  <p:transition spd="slow">
    <p:blinds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5" descr=""/>
          <p:cNvPicPr/>
          <p:nvPr/>
        </p:nvPicPr>
        <p:blipFill>
          <a:blip r:embed="rId1"/>
          <a:stretch/>
        </p:blipFill>
        <p:spPr>
          <a:xfrm>
            <a:off x="1763640" y="1014480"/>
            <a:ext cx="6639120" cy="55832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6"/>
          <p:cNvSpPr/>
          <p:nvPr/>
        </p:nvSpPr>
        <p:spPr>
          <a:xfrm>
            <a:off x="4330800" y="3328920"/>
            <a:ext cx="15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gency FB"/>
                <a:ea typeface="微软雅黑"/>
              </a:rPr>
              <a:t>会展策划师</a:t>
            </a:r>
            <a:endParaRPr b="1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5989680" y="1332000"/>
            <a:ext cx="124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80000"/>
              </a:lnSpc>
              <a:tabLst>
                <a:tab algn="l" pos="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gency FB"/>
                <a:ea typeface="微软雅黑"/>
              </a:rPr>
              <a:t>01</a:t>
            </a:r>
            <a:endParaRPr b="1" lang="en-US" sz="5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7020000" y="4809960"/>
            <a:ext cx="124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80000"/>
              </a:lnSpc>
              <a:tabLst>
                <a:tab algn="l" pos="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gency FB"/>
                <a:ea typeface="微软雅黑"/>
              </a:rPr>
              <a:t>02</a:t>
            </a:r>
            <a:endParaRPr b="1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TextBox 21"/>
          <p:cNvSpPr/>
          <p:nvPr/>
        </p:nvSpPr>
        <p:spPr>
          <a:xfrm>
            <a:off x="2973240" y="5710320"/>
            <a:ext cx="124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80000"/>
              </a:lnSpc>
              <a:tabLst>
                <a:tab algn="l" pos="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gency FB"/>
                <a:ea typeface="微软雅黑"/>
              </a:rPr>
              <a:t>03</a:t>
            </a:r>
            <a:endParaRPr b="1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TextBox 23"/>
          <p:cNvSpPr/>
          <p:nvPr/>
        </p:nvSpPr>
        <p:spPr>
          <a:xfrm>
            <a:off x="1979640" y="2184480"/>
            <a:ext cx="124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80000"/>
              </a:lnSpc>
              <a:tabLst>
                <a:tab algn="l" pos="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gency FB"/>
                <a:ea typeface="微软雅黑"/>
              </a:rPr>
              <a:t>04</a:t>
            </a:r>
            <a:endParaRPr b="1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标题 1"/>
          <p:cNvSpPr/>
          <p:nvPr/>
        </p:nvSpPr>
        <p:spPr>
          <a:xfrm>
            <a:off x="1879560" y="252360"/>
            <a:ext cx="68407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3b3b3b"/>
                </a:solidFill>
                <a:latin typeface="微软雅黑"/>
                <a:ea typeface="微软雅黑"/>
              </a:rPr>
              <a:t>职业认识</a:t>
            </a:r>
            <a:endParaRPr b="1" lang="en-US" sz="4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46320" y="36684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个人职业定位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pic>
        <p:nvPicPr>
          <p:cNvPr id="113" name="Picture 125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2994120" y="5386320"/>
            <a:ext cx="4110120" cy="113832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166"/>
          <p:cNvGrpSpPr/>
          <p:nvPr/>
        </p:nvGrpSpPr>
        <p:grpSpPr>
          <a:xfrm>
            <a:off x="3282840" y="2144880"/>
            <a:ext cx="3471840" cy="3466800"/>
            <a:chOff x="3282840" y="2144880"/>
            <a:chExt cx="3471840" cy="3466800"/>
          </a:xfrm>
        </p:grpSpPr>
        <p:sp>
          <p:nvSpPr>
            <p:cNvPr id="115" name="Oval 6"/>
            <p:cNvSpPr/>
            <p:nvPr/>
          </p:nvSpPr>
          <p:spPr>
            <a:xfrm>
              <a:off x="3282840" y="2144880"/>
              <a:ext cx="3471840" cy="346680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16" name="Oval 8"/>
            <p:cNvSpPr/>
            <p:nvPr/>
          </p:nvSpPr>
          <p:spPr>
            <a:xfrm>
              <a:off x="3294000" y="2153880"/>
              <a:ext cx="3449520" cy="3447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17" name="Oval 9"/>
            <p:cNvSpPr/>
            <p:nvPr/>
          </p:nvSpPr>
          <p:spPr>
            <a:xfrm>
              <a:off x="3649680" y="2509560"/>
              <a:ext cx="2739960" cy="2738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3992400" y="2850840"/>
              <a:ext cx="2052720" cy="205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4316400" y="3176280"/>
              <a:ext cx="1407960" cy="14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 flipV="1">
              <a:off x="4597200" y="3455640"/>
              <a:ext cx="846360" cy="846000"/>
            </a:xfrm>
            <a:prstGeom prst="ellipse">
              <a:avLst/>
            </a:pr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1" name="Text Box 67"/>
            <p:cNvSpPr/>
            <p:nvPr/>
          </p:nvSpPr>
          <p:spPr>
            <a:xfrm>
              <a:off x="4902120" y="2296800"/>
              <a:ext cx="2649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</a:tabLst>
              </a:pPr>
              <a:r>
                <a:rPr b="1" lang="en-US" sz="2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1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2" name="Text Box 67"/>
            <p:cNvSpPr/>
            <p:nvPr/>
          </p:nvSpPr>
          <p:spPr>
            <a:xfrm>
              <a:off x="4902120" y="2636640"/>
              <a:ext cx="2649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</a:tabLst>
              </a:pPr>
              <a:r>
                <a:rPr b="1" lang="en-US" sz="2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2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3" name="Text Box 67"/>
            <p:cNvSpPr/>
            <p:nvPr/>
          </p:nvSpPr>
          <p:spPr>
            <a:xfrm>
              <a:off x="4902120" y="2962080"/>
              <a:ext cx="2649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4" name="Text Box 67"/>
            <p:cNvSpPr/>
            <p:nvPr/>
          </p:nvSpPr>
          <p:spPr>
            <a:xfrm>
              <a:off x="4902120" y="3314520"/>
              <a:ext cx="264960" cy="2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</a:tabLst>
              </a:pPr>
              <a:r>
                <a:rPr b="1" lang="en-US" sz="2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4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125" name="Group 117"/>
          <p:cNvGrpSpPr/>
          <p:nvPr/>
        </p:nvGrpSpPr>
        <p:grpSpPr>
          <a:xfrm>
            <a:off x="4191120" y="3208320"/>
            <a:ext cx="609480" cy="609480"/>
            <a:chOff x="4191120" y="3208320"/>
            <a:chExt cx="609480" cy="609480"/>
          </a:xfrm>
        </p:grpSpPr>
        <p:sp>
          <p:nvSpPr>
            <p:cNvPr id="126" name="Oval 113"/>
            <p:cNvSpPr/>
            <p:nvPr/>
          </p:nvSpPr>
          <p:spPr>
            <a:xfrm>
              <a:off x="4286520" y="3303720"/>
              <a:ext cx="419040" cy="41904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7" name="Oval 115"/>
            <p:cNvSpPr/>
            <p:nvPr/>
          </p:nvSpPr>
          <p:spPr>
            <a:xfrm>
              <a:off x="4407120" y="3424320"/>
              <a:ext cx="177840" cy="177840"/>
            </a:xfrm>
            <a:prstGeom prst="ellipse">
              <a:avLst/>
            </a:prstGeom>
            <a:solidFill>
              <a:srgbClr val="bcbcbc"/>
            </a:solidFill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8" name="Oval 116"/>
            <p:cNvSpPr/>
            <p:nvPr/>
          </p:nvSpPr>
          <p:spPr>
            <a:xfrm>
              <a:off x="4191120" y="3208320"/>
              <a:ext cx="609480" cy="60948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129" name="Group 135"/>
          <p:cNvGrpSpPr/>
          <p:nvPr/>
        </p:nvGrpSpPr>
        <p:grpSpPr>
          <a:xfrm>
            <a:off x="5305320" y="3352680"/>
            <a:ext cx="609480" cy="609480"/>
            <a:chOff x="5305320" y="3352680"/>
            <a:chExt cx="609480" cy="609480"/>
          </a:xfrm>
        </p:grpSpPr>
        <p:sp>
          <p:nvSpPr>
            <p:cNvPr id="130" name="Oval 136"/>
            <p:cNvSpPr/>
            <p:nvPr/>
          </p:nvSpPr>
          <p:spPr>
            <a:xfrm>
              <a:off x="5400720" y="3448080"/>
              <a:ext cx="419040" cy="41904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31" name="Oval 137"/>
            <p:cNvSpPr/>
            <p:nvPr/>
          </p:nvSpPr>
          <p:spPr>
            <a:xfrm>
              <a:off x="5521320" y="3568680"/>
              <a:ext cx="177840" cy="177840"/>
            </a:xfrm>
            <a:prstGeom prst="ellipse">
              <a:avLst/>
            </a:prstGeom>
            <a:solidFill>
              <a:srgbClr val="5f5f5f"/>
            </a:solidFill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32" name="Oval 138"/>
            <p:cNvSpPr/>
            <p:nvPr/>
          </p:nvSpPr>
          <p:spPr>
            <a:xfrm>
              <a:off x="5305320" y="3352680"/>
              <a:ext cx="609480" cy="60948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133" name="Group 139"/>
          <p:cNvGrpSpPr/>
          <p:nvPr/>
        </p:nvGrpSpPr>
        <p:grpSpPr>
          <a:xfrm>
            <a:off x="4728240" y="3162240"/>
            <a:ext cx="722520" cy="722880"/>
            <a:chOff x="4728240" y="3162240"/>
            <a:chExt cx="722520" cy="722880"/>
          </a:xfrm>
        </p:grpSpPr>
        <p:sp>
          <p:nvSpPr>
            <p:cNvPr id="134" name="Oval 140"/>
            <p:cNvSpPr/>
            <p:nvPr/>
          </p:nvSpPr>
          <p:spPr>
            <a:xfrm rot="15481200">
              <a:off x="4879800" y="3313800"/>
              <a:ext cx="419040" cy="41904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35" name="Oval 141"/>
            <p:cNvSpPr/>
            <p:nvPr/>
          </p:nvSpPr>
          <p:spPr>
            <a:xfrm rot="15481200">
              <a:off x="5000400" y="3434760"/>
              <a:ext cx="177840" cy="177840"/>
            </a:xfrm>
            <a:prstGeom prst="ellipse">
              <a:avLst/>
            </a:prstGeom>
            <a:solidFill>
              <a:srgbClr val="6d0303"/>
            </a:solidFill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36" name="Oval 142"/>
            <p:cNvSpPr/>
            <p:nvPr/>
          </p:nvSpPr>
          <p:spPr>
            <a:xfrm rot="15481200">
              <a:off x="4784400" y="3218760"/>
              <a:ext cx="609480" cy="60948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137" name="Group 203"/>
          <p:cNvGrpSpPr/>
          <p:nvPr/>
        </p:nvGrpSpPr>
        <p:grpSpPr>
          <a:xfrm>
            <a:off x="2544840" y="2384280"/>
            <a:ext cx="1953720" cy="1729080"/>
            <a:chOff x="2544840" y="2384280"/>
            <a:chExt cx="1953720" cy="1729080"/>
          </a:xfrm>
        </p:grpSpPr>
        <p:grpSp>
          <p:nvGrpSpPr>
            <p:cNvPr id="138" name="Group 204"/>
            <p:cNvGrpSpPr/>
            <p:nvPr/>
          </p:nvGrpSpPr>
          <p:grpSpPr>
            <a:xfrm>
              <a:off x="2544840" y="2384280"/>
              <a:ext cx="1864440" cy="1729080"/>
              <a:chOff x="2544840" y="2384280"/>
              <a:chExt cx="1864440" cy="1729080"/>
            </a:xfrm>
          </p:grpSpPr>
          <p:sp>
            <p:nvSpPr>
              <p:cNvPr id="139" name="Freeform 205"/>
              <p:cNvSpPr/>
              <p:nvPr/>
            </p:nvSpPr>
            <p:spPr>
              <a:xfrm rot="19522800">
                <a:off x="3452040" y="2945160"/>
                <a:ext cx="779040" cy="869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40" name="Freeform 206"/>
              <p:cNvSpPr/>
              <p:nvPr/>
            </p:nvSpPr>
            <p:spPr>
              <a:xfrm rot="19522800">
                <a:off x="2656800" y="3145320"/>
                <a:ext cx="1069200" cy="728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9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41" name="Freeform 207"/>
              <p:cNvSpPr/>
              <p:nvPr/>
            </p:nvSpPr>
            <p:spPr>
              <a:xfrm rot="19522800">
                <a:off x="2851920" y="2517120"/>
                <a:ext cx="816840" cy="1114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4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42" name="Freeform 208"/>
              <p:cNvSpPr/>
              <p:nvPr/>
            </p:nvSpPr>
            <p:spPr>
              <a:xfrm rot="19522800">
                <a:off x="3090600" y="3008880"/>
                <a:ext cx="640440" cy="88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9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43" name="Freeform 209"/>
              <p:cNvSpPr/>
              <p:nvPr/>
            </p:nvSpPr>
            <p:spPr>
              <a:xfrm rot="19522800">
                <a:off x="2966760" y="2887200"/>
                <a:ext cx="926280" cy="673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1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0"/>
            <p:cNvGrpSpPr/>
            <p:nvPr/>
          </p:nvGrpSpPr>
          <p:grpSpPr>
            <a:xfrm>
              <a:off x="4110120" y="3341160"/>
              <a:ext cx="388440" cy="304200"/>
              <a:chOff x="4110120" y="3341160"/>
              <a:chExt cx="388440" cy="304200"/>
            </a:xfrm>
          </p:grpSpPr>
          <p:sp>
            <p:nvSpPr>
              <p:cNvPr id="145" name="Freeform 211"/>
              <p:cNvSpPr/>
              <p:nvPr/>
            </p:nvSpPr>
            <p:spPr>
              <a:xfrm rot="19522800">
                <a:off x="4343400" y="3443400"/>
                <a:ext cx="129960" cy="127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1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46" name="Freeform 212"/>
              <p:cNvSpPr/>
              <p:nvPr/>
            </p:nvSpPr>
            <p:spPr>
              <a:xfrm rot="19522800">
                <a:off x="4150800" y="3385800"/>
                <a:ext cx="224640" cy="214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9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213"/>
            <p:cNvGrpSpPr/>
            <p:nvPr/>
          </p:nvGrpSpPr>
          <p:grpSpPr>
            <a:xfrm>
              <a:off x="4128480" y="3395880"/>
              <a:ext cx="267840" cy="166680"/>
              <a:chOff x="4128480" y="3395880"/>
              <a:chExt cx="267840" cy="166680"/>
            </a:xfrm>
          </p:grpSpPr>
          <p:sp>
            <p:nvSpPr>
              <p:cNvPr id="148" name="Freeform 214"/>
              <p:cNvSpPr/>
              <p:nvPr/>
            </p:nvSpPr>
            <p:spPr>
              <a:xfrm rot="19522800">
                <a:off x="4173120" y="3430800"/>
                <a:ext cx="127440" cy="104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49" name="Freeform 215"/>
              <p:cNvSpPr/>
              <p:nvPr/>
            </p:nvSpPr>
            <p:spPr>
              <a:xfrm rot="19522800">
                <a:off x="4147560" y="3423960"/>
                <a:ext cx="132840" cy="109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50" name="Freeform 216"/>
              <p:cNvSpPr/>
              <p:nvPr/>
            </p:nvSpPr>
            <p:spPr>
              <a:xfrm rot="19522800">
                <a:off x="4195080" y="3436920"/>
                <a:ext cx="123120" cy="99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51" name="Freeform 217"/>
              <p:cNvSpPr/>
              <p:nvPr/>
            </p:nvSpPr>
            <p:spPr>
              <a:xfrm rot="19522800">
                <a:off x="4262040" y="3455280"/>
                <a:ext cx="104040" cy="83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52" name="Freeform 218"/>
              <p:cNvSpPr/>
              <p:nvPr/>
            </p:nvSpPr>
            <p:spPr>
              <a:xfrm rot="19522800">
                <a:off x="4242960" y="3450240"/>
                <a:ext cx="107640" cy="89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53" name="Freeform 219"/>
              <p:cNvSpPr/>
              <p:nvPr/>
            </p:nvSpPr>
            <p:spPr>
              <a:xfrm rot="19522800">
                <a:off x="4281840" y="3459600"/>
                <a:ext cx="99720" cy="81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257"/>
          <p:cNvGrpSpPr/>
          <p:nvPr/>
        </p:nvGrpSpPr>
        <p:grpSpPr>
          <a:xfrm>
            <a:off x="5601600" y="2478240"/>
            <a:ext cx="2000160" cy="1701360"/>
            <a:chOff x="5601600" y="2478240"/>
            <a:chExt cx="2000160" cy="1701360"/>
          </a:xfrm>
        </p:grpSpPr>
        <p:grpSp>
          <p:nvGrpSpPr>
            <p:cNvPr id="155" name="Group 254"/>
            <p:cNvGrpSpPr/>
            <p:nvPr/>
          </p:nvGrpSpPr>
          <p:grpSpPr>
            <a:xfrm>
              <a:off x="5686920" y="2478240"/>
              <a:ext cx="1914840" cy="1701360"/>
              <a:chOff x="5686920" y="2478240"/>
              <a:chExt cx="1914840" cy="1701360"/>
            </a:xfrm>
          </p:grpSpPr>
          <p:sp>
            <p:nvSpPr>
              <p:cNvPr id="156" name="Freeform 239"/>
              <p:cNvSpPr/>
              <p:nvPr/>
            </p:nvSpPr>
            <p:spPr>
              <a:xfrm rot="7222800">
                <a:off x="5869800" y="3078720"/>
                <a:ext cx="778320" cy="870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5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57" name="Freeform 240"/>
              <p:cNvSpPr/>
              <p:nvPr/>
            </p:nvSpPr>
            <p:spPr>
              <a:xfrm rot="7222800">
                <a:off x="6261120" y="2759040"/>
                <a:ext cx="1068480" cy="728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58" name="Freeform 241"/>
              <p:cNvSpPr/>
              <p:nvPr/>
            </p:nvSpPr>
            <p:spPr>
              <a:xfrm rot="7222800">
                <a:off x="6506280" y="2988360"/>
                <a:ext cx="816480" cy="1114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7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59" name="Freeform 242"/>
              <p:cNvSpPr/>
              <p:nvPr/>
            </p:nvSpPr>
            <p:spPr>
              <a:xfrm rot="7222800">
                <a:off x="6299280" y="2820960"/>
                <a:ext cx="638640" cy="887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60" name="Freeform 243"/>
              <p:cNvSpPr/>
              <p:nvPr/>
            </p:nvSpPr>
            <p:spPr>
              <a:xfrm rot="7222800">
                <a:off x="6236280" y="3141720"/>
                <a:ext cx="92412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256"/>
            <p:cNvGrpSpPr/>
            <p:nvPr/>
          </p:nvGrpSpPr>
          <p:grpSpPr>
            <a:xfrm>
              <a:off x="5601600" y="3437640"/>
              <a:ext cx="375840" cy="303120"/>
              <a:chOff x="5601600" y="3437640"/>
              <a:chExt cx="375840" cy="303120"/>
            </a:xfrm>
          </p:grpSpPr>
          <p:sp>
            <p:nvSpPr>
              <p:cNvPr id="162" name="Freeform 245"/>
              <p:cNvSpPr/>
              <p:nvPr/>
            </p:nvSpPr>
            <p:spPr>
              <a:xfrm rot="7222800">
                <a:off x="5625000" y="3573360"/>
                <a:ext cx="130320" cy="129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63" name="Freeform 246"/>
              <p:cNvSpPr/>
              <p:nvPr/>
            </p:nvSpPr>
            <p:spPr>
              <a:xfrm rot="7222800">
                <a:off x="5714640" y="3481200"/>
                <a:ext cx="225360" cy="215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255"/>
            <p:cNvGrpSpPr/>
            <p:nvPr/>
          </p:nvGrpSpPr>
          <p:grpSpPr>
            <a:xfrm>
              <a:off x="5704560" y="3494160"/>
              <a:ext cx="256680" cy="178200"/>
              <a:chOff x="5704560" y="3494160"/>
              <a:chExt cx="256680" cy="178200"/>
            </a:xfrm>
          </p:grpSpPr>
          <p:sp>
            <p:nvSpPr>
              <p:cNvPr id="165" name="Freeform 248"/>
              <p:cNvSpPr/>
              <p:nvPr/>
            </p:nvSpPr>
            <p:spPr>
              <a:xfrm rot="7222800">
                <a:off x="5797080" y="3533760"/>
                <a:ext cx="12564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66" name="Freeform 249"/>
              <p:cNvSpPr/>
              <p:nvPr/>
            </p:nvSpPr>
            <p:spPr>
              <a:xfrm rot="7222800">
                <a:off x="5814360" y="3524040"/>
                <a:ext cx="132120" cy="109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67" name="Freeform 250"/>
              <p:cNvSpPr/>
              <p:nvPr/>
            </p:nvSpPr>
            <p:spPr>
              <a:xfrm rot="7222800">
                <a:off x="5776200" y="3540960"/>
                <a:ext cx="120600" cy="98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68" name="Freeform 251"/>
              <p:cNvSpPr/>
              <p:nvPr/>
            </p:nvSpPr>
            <p:spPr>
              <a:xfrm rot="7222800">
                <a:off x="5732280" y="3565080"/>
                <a:ext cx="103680" cy="82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69" name="Freeform 252"/>
              <p:cNvSpPr/>
              <p:nvPr/>
            </p:nvSpPr>
            <p:spPr>
              <a:xfrm rot="7222800">
                <a:off x="5746320" y="3556440"/>
                <a:ext cx="106920" cy="88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70" name="Freeform 253"/>
              <p:cNvSpPr/>
              <p:nvPr/>
            </p:nvSpPr>
            <p:spPr>
              <a:xfrm rot="7222800">
                <a:off x="5715720" y="3567600"/>
                <a:ext cx="99000" cy="82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Group 295"/>
          <p:cNvGrpSpPr/>
          <p:nvPr/>
        </p:nvGrpSpPr>
        <p:grpSpPr>
          <a:xfrm>
            <a:off x="5237640" y="4020480"/>
            <a:ext cx="1553040" cy="1597680"/>
            <a:chOff x="5237640" y="4020480"/>
            <a:chExt cx="1553040" cy="1597680"/>
          </a:xfrm>
        </p:grpSpPr>
        <p:grpSp>
          <p:nvGrpSpPr>
            <p:cNvPr id="172" name="Group 292"/>
            <p:cNvGrpSpPr/>
            <p:nvPr/>
          </p:nvGrpSpPr>
          <p:grpSpPr>
            <a:xfrm>
              <a:off x="5296320" y="4073400"/>
              <a:ext cx="1494360" cy="1544760"/>
              <a:chOff x="5296320" y="4073400"/>
              <a:chExt cx="1494360" cy="1544760"/>
            </a:xfrm>
          </p:grpSpPr>
          <p:sp>
            <p:nvSpPr>
              <p:cNvPr id="173" name="Freeform 277"/>
              <p:cNvSpPr/>
              <p:nvPr/>
            </p:nvSpPr>
            <p:spPr>
              <a:xfrm rot="10843800">
                <a:off x="5301720" y="4078080"/>
                <a:ext cx="755640" cy="844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15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74" name="Freeform 278"/>
              <p:cNvSpPr/>
              <p:nvPr/>
            </p:nvSpPr>
            <p:spPr>
              <a:xfrm rot="10843800">
                <a:off x="5747760" y="4410000"/>
                <a:ext cx="1038240" cy="707760"/>
              </a:xfrm>
              <a:prstGeom prst="pie">
                <a:avLst/>
              </a:pr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75" name="Freeform 279"/>
              <p:cNvSpPr/>
              <p:nvPr/>
            </p:nvSpPr>
            <p:spPr>
              <a:xfrm rot="10843800">
                <a:off x="5572080" y="4530600"/>
                <a:ext cx="792000" cy="1082520"/>
              </a:xfrm>
              <a:prstGeom prst="pie">
                <a:avLst/>
              </a:pr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76" name="Freeform 280"/>
              <p:cNvSpPr/>
              <p:nvPr/>
            </p:nvSpPr>
            <p:spPr>
              <a:xfrm rot="10843800">
                <a:off x="5751360" y="4256280"/>
                <a:ext cx="620640" cy="860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77" name="Freeform 281"/>
              <p:cNvSpPr/>
              <p:nvPr/>
            </p:nvSpPr>
            <p:spPr>
              <a:xfrm rot="10843800">
                <a:off x="5469840" y="4527360"/>
                <a:ext cx="898560" cy="655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8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294"/>
            <p:cNvGrpSpPr/>
            <p:nvPr/>
          </p:nvGrpSpPr>
          <p:grpSpPr>
            <a:xfrm>
              <a:off x="5237640" y="4020480"/>
              <a:ext cx="281520" cy="262080"/>
              <a:chOff x="5237640" y="4020480"/>
              <a:chExt cx="281520" cy="262080"/>
            </a:xfrm>
          </p:grpSpPr>
          <p:sp>
            <p:nvSpPr>
              <p:cNvPr id="179" name="Freeform 283"/>
              <p:cNvSpPr/>
              <p:nvPr/>
            </p:nvSpPr>
            <p:spPr>
              <a:xfrm rot="10843800">
                <a:off x="5238360" y="4020840"/>
                <a:ext cx="127080" cy="125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8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80" name="Freeform 284"/>
              <p:cNvSpPr/>
              <p:nvPr/>
            </p:nvSpPr>
            <p:spPr>
              <a:xfrm rot="10843800">
                <a:off x="5300280" y="4073400"/>
                <a:ext cx="217440" cy="20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293"/>
            <p:cNvGrpSpPr/>
            <p:nvPr/>
          </p:nvGrpSpPr>
          <p:grpSpPr>
            <a:xfrm>
              <a:off x="5309280" y="4092120"/>
              <a:ext cx="198360" cy="175320"/>
              <a:chOff x="5309280" y="4092120"/>
              <a:chExt cx="198360" cy="175320"/>
            </a:xfrm>
          </p:grpSpPr>
          <p:sp>
            <p:nvSpPr>
              <p:cNvPr id="182" name="Freeform 286"/>
              <p:cNvSpPr/>
              <p:nvPr/>
            </p:nvSpPr>
            <p:spPr>
              <a:xfrm rot="10843800">
                <a:off x="5363640" y="4147560"/>
                <a:ext cx="123840" cy="100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83" name="Freeform 287"/>
              <p:cNvSpPr/>
              <p:nvPr/>
            </p:nvSpPr>
            <p:spPr>
              <a:xfrm rot="10843800">
                <a:off x="5376240" y="4160160"/>
                <a:ext cx="130320" cy="10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84" name="Freeform 288"/>
              <p:cNvSpPr/>
              <p:nvPr/>
            </p:nvSpPr>
            <p:spPr>
              <a:xfrm rot="10843800">
                <a:off x="5350680" y="4138200"/>
                <a:ext cx="120600" cy="95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85" name="Freeform 289"/>
              <p:cNvSpPr/>
              <p:nvPr/>
            </p:nvSpPr>
            <p:spPr>
              <a:xfrm rot="10843800">
                <a:off x="5322240" y="4101480"/>
                <a:ext cx="101880" cy="81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86" name="Freeform 290"/>
              <p:cNvSpPr/>
              <p:nvPr/>
            </p:nvSpPr>
            <p:spPr>
              <a:xfrm rot="10843800">
                <a:off x="5330160" y="4113000"/>
                <a:ext cx="10656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87" name="Freeform 291"/>
              <p:cNvSpPr/>
              <p:nvPr/>
            </p:nvSpPr>
            <p:spPr>
              <a:xfrm rot="10843800">
                <a:off x="5309640" y="4092480"/>
                <a:ext cx="96840" cy="79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Group 139"/>
          <p:cNvGrpSpPr/>
          <p:nvPr/>
        </p:nvGrpSpPr>
        <p:grpSpPr>
          <a:xfrm>
            <a:off x="5089680" y="3870360"/>
            <a:ext cx="609480" cy="609480"/>
            <a:chOff x="5089680" y="3870360"/>
            <a:chExt cx="609480" cy="609480"/>
          </a:xfrm>
        </p:grpSpPr>
        <p:sp>
          <p:nvSpPr>
            <p:cNvPr id="189" name="Oval 140"/>
            <p:cNvSpPr/>
            <p:nvPr/>
          </p:nvSpPr>
          <p:spPr>
            <a:xfrm>
              <a:off x="5185080" y="3965760"/>
              <a:ext cx="419040" cy="41904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90" name="Oval 141"/>
            <p:cNvSpPr/>
            <p:nvPr/>
          </p:nvSpPr>
          <p:spPr>
            <a:xfrm>
              <a:off x="5305680" y="4086360"/>
              <a:ext cx="177840" cy="177840"/>
            </a:xfrm>
            <a:prstGeom prst="ellipse">
              <a:avLst/>
            </a:prstGeom>
            <a:solidFill>
              <a:srgbClr val="6d0303"/>
            </a:solidFill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91" name="Oval 142"/>
            <p:cNvSpPr/>
            <p:nvPr/>
          </p:nvSpPr>
          <p:spPr>
            <a:xfrm>
              <a:off x="5089680" y="3870360"/>
              <a:ext cx="609480" cy="60948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192" name="Group 295"/>
          <p:cNvGrpSpPr/>
          <p:nvPr/>
        </p:nvGrpSpPr>
        <p:grpSpPr>
          <a:xfrm>
            <a:off x="4910040" y="1670760"/>
            <a:ext cx="1603800" cy="1811880"/>
            <a:chOff x="4910040" y="1670760"/>
            <a:chExt cx="1603800" cy="1811880"/>
          </a:xfrm>
        </p:grpSpPr>
        <p:grpSp>
          <p:nvGrpSpPr>
            <p:cNvPr id="193" name="Group 292"/>
            <p:cNvGrpSpPr/>
            <p:nvPr/>
          </p:nvGrpSpPr>
          <p:grpSpPr>
            <a:xfrm>
              <a:off x="4910040" y="1670760"/>
              <a:ext cx="1603800" cy="1730880"/>
              <a:chOff x="4910040" y="1670760"/>
              <a:chExt cx="1603800" cy="1730880"/>
            </a:xfrm>
          </p:grpSpPr>
          <p:sp>
            <p:nvSpPr>
              <p:cNvPr id="194" name="Freeform 277"/>
              <p:cNvSpPr/>
              <p:nvPr/>
            </p:nvSpPr>
            <p:spPr>
              <a:xfrm rot="4339800">
                <a:off x="5049000" y="2491200"/>
                <a:ext cx="755640" cy="844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15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95" name="Freeform 278"/>
              <p:cNvSpPr/>
              <p:nvPr/>
            </p:nvSpPr>
            <p:spPr>
              <a:xfrm rot="4339800">
                <a:off x="4972320" y="1918800"/>
                <a:ext cx="1038240" cy="707760"/>
              </a:xfrm>
              <a:prstGeom prst="pie">
                <a:avLst/>
              </a:pr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96" name="Freeform 279"/>
              <p:cNvSpPr/>
              <p:nvPr/>
            </p:nvSpPr>
            <p:spPr>
              <a:xfrm rot="4339800">
                <a:off x="5481720" y="1917720"/>
                <a:ext cx="792000" cy="1082520"/>
              </a:xfrm>
              <a:prstGeom prst="pie">
                <a:avLst/>
              </a:pr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97" name="Freeform 280"/>
              <p:cNvSpPr/>
              <p:nvPr/>
            </p:nvSpPr>
            <p:spPr>
              <a:xfrm rot="4339800">
                <a:off x="5172120" y="2061720"/>
                <a:ext cx="620640" cy="860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98" name="Freeform 281"/>
              <p:cNvSpPr/>
              <p:nvPr/>
            </p:nvSpPr>
            <p:spPr>
              <a:xfrm rot="4339800">
                <a:off x="5238360" y="2245680"/>
                <a:ext cx="898560" cy="655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8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294"/>
            <p:cNvGrpSpPr/>
            <p:nvPr/>
          </p:nvGrpSpPr>
          <p:grpSpPr>
            <a:xfrm>
              <a:off x="5071320" y="3136680"/>
              <a:ext cx="266040" cy="345960"/>
              <a:chOff x="5071320" y="3136680"/>
              <a:chExt cx="266040" cy="345960"/>
            </a:xfrm>
          </p:grpSpPr>
          <p:sp>
            <p:nvSpPr>
              <p:cNvPr id="200" name="Freeform 283"/>
              <p:cNvSpPr/>
              <p:nvPr/>
            </p:nvSpPr>
            <p:spPr>
              <a:xfrm rot="4339800">
                <a:off x="5086800" y="3340080"/>
                <a:ext cx="127080" cy="125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8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01" name="Freeform 284"/>
              <p:cNvSpPr/>
              <p:nvPr/>
            </p:nvSpPr>
            <p:spPr>
              <a:xfrm rot="4339800">
                <a:off x="5096520" y="3167640"/>
                <a:ext cx="217440" cy="20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3"/>
            <p:cNvGrpSpPr/>
            <p:nvPr/>
          </p:nvGrpSpPr>
          <p:grpSpPr>
            <a:xfrm>
              <a:off x="5126040" y="3151440"/>
              <a:ext cx="173880" cy="241200"/>
              <a:chOff x="5126040" y="3151440"/>
              <a:chExt cx="173880" cy="241200"/>
            </a:xfrm>
          </p:grpSpPr>
          <p:sp>
            <p:nvSpPr>
              <p:cNvPr id="203" name="Freeform 286"/>
              <p:cNvSpPr/>
              <p:nvPr/>
            </p:nvSpPr>
            <p:spPr>
              <a:xfrm rot="4339800">
                <a:off x="5157360" y="3199680"/>
                <a:ext cx="123840" cy="100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04" name="Freeform 287"/>
              <p:cNvSpPr/>
              <p:nvPr/>
            </p:nvSpPr>
            <p:spPr>
              <a:xfrm rot="4339800">
                <a:off x="5164200" y="3176280"/>
                <a:ext cx="130320" cy="10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05" name="Freeform 288"/>
              <p:cNvSpPr/>
              <p:nvPr/>
            </p:nvSpPr>
            <p:spPr>
              <a:xfrm rot="4339800">
                <a:off x="5152680" y="3219480"/>
                <a:ext cx="120600" cy="95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06" name="Freeform 289"/>
              <p:cNvSpPr/>
              <p:nvPr/>
            </p:nvSpPr>
            <p:spPr>
              <a:xfrm rot="4339800">
                <a:off x="5132160" y="3276360"/>
                <a:ext cx="101880" cy="81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07" name="Freeform 290"/>
              <p:cNvSpPr/>
              <p:nvPr/>
            </p:nvSpPr>
            <p:spPr>
              <a:xfrm rot="4339800">
                <a:off x="5139720" y="3260160"/>
                <a:ext cx="10656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08" name="Freeform 291"/>
              <p:cNvSpPr/>
              <p:nvPr/>
            </p:nvSpPr>
            <p:spPr>
              <a:xfrm rot="4339800">
                <a:off x="5130000" y="3294720"/>
                <a:ext cx="96840" cy="79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grpSp>
        <p:nvGrpSpPr>
          <p:cNvPr id="209" name="Group 135"/>
          <p:cNvGrpSpPr/>
          <p:nvPr/>
        </p:nvGrpSpPr>
        <p:grpSpPr>
          <a:xfrm>
            <a:off x="4412520" y="3814920"/>
            <a:ext cx="718200" cy="717840"/>
            <a:chOff x="4412520" y="3814920"/>
            <a:chExt cx="718200" cy="717840"/>
          </a:xfrm>
        </p:grpSpPr>
        <p:sp>
          <p:nvSpPr>
            <p:cNvPr id="210" name="Oval 136"/>
            <p:cNvSpPr/>
            <p:nvPr/>
          </p:nvSpPr>
          <p:spPr>
            <a:xfrm rot="10114800">
              <a:off x="4561920" y="3963600"/>
              <a:ext cx="419040" cy="41904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11" name="Oval 137"/>
            <p:cNvSpPr/>
            <p:nvPr/>
          </p:nvSpPr>
          <p:spPr>
            <a:xfrm rot="10114800">
              <a:off x="4682160" y="4084200"/>
              <a:ext cx="177840" cy="177840"/>
            </a:xfrm>
            <a:prstGeom prst="ellipse">
              <a:avLst/>
            </a:prstGeom>
            <a:solidFill>
              <a:srgbClr val="5f5f5f"/>
            </a:solidFill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12" name="Oval 138"/>
            <p:cNvSpPr/>
            <p:nvPr/>
          </p:nvSpPr>
          <p:spPr>
            <a:xfrm rot="10114800">
              <a:off x="4466880" y="3868920"/>
              <a:ext cx="609480" cy="60948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213" name="Group 257"/>
          <p:cNvGrpSpPr/>
          <p:nvPr/>
        </p:nvGrpSpPr>
        <p:grpSpPr>
          <a:xfrm>
            <a:off x="3179520" y="4166640"/>
            <a:ext cx="1612080" cy="1697760"/>
            <a:chOff x="3179520" y="4166640"/>
            <a:chExt cx="1612080" cy="1697760"/>
          </a:xfrm>
        </p:grpSpPr>
        <p:grpSp>
          <p:nvGrpSpPr>
            <p:cNvPr id="214" name="Group 254"/>
            <p:cNvGrpSpPr/>
            <p:nvPr/>
          </p:nvGrpSpPr>
          <p:grpSpPr>
            <a:xfrm>
              <a:off x="3179520" y="4242600"/>
              <a:ext cx="1612080" cy="1621800"/>
              <a:chOff x="3179520" y="4242600"/>
              <a:chExt cx="1612080" cy="1621800"/>
            </a:xfrm>
          </p:grpSpPr>
          <p:sp>
            <p:nvSpPr>
              <p:cNvPr id="215" name="Freeform 239"/>
              <p:cNvSpPr/>
              <p:nvPr/>
            </p:nvSpPr>
            <p:spPr>
              <a:xfrm rot="15888000">
                <a:off x="3933720" y="4234320"/>
                <a:ext cx="778320" cy="870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5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16" name="Freeform 240"/>
              <p:cNvSpPr/>
              <p:nvPr/>
            </p:nvSpPr>
            <p:spPr>
              <a:xfrm rot="15888000">
                <a:off x="3579480" y="4934880"/>
                <a:ext cx="1068480" cy="728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17" name="Freeform 241"/>
              <p:cNvSpPr/>
              <p:nvPr/>
            </p:nvSpPr>
            <p:spPr>
              <a:xfrm rot="15888000">
                <a:off x="3363120" y="4467960"/>
                <a:ext cx="816480" cy="1114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7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18" name="Freeform 242"/>
              <p:cNvSpPr/>
              <p:nvPr/>
            </p:nvSpPr>
            <p:spPr>
              <a:xfrm rot="15888000">
                <a:off x="3856320" y="4637520"/>
                <a:ext cx="638640" cy="887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19" name="Freeform 243"/>
              <p:cNvSpPr/>
              <p:nvPr/>
            </p:nvSpPr>
            <p:spPr>
              <a:xfrm rot="15888000">
                <a:off x="3524040" y="4615920"/>
                <a:ext cx="92412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256"/>
            <p:cNvGrpSpPr/>
            <p:nvPr/>
          </p:nvGrpSpPr>
          <p:grpSpPr>
            <a:xfrm>
              <a:off x="4512960" y="4166640"/>
              <a:ext cx="270720" cy="312480"/>
              <a:chOff x="4512960" y="4166640"/>
              <a:chExt cx="270720" cy="312480"/>
            </a:xfrm>
          </p:grpSpPr>
          <p:sp>
            <p:nvSpPr>
              <p:cNvPr id="221" name="Freeform 245"/>
              <p:cNvSpPr/>
              <p:nvPr/>
            </p:nvSpPr>
            <p:spPr>
              <a:xfrm rot="15888000">
                <a:off x="4647960" y="4172400"/>
                <a:ext cx="130320" cy="129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22" name="Freeform 246"/>
              <p:cNvSpPr/>
              <p:nvPr/>
            </p:nvSpPr>
            <p:spPr>
              <a:xfrm rot="15888000">
                <a:off x="4517640" y="4249440"/>
                <a:ext cx="225360" cy="215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255"/>
            <p:cNvGrpSpPr/>
            <p:nvPr/>
          </p:nvGrpSpPr>
          <p:grpSpPr>
            <a:xfrm>
              <a:off x="4532760" y="4251960"/>
              <a:ext cx="182160" cy="215280"/>
              <a:chOff x="4532760" y="4251960"/>
              <a:chExt cx="182160" cy="215280"/>
            </a:xfrm>
          </p:grpSpPr>
          <p:sp>
            <p:nvSpPr>
              <p:cNvPr id="224" name="Freeform 248"/>
              <p:cNvSpPr/>
              <p:nvPr/>
            </p:nvSpPr>
            <p:spPr>
              <a:xfrm rot="15888000">
                <a:off x="4542480" y="4326120"/>
                <a:ext cx="12564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25" name="Freeform 249"/>
              <p:cNvSpPr/>
              <p:nvPr/>
            </p:nvSpPr>
            <p:spPr>
              <a:xfrm rot="15888000">
                <a:off x="4527000" y="4341600"/>
                <a:ext cx="132120" cy="109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26" name="Freeform 250"/>
              <p:cNvSpPr/>
              <p:nvPr/>
            </p:nvSpPr>
            <p:spPr>
              <a:xfrm rot="15888000">
                <a:off x="4561920" y="4312080"/>
                <a:ext cx="120600" cy="98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27" name="Freeform 251"/>
              <p:cNvSpPr/>
              <p:nvPr/>
            </p:nvSpPr>
            <p:spPr>
              <a:xfrm rot="15888000">
                <a:off x="4603320" y="4276440"/>
                <a:ext cx="103680" cy="82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28" name="Freeform 252"/>
              <p:cNvSpPr/>
              <p:nvPr/>
            </p:nvSpPr>
            <p:spPr>
              <a:xfrm rot="15888000">
                <a:off x="4592160" y="4287240"/>
                <a:ext cx="106920" cy="88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29" name="Freeform 253"/>
              <p:cNvSpPr/>
              <p:nvPr/>
            </p:nvSpPr>
            <p:spPr>
              <a:xfrm rot="15888000">
                <a:off x="4619880" y="4263840"/>
                <a:ext cx="99000" cy="82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900000" y="6453360"/>
            <a:ext cx="785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1" lang="zh-CN" sz="2400" spc="-1" strike="noStrike" u="sng">
                <a:solidFill>
                  <a:srgbClr val="76923c"/>
                </a:solidFill>
                <a:uFillTx/>
                <a:latin typeface="Arial"/>
                <a:hlinkClick r:id="rId2"/>
              </a:rPr>
              <a:t>工作总结ppt模板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http://www.eeppt.com/moban/gongzuo/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7C0E-962E-4643-8AFC-FB14D4255318}" type="slidenum">
              <a:t>8</a:t>
            </a:fld>
          </a:p>
        </p:txBody>
      </p:sp>
    </p:spTree>
  </p:cSld>
  <p:transition spd="slow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6840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职业生涯评估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042560" y="1484280"/>
            <a:ext cx="7777080" cy="4681440"/>
            <a:chOff x="1042560" y="1484280"/>
            <a:chExt cx="7777080" cy="4681440"/>
          </a:xfrm>
        </p:grpSpPr>
        <p:sp>
          <p:nvSpPr>
            <p:cNvPr id="233" name=""/>
            <p:cNvSpPr/>
            <p:nvPr/>
          </p:nvSpPr>
          <p:spPr>
            <a:xfrm rot="16200000">
              <a:off x="1816560" y="710280"/>
              <a:ext cx="2340720" cy="3888360"/>
            </a:xfrm>
            <a:prstGeom prst="pie">
              <a:avLst/>
            </a:prstGeom>
            <a:solidFill>
              <a:srgbClr val="eb008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42920" y="1484280"/>
              <a:ext cx="3888360" cy="17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64080" bIns="640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31280" y="1484280"/>
              <a:ext cx="3888360" cy="2340720"/>
            </a:xfrm>
            <a:prstGeom prst="pie">
              <a:avLst/>
            </a:prstGeom>
            <a:solidFill>
              <a:srgbClr val="a400e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31280" y="1484280"/>
              <a:ext cx="3888360" cy="17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64080" bIns="640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0800000">
              <a:off x="1042560" y="3825000"/>
              <a:ext cx="3888360" cy="2340720"/>
            </a:xfrm>
            <a:prstGeom prst="pie">
              <a:avLst/>
            </a:prstGeom>
            <a:solidFill>
              <a:srgbClr val="0003e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42920" y="4410360"/>
              <a:ext cx="3888360" cy="17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64080" bIns="640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5400000">
              <a:off x="5704560" y="3051000"/>
              <a:ext cx="2340720" cy="3888360"/>
            </a:xfrm>
            <a:prstGeom prst="pie">
              <a:avLst/>
            </a:prstGeom>
            <a:solidFill>
              <a:srgbClr val="00aae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31280" y="4410360"/>
              <a:ext cx="3888360" cy="17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3760" rIns="113760" tIns="113760" bIns="11376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</a:tabLst>
              </a:pPr>
              <a:endParaRPr b="1" lang="en-US" sz="1600" spc="-1" strike="noStrike">
                <a:solidFill>
                  <a:srgbClr val="262626"/>
                </a:solidFill>
                <a:latin typeface="Arial"/>
              </a:endParaRPr>
            </a:p>
            <a:p>
              <a:pPr marL="914400" indent="-914400"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</a:tabLst>
              </a:pPr>
              <a:endParaRPr b="1" lang="en-US" sz="900" spc="-1" strike="noStrike">
                <a:solidFill>
                  <a:srgbClr val="262626"/>
                </a:solidFill>
                <a:latin typeface="Arial"/>
              </a:endParaRPr>
            </a:p>
            <a:p>
              <a:pPr marL="914400" indent="-914400"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</a:tabLst>
              </a:pPr>
              <a:endParaRPr b="1" lang="en-US" sz="9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64880" y="3239640"/>
              <a:ext cx="2333160" cy="1170360"/>
            </a:xfrm>
            <a:prstGeom prst="roundRect">
              <a:avLst>
                <a:gd name="adj" fmla="val 16667"/>
              </a:avLst>
            </a:prstGeom>
            <a:solidFill>
              <a:srgbClr val="f7cbd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22120" y="3296880"/>
              <a:ext cx="2218680" cy="10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137160" bIns="13716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OT </a:t>
              </a:r>
              <a:endParaRPr b="1" lang="en-US" sz="36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53A-A7E5-46C2-AC0B-7C019043C8A9}" type="slidenum">
              <a:t>9</a:t>
            </a:fld>
          </a:p>
        </p:txBody>
      </p:sp>
    </p:spTree>
  </p:cSld>
  <p:transition spd="slow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53:32Z</dcterms:modified>
  <cp:revision>20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IP等级">
    <vt:lpwstr>2</vt:lpwstr>
  </property>
  <property fmtid="{D5CDD505-2E9C-101B-9397-08002B2CF9AE}" pid="4" name="价格">
    <vt:lpwstr>20</vt:lpwstr>
  </property>
  <property fmtid="{D5CDD505-2E9C-101B-9397-08002B2CF9AE}" pid="5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6" name="使用软件">
    <vt:lpwstr>ppt</vt:lpwstr>
  </property>
  <property fmtid="{D5CDD505-2E9C-101B-9397-08002B2CF9AE}" pid="7" name="关键字">
    <vt:lpwstr>PPT背景模板 EN PPT 格式 时尚 蓝 蓝色 灰 灰色 浅灰 典雅 复古 曲线 线 线条 抽象 动态 动感 年轻 活力 青春 简洁 渐变 背景 V2</vt:lpwstr>
  </property>
  <property fmtid="{D5CDD505-2E9C-101B-9397-08002B2CF9AE}" pid="8" name="操作代码">
    <vt:lpwstr>2</vt:lpwstr>
  </property>
  <property fmtid="{D5CDD505-2E9C-101B-9397-08002B2CF9AE}" pid="9" name="是否可购买">
    <vt:lpwstr>1</vt:lpwstr>
  </property>
  <property fmtid="{D5CDD505-2E9C-101B-9397-08002B2CF9AE}" pid="10" name="显示VIP等级">
    <vt:lpwstr>2</vt:lpwstr>
  </property>
  <property fmtid="{D5CDD505-2E9C-101B-9397-08002B2CF9AE}" pid="11" name="标题">
    <vt:lpwstr>灰色曲线背景</vt:lpwstr>
  </property>
  <property fmtid="{D5CDD505-2E9C-101B-9397-08002B2CF9AE}" pid="12" name="模板ID">
    <vt:lpwstr>A30220130527A06</vt:lpwstr>
  </property>
  <property fmtid="{D5CDD505-2E9C-101B-9397-08002B2CF9AE}" pid="13" name="模板缩略图">
    <vt:lpwstr>A30220130527A06.png</vt:lpwstr>
  </property>
  <property fmtid="{D5CDD505-2E9C-101B-9397-08002B2CF9AE}" pid="14" name="相关案例">
    <vt:lpwstr>854</vt:lpwstr>
  </property>
  <property fmtid="{D5CDD505-2E9C-101B-9397-08002B2CF9AE}" pid="15" name="缩略图标题">
    <vt:lpwstr>灰色曲线背景</vt:lpwstr>
  </property>
  <property fmtid="{D5CDD505-2E9C-101B-9397-08002B2CF9AE}" pid="16" name="适用软件">
    <vt:lpwstr>PowerPoint 2007及以上版本</vt:lpwstr>
  </property>
  <property fmtid="{D5CDD505-2E9C-101B-9397-08002B2CF9AE}" pid="17" name="附件ID">
    <vt:lpwstr>A30220130527A0601</vt:lpwstr>
  </property>
  <property fmtid="{D5CDD505-2E9C-101B-9397-08002B2CF9AE}" pid="18" name="附件缩略图">
    <vt:lpwstr>A30220130527A0601.png</vt:lpwstr>
  </property>
  <property fmtid="{D5CDD505-2E9C-101B-9397-08002B2CF9AE}" pid="19" name="附件路径">
    <vt:lpwstr>A30220130527A0601.pptx</vt:lpwstr>
  </property>
</Properties>
</file>