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chimes.wav" ContentType="audio/x-wav"/>
  <Override PartName="/ppt/media/image24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20.gif" ContentType="image/gif"/>
  <Override PartName="/ppt/media/image54.jpeg" ContentType="image/jpeg"/>
  <Override PartName="/ppt/media/image18.gif" ContentType="image/gif"/>
  <Override PartName="/ppt/media/image13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4.png" ContentType="image/png"/>
  <Override PartName="/ppt/media/image12.jpeg" ContentType="image/jpeg"/>
  <Override PartName="/ppt/media/image41.gif" ContentType="image/gif"/>
  <Override PartName="/ppt/media/image6.png" ContentType="image/png"/>
  <Override PartName="/ppt/media/image34.jpeg" ContentType="image/jpeg"/>
  <Override PartName="/ppt/media/image44.gif" ContentType="image/gif"/>
  <Override PartName="/ppt/media/image37.jpeg" ContentType="image/jpeg"/>
  <Override PartName="/ppt/media/image50.png" ContentType="image/png"/>
  <Override PartName="/ppt/media/image39.gif" ContentType="image/gif"/>
  <Override PartName="/ppt/media/image45.jpeg" ContentType="image/jpeg"/>
  <Override PartName="/ppt/media/image42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projctor.wav" ContentType="audio/x-wav"/>
  <Override PartName="/ppt/media/image55.jpeg" ContentType="image/jpeg"/>
  <Override PartName="/ppt/media/hammer.wav" ContentType="audio/x-wav"/>
  <Override PartName="/ppt/media/image3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8.png" ContentType="image/png"/>
  <Override PartName="/ppt/media/image52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1E4-74AA-4C6B-96AF-B8CCDB31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AD0-B5D7-4223-A4BC-5E30ED1C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32A-057F-48E6-A999-66A0C3FC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86D-4142-4CF9-9125-23D733D8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783-86FC-4BB4-9493-4014B70A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4EB-9FB7-4BE0-803A-BD12BCE2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D07-8326-41B2-BE01-4AA304A0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4A8-FE02-49E3-B4EA-938025DC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F9E-82A6-47B3-A40E-13D09FAB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E93-35F8-4C44-AECA-86577FE1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A1D-F21D-4FD0-9218-5E2B709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4A7-738B-4F04-B5C4-58B8734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8F48-14D9-466E-ADB5-AAAB6F40C78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hawang.com/pic/html/zmbz/sjqg/20040713155221(2).htm" TargetMode="External"/><Relationship Id="rId3" Type="http://schemas.openxmlformats.org/officeDocument/2006/relationships/hyperlink" Target="http://www.hahawang.com/pic/html/zmbz/sjqg/20040713155221(2).htm" TargetMode="External"/><Relationship Id="rId4" Type="http://schemas.openxmlformats.org/officeDocument/2006/relationships/hyperlink" Target="http://www.hahawang.com/pic/html/zmbz/sjqg/20050606115054(82).htm" TargetMode="External"/><Relationship Id="rId5" Type="http://schemas.openxmlformats.org/officeDocument/2006/relationships/hyperlink" Target="http://www.hahawang.com/pic/html/zmbz/sjqg/20050606115054(82).htm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gif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hammer.wav" TargetMode="External"/><Relationship Id="rId3" Type="http://schemas.microsoft.com/office/2007/relationships/media" Target="file:///tmp/home/.config/libreoffice/4/user/gallery/hammer.wav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143000" y="19051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大自然的语言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248520" y="3352680"/>
            <a:ext cx="1904760" cy="76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竺可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>
            <a:hlinkClick r:id="rId2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rId3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>
            <a:hlinkClick r:id="rId4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>
            <a:hlinkClick r:id="rId5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20050911220613"/>
          <p:cNvPicPr/>
          <p:nvPr/>
        </p:nvPicPr>
        <p:blipFill>
          <a:blip r:embed="rId6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3"/>
          <p:cNvSpPr txBox="1"/>
          <p:nvPr/>
        </p:nvSpPr>
        <p:spPr>
          <a:xfrm>
            <a:off x="6324480" y="4724280"/>
            <a:ext cx="2210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华文行楷"/>
              </a:rPr>
              <a:t>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9" name="WordArt 14"/>
          <p:cNvSpPr txBox="1"/>
          <p:nvPr/>
        </p:nvSpPr>
        <p:spPr>
          <a:xfrm>
            <a:off x="838080" y="3124080"/>
            <a:ext cx="4114800" cy="22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华文行楷"/>
              </a:rPr>
              <a:t>叶子变黄，簌簌落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cen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3"/>
          <p:cNvSpPr txBox="1"/>
          <p:nvPr/>
        </p:nvSpPr>
        <p:spPr>
          <a:xfrm>
            <a:off x="6248520" y="1752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衰草连天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006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4"/>
          <p:cNvSpPr txBox="1"/>
          <p:nvPr/>
        </p:nvSpPr>
        <p:spPr>
          <a:xfrm>
            <a:off x="1066680" y="3809880"/>
            <a:ext cx="1219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冬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4038480" y="5105520"/>
            <a:ext cx="2590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风雪载途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146" name="Picture 6" descr="Br021"/>
          <p:cNvPicPr/>
          <p:nvPr/>
        </p:nvPicPr>
        <p:blipFill>
          <a:blip r:embed="rId3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WordArt 7"/>
          <p:cNvSpPr txBox="1"/>
          <p:nvPr/>
        </p:nvSpPr>
        <p:spPr>
          <a:xfrm>
            <a:off x="3505320" y="0"/>
            <a:ext cx="2133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大雁南飞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624760" y="1038240"/>
            <a:ext cx="5875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描写一年四季的词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8b33"/>
                </a:solidFill>
                <a:latin typeface="Times New Roman"/>
                <a:ea typeface="华文隶书"/>
              </a:rPr>
              <a:t>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  <a:ea typeface="华文隶书"/>
              </a:rPr>
              <a:t>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隶书"/>
              </a:rPr>
              <a:t>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隶书"/>
              </a:rPr>
              <a:t>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0" y="1981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苏醒      冰雪融化     草木萌发     各种花次第开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743200" y="2971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88b33"/>
                </a:solidFill>
                <a:latin typeface="Times New Roman"/>
              </a:rPr>
              <a:t>炎热       孕育果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209680" y="3886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6e63"/>
                </a:solidFill>
                <a:latin typeface="Times New Roman"/>
              </a:rPr>
              <a:t>果实成熟      叶子渐渐变黄     簌簌的落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438280" y="4876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销声匿迹      衰草连天     风雪载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90920" y="5715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生动形象，如一幅四季风光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4"/>
          <p:cNvSpPr/>
          <p:nvPr/>
        </p:nvSpPr>
        <p:spPr>
          <a:xfrm>
            <a:off x="304920" y="228600"/>
            <a:ext cx="685800" cy="5335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43000" y="0"/>
            <a:ext cx="6188040" cy="581400"/>
          </a:xfrm>
          <a:prstGeom prst="rect">
            <a:avLst/>
          </a:prstGeom>
          <a:solidFill>
            <a:srgbClr val="88f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、分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归纳段意，分析说明方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04920" y="1447920"/>
            <a:ext cx="3200400" cy="155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说明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么是大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然的语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3505320" y="114300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65760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杏花－传语－耕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733920" y="1981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－暗示－种谷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962520" y="2743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布谷鸟－唱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7543800" y="121932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9933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848720" y="1295280"/>
            <a:ext cx="1000080" cy="2043720"/>
          </a:xfrm>
          <a:prstGeom prst="rect">
            <a:avLst/>
          </a:prstGeom>
          <a:solidFill>
            <a:srgbClr val="e88e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荣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候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5257800" y="4343400"/>
            <a:ext cx="3657600" cy="1143000"/>
          </a:xfrm>
          <a:prstGeom prst="horizontalScroll">
            <a:avLst>
              <a:gd name="adj" fmla="val 125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子、引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4" descr="053"/>
          <p:cNvPicPr/>
          <p:nvPr/>
        </p:nvPicPr>
        <p:blipFill>
          <a:blip r:embed="rId2"/>
          <a:stretch/>
        </p:blipFill>
        <p:spPr>
          <a:xfrm>
            <a:off x="304920" y="3657600"/>
            <a:ext cx="55623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358000" y="7621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明什么叫物候和物候学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5800" y="99036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草木荣枯、候鸟去来等自然现象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古代劳动人民称之为物候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利用物候来研究农业生产的科学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叫物候学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705720" y="762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~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01-8"/>
          <p:cNvPicPr/>
          <p:nvPr/>
        </p:nvPicPr>
        <p:blipFill>
          <a:blip r:embed="rId2"/>
          <a:stretch/>
        </p:blipFill>
        <p:spPr>
          <a:xfrm>
            <a:off x="228600" y="3886200"/>
            <a:ext cx="360828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07-02-5"/>
          <p:cNvPicPr/>
          <p:nvPr/>
        </p:nvPicPr>
        <p:blipFill>
          <a:blip r:embed="rId3"/>
          <a:stretch/>
        </p:blipFill>
        <p:spPr>
          <a:xfrm>
            <a:off x="4191120" y="334332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1371600" y="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归纳段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533520" y="0"/>
            <a:ext cx="533160" cy="5335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7467480" y="1981080"/>
            <a:ext cx="144792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295280" y="10666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明物候观测对农业生产的重要意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2696760"/>
            <a:ext cx="3809880" cy="2653560"/>
          </a:xfrm>
          <a:prstGeom prst="rect">
            <a:avLst/>
          </a:prstGeom>
          <a:solidFill>
            <a:srgbClr val="e88e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物候反映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候条件对生物的影响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比较简便，容易掌握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可以广泛应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在农业生产上。</a:t>
            </a:r>
            <a:r>
              <a:rPr b="1" lang="zh-CN" sz="3600" spc="-1" strike="noStrike">
                <a:solidFill>
                  <a:srgbClr val="1b1b2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228600" y="228600"/>
            <a:ext cx="609480" cy="5335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62120" y="228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归纳段意、分析说明方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3886200" y="1981080"/>
            <a:ext cx="304920" cy="3886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4267080" y="2590920"/>
            <a:ext cx="1295640" cy="23619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 flipV="1">
            <a:off x="5105520" y="2666880"/>
            <a:ext cx="761760" cy="533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5257800" y="365760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5181480" y="4191120"/>
            <a:ext cx="533520" cy="685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054840" y="2438280"/>
            <a:ext cx="14238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978520" y="3352680"/>
            <a:ext cx="14238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826240" y="4343400"/>
            <a:ext cx="142380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7391520" y="198108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7543800" y="2438280"/>
            <a:ext cx="1600200" cy="253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数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比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90720" y="304920"/>
            <a:ext cx="7696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归纳段意，分析说明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228600" y="304920"/>
            <a:ext cx="457200" cy="6094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28600" y="1752480"/>
            <a:ext cx="1076400" cy="3506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决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1295280" y="1295280"/>
            <a:ext cx="381240" cy="4876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27080 h 4876920"/>
              <a:gd name="textAreaBottom" fmla="*/ 474984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076480" y="1219320"/>
            <a:ext cx="912240" cy="1068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纬度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3200400" y="114300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807360" y="982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4876920" y="990720"/>
            <a:ext cx="1904760" cy="6094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4952880" y="1676520"/>
            <a:ext cx="190512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刺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65240" y="2735280"/>
            <a:ext cx="1082880" cy="1068840"/>
          </a:xfrm>
          <a:prstGeom prst="rect">
            <a:avLst/>
          </a:prstGeom>
          <a:solidFill>
            <a:srgbClr val="d9f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3048120" y="2666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512880" y="2743200"/>
            <a:ext cx="424440" cy="10688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114800" y="3429000"/>
            <a:ext cx="114300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267080" y="2666880"/>
            <a:ext cx="121932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9"/>
          <p:cNvSpPr/>
          <p:nvPr/>
        </p:nvSpPr>
        <p:spPr>
          <a:xfrm>
            <a:off x="5638680" y="3352680"/>
            <a:ext cx="137160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济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0"/>
          <p:cNvSpPr/>
          <p:nvPr/>
        </p:nvSpPr>
        <p:spPr>
          <a:xfrm>
            <a:off x="5334120" y="2666880"/>
            <a:ext cx="121896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965240" y="4183200"/>
            <a:ext cx="1082880" cy="1068840"/>
          </a:xfrm>
          <a:prstGeom prst="rect">
            <a:avLst/>
          </a:prstGeom>
          <a:solidFill>
            <a:srgbClr val="93f2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2"/>
          <p:cNvSpPr/>
          <p:nvPr/>
        </p:nvSpPr>
        <p:spPr>
          <a:xfrm>
            <a:off x="2971800" y="4191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9f78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3"/>
          <p:cNvSpPr/>
          <p:nvPr/>
        </p:nvSpPr>
        <p:spPr>
          <a:xfrm>
            <a:off x="3276720" y="4191120"/>
            <a:ext cx="137160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4"/>
          <p:cNvSpPr/>
          <p:nvPr/>
        </p:nvSpPr>
        <p:spPr>
          <a:xfrm>
            <a:off x="3352680" y="4876920"/>
            <a:ext cx="1219320" cy="457200"/>
          </a:xfrm>
          <a:prstGeom prst="ellipse">
            <a:avLst/>
          </a:prstGeom>
          <a:solidFill>
            <a:srgbClr val="cdf78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低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5"/>
          <p:cNvSpPr/>
          <p:nvPr/>
        </p:nvSpPr>
        <p:spPr>
          <a:xfrm>
            <a:off x="5105520" y="4267080"/>
            <a:ext cx="1371600" cy="533520"/>
          </a:xfrm>
          <a:prstGeom prst="ellipse">
            <a:avLst/>
          </a:prstGeom>
          <a:solidFill>
            <a:srgbClr val="b0f98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105520" y="4876920"/>
            <a:ext cx="1371600" cy="533160"/>
          </a:xfrm>
          <a:prstGeom prst="ellipse">
            <a:avLst/>
          </a:prstGeom>
          <a:solidFill>
            <a:srgbClr val="fef88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4191120" y="4495680"/>
            <a:ext cx="8380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191120" y="4572000"/>
            <a:ext cx="685800" cy="533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>
            <a:off x="4572000" y="5105520"/>
            <a:ext cx="609480" cy="759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 flipV="1">
            <a:off x="4114800" y="4572000"/>
            <a:ext cx="114300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1828800" y="5410080"/>
            <a:ext cx="1076400" cy="1068840"/>
          </a:xfrm>
          <a:prstGeom prst="rect">
            <a:avLst/>
          </a:prstGeom>
          <a:solidFill>
            <a:srgbClr val="fef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3"/>
          <p:cNvSpPr/>
          <p:nvPr/>
        </p:nvSpPr>
        <p:spPr>
          <a:xfrm>
            <a:off x="3352680" y="5715000"/>
            <a:ext cx="1295640" cy="533520"/>
          </a:xfrm>
          <a:prstGeom prst="ellipse">
            <a:avLst/>
          </a:prstGeom>
          <a:solidFill>
            <a:srgbClr val="87f9b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V="1">
            <a:off x="4267080" y="5714640"/>
            <a:ext cx="685800" cy="1522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4267080" y="6095880"/>
            <a:ext cx="609840" cy="1526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861080" y="5425920"/>
            <a:ext cx="26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4784760" y="5883120"/>
            <a:ext cx="26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8"/>
          <p:cNvSpPr/>
          <p:nvPr/>
        </p:nvSpPr>
        <p:spPr>
          <a:xfrm>
            <a:off x="7391520" y="1295280"/>
            <a:ext cx="228600" cy="5181840"/>
          </a:xfrm>
          <a:custGeom>
            <a:avLst/>
            <a:gdLst>
              <a:gd name="textAreaLeft" fmla="*/ 0 w 228600"/>
              <a:gd name="textAreaRight" fmla="*/ 8244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84fc84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7543800" y="1523880"/>
            <a:ext cx="1447920" cy="1556280"/>
          </a:xfrm>
          <a:prstGeom prst="rect">
            <a:avLst/>
          </a:prstGeom>
          <a:solidFill>
            <a:srgbClr val="84f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数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比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772400" y="3657600"/>
            <a:ext cx="1371600" cy="1068840"/>
          </a:xfrm>
          <a:prstGeom prst="rect">
            <a:avLst/>
          </a:prstGeom>
          <a:solidFill>
            <a:srgbClr val="8b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7620120" y="5029200"/>
            <a:ext cx="1523880" cy="1068840"/>
          </a:xfrm>
          <a:prstGeom prst="rect">
            <a:avLst/>
          </a:prstGeom>
          <a:solidFill>
            <a:srgbClr val="8bf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空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时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2"/>
          <p:cNvSpPr/>
          <p:nvPr/>
        </p:nvSpPr>
        <p:spPr>
          <a:xfrm>
            <a:off x="2971800" y="5486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7f9b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纬度北"/>
          <p:cNvPicPr/>
          <p:nvPr/>
        </p:nvPicPr>
        <p:blipFill>
          <a:blip r:embed="rId2"/>
          <a:stretch/>
        </p:blipFill>
        <p:spPr>
          <a:xfrm>
            <a:off x="1066680" y="1371600"/>
            <a:ext cx="3200400" cy="4343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201680" y="57913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月的内蒙古草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纬度南"/>
          <p:cNvPicPr/>
          <p:nvPr/>
        </p:nvPicPr>
        <p:blipFill>
          <a:blip r:embed="rId3"/>
          <a:stretch/>
        </p:blipFill>
        <p:spPr>
          <a:xfrm>
            <a:off x="5181480" y="1371600"/>
            <a:ext cx="3353040" cy="44197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562720" y="57913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月的海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209680" y="380880"/>
            <a:ext cx="48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纬度对物候的影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hamm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286000" y="68580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度对物候的影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经度内"/>
          <p:cNvPicPr/>
          <p:nvPr/>
        </p:nvPicPr>
        <p:blipFill>
          <a:blip r:embed="rId2"/>
          <a:stretch/>
        </p:blipFill>
        <p:spPr>
          <a:xfrm>
            <a:off x="990720" y="1676520"/>
            <a:ext cx="3124080" cy="3809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经度外"/>
          <p:cNvPicPr/>
          <p:nvPr/>
        </p:nvPicPr>
        <p:blipFill>
          <a:blip r:embed="rId3"/>
          <a:stretch/>
        </p:blipFill>
        <p:spPr>
          <a:xfrm>
            <a:off x="5029200" y="1676520"/>
            <a:ext cx="3200400" cy="3809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430280" y="56386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月的内蒙古草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181480" y="5638680"/>
            <a:ext cx="31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月的大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" action="ppaction://hlinkshowjump?jump=nextslide"/>
          </p:cNvPr>
          <p:cNvSpPr/>
          <p:nvPr/>
        </p:nvSpPr>
        <p:spPr>
          <a:xfrm>
            <a:off x="8763120" y="6324480"/>
            <a:ext cx="380880" cy="53352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533520"/>
              <a:gd name="textAreaBottom" fmla="*/ 50976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50" y="28898"/>
                </a:lnTo>
                <a:lnTo>
                  <a:pt x="20250" y="135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350" y="28898"/>
                </a:lnTo>
                <a:lnTo>
                  <a:pt x="20250" y="2889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350" y="1350"/>
                </a:lnTo>
                <a:lnTo>
                  <a:pt x="1350" y="28898"/>
                </a:lnTo>
                <a:close/>
              </a:path>
              <a:path fill="darken" w="21600" h="30248">
                <a:moveTo>
                  <a:pt x="3756" y="8080"/>
                </a:moveTo>
                <a:lnTo>
                  <a:pt x="17844" y="15124"/>
                </a:lnTo>
                <a:lnTo>
                  <a:pt x="3756" y="221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624852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595ff"/>
                </a:solidFill>
                <a:uFillTx/>
                <a:latin typeface="Arial"/>
                <a:hlinkClick r:id="rId4"/>
              </a:rPr>
              <a:t>ppt课件模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238880" y="1752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2" descr=""/>
          <p:cNvPicPr/>
          <p:nvPr/>
        </p:nvPicPr>
        <p:blipFill>
          <a:blip r:embed="rId2"/>
          <a:stretch/>
        </p:blipFill>
        <p:spPr>
          <a:xfrm>
            <a:off x="5334120" y="838080"/>
            <a:ext cx="3659040" cy="5203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609480" y="990720"/>
            <a:ext cx="40388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竺可桢    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浙江上虞人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气象学家、地理学家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。他在气象学、气候学、地理学、自然科学史等方面的造诣都很高，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物候学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也是他呕心沥血做出了重要贡献的领域之一。我国现代物候学的每一份成就都是和他的辛勤工作分不开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600200" y="762120"/>
            <a:ext cx="621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下的差异对物候的影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高下"/>
          <p:cNvPicPr/>
          <p:nvPr/>
        </p:nvPicPr>
        <p:blipFill>
          <a:blip r:embed="rId2"/>
          <a:stretch/>
        </p:blipFill>
        <p:spPr>
          <a:xfrm>
            <a:off x="914400" y="1828800"/>
            <a:ext cx="3581280" cy="3733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高下1"/>
          <p:cNvPicPr/>
          <p:nvPr/>
        </p:nvPicPr>
        <p:blipFill>
          <a:blip r:embed="rId3"/>
          <a:stretch/>
        </p:blipFill>
        <p:spPr>
          <a:xfrm>
            <a:off x="4876920" y="1828800"/>
            <a:ext cx="3276360" cy="36576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2209680" y="5638680"/>
            <a:ext cx="567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山山顶和山腰的差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4" name="hamm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889280" y="801720"/>
            <a:ext cx="5851440" cy="703440"/>
          </a:xfrm>
          <a:prstGeom prst="rect">
            <a:avLst/>
          </a:prstGeom>
          <a:solidFill>
            <a:srgbClr val="62d46d"/>
          </a:solidFill>
          <a:ln w="0">
            <a:noFill/>
          </a:ln>
          <a:effectLst>
            <a:outerShdw dist="99192" dir="13818056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古今差异对物候的影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长城古"/>
          <p:cNvPicPr/>
          <p:nvPr/>
        </p:nvPicPr>
        <p:blipFill>
          <a:blip r:embed="rId2"/>
          <a:stretch/>
        </p:blipFill>
        <p:spPr>
          <a:xfrm>
            <a:off x="4724280" y="1752480"/>
            <a:ext cx="3505320" cy="3962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长城今"/>
          <p:cNvPicPr/>
          <p:nvPr/>
        </p:nvPicPr>
        <p:blipFill>
          <a:blip r:embed="rId3"/>
          <a:stretch/>
        </p:blipFill>
        <p:spPr>
          <a:xfrm>
            <a:off x="914400" y="1828800"/>
            <a:ext cx="3581280" cy="38862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762120" y="58514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现代三月的长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724280" y="5867280"/>
            <a:ext cx="40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古代三月的长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7632720" y="6426360"/>
            <a:ext cx="1511280" cy="431640"/>
          </a:xfrm>
          <a:custGeom>
            <a:avLst/>
            <a:gdLst>
              <a:gd name="textAreaLeft" fmla="*/ 27000 w 1511280"/>
              <a:gd name="textAreaRight" fmla="*/ 1484640 w 151128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232" y="1350"/>
                </a:lnTo>
                <a:lnTo>
                  <a:pt x="1350" y="135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232" y="20250"/>
                </a:lnTo>
                <a:lnTo>
                  <a:pt x="74232" y="135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4232" y="2025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75582" h="21600">
                <a:moveTo>
                  <a:pt x="30747" y="10800"/>
                </a:moveTo>
                <a:lnTo>
                  <a:pt x="44835" y="3756"/>
                </a:lnTo>
                <a:lnTo>
                  <a:pt x="44835" y="17844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4" name="hamme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304920" y="998640"/>
            <a:ext cx="990360" cy="3146040"/>
          </a:xfrm>
          <a:prstGeom prst="rect">
            <a:avLst/>
          </a:prstGeom>
          <a:solidFill>
            <a:srgbClr val="8b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研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物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意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143000" y="1156680"/>
            <a:ext cx="8001000" cy="2531160"/>
          </a:xfrm>
          <a:prstGeom prst="rect">
            <a:avLst/>
          </a:prstGeom>
          <a:solidFill>
            <a:srgbClr val="8e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预报农时，安排播种日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安排农作物区划，确定造林和采集种子                  的日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引种植物到气候条件相同的地区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避免或减轻害虫的侵害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便利山区的农业发展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533520" y="228600"/>
            <a:ext cx="533160" cy="6858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279440" y="320760"/>
            <a:ext cx="57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概括段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666880" y="4038480"/>
            <a:ext cx="1981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主到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HC3"/>
          <p:cNvPicPr/>
          <p:nvPr/>
        </p:nvPicPr>
        <p:blipFill>
          <a:blip r:embed="rId2"/>
          <a:stretch/>
        </p:blipFill>
        <p:spPr>
          <a:xfrm>
            <a:off x="5981760" y="4114800"/>
            <a:ext cx="17143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752480" y="1676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描述物候现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828800" y="5486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阐述研究意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752480" y="2971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作出科学解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676520" y="4267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影响物候的四个因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2895480" y="24382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2895480" y="3657600"/>
            <a:ext cx="6098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2895480" y="49528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9"/>
          <p:cNvSpPr txBox="1"/>
          <p:nvPr/>
        </p:nvSpPr>
        <p:spPr>
          <a:xfrm rot="5400000">
            <a:off x="5790600" y="159984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现象</a:t>
            </a:r>
            <a:endParaRPr b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1" name="WordArt 10"/>
          <p:cNvSpPr txBox="1"/>
          <p:nvPr/>
        </p:nvSpPr>
        <p:spPr>
          <a:xfrm rot="5400000">
            <a:off x="5828760" y="55242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本质</a:t>
            </a:r>
            <a:endParaRPr b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2" name="Line 11"/>
          <p:cNvSpPr/>
          <p:nvPr/>
        </p:nvSpPr>
        <p:spPr>
          <a:xfrm flipH="1">
            <a:off x="6324120" y="2590920"/>
            <a:ext cx="1800" cy="2741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12"/>
          <p:cNvSpPr txBox="1"/>
          <p:nvPr/>
        </p:nvSpPr>
        <p:spPr>
          <a:xfrm rot="5400000">
            <a:off x="6094440" y="3583080"/>
            <a:ext cx="3124080" cy="6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逻辑顺序</a:t>
            </a:r>
            <a:endParaRPr b="1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1066680" y="45720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自然的语言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4"/>
          <p:cNvSpPr txBox="1"/>
          <p:nvPr/>
        </p:nvSpPr>
        <p:spPr>
          <a:xfrm>
            <a:off x="457200" y="304920"/>
            <a:ext cx="198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课文小结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160000" y="1676520"/>
            <a:ext cx="5139720" cy="1068840"/>
          </a:xfrm>
          <a:prstGeom prst="rect">
            <a:avLst/>
          </a:prstGeom>
          <a:solidFill>
            <a:srgbClr val="8e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本文说明了什么是物候、物候学，影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候的因素，物候观测对农业的意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798640" y="3200400"/>
            <a:ext cx="750600" cy="581400"/>
          </a:xfrm>
          <a:prstGeom prst="rect">
            <a:avLst/>
          </a:prstGeom>
          <a:solidFill>
            <a:srgbClr val="8b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言准确、生动、典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HC34"/>
          <p:cNvPicPr/>
          <p:nvPr/>
        </p:nvPicPr>
        <p:blipFill>
          <a:blip r:embed="rId2"/>
          <a:stretch/>
        </p:blipFill>
        <p:spPr>
          <a:xfrm>
            <a:off x="6324480" y="3352680"/>
            <a:ext cx="1914480" cy="2733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114"/>
          <p:cNvPicPr/>
          <p:nvPr/>
        </p:nvPicPr>
        <p:blipFill>
          <a:blip r:embed="rId3"/>
          <a:stretch/>
        </p:blipFill>
        <p:spPr>
          <a:xfrm>
            <a:off x="914400" y="4419720"/>
            <a:ext cx="2286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ahoma"/>
                <a:ea typeface="隶书"/>
              </a:rPr>
              <a:t>摘出文段中表示时间推移的词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66800" y="178272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立春过后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再过两个月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不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夏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秋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寒冬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5410080" y="3002040"/>
            <a:ext cx="1752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层次井然</a:t>
            </a:r>
            <a:endParaRPr b="1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8" name="projctor.wav"/>
      </p:stSnd>
    </p:sndAc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575360" y="1752480"/>
            <a:ext cx="6148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衰草连天    　　 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  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鬓毛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翘尾巴　　　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翘首、连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异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遣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劲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参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观测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道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播种　　　　　耕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落叶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丢三落四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落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1271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676240" y="1676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shuā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435720" y="1676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u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7391880" y="25909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á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66760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à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191484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971520" y="3505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609696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8416800" y="3429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91520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ā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57308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à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062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ǒ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46494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ò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058480" y="6019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u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5106240" y="6019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7773120" y="5943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19"/>
          <p:cNvSpPr txBox="1"/>
          <p:nvPr/>
        </p:nvSpPr>
        <p:spPr>
          <a:xfrm>
            <a:off x="457200" y="6094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检查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ao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111"/>
          <p:cNvPicPr/>
          <p:nvPr/>
        </p:nvPicPr>
        <p:blipFill>
          <a:blip r:embed="rId3"/>
          <a:stretch/>
        </p:blipFill>
        <p:spPr>
          <a:xfrm>
            <a:off x="7315200" y="4800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228600" y="228600"/>
            <a:ext cx="8915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两个月前，在广州，看见了玉兰开花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两个月后，在北京，又看见玉兰开花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玉兰花呀，我说，你走得真慢哪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幼圆"/>
                <a:ea typeface="幼圆"/>
              </a:rPr>
              <a:t>费了两个月工夫，你才到了京华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                        </a:t>
            </a:r>
            <a:r>
              <a:rPr b="0" lang="en-US" sz="3600" spc="-1" strike="noStrike">
                <a:solidFill>
                  <a:srgbClr val="545472"/>
                </a:solidFill>
                <a:latin typeface="Arial"/>
                <a:ea typeface="幼圆"/>
              </a:rPr>
              <a:t>——</a:t>
            </a: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郭沫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5"/>
          <p:cNvSpPr txBox="1"/>
          <p:nvPr/>
        </p:nvSpPr>
        <p:spPr>
          <a:xfrm>
            <a:off x="838080" y="4419720"/>
            <a:ext cx="6705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用物候现象解释诗人这句感叹。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96" name="WordArt 6"/>
          <p:cNvSpPr txBox="1"/>
          <p:nvPr/>
        </p:nvSpPr>
        <p:spPr>
          <a:xfrm>
            <a:off x="1828800" y="5867280"/>
            <a:ext cx="198108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知识运用</a:t>
            </a:r>
            <a:endParaRPr b="1" lang="en-US" sz="3200" spc="1" strike="noStrike">
              <a:ln w="12600">
                <a:solidFill>
                  <a:srgbClr val="ff66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0" y="1905120"/>
            <a:ext cx="997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梅子黄时日日晴，</a:t>
            </a: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小溪汛尽却山行。</a:t>
            </a:r>
            <a:br>
              <a:rPr sz="4400"/>
            </a:b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绿荫不减来时路，添得黄鹂四五声。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Arial"/>
                <a:ea typeface="华文行楷"/>
              </a:rPr>
              <a:t>   </a:t>
            </a:r>
            <a:r>
              <a:rPr b="0" lang="en-US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228600"/>
            <a:ext cx="972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黄梅时节家家雨，</a:t>
            </a: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青草池塘处处蛙。</a:t>
            </a:r>
            <a:br>
              <a:rPr sz="4400"/>
            </a:b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有约不来过夜半，闭敲棋子落灯花。</a:t>
            </a:r>
            <a:br>
              <a:rPr sz="4400"/>
            </a:br>
            <a:r>
              <a:rPr b="0" lang="en-US" sz="4400" spc="-1" strike="noStrike">
                <a:solidFill>
                  <a:srgbClr val="c7c7df"/>
                </a:solidFill>
                <a:latin typeface="Arial"/>
                <a:ea typeface="华文行楷"/>
              </a:rPr>
              <a:t>   </a:t>
            </a:r>
            <a:r>
              <a:rPr b="0" lang="en-US" sz="4400" spc="-1" strike="noStrike">
                <a:solidFill>
                  <a:srgbClr val="c7c7df"/>
                </a:solidFill>
                <a:latin typeface="华文行楷"/>
                <a:ea typeface="华文行楷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-457200" y="3505320"/>
            <a:ext cx="98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乳鸭池塘水浅深，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熟梅天气半阴晴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东园载酒西园醉，摘尽枇杷一树金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                                                                             </a:t>
            </a: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gif048[1]"/>
          <p:cNvPicPr/>
          <p:nvPr/>
        </p:nvPicPr>
        <p:blipFill>
          <a:blip r:embed="rId1"/>
          <a:stretch/>
        </p:blipFill>
        <p:spPr>
          <a:xfrm>
            <a:off x="7772400" y="5611680"/>
            <a:ext cx="1371600" cy="1246320"/>
          </a:xfrm>
          <a:prstGeom prst="rect">
            <a:avLst/>
          </a:prstGeom>
          <a:ln w="0">
            <a:noFill/>
          </a:ln>
        </p:spPr>
      </p:pic>
      <p:sp>
        <p:nvSpPr>
          <p:cNvPr id="301" name="WordArt 6"/>
          <p:cNvSpPr txBox="1"/>
          <p:nvPr/>
        </p:nvSpPr>
        <p:spPr>
          <a:xfrm>
            <a:off x="1676520" y="525780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会有如此差异？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4406040" y="533520"/>
            <a:ext cx="1887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雨中闻蝉叫，预告晴天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麻雀屯食要落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鱼跳水，有雨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燕子低飞要落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泥鳅静，天气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蚂蚁垒窝要落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3"/>
          <p:cNvSpPr txBox="1"/>
          <p:nvPr/>
        </p:nvSpPr>
        <p:spPr>
          <a:xfrm>
            <a:off x="762120" y="6094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农谚</a:t>
            </a:r>
            <a:endParaRPr b="1" lang="en-US" sz="66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4" name="Picture 5" descr="0672IF"/>
          <p:cNvPicPr/>
          <p:nvPr/>
        </p:nvPicPr>
        <p:blipFill>
          <a:blip r:embed="rId4"/>
          <a:stretch/>
        </p:blipFill>
        <p:spPr>
          <a:xfrm>
            <a:off x="7010280" y="2514600"/>
            <a:ext cx="1600200" cy="2682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图片1"/>
          <p:cNvPicPr/>
          <p:nvPr/>
        </p:nvPicPr>
        <p:blipFill>
          <a:blip r:embed="rId5"/>
          <a:stretch/>
        </p:blipFill>
        <p:spPr>
          <a:xfrm>
            <a:off x="1066680" y="3962520"/>
            <a:ext cx="126216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词语解释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原指不公开的说话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不公开露面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这里指昆虫都无声无息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无影无踪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销：消失。匿：隐藏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-34920" y="1336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销声匿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25146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衰草连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705240" y="32767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雪载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76880" y="40687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而复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705240" y="48610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草长莺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826920" y="24321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遍地是衰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835280" y="32241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雪满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362320" y="4038480"/>
            <a:ext cx="57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次又一次的循环。周，绕一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087640" y="48769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草茂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莺儿啼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春天的美好景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33520" y="53341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第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362320" y="5334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挨一个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2356920" y="560520"/>
            <a:ext cx="53614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二十四节气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春雨惊春清谷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夏满芒夏暑相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秋处露秋寒霜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冬雪雪冬寒又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5638680" y="1295280"/>
            <a:ext cx="0" cy="33530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4419720" y="1143000"/>
            <a:ext cx="0" cy="3505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"/>
          <p:cNvSpPr/>
          <p:nvPr/>
        </p:nvSpPr>
        <p:spPr>
          <a:xfrm>
            <a:off x="3429000" y="1295280"/>
            <a:ext cx="0" cy="32767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001_01"/>
          <p:cNvPicPr/>
          <p:nvPr/>
        </p:nvPicPr>
        <p:blipFill>
          <a:blip r:embed="rId2"/>
          <a:stretch/>
        </p:blipFill>
        <p:spPr>
          <a:xfrm>
            <a:off x="457200" y="380880"/>
            <a:ext cx="1711440" cy="2286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002_01"/>
          <p:cNvPicPr/>
          <p:nvPr/>
        </p:nvPicPr>
        <p:blipFill>
          <a:blip r:embed="rId3"/>
          <a:stretch/>
        </p:blipFill>
        <p:spPr>
          <a:xfrm>
            <a:off x="228600" y="3048120"/>
            <a:ext cx="1900080" cy="2538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003_01"/>
          <p:cNvPicPr/>
          <p:nvPr/>
        </p:nvPicPr>
        <p:blipFill>
          <a:blip r:embed="rId4"/>
          <a:stretch/>
        </p:blipFill>
        <p:spPr>
          <a:xfrm>
            <a:off x="2438280" y="4648320"/>
            <a:ext cx="2667240" cy="1904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004_01"/>
          <p:cNvPicPr/>
          <p:nvPr/>
        </p:nvPicPr>
        <p:blipFill>
          <a:blip r:embed="rId5"/>
          <a:stretch/>
        </p:blipFill>
        <p:spPr>
          <a:xfrm>
            <a:off x="5372280" y="4800600"/>
            <a:ext cx="377172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177800" y="1981080"/>
            <a:ext cx="66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什么是物候？什么是物候学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物候观测对农业有什么重要意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决定物候观测的因素有哪些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研究物候学有什么意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10018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838080" y="1066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听朗读，根据提示将课文分为四部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0" y="1066680"/>
            <a:ext cx="685800" cy="6098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4"/>
          <p:cNvSpPr/>
          <p:nvPr/>
        </p:nvSpPr>
        <p:spPr>
          <a:xfrm flipV="1">
            <a:off x="304920" y="457200"/>
            <a:ext cx="38088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143000" y="304920"/>
            <a:ext cx="27432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整体感知课文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04920" y="1676520"/>
            <a:ext cx="304560" cy="457200"/>
          </a:xfrm>
          <a:custGeom>
            <a:avLst/>
            <a:gdLst>
              <a:gd name="textAreaLeft" fmla="*/ 45000 w 304560"/>
              <a:gd name="textAreaRight" fmla="*/ 259560 w 304560"/>
              <a:gd name="textAreaTop" fmla="*/ 67680 h 457200"/>
              <a:gd name="textAreaBottom" fmla="*/ 3895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82800" y="15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是一篇什么文章？说明对象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228840" y="2362320"/>
            <a:ext cx="2921040" cy="581400"/>
          </a:xfrm>
          <a:prstGeom prst="rect">
            <a:avLst/>
          </a:prstGeom>
          <a:solidFill>
            <a:srgbClr val="8bf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理说明文。说明对象是“物候”和“物候学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04920" y="3429000"/>
            <a:ext cx="304560" cy="457200"/>
          </a:xfrm>
          <a:custGeom>
            <a:avLst/>
            <a:gdLst>
              <a:gd name="textAreaLeft" fmla="*/ 45000 w 304560"/>
              <a:gd name="textAreaRight" fmla="*/ 259560 w 304560"/>
              <a:gd name="textAreaTop" fmla="*/ 67680 h 457200"/>
              <a:gd name="textAreaBottom" fmla="*/ 3895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384280" y="3200400"/>
            <a:ext cx="4813560" cy="1068840"/>
          </a:xfrm>
          <a:prstGeom prst="rect">
            <a:avLst/>
          </a:prstGeom>
          <a:solidFill>
            <a:srgbClr val="fef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题用了什么修辞手法？有何作用？能否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“物候与物候学”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190600" y="4487760"/>
            <a:ext cx="4813560" cy="1556280"/>
          </a:xfrm>
          <a:prstGeom prst="rect">
            <a:avLst/>
          </a:prstGeom>
          <a:solidFill>
            <a:srgbClr val="87f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了拟人手法。使文章生动形象，富有情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吸引力，吸引人读下去。改后是专业术语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吸引力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2808360"/>
          </a:xfrm>
          <a:prstGeom prst="rect">
            <a:avLst/>
          </a:prstGeom>
          <a:ln w="12600">
            <a:solidFill>
              <a:srgbClr val="545472"/>
            </a:solidFill>
            <a:miter/>
          </a:ln>
        </p:spPr>
      </p:pic>
      <p:pic>
        <p:nvPicPr>
          <p:cNvPr id="100" name="Picture 3" descr="春雨"/>
          <p:cNvPicPr/>
          <p:nvPr/>
        </p:nvPicPr>
        <p:blipFill>
          <a:blip r:embed="rId3"/>
          <a:stretch/>
        </p:blipFill>
        <p:spPr>
          <a:xfrm>
            <a:off x="0" y="1752480"/>
            <a:ext cx="464832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Picture 4" descr="雪景2"/>
          <p:cNvPicPr/>
          <p:nvPr/>
        </p:nvPicPr>
        <p:blipFill>
          <a:blip r:embed="rId4"/>
          <a:srcRect l="0" t="0" r="-37" b="-37"/>
          <a:stretch/>
        </p:blipFill>
        <p:spPr>
          <a:xfrm>
            <a:off x="0" y="4510080"/>
            <a:ext cx="4643280" cy="23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Picture 5" descr="霜叶红于二月花"/>
          <p:cNvPicPr/>
          <p:nvPr/>
        </p:nvPicPr>
        <p:blipFill>
          <a:blip r:embed="rId5"/>
          <a:stretch/>
        </p:blipFill>
        <p:spPr>
          <a:xfrm>
            <a:off x="4648320" y="4495680"/>
            <a:ext cx="4495680" cy="2362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3" name="Text Box 6"/>
          <p:cNvSpPr/>
          <p:nvPr/>
        </p:nvSpPr>
        <p:spPr>
          <a:xfrm>
            <a:off x="3886200" y="25146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ea2c"/>
                </a:solidFill>
                <a:latin typeface="Arial"/>
              </a:rPr>
              <a:t>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724280" y="25146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4f2e"/>
                </a:solidFill>
                <a:latin typeface="Arial"/>
              </a:rPr>
              <a:t>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800600" y="480060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76720" y="48769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c1fdd"/>
                </a:solidFill>
                <a:latin typeface="Arial"/>
              </a:rPr>
              <a:t>冬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228600" y="228600"/>
            <a:ext cx="53352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050840" y="168120"/>
            <a:ext cx="6340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分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概括段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838080" y="990720"/>
            <a:ext cx="5791320" cy="581400"/>
          </a:xfrm>
          <a:prstGeom prst="rect">
            <a:avLst/>
          </a:prstGeom>
          <a:solidFill>
            <a:srgbClr val="88f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春夏秋冬四季更迭的情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6553080" y="609480"/>
            <a:ext cx="259092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摹状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1128712545_2b9c70c6e3d472231c6c4a59c0b47ab0"/>
          <p:cNvPicPr/>
          <p:nvPr/>
        </p:nvPicPr>
        <p:blipFill>
          <a:blip r:embed="rId2"/>
          <a:stretch/>
        </p:blipFill>
        <p:spPr>
          <a:xfrm>
            <a:off x="0" y="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838080" y="533520"/>
            <a:ext cx="1752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春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114" name="Picture 5" descr="natur019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638680" y="54100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次第开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图片1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17" name="WordArt 8"/>
          <p:cNvSpPr txBox="1"/>
          <p:nvPr/>
        </p:nvSpPr>
        <p:spPr>
          <a:xfrm>
            <a:off x="4800600" y="228600"/>
            <a:ext cx="27432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燕子翩然归来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春暖花开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小蜜蜂"/>
          <p:cNvPicPr/>
          <p:nvPr/>
        </p:nvPicPr>
        <p:blipFill>
          <a:blip r:embed="rId6"/>
          <a:stretch/>
        </p:blipFill>
        <p:spPr>
          <a:xfrm>
            <a:off x="7086600" y="1447920"/>
            <a:ext cx="576360" cy="63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小蜜蜂"/>
          <p:cNvPicPr/>
          <p:nvPr/>
        </p:nvPicPr>
        <p:blipFill>
          <a:blip r:embed="rId7"/>
          <a:stretch/>
        </p:blipFill>
        <p:spPr>
          <a:xfrm>
            <a:off x="6248520" y="4495680"/>
            <a:ext cx="682560" cy="78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小蜜蜂"/>
          <p:cNvPicPr/>
          <p:nvPr/>
        </p:nvPicPr>
        <p:blipFill>
          <a:blip r:embed="rId8"/>
          <a:stretch/>
        </p:blipFill>
        <p:spPr>
          <a:xfrm>
            <a:off x="4191120" y="3200400"/>
            <a:ext cx="507960" cy="555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花蝴蝶"/>
          <p:cNvPicPr/>
          <p:nvPr/>
        </p:nvPicPr>
        <p:blipFill>
          <a:blip r:embed="rId9"/>
          <a:stretch/>
        </p:blipFill>
        <p:spPr>
          <a:xfrm>
            <a:off x="762120" y="3429000"/>
            <a:ext cx="1439640" cy="12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振翅的蝴蝶"/>
          <p:cNvPicPr/>
          <p:nvPr/>
        </p:nvPicPr>
        <p:blipFill>
          <a:blip r:embed="rId10"/>
          <a:stretch/>
        </p:blipFill>
        <p:spPr>
          <a:xfrm>
            <a:off x="6934320" y="3581280"/>
            <a:ext cx="1028520" cy="9144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0"/>
          <p:cNvSpPr txBox="1"/>
          <p:nvPr/>
        </p:nvSpPr>
        <p:spPr>
          <a:xfrm>
            <a:off x="1828800" y="838080"/>
            <a:ext cx="4114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花香鸟语、草长莺飞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slow">
    <p:split dir="out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xia1"/>
          <p:cNvPicPr/>
          <p:nvPr/>
        </p:nvPicPr>
        <p:blipFill>
          <a:blip r:embed="rId2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6"/>
          <p:cNvSpPr txBox="1"/>
          <p:nvPr/>
        </p:nvSpPr>
        <p:spPr>
          <a:xfrm>
            <a:off x="5257800" y="-380880"/>
            <a:ext cx="2743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夏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130" name="Picture 7" descr="图片8"/>
          <p:cNvPicPr/>
          <p:nvPr/>
        </p:nvPicPr>
        <p:blipFill>
          <a:blip r:embed="rId3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8"/>
          <p:cNvSpPr txBox="1"/>
          <p:nvPr/>
        </p:nvSpPr>
        <p:spPr>
          <a:xfrm>
            <a:off x="762120" y="4267080"/>
            <a:ext cx="304776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孕育果实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5:5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55:27Z</dcterms:modified>
  <cp:revision>1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