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5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425-29E8-48EE-A487-EEB10A12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127-6AEB-466A-BFA6-75869798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F04F2-2D5B-4794-9DB6-E245B3BB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F2236-07C6-4CC9-A896-A30C4F16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DA1DD-79EA-4B0D-835D-7A41E466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FB911-6552-4C65-A616-8ACB83D6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B4D67-2B78-47BD-870F-1B3ACED0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4DF7F-C8EC-47ED-AAF5-188D5E9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66AD3-5EAB-4DA8-B9FE-D99192FA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26DDB-0335-43D3-BCB9-1004CA83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98E00-94DD-4105-98FD-637CB884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432A0-445B-4BA1-8DA2-A2F5ED59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158-7ED4-46BE-8F2B-2C4620A3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C3683-7360-4BE0-B9C9-29227D87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BB60A-6948-42CA-A3CE-90BB1865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4B678-F964-410E-AD49-5A0CA6BA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D9E66-7AE6-4EF1-B3CA-0D658AD0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B2CC5-3276-4DDD-B9CD-50F4AC15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63CDF-4028-4EA4-AB96-C334ED8D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664B3-1761-48DD-9651-8FC44FD6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B84A7-564A-4362-9F97-AB1EC66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E1B27-5A81-4E81-88D3-74F15282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3FD91-68A6-43E4-8B24-DE9D664A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DAF-7EA3-4023-A4A3-91EEAD78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9CE8A-C05F-4D79-8D4D-59A3338E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BAB23-3B50-4FD8-8C93-947CA627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610EA-5E21-4648-81E2-87B005F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92CB2-E97F-4215-93F8-BF884402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012BB-C7E8-4B08-A319-AD64114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0437C-28AC-45B5-9582-0362F45C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3B208-DBEC-4AA3-972D-8E6973A9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C687F-34C0-4636-A9DE-0EDD4014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AD320-65F6-4168-BE28-748F723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75F34-4E18-4BED-BECD-62E97D7F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71F3-E78D-43AE-A761-3E02DA53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1D79E-12D8-43C3-9B1A-2F43251E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33FEE-C34E-4FDB-9649-9CFAC840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DA012-7B87-4CA8-8CBC-D8A512F4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940D48-B369-4FA6-B5C4-3F0FBFCD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5311B1-637A-4D71-A21F-9F86BDB1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76BCBE-734E-4EDA-8D00-E6FC0FD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7EF749-B8D6-45FF-A84C-95EB1D99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956251-DD26-4B5B-AFA6-A6F6680A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E61C81-2A59-4CC5-92EB-E29AF5E2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A5147A-E25E-471E-9E01-368D38B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8BA9-AFA3-497D-A774-996880C9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854985-4088-48AA-8B2B-2DF910FA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D83552-8A30-481E-85E1-D5F6FC1D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839889-4530-457E-9FB6-FE6A6F3D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129D50-A252-470A-B1B4-E71F0F7E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2C0B1F-A051-4990-9665-39429E71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C300-C1B5-4972-A58E-2E8ADC38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E42E-EC3C-4F75-B1BD-C739808B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1027-EEDE-4678-B80B-4877BBF1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1E7B-E6C2-4CC8-934F-D701D51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9AEF-EAB0-4306-8DF6-A9CEADB8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600-87C3-4D6F-B793-7F4D6681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BA01-EA5F-45D6-B128-753BEA9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BBC8-6458-48F3-995D-AE04164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FE7C-C045-4452-A4F7-7CB2FDA2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5849-8401-4129-9B70-1E8A461B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DD30-FF4C-4E78-8EA7-F55BA2A4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2466-215B-4C8D-B3CA-5C7C39B3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0BF1-21CD-45B6-8637-913425B2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5F47-BF25-47A6-9B75-3C94565A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3516-7E8E-425F-AFA6-C5BAFAF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C3F0-AF21-43D6-AAA8-24C3FE4D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D12-F19D-4D42-8D97-9D6CA021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5092-74AF-41F2-A803-8110B290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3B0F-2F80-4113-84D2-AE0761FA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DB31-49E0-446E-AB48-AA82309F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DE31E-A1B8-431B-9D4A-0E20FB29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4FA2-266D-4246-BDF1-3A66481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866A-C86C-4741-A424-54C8AA5D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6C00-4147-4035-A836-486F0593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4F7E1-C0E4-49F8-9186-08F3D65F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D0CB-7804-4172-9CFC-30DA9E33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3590D-D1AD-4A27-A1DE-F411775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1BE-DF51-4A62-9A66-BB5FE1CF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2BB4-8E0A-4D95-8EA9-1F1378C5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DFD1-19C2-4301-9FA9-26AD0CA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0C7F-CCA7-4D9C-9190-61770809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C87A-A9F2-4764-9E76-968B4F5D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0BCC-A746-4A10-9A8F-4A12F2B8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E6DE-36C6-4014-90C7-46F51EB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F71A-71B8-4242-B880-D0EC9E2F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B7C0A-5B82-4EB2-A113-60FCA450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6A684-4FF5-4003-BEBD-A66293F0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E9D4-B081-4229-9505-909E9A28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EA2-64C8-4ACA-8C42-9F8544FD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4BBDA-B226-48A5-8679-35BD1AD5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A757-B6EC-420D-A1A1-B58D018A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0D39B-21FE-4C06-9495-9119888C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6D32-92F4-47AC-BCFA-7FD884D6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3AA0-F773-46A9-A1CA-F083EF58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8981-FB9D-4D55-8CA9-25505801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E1F44-5834-4C2B-93A5-D171518C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1473-9CA4-41E1-9A3D-151F8723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81F5-2C67-4705-8819-313E663F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0526-6878-4303-B41E-456C5D65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DE2-8B84-43C2-B5B2-29CF6179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C3BF-52B7-4167-8AE9-0E179FA4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872EE-6926-45BD-AEE9-5A06D464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6787-FFD5-457A-B36E-C4A2832A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14CB8-583C-49F3-A1D6-015DA8FB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BDF2E-8523-4E4F-94DD-5E83BA0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2A88E-291F-4C14-814B-1C3A358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83674-0C13-49C6-91BD-C05D199F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6E1CD-A06B-405D-985E-F5AF8E2D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AF361-595D-4EF3-8F11-2799BA51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CE24-1770-4E4C-839D-745A1D6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835-C82F-47D3-BA31-A2AC2AFC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A7BD4-6C62-4782-B76B-831B1E1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78C0E-CF57-4414-B4C6-92D5E82F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27379-62B0-4600-B13F-74376512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24A71-FF79-4E1D-9F78-324E4D31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0DDF5-B877-41C0-9854-3E447C70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F6634-6F99-4F0A-B63E-C6E86C6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23941-7037-415E-BD13-1D4B13A8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D5C36-093C-4C2F-A53D-4F53FEB2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E4B4-4FD1-4DEF-BEEC-85707F8B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41A19-B0CC-4822-8C59-173DB781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988-5024-4E77-91DC-65DB004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00591-D39D-4769-B792-7B38F26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C6D7B-EB76-4F90-80BF-FC8862A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36129-27D1-4E2F-A54C-8FDBA809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DDA44-5C93-4295-AEE5-D282D185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B66E9-23C3-440F-B09F-D209E0CE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150E6-7734-41F5-8E61-B7B21BA0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D4ED5-31CC-44A9-9664-3A1F7D8C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982E5-FFB1-41DA-A630-A283213C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3831-767A-4B68-8F04-054863C6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FE4C3-8DDE-4F29-B120-783B1B7C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E8F-38D1-4DCE-A999-A306CB7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66033-D747-4258-801E-535919D1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AC21-122A-4BB9-8D6B-395EBE12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97D47-9591-447C-8CDD-4FCD5714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820BB-BD7B-4F61-BE77-CB17C11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B5AF1-DF85-4560-9DF0-01C94F9D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E696B-286C-4FD7-8806-5303BD53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32324-25CF-44F3-82DD-AC019DE4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630E7-122B-4A3D-A636-F1B6899D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F61B1-A201-4DCF-9428-E8518670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226AE-E59A-4E6D-91A1-23004338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84F8-4C72-4E1D-A32A-D7CC873BC8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3649-937E-4BE1-AE02-6598CD223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7185-0A63-4C2B-A067-381BF9D61B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DF7B-0E95-4A5C-B530-26BD34C1D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36B8-EDBD-4FC8-B169-A3A395AED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16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62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76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90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04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18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32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46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48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FCA8-8EE4-4928-8FAA-DD4349E39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403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404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0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410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2"/>
            <p:cNvGrpSpPr/>
            <p:nvPr/>
          </p:nvGrpSpPr>
          <p:grpSpPr>
            <a:xfrm>
              <a:off x="6273360" y="-21960"/>
              <a:ext cx="2870280" cy="2269080"/>
              <a:chOff x="6273360" y="-21960"/>
              <a:chExt cx="2870280" cy="2269080"/>
            </a:xfrm>
          </p:grpSpPr>
          <p:grpSp>
            <p:nvGrpSpPr>
              <p:cNvPr id="413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414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16"/>
              <p:cNvGrpSpPr/>
              <p:nvPr/>
            </p:nvGrpSpPr>
            <p:grpSpPr>
              <a:xfrm>
                <a:off x="6273360" y="-21960"/>
                <a:ext cx="2867400" cy="2269080"/>
                <a:chOff x="6273360" y="-21960"/>
                <a:chExt cx="2867400" cy="2269080"/>
              </a:xfrm>
            </p:grpSpPr>
            <p:grpSp>
              <p:nvGrpSpPr>
                <p:cNvPr id="417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418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42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424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42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430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433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43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439" name="Freeform 39"/>
                  <p:cNvSpPr/>
                  <p:nvPr/>
                </p:nvSpPr>
                <p:spPr>
                  <a:xfrm flipH="1" rot="18888600">
                    <a:off x="6791040" y="1196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4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4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48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5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5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5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6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463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6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68"/>
                <p:cNvGrpSpPr/>
                <p:nvPr/>
              </p:nvGrpSpPr>
              <p:grpSpPr>
                <a:xfrm>
                  <a:off x="7111800" y="15840"/>
                  <a:ext cx="608040" cy="785160"/>
                  <a:chOff x="7111800" y="15840"/>
                  <a:chExt cx="608040" cy="785160"/>
                </a:xfrm>
              </p:grpSpPr>
              <p:sp>
                <p:nvSpPr>
                  <p:cNvPr id="469" name="Freeform 69"/>
                  <p:cNvSpPr/>
                  <p:nvPr/>
                </p:nvSpPr>
                <p:spPr>
                  <a:xfrm flipH="1" rot="3474000">
                    <a:off x="7239240" y="47664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Freeform 70"/>
                  <p:cNvSpPr/>
                  <p:nvPr/>
                </p:nvSpPr>
                <p:spPr>
                  <a:xfrm flipH="1" rot="3474000">
                    <a:off x="7113600" y="103680"/>
                    <a:ext cx="303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472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475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478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Group 82"/>
                <p:cNvGrpSpPr/>
                <p:nvPr/>
              </p:nvGrpSpPr>
              <p:grpSpPr>
                <a:xfrm>
                  <a:off x="7665840" y="-11520"/>
                  <a:ext cx="497520" cy="790920"/>
                  <a:chOff x="7665840" y="-11520"/>
                  <a:chExt cx="497520" cy="790920"/>
                </a:xfrm>
              </p:grpSpPr>
              <p:sp>
                <p:nvSpPr>
                  <p:cNvPr id="483" name="Freeform 83"/>
                  <p:cNvSpPr/>
                  <p:nvPr/>
                </p:nvSpPr>
                <p:spPr>
                  <a:xfrm rot="17742000">
                    <a:off x="7554240" y="46620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Group 85"/>
                <p:cNvGrpSpPr/>
                <p:nvPr/>
              </p:nvGrpSpPr>
              <p:grpSpPr>
                <a:xfrm>
                  <a:off x="7662600" y="38160"/>
                  <a:ext cx="786240" cy="747720"/>
                  <a:chOff x="7662600" y="38160"/>
                  <a:chExt cx="786240" cy="747720"/>
                </a:xfrm>
              </p:grpSpPr>
              <p:sp>
                <p:nvSpPr>
                  <p:cNvPr id="486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Freeform 87"/>
                  <p:cNvSpPr/>
                  <p:nvPr/>
                </p:nvSpPr>
                <p:spPr>
                  <a:xfrm rot="18822600">
                    <a:off x="810144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489" name="Freeform 89"/>
                  <p:cNvSpPr/>
                  <p:nvPr/>
                </p:nvSpPr>
                <p:spPr>
                  <a:xfrm rot="16696200">
                    <a:off x="7521120" y="478080"/>
                    <a:ext cx="4881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Group 91"/>
                <p:cNvGrpSpPr/>
                <p:nvPr/>
              </p:nvGrpSpPr>
              <p:grpSpPr>
                <a:xfrm>
                  <a:off x="6710760" y="929880"/>
                  <a:ext cx="914040" cy="1248840"/>
                  <a:chOff x="6710760" y="929880"/>
                  <a:chExt cx="914040" cy="1248840"/>
                </a:xfrm>
              </p:grpSpPr>
              <p:sp>
                <p:nvSpPr>
                  <p:cNvPr id="492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93"/>
                  <p:cNvSpPr/>
                  <p:nvPr/>
                </p:nvSpPr>
                <p:spPr>
                  <a:xfrm flipH="1" rot="18336000">
                    <a:off x="6713280" y="17870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9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97"/>
                <p:cNvGrpSpPr/>
                <p:nvPr/>
              </p:nvGrpSpPr>
              <p:grpSpPr>
                <a:xfrm>
                  <a:off x="7312320" y="1001160"/>
                  <a:ext cx="364320" cy="1217880"/>
                  <a:chOff x="7312320" y="1001160"/>
                  <a:chExt cx="364320" cy="1217880"/>
                </a:xfrm>
              </p:grpSpPr>
              <p:sp>
                <p:nvSpPr>
                  <p:cNvPr id="498" name="Freeform 98"/>
                  <p:cNvSpPr/>
                  <p:nvPr/>
                </p:nvSpPr>
                <p:spPr>
                  <a:xfrm flipH="1" rot="16870800">
                    <a:off x="7136280" y="132804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Freeform 99"/>
                  <p:cNvSpPr/>
                  <p:nvPr/>
                </p:nvSpPr>
                <p:spPr>
                  <a:xfrm flipH="1" rot="16870800">
                    <a:off x="7253640" y="1876680"/>
                    <a:ext cx="4215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Group 100"/>
                <p:cNvGrpSpPr/>
                <p:nvPr/>
              </p:nvGrpSpPr>
              <p:grpSpPr>
                <a:xfrm>
                  <a:off x="7799040" y="909000"/>
                  <a:ext cx="949680" cy="1229400"/>
                  <a:chOff x="7799040" y="909000"/>
                  <a:chExt cx="949680" cy="1229400"/>
                </a:xfrm>
              </p:grpSpPr>
              <p:sp>
                <p:nvSpPr>
                  <p:cNvPr id="501" name="Freeform 101"/>
                  <p:cNvSpPr/>
                  <p:nvPr/>
                </p:nvSpPr>
                <p:spPr>
                  <a:xfrm rot="3144000">
                    <a:off x="768960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Freeform 102"/>
                  <p:cNvSpPr/>
                  <p:nvPr/>
                </p:nvSpPr>
                <p:spPr>
                  <a:xfrm rot="3144000">
                    <a:off x="826632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504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105"/>
                  <p:cNvSpPr/>
                  <p:nvPr/>
                </p:nvSpPr>
                <p:spPr>
                  <a:xfrm rot="3745200">
                    <a:off x="8079840" y="184032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507" name="Freeform 107"/>
                  <p:cNvSpPr/>
                  <p:nvPr/>
                </p:nvSpPr>
                <p:spPr>
                  <a:xfrm rot="4286400">
                    <a:off x="7536600" y="1351440"/>
                    <a:ext cx="8218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1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513" name="Freeform 113"/>
                  <p:cNvSpPr/>
                  <p:nvPr/>
                </p:nvSpPr>
                <p:spPr>
                  <a:xfrm rot="5755200">
                    <a:off x="7320960" y="1401480"/>
                    <a:ext cx="738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86A6-F11B-4E7B-B4C7-4EACFA64C02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6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583" name="Group 7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584" name="Group 8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585" name="Group 9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586" name="Freeform 10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Freeform 11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8" name="Oval 12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3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14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15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16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Freeform 17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2" name="Group 26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60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8513a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4B28-F16E-4599-9CDF-D4A34F551F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79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8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D159-5B25-4004-80C2-E2C46E0A8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072C-A4E8-4537-91F3-F4AC58BB3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3B9D-E8A5-4CCC-AD60-7D3D997986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9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79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15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18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6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6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86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A9F6-DA72-4E79-9016-D9C0ECB3ED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第六课   做情绪的主人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187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    丰富多样的情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Text Box 5"/>
          <p:cNvSpPr/>
          <p:nvPr/>
        </p:nvSpPr>
        <p:spPr>
          <a:xfrm>
            <a:off x="3132000" y="51577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庄市学校    王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10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4"/>
          <p:cNvSpPr/>
          <p:nvPr/>
        </p:nvSpPr>
        <p:spPr>
          <a:xfrm>
            <a:off x="684360" y="620640"/>
            <a:ext cx="7343640" cy="30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情绪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：心理学家利用猴子做实验。两只猴子同时关在笼子里，一只被捆住，不能动；一只可以在笼子里活动。实验者每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秒对猴子进行一次电击，每次放电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秒，笼里的红灯就会亮起。笼里有一个开关，每当红灯亮起，只要按动开关就可以逃出笼子。可活动的那只猴子发现了这个开关。实验在不间断的进行，结果有一只猴子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4"/>
          <p:cNvSpPr/>
          <p:nvPr/>
        </p:nvSpPr>
        <p:spPr>
          <a:xfrm>
            <a:off x="900000" y="83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请问：是哪一只猴子先死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"/>
          <p:cNvSpPr/>
          <p:nvPr/>
        </p:nvSpPr>
        <p:spPr>
          <a:xfrm>
            <a:off x="684360" y="3357720"/>
            <a:ext cx="81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答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应该是可活动的那只猴子先死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原因是它长时间地高度紧张，最后先于那只不可活动的猴子而死。这说明了情绪对生活的消极影响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38080" y="4552920"/>
            <a:ext cx="6181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611280" y="24922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常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愁能断肠” 。当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肠子是不会真的愁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疾郁而死却有可能。小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楼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里的林妹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便是终日愁眉不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人对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透着一股凄伤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终日郁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怀着满腔的愁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疾郁成疾而过早凋零。由此可以看出消极的紧张的情绪对人的 身体不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减少人的寿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20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4"/>
          <p:cNvSpPr/>
          <p:nvPr/>
        </p:nvSpPr>
        <p:spPr>
          <a:xfrm>
            <a:off x="1042920" y="907920"/>
            <a:ext cx="756144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说出情绪对你的影响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子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平时的成绩不错，可就这次期中考试考得不好。原因是那天晚上我没休息好，太紧张以致于翻来覆去睡不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其实是一个能说会道的人，但不知怎么的一到关键时候，我就变得脸红、结结巴巴。这些都是情绪对人的消极影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情绪对人有没有积极影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441360" y="836640"/>
            <a:ext cx="8702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：英国科学家法拉第，年轻时体质较差，加上工作紧张，用脑过度，身体十分虚弱，多方求治也不见效。后来，一位名医给他进行了检查，没有给他开药方，只送他一句话：“一个小丑进城，胜过许多名医。”法拉第细细品味这句话，悟出了其中的奥妙。从此，他经常抽空去看马戏和喜剧。精彩的表演，总是令他开怀大笑。他还到野外和海边渡假，调剂生活，经常保持愉快的情绪。久而久之，法拉第的身体逐渐地康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个材料说明了情绪对身体也有积极的影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4"/>
          <p:cNvSpPr/>
          <p:nvPr/>
        </p:nvSpPr>
        <p:spPr>
          <a:xfrm>
            <a:off x="395280" y="1989000"/>
            <a:ext cx="817236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此我们可以看出情绪犹如一把双刃剑。一方面，情绪对人的身体和生活是有积极影响的。情绪可以充实人的体力和精力，提高个人的活动效率和能力，促使我们健康成长。另一方面，情绪对人的身体和生活是有消极影响的。情绪会使人感到难受，抑制人的活动能力，降低人的自控能力和活动效率，做出一些令自己后悔甚至违法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填写书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6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4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的情绪小档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估计一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上周七天中你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是愉快的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是消沉的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是愤怒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恐惧的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焦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析各种不同情绪的来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愉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出当时自己的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时我感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出这种情绪给我学习和生活带来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现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回想一下自己是怎样对待这种情绪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后遇到类似的事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袄该怎样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使用规范说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认识人类情绪的丰富多样性，知道喜、怒、哀、惧是情绪的四种基本类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了解情绪产生的原因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理解情绪对于个人行为和生活的影响和作用，包括情绪的积极作用和消极作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4"/>
          <p:cNvSpPr/>
          <p:nvPr/>
        </p:nvSpPr>
        <p:spPr>
          <a:xfrm>
            <a:off x="324000" y="0"/>
            <a:ext cx="8820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  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情绪的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小强是一名初一的学生，在一次作文竞赛中获得全校第一名，对此他非常高兴，见人就说自己的作文水平高，兴奋的一夜没睡着觉，认为自己真了不起，这时觉得周围的一切都那么美好。可是好景不长，在第二次作文竞赛中他写跑题了，连鼓励奖都没拿到，这一夜他同样没合眼，认为自己怎么这样无能，真是丢人，无法再去面对同学和老师。第二天到学校时，小露同学说风凉话了：小强，作文比赛想得全校第一名没那么容易吧，上一次得全校第一名还不知道你是通过什么手段取得的呢？小强听了顿时火冒三丈，觉得自己咽不下这口气，于是一拳打过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小露把这事告诉了班主任，小强知道自己这下可闯了大祸，既后悔又害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250920" y="2492280"/>
            <a:ext cx="91440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１）作文获得全校第一名后小强的心情怎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　（２）第二次作文竞赛成绩公布后，小强有什么反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　（３）听到小露说风凉话时，小强有什么反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　（４）当小露把自己的遭遇告诉了班主任后，小强的心情又如何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7"/>
          <p:cNvSpPr/>
          <p:nvPr/>
        </p:nvSpPr>
        <p:spPr>
          <a:xfrm>
            <a:off x="1906920" y="3645000"/>
            <a:ext cx="1951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答案  （１）非常开心、兴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8"/>
          <p:cNvSpPr/>
          <p:nvPr/>
        </p:nvSpPr>
        <p:spPr>
          <a:xfrm>
            <a:off x="3372120" y="4076640"/>
            <a:ext cx="412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２）苦恼、烦闷、焦躁不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0"/>
          <p:cNvSpPr/>
          <p:nvPr/>
        </p:nvSpPr>
        <p:spPr>
          <a:xfrm>
            <a:off x="2534040" y="4581360"/>
            <a:ext cx="2898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３）十分气愤，无法控制自己的怒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1763640" y="60786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４）既后悔又害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4"/>
          <p:cNvSpPr/>
          <p:nvPr/>
        </p:nvSpPr>
        <p:spPr>
          <a:xfrm>
            <a:off x="774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15" descr="j0233070"/>
          <p:cNvPicPr/>
          <p:nvPr/>
        </p:nvPicPr>
        <p:blipFill>
          <a:blip r:embed="rId2"/>
          <a:stretch/>
        </p:blipFill>
        <p:spPr>
          <a:xfrm>
            <a:off x="7164360" y="5734080"/>
            <a:ext cx="936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4"/>
          <p:cNvSpPr/>
          <p:nvPr/>
        </p:nvSpPr>
        <p:spPr>
          <a:xfrm>
            <a:off x="250920" y="476280"/>
            <a:ext cx="889308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情绪的四大基本类型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喜、怒、哀、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4" descr="DSCF0003"/>
          <p:cNvPicPr/>
          <p:nvPr/>
        </p:nvPicPr>
        <p:blipFill>
          <a:blip r:embed="rId1"/>
          <a:stretch/>
        </p:blipFill>
        <p:spPr>
          <a:xfrm>
            <a:off x="179280" y="765000"/>
            <a:ext cx="4394160" cy="38102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DSCF0004"/>
          <p:cNvPicPr/>
          <p:nvPr/>
        </p:nvPicPr>
        <p:blipFill>
          <a:blip r:embed="rId2"/>
          <a:stretch/>
        </p:blipFill>
        <p:spPr>
          <a:xfrm>
            <a:off x="4572000" y="765000"/>
            <a:ext cx="4343400" cy="38102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7" descr="j0299763"/>
          <p:cNvPicPr/>
          <p:nvPr/>
        </p:nvPicPr>
        <p:blipFill>
          <a:blip r:embed="rId3"/>
          <a:stretch/>
        </p:blipFill>
        <p:spPr>
          <a:xfrm>
            <a:off x="8101080" y="5886360"/>
            <a:ext cx="6825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4"/>
          <p:cNvGrpSpPr/>
          <p:nvPr/>
        </p:nvGrpSpPr>
        <p:grpSpPr>
          <a:xfrm>
            <a:off x="684360" y="260280"/>
            <a:ext cx="7219440" cy="6248160"/>
            <a:chOff x="684360" y="260280"/>
            <a:chExt cx="7219440" cy="6248160"/>
          </a:xfrm>
        </p:grpSpPr>
        <p:grpSp>
          <p:nvGrpSpPr>
            <p:cNvPr id="1060" name="Group 5"/>
            <p:cNvGrpSpPr/>
            <p:nvPr/>
          </p:nvGrpSpPr>
          <p:grpSpPr>
            <a:xfrm>
              <a:off x="690480" y="267840"/>
              <a:ext cx="7206480" cy="6231600"/>
              <a:chOff x="690480" y="267840"/>
              <a:chExt cx="7206480" cy="6231600"/>
            </a:xfrm>
          </p:grpSpPr>
          <p:grpSp>
            <p:nvGrpSpPr>
              <p:cNvPr id="1061" name="Group 6"/>
              <p:cNvGrpSpPr/>
              <p:nvPr/>
            </p:nvGrpSpPr>
            <p:grpSpPr>
              <a:xfrm>
                <a:off x="690480" y="267840"/>
                <a:ext cx="789480" cy="1495440"/>
                <a:chOff x="690480" y="267840"/>
                <a:chExt cx="789480" cy="1495440"/>
              </a:xfrm>
            </p:grpSpPr>
            <p:sp>
              <p:nvSpPr>
                <p:cNvPr id="1062" name="Rectangle 7"/>
                <p:cNvSpPr/>
                <p:nvPr/>
              </p:nvSpPr>
              <p:spPr>
                <a:xfrm>
                  <a:off x="780480" y="267840"/>
                  <a:ext cx="60948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各部分的动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Rectangle 8"/>
                <p:cNvSpPr/>
                <p:nvPr/>
              </p:nvSpPr>
              <p:spPr>
                <a:xfrm>
                  <a:off x="690480" y="267840"/>
                  <a:ext cx="78948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4" name="Group 9"/>
              <p:cNvGrpSpPr/>
              <p:nvPr/>
            </p:nvGrpSpPr>
            <p:grpSpPr>
              <a:xfrm>
                <a:off x="1480320" y="267840"/>
                <a:ext cx="1537920" cy="1495440"/>
                <a:chOff x="1480320" y="267840"/>
                <a:chExt cx="1537920" cy="1495440"/>
              </a:xfrm>
            </p:grpSpPr>
            <p:sp>
              <p:nvSpPr>
                <p:cNvPr id="1065" name="Rectangle 10"/>
                <p:cNvSpPr/>
                <p:nvPr/>
              </p:nvSpPr>
              <p:spPr>
                <a:xfrm>
                  <a:off x="1570320" y="267840"/>
                  <a:ext cx="1357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喜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Rectangle 11"/>
                <p:cNvSpPr/>
                <p:nvPr/>
              </p:nvSpPr>
              <p:spPr>
                <a:xfrm>
                  <a:off x="1480320" y="267840"/>
                  <a:ext cx="153792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Group 12"/>
              <p:cNvGrpSpPr/>
              <p:nvPr/>
            </p:nvGrpSpPr>
            <p:grpSpPr>
              <a:xfrm>
                <a:off x="3018600" y="267840"/>
                <a:ext cx="1524960" cy="1495440"/>
                <a:chOff x="3018600" y="267840"/>
                <a:chExt cx="1524960" cy="1495440"/>
              </a:xfrm>
            </p:grpSpPr>
            <p:sp>
              <p:nvSpPr>
                <p:cNvPr id="1068" name="Rectangle 13"/>
                <p:cNvSpPr/>
                <p:nvPr/>
              </p:nvSpPr>
              <p:spPr>
                <a:xfrm>
                  <a:off x="3108600" y="267840"/>
                  <a:ext cx="13449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怒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Rectangle 14"/>
                <p:cNvSpPr/>
                <p:nvPr/>
              </p:nvSpPr>
              <p:spPr>
                <a:xfrm>
                  <a:off x="3018600" y="267840"/>
                  <a:ext cx="15249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Group 15"/>
              <p:cNvGrpSpPr/>
              <p:nvPr/>
            </p:nvGrpSpPr>
            <p:grpSpPr>
              <a:xfrm>
                <a:off x="4543920" y="267840"/>
                <a:ext cx="1852560" cy="1495440"/>
                <a:chOff x="4543920" y="267840"/>
                <a:chExt cx="1852560" cy="1495440"/>
              </a:xfrm>
            </p:grpSpPr>
            <p:sp>
              <p:nvSpPr>
                <p:cNvPr id="1071" name="Rectangle 16"/>
                <p:cNvSpPr/>
                <p:nvPr/>
              </p:nvSpPr>
              <p:spPr>
                <a:xfrm>
                  <a:off x="4633920" y="267840"/>
                  <a:ext cx="1672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哀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Rectangle 17"/>
                <p:cNvSpPr/>
                <p:nvPr/>
              </p:nvSpPr>
              <p:spPr>
                <a:xfrm>
                  <a:off x="4543920" y="267840"/>
                  <a:ext cx="18525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18"/>
              <p:cNvGrpSpPr/>
              <p:nvPr/>
            </p:nvGrpSpPr>
            <p:grpSpPr>
              <a:xfrm>
                <a:off x="6397200" y="267840"/>
                <a:ext cx="1499760" cy="1495440"/>
                <a:chOff x="6397200" y="267840"/>
                <a:chExt cx="1499760" cy="1495440"/>
              </a:xfrm>
            </p:grpSpPr>
            <p:sp>
              <p:nvSpPr>
                <p:cNvPr id="1074" name="Rectangle 19"/>
                <p:cNvSpPr/>
                <p:nvPr/>
              </p:nvSpPr>
              <p:spPr>
                <a:xfrm>
                  <a:off x="6487200" y="267840"/>
                  <a:ext cx="13197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惧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Rectangle 20"/>
                <p:cNvSpPr/>
                <p:nvPr/>
              </p:nvSpPr>
              <p:spPr>
                <a:xfrm>
                  <a:off x="6397200" y="267840"/>
                  <a:ext cx="14997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21"/>
              <p:cNvGrpSpPr/>
              <p:nvPr/>
            </p:nvGrpSpPr>
            <p:grpSpPr>
              <a:xfrm>
                <a:off x="690480" y="1763640"/>
                <a:ext cx="789480" cy="1994040"/>
                <a:chOff x="690480" y="1763640"/>
                <a:chExt cx="789480" cy="1994040"/>
              </a:xfrm>
            </p:grpSpPr>
            <p:sp>
              <p:nvSpPr>
                <p:cNvPr id="1077" name="Rectangle 22"/>
                <p:cNvSpPr/>
                <p:nvPr/>
              </p:nvSpPr>
              <p:spPr>
                <a:xfrm>
                  <a:off x="780480" y="1763640"/>
                  <a:ext cx="60948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额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与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Rectangle 23"/>
                <p:cNvSpPr/>
                <p:nvPr/>
              </p:nvSpPr>
              <p:spPr>
                <a:xfrm>
                  <a:off x="690480" y="1763640"/>
                  <a:ext cx="78948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Group 24"/>
              <p:cNvGrpSpPr/>
              <p:nvPr/>
            </p:nvGrpSpPr>
            <p:grpSpPr>
              <a:xfrm>
                <a:off x="1480320" y="1763640"/>
                <a:ext cx="1537920" cy="1994040"/>
                <a:chOff x="1480320" y="1763640"/>
                <a:chExt cx="1537920" cy="1994040"/>
              </a:xfrm>
            </p:grpSpPr>
            <p:sp>
              <p:nvSpPr>
                <p:cNvPr id="1080" name="Rectangle 25"/>
                <p:cNvSpPr/>
                <p:nvPr/>
              </p:nvSpPr>
              <p:spPr>
                <a:xfrm>
                  <a:off x="1570320" y="1763640"/>
                  <a:ext cx="135756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平静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Rectangle 26"/>
                <p:cNvSpPr/>
                <p:nvPr/>
              </p:nvSpPr>
              <p:spPr>
                <a:xfrm>
                  <a:off x="1480320" y="1763640"/>
                  <a:ext cx="153792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Group 27"/>
              <p:cNvGrpSpPr/>
              <p:nvPr/>
            </p:nvGrpSpPr>
            <p:grpSpPr>
              <a:xfrm>
                <a:off x="3018600" y="1763640"/>
                <a:ext cx="1524960" cy="1994040"/>
                <a:chOff x="3018600" y="1763640"/>
                <a:chExt cx="1524960" cy="1994040"/>
              </a:xfrm>
            </p:grpSpPr>
            <p:sp>
              <p:nvSpPr>
                <p:cNvPr id="1083" name="Rectangle 28"/>
                <p:cNvSpPr/>
                <p:nvPr/>
              </p:nvSpPr>
              <p:spPr>
                <a:xfrm>
                  <a:off x="3108600" y="1763640"/>
                  <a:ext cx="134496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左右眉毛向上扬起，呈八字形，眉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前额之间有皱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Rectangle 29"/>
                <p:cNvSpPr/>
                <p:nvPr/>
              </p:nvSpPr>
              <p:spPr>
                <a:xfrm>
                  <a:off x="3018600" y="1763640"/>
                  <a:ext cx="152496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Group 30"/>
              <p:cNvGrpSpPr/>
              <p:nvPr/>
            </p:nvGrpSpPr>
            <p:grpSpPr>
              <a:xfrm>
                <a:off x="4543920" y="1763640"/>
                <a:ext cx="1852560" cy="1994040"/>
                <a:chOff x="4543920" y="1763640"/>
                <a:chExt cx="1852560" cy="1994040"/>
              </a:xfrm>
            </p:grpSpPr>
            <p:sp>
              <p:nvSpPr>
                <p:cNvPr id="1086" name="Rectangle 31"/>
                <p:cNvSpPr/>
                <p:nvPr/>
              </p:nvSpPr>
              <p:spPr>
                <a:xfrm>
                  <a:off x="4633920" y="1763640"/>
                  <a:ext cx="167256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左右眉毛向下斜，眉毛呈相反的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八字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Rectangle 32"/>
                <p:cNvSpPr/>
                <p:nvPr/>
              </p:nvSpPr>
              <p:spPr>
                <a:xfrm>
                  <a:off x="4543920" y="1763640"/>
                  <a:ext cx="185256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Group 33"/>
              <p:cNvGrpSpPr/>
              <p:nvPr/>
            </p:nvGrpSpPr>
            <p:grpSpPr>
              <a:xfrm>
                <a:off x="6397200" y="1763640"/>
                <a:ext cx="1499760" cy="1994040"/>
                <a:chOff x="6397200" y="1763640"/>
                <a:chExt cx="1499760" cy="1994040"/>
              </a:xfrm>
            </p:grpSpPr>
            <p:sp>
              <p:nvSpPr>
                <p:cNvPr id="1089" name="Rectangle 34"/>
                <p:cNvSpPr/>
                <p:nvPr/>
              </p:nvSpPr>
              <p:spPr>
                <a:xfrm>
                  <a:off x="6487200" y="1763640"/>
                  <a:ext cx="131976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左右眉向上扬起，前额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出现皱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Rectangle 35"/>
                <p:cNvSpPr/>
                <p:nvPr/>
              </p:nvSpPr>
              <p:spPr>
                <a:xfrm>
                  <a:off x="6397200" y="1763640"/>
                  <a:ext cx="149976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Group 36"/>
              <p:cNvGrpSpPr/>
              <p:nvPr/>
            </p:nvGrpSpPr>
            <p:grpSpPr>
              <a:xfrm>
                <a:off x="690480" y="3758040"/>
                <a:ext cx="789480" cy="1495440"/>
                <a:chOff x="690480" y="3758040"/>
                <a:chExt cx="789480" cy="1495440"/>
              </a:xfrm>
            </p:grpSpPr>
            <p:sp>
              <p:nvSpPr>
                <p:cNvPr id="1092" name="Rectangle 37"/>
                <p:cNvSpPr/>
                <p:nvPr/>
              </p:nvSpPr>
              <p:spPr>
                <a:xfrm>
                  <a:off x="780480" y="3758040"/>
                  <a:ext cx="60948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眼睛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Rectangle 38"/>
                <p:cNvSpPr/>
                <p:nvPr/>
              </p:nvSpPr>
              <p:spPr>
                <a:xfrm>
                  <a:off x="690480" y="3758040"/>
                  <a:ext cx="78948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Group 39"/>
              <p:cNvGrpSpPr/>
              <p:nvPr/>
            </p:nvGrpSpPr>
            <p:grpSpPr>
              <a:xfrm>
                <a:off x="1480320" y="3758040"/>
                <a:ext cx="1537920" cy="1495440"/>
                <a:chOff x="1480320" y="3758040"/>
                <a:chExt cx="1537920" cy="1495440"/>
              </a:xfrm>
            </p:grpSpPr>
            <p:sp>
              <p:nvSpPr>
                <p:cNvPr id="1095" name="Rectangle 40"/>
                <p:cNvSpPr/>
                <p:nvPr/>
              </p:nvSpPr>
              <p:spPr>
                <a:xfrm>
                  <a:off x="1570320" y="3758040"/>
                  <a:ext cx="1357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眼睛边出现皱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Rectangle 41"/>
                <p:cNvSpPr/>
                <p:nvPr/>
              </p:nvSpPr>
              <p:spPr>
                <a:xfrm>
                  <a:off x="1480320" y="3758040"/>
                  <a:ext cx="153792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Group 42"/>
              <p:cNvGrpSpPr/>
              <p:nvPr/>
            </p:nvGrpSpPr>
            <p:grpSpPr>
              <a:xfrm>
                <a:off x="3018600" y="3758040"/>
                <a:ext cx="1524960" cy="1495440"/>
                <a:chOff x="3018600" y="3758040"/>
                <a:chExt cx="1524960" cy="1495440"/>
              </a:xfrm>
            </p:grpSpPr>
            <p:sp>
              <p:nvSpPr>
                <p:cNvPr id="1098" name="Rectangle 43"/>
                <p:cNvSpPr/>
                <p:nvPr/>
              </p:nvSpPr>
              <p:spPr>
                <a:xfrm>
                  <a:off x="3108600" y="3758040"/>
                  <a:ext cx="13449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睁得很大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Rectangle 44"/>
                <p:cNvSpPr/>
                <p:nvPr/>
              </p:nvSpPr>
              <p:spPr>
                <a:xfrm>
                  <a:off x="3018600" y="3758040"/>
                  <a:ext cx="15249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Group 45"/>
              <p:cNvGrpSpPr/>
              <p:nvPr/>
            </p:nvGrpSpPr>
            <p:grpSpPr>
              <a:xfrm>
                <a:off x="4543920" y="3758040"/>
                <a:ext cx="1852560" cy="1495440"/>
                <a:chOff x="4543920" y="3758040"/>
                <a:chExt cx="1852560" cy="1495440"/>
              </a:xfrm>
            </p:grpSpPr>
            <p:sp>
              <p:nvSpPr>
                <p:cNvPr id="1101" name="Rectangle 46"/>
                <p:cNvSpPr/>
                <p:nvPr/>
              </p:nvSpPr>
              <p:spPr>
                <a:xfrm>
                  <a:off x="4633920" y="3758040"/>
                  <a:ext cx="1672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部分或全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闭紧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Rectangle 47"/>
                <p:cNvSpPr/>
                <p:nvPr/>
              </p:nvSpPr>
              <p:spPr>
                <a:xfrm>
                  <a:off x="4543920" y="3758040"/>
                  <a:ext cx="18525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Group 48"/>
              <p:cNvGrpSpPr/>
              <p:nvPr/>
            </p:nvGrpSpPr>
            <p:grpSpPr>
              <a:xfrm>
                <a:off x="6397200" y="3758040"/>
                <a:ext cx="1499760" cy="1495440"/>
                <a:chOff x="6397200" y="3758040"/>
                <a:chExt cx="1499760" cy="1495440"/>
              </a:xfrm>
            </p:grpSpPr>
            <p:sp>
              <p:nvSpPr>
                <p:cNvPr id="1104" name="Rectangle 49"/>
                <p:cNvSpPr/>
                <p:nvPr/>
              </p:nvSpPr>
              <p:spPr>
                <a:xfrm>
                  <a:off x="6487200" y="3758040"/>
                  <a:ext cx="13197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睁得很大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Rectangle 50"/>
                <p:cNvSpPr/>
                <p:nvPr/>
              </p:nvSpPr>
              <p:spPr>
                <a:xfrm>
                  <a:off x="6397200" y="3758040"/>
                  <a:ext cx="14997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Group 51"/>
              <p:cNvGrpSpPr/>
              <p:nvPr/>
            </p:nvGrpSpPr>
            <p:grpSpPr>
              <a:xfrm>
                <a:off x="690480" y="5253840"/>
                <a:ext cx="789480" cy="1245600"/>
                <a:chOff x="690480" y="5253840"/>
                <a:chExt cx="789480" cy="1245600"/>
              </a:xfrm>
            </p:grpSpPr>
            <p:sp>
              <p:nvSpPr>
                <p:cNvPr id="1107" name="Rectangle 52"/>
                <p:cNvSpPr/>
                <p:nvPr/>
              </p:nvSpPr>
              <p:spPr>
                <a:xfrm>
                  <a:off x="780480" y="5253840"/>
                  <a:ext cx="60948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嘴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巴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Rectangle 53"/>
                <p:cNvSpPr/>
                <p:nvPr/>
              </p:nvSpPr>
              <p:spPr>
                <a:xfrm>
                  <a:off x="690480" y="5253840"/>
                  <a:ext cx="78948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Group 54"/>
              <p:cNvGrpSpPr/>
              <p:nvPr/>
            </p:nvGrpSpPr>
            <p:grpSpPr>
              <a:xfrm>
                <a:off x="1480320" y="5253840"/>
                <a:ext cx="1537920" cy="1245600"/>
                <a:chOff x="1480320" y="5253840"/>
                <a:chExt cx="1537920" cy="1245600"/>
              </a:xfrm>
            </p:grpSpPr>
            <p:sp>
              <p:nvSpPr>
                <p:cNvPr id="1110" name="Rectangle 55"/>
                <p:cNvSpPr/>
                <p:nvPr/>
              </p:nvSpPr>
              <p:spPr>
                <a:xfrm>
                  <a:off x="1570320" y="5253840"/>
                  <a:ext cx="135756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开口，上齿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露出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Rectangle 56"/>
                <p:cNvSpPr/>
                <p:nvPr/>
              </p:nvSpPr>
              <p:spPr>
                <a:xfrm>
                  <a:off x="1480320" y="5253840"/>
                  <a:ext cx="153792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Group 57"/>
              <p:cNvGrpSpPr/>
              <p:nvPr/>
            </p:nvGrpSpPr>
            <p:grpSpPr>
              <a:xfrm>
                <a:off x="3018600" y="5253840"/>
                <a:ext cx="1524960" cy="1245600"/>
                <a:chOff x="3018600" y="5253840"/>
                <a:chExt cx="1524960" cy="1245600"/>
              </a:xfrm>
            </p:grpSpPr>
            <p:sp>
              <p:nvSpPr>
                <p:cNvPr id="1113" name="Rectangle 58"/>
                <p:cNvSpPr/>
                <p:nvPr/>
              </p:nvSpPr>
              <p:spPr>
                <a:xfrm>
                  <a:off x="3108600" y="5253840"/>
                  <a:ext cx="134496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开口，下齿露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出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Rectangle 59"/>
                <p:cNvSpPr/>
                <p:nvPr/>
              </p:nvSpPr>
              <p:spPr>
                <a:xfrm>
                  <a:off x="3018600" y="5253840"/>
                  <a:ext cx="152496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Group 60"/>
              <p:cNvGrpSpPr/>
              <p:nvPr/>
            </p:nvGrpSpPr>
            <p:grpSpPr>
              <a:xfrm>
                <a:off x="4543920" y="5253840"/>
                <a:ext cx="1852560" cy="1245600"/>
                <a:chOff x="4543920" y="5253840"/>
                <a:chExt cx="1852560" cy="1245600"/>
              </a:xfrm>
            </p:grpSpPr>
            <p:sp>
              <p:nvSpPr>
                <p:cNvPr id="1116" name="Rectangle 61"/>
                <p:cNvSpPr/>
                <p:nvPr/>
              </p:nvSpPr>
              <p:spPr>
                <a:xfrm>
                  <a:off x="4633920" y="5253840"/>
                  <a:ext cx="167256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开口厉害，裂开很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Rectangle 62"/>
                <p:cNvSpPr/>
                <p:nvPr/>
              </p:nvSpPr>
              <p:spPr>
                <a:xfrm>
                  <a:off x="4543920" y="5253840"/>
                  <a:ext cx="185256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Group 63"/>
              <p:cNvGrpSpPr/>
              <p:nvPr/>
            </p:nvGrpSpPr>
            <p:grpSpPr>
              <a:xfrm>
                <a:off x="6397200" y="5253840"/>
                <a:ext cx="1499760" cy="1245600"/>
                <a:chOff x="6397200" y="5253840"/>
                <a:chExt cx="1499760" cy="1245600"/>
              </a:xfrm>
            </p:grpSpPr>
            <p:sp>
              <p:nvSpPr>
                <p:cNvPr id="1119" name="Rectangle 64"/>
                <p:cNvSpPr/>
                <p:nvPr/>
              </p:nvSpPr>
              <p:spPr>
                <a:xfrm>
                  <a:off x="6487200" y="5253840"/>
                  <a:ext cx="131976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开口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Rectangle 65"/>
                <p:cNvSpPr/>
                <p:nvPr/>
              </p:nvSpPr>
              <p:spPr>
                <a:xfrm>
                  <a:off x="6397200" y="5253840"/>
                  <a:ext cx="149976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1" name="Rectangle 66"/>
            <p:cNvSpPr/>
            <p:nvPr/>
          </p:nvSpPr>
          <p:spPr>
            <a:xfrm>
              <a:off x="684360" y="260280"/>
              <a:ext cx="7219440" cy="6248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67"/>
          <p:cNvSpPr/>
          <p:nvPr/>
        </p:nvSpPr>
        <p:spPr>
          <a:xfrm>
            <a:off x="8317080" y="6453360"/>
            <a:ext cx="35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69" descr="j0304933"/>
          <p:cNvPicPr/>
          <p:nvPr/>
        </p:nvPicPr>
        <p:blipFill>
          <a:blip r:embed="rId1"/>
          <a:stretch/>
        </p:blipFill>
        <p:spPr>
          <a:xfrm>
            <a:off x="8317080" y="6297480"/>
            <a:ext cx="61092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4"/>
          <p:cNvSpPr/>
          <p:nvPr/>
        </p:nvSpPr>
        <p:spPr>
          <a:xfrm>
            <a:off x="0" y="620640"/>
            <a:ext cx="799308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00"/>
                </a:solidFill>
                <a:latin typeface="Tahoma"/>
                <a:ea typeface="隶书"/>
              </a:rPr>
              <a:t>比一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情绪是丰富多样的，那么人究竟有多少种情绪呢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据统计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在我国的文字中与情绪有关的词汇有近千个。下面同学们思考一下哪些词汇是描写情绪的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等会儿找同学回答看谁说的多且准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4"/>
          <p:cNvSpPr/>
          <p:nvPr/>
        </p:nvSpPr>
        <p:spPr>
          <a:xfrm>
            <a:off x="250920" y="26028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日常生活中，人们的情绪是复杂多样的。如“明天要进行期末考试，晚上你的心情怎样？”找同学回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面就有兴奋和不安、自信和担忧、跃跃欲试和害怕等不同性质的情绪。所以说在这四种常见情绪的基础上，又可以组成很多复杂的情绪。如悲喜交加、爱恨交织、喜忧参半等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4"/>
          <p:cNvSpPr/>
          <p:nvPr/>
        </p:nvSpPr>
        <p:spPr>
          <a:xfrm>
            <a:off x="0" y="0"/>
            <a:ext cx="8748720" cy="80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情绪的产生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同学们讨论一下刚才我们看的一个例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析一下小强情绪产生的原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  (1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强高兴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强烦闷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强愤怒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强害怕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答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(1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他在作文竞赛中获得全校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作文竞赛中没有得到名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露同学说的风凉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他打了小露同学一拳被告到班主任那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6" descr="j0286034"/>
          <p:cNvPicPr/>
          <p:nvPr/>
        </p:nvPicPr>
        <p:blipFill>
          <a:blip r:embed="rId1"/>
          <a:stretch/>
        </p:blipFill>
        <p:spPr>
          <a:xfrm>
            <a:off x="7451640" y="189000"/>
            <a:ext cx="919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1:31:5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58:43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