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39E-A58B-4BD1-A988-5A9DE622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931-CFDC-4E21-A799-FB3B536B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229-7CEA-4EA3-9A55-F24ED76F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E23-FEB5-46D9-A3FC-01C5FF42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FD3B-A8D0-47B3-9363-36F0E06D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5AE1-CAF6-4C06-90F9-C7CEC968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1F7-5A4F-458F-B78F-D4490FDF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D4B9-EDB4-4C89-9694-A2F3EB1B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E1C1-EC90-4B21-B478-8BF1DB5D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A4A9-5681-4A4B-B4FC-B11B70EA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4252-E6AE-4BEF-BE6F-825DBB5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1B8-2627-445D-8FAE-44C5E4B3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E781-9B5F-467A-B48D-0C74990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5954-7BFA-4933-92FA-651E7B0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A1F4-1C58-464D-AC35-D1E86603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B40A-9B58-43DE-9309-B902E519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42D7-583B-4798-B133-7BFD22D2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9A2-E067-40ED-AC80-9CDAE8C0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331-26C5-4E1B-8C2F-6B9E97FC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C8B-440F-44EC-AC37-272082D6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205-421C-48A6-BE3C-28BFDEAE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751-FD76-4DD6-8D99-412DAAE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78D-67E7-4D17-8900-DAC3A78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6D5-01A1-474C-A595-F4F0389B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366B-A79D-4EBD-97AE-BAE77C03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514-2F00-4A01-9964-8184F36326A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D59-23AE-41C6-B73B-1D19CC0C4F2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13a1001"/>
          <p:cNvPicPr/>
          <p:nvPr/>
        </p:nvPicPr>
        <p:blipFill>
          <a:blip r:embed="rId2"/>
          <a:stretch/>
        </p:blipFill>
        <p:spPr>
          <a:xfrm>
            <a:off x="-19080" y="-4680"/>
            <a:ext cx="916308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5400000">
            <a:off x="5374800" y="1979640"/>
            <a:ext cx="3814920" cy="153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观潮</a:t>
            </a:r>
            <a:endParaRPr b="1" lang="en-US" sz="8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4" name="gq13524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6" name="Picture 2" descr="g13c10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685800" y="533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白色城墙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9" name="Picture 2" descr="g13c10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85800" y="533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浪潮越来越近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……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260280"/>
            <a:ext cx="8425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），（       ）传来隆隆的响声，好像闷雷滚动。顿时人声鼎沸。（         ），响声越来越大，只见东边水天相接的地方出现了一条白线，人群又沸腾起来。那条白线很快地向我们移来，逐渐拉长、变粗，横贯江面。（      ），只见白浪翻滚，形成一道两丈多高的白色城墙。（           ），犹如千万匹白色战马齐头并进，浩浩荡荡地飞奔而来；那声音如同山崩地裂，好像大地都被震得颤动起来。 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908000" y="352440"/>
            <a:ext cx="2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ahoma"/>
              </a:rPr>
              <a:t>午后一点左右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651640" y="336600"/>
            <a:ext cx="16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从远处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26920" y="15559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ahoma"/>
              </a:rPr>
              <a:t>过了一会儿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211640" y="3429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再近些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26920" y="457992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浪潮越来越近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18" name="钱塘潮.mpg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2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6565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0" name="Picture 2" descr="g13a1006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21" name="gq13540.wav" descr=""/>
          <p:cNvPicPr/>
          <p:nvPr/>
        </p:nvPicPr>
        <p:blipFill>
          <a:blip r:embed="rId3"/>
          <a:stretch/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3" name="Picture 2" descr="g13c10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gq13540.wav" descr=""/>
          <p:cNvPicPr/>
          <p:nvPr/>
        </p:nvPicPr>
        <p:blipFill>
          <a:blip r:embed="rId3"/>
          <a:stretch/>
        </p:blipFill>
        <p:spPr>
          <a:xfrm>
            <a:off x="8534520" y="15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6" name="Picture 2" descr="g13c10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gq13555.wav" descr=""/>
          <p:cNvPicPr/>
          <p:nvPr/>
        </p:nvPicPr>
        <p:blipFill>
          <a:blip r:embed="rId3"/>
          <a:stretch/>
        </p:blipFill>
        <p:spPr>
          <a:xfrm>
            <a:off x="8001000" y="15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7924680" y="6019920"/>
            <a:ext cx="838440" cy="533160"/>
          </a:xfrm>
          <a:custGeom>
            <a:avLst/>
            <a:gdLst>
              <a:gd name="textAreaLeft" fmla="*/ 33120 w 838440"/>
              <a:gd name="textAreaRight" fmla="*/ 805320 w 83844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610" y="1350"/>
                </a:lnTo>
                <a:lnTo>
                  <a:pt x="1350" y="135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610" y="20250"/>
                </a:lnTo>
                <a:lnTo>
                  <a:pt x="32610" y="135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610" y="2025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960" h="21600">
                <a:moveTo>
                  <a:pt x="9936" y="7475"/>
                </a:moveTo>
                <a:lnTo>
                  <a:pt x="13462" y="7475"/>
                </a:lnTo>
                <a:lnTo>
                  <a:pt x="13462" y="12839"/>
                </a:lnTo>
                <a:cubicBezTo>
                  <a:pt x="13462" y="13766"/>
                  <a:pt x="14267" y="14501"/>
                  <a:pt x="15309" y="14501"/>
                </a:cubicBezTo>
                <a:lnTo>
                  <a:pt x="16980" y="14501"/>
                </a:lnTo>
                <a:cubicBezTo>
                  <a:pt x="18021" y="14501"/>
                  <a:pt x="18826" y="13766"/>
                  <a:pt x="18826" y="12839"/>
                </a:cubicBezTo>
                <a:lnTo>
                  <a:pt x="18826" y="7475"/>
                </a:lnTo>
                <a:lnTo>
                  <a:pt x="16980" y="7475"/>
                </a:lnTo>
                <a:lnTo>
                  <a:pt x="20506" y="3949"/>
                </a:lnTo>
                <a:lnTo>
                  <a:pt x="24199" y="7475"/>
                </a:lnTo>
                <a:lnTo>
                  <a:pt x="22352" y="7475"/>
                </a:lnTo>
                <a:lnTo>
                  <a:pt x="22352" y="12839"/>
                </a:lnTo>
                <a:cubicBezTo>
                  <a:pt x="22352" y="15621"/>
                  <a:pt x="19762" y="18194"/>
                  <a:pt x="16980" y="18194"/>
                </a:cubicBezTo>
                <a:lnTo>
                  <a:pt x="15309" y="18194"/>
                </a:lnTo>
                <a:cubicBezTo>
                  <a:pt x="12526" y="18194"/>
                  <a:pt x="9936" y="15621"/>
                  <a:pt x="9936" y="1283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9" name="j007555.wav" descr=""/>
          <p:cNvPicPr/>
          <p:nvPr/>
        </p:nvPicPr>
        <p:blipFill>
          <a:blip r:embed="rId4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619280" y="1341360"/>
            <a:ext cx="619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人：人山人海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潮来前：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潮：江面很平静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276720" y="1557360"/>
            <a:ext cx="71280" cy="1584360"/>
          </a:xfrm>
          <a:custGeom>
            <a:avLst/>
            <a:gdLst>
              <a:gd name="textAreaLeft" fmla="*/ 45720 w 71280"/>
              <a:gd name="textAreaRight" fmla="*/ 7164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189000"/>
            <a:ext cx="867564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华文新魏"/>
                <a:ea typeface="华文新魏"/>
              </a:rPr>
              <a:t>人：人声鼎沸     又沸腾起来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江面上风平浪静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条白线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形：   拉长，变粗，横贯江面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潮来时：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白浪翻滚     白色城墙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潮：         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千万匹白色战马齐头并进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zh-CN" sz="3200" spc="-1" strike="noStrike">
                <a:solidFill>
                  <a:srgbClr val="ff99cc"/>
                </a:solidFill>
                <a:latin typeface="华文新魏"/>
                <a:ea typeface="华文新魏"/>
              </a:rPr>
              <a:t>闷雷滚动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       </a:t>
            </a:r>
            <a:r>
              <a:rPr b="1" lang="zh-CN" sz="3200" spc="-1" strike="noStrike">
                <a:solidFill>
                  <a:srgbClr val="ff99cc"/>
                </a:solidFill>
                <a:latin typeface="华文新魏"/>
                <a:ea typeface="华文新魏"/>
              </a:rPr>
              <a:t>声：   响声越来越大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zh-CN" sz="3200" spc="-1" strike="noStrike">
                <a:solidFill>
                  <a:srgbClr val="ff99cc"/>
                </a:solidFill>
                <a:latin typeface="华文新魏"/>
                <a:ea typeface="华文新魏"/>
              </a:rPr>
              <a:t>山崩地裂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835280" y="404640"/>
            <a:ext cx="144360" cy="590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153720 h 5905800"/>
              <a:gd name="textAreaBottom" fmla="*/ 5752080 h 590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556000" y="263700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708360" y="119700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708360" y="494172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95280" y="1341360"/>
            <a:ext cx="849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形：奔腾西去    漫天卷地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潮过后：           过了好久才恢复平静    水涨高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声：风号浪吼     恢复平静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2050920" y="155736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39640" y="6206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找出课文中的下列词语，补充完整。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4000" y="1916280"/>
            <a:ext cx="8640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若（　 ）若（　）　　人（　）人（　）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风（　）浪（　）　　山（　）地（　）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　）天（　）地　　闷雷（　　　　）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　　　）东望　　　浩浩（　　　　） 　　　　　　　　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　　　）鼎沸　　　（　　　　）相接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　　　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66ff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66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16000" y="1341360"/>
            <a:ext cx="7128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观潮  据说  笼罩  薄雾  闷雷  沸腾  犹如  霎时  余波  恢复  水天相接  若隐若现  浩浩荡荡  山崩地裂  风号浪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84360" y="404640"/>
            <a:ext cx="763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画出表示时间的词句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画出潮来前江面的情形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画出描写潮来时听到的声音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画出描写潮来时的样子的句子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画出描写潮水位置变化的句子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画出人们神态心情的变化的句子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2987640" y="2637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2" name="Picture 2" descr="g13c1024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85800" y="533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一条白线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5" name="Picture 2" descr="g13c10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85800" y="533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那条白线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……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8" name="Picture 2" descr="g13c10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85800" y="533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横贯江面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1" name="Picture 2" descr="g13c1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3" name="Picture 2" descr="g13c10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858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再近些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……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7:16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5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