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D84-926F-4E6B-9576-807A6DAA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361-38E3-4BF1-B781-A9DBADE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2C1-0CAA-4C08-A99A-075A7992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5C7-B686-4338-B5E9-0CEFF2AC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B18-E81F-4FDB-95F8-2EEF3CCC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0C48-F400-4384-93F5-AA55780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879-ECF8-4261-BCA6-1797AD69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C107-7B30-4FB2-8257-D2C2C6D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9AC-6F3C-4AC9-8532-D0CB5417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9DAA-8A9B-443B-9B46-C54A6E7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7647-2A74-420D-BE3C-09F0C24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D33-6F48-408E-A8CA-BE4D447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084F-F702-49C1-A34E-9610340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B4FB-98CE-4DC2-9D05-1FEAC96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D35-D956-4ADB-9381-06FA5AA7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B2EF-AE10-41CD-8619-BB8BB73D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704-7A7D-4A9C-9E4B-20DCAB2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6AF-9930-4C79-A856-2D6A1688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857-A7F4-4E89-B17D-7BA9F80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7DD-CA17-4724-B846-5D42C38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569-E461-4C59-A06E-91D6F5D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29A-1CA2-4C75-B33D-4AD8E8E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CEB-1EA4-45FC-B5C6-01BAC10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A96-E7B3-47AB-B1AA-EAF98C1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F62-3480-4DF4-975E-1D5E2FDA07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06B9-6742-4AE6-B85B-FE43BCF857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-572040" y="2858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Happy Teacher’s Day </a:t>
            </a:r>
            <a:r>
              <a:rPr b="1" lang="zh-CN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978360" y="164304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您像一支蜡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虽然细弱，但有一分热，发一分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照亮了别人，耗尽了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这无私的奉献，令人用志不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只因有您的谆谆教诲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人生路上才得以一次次凯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老师您辛苦了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