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599-15C9-4923-A600-586CE049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197-B777-410F-BE5B-40BAD983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411-934B-496C-8251-74232CC0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907-DEAE-4166-BE3B-8747CE1E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997-97E2-4411-84ED-926CAC73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C6B-7237-44FE-9E93-2246B7D2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0FE-194B-4160-BD55-5C93B350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9E9-8438-46D9-A2D9-518D8A58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B77-E92D-4D3E-9541-0F44DEB4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8CD-27FF-404B-BCC4-D20EE1A8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DCA-9F46-4F11-92E9-F0979D16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764-1228-402F-9E30-2F16F581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A18F-D396-49FF-8C4D-2689C8D6F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3205080" y="1628640"/>
            <a:ext cx="2382840" cy="3138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1044720" y="3141720"/>
            <a:ext cx="2984400" cy="104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4"/>
          <a:stretch/>
        </p:blipFill>
        <p:spPr>
          <a:xfrm>
            <a:off x="5869080" y="3213000"/>
            <a:ext cx="143964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0" y="2565360"/>
            <a:ext cx="9325080" cy="1628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4129200" y="299736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教师是火种，点燃了学生的心灵之火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0" y="6453360"/>
            <a:ext cx="7920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4170960" y="537372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教师是石级，承受着学生一步步踏实地向上攀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080240" y="6922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教师是一支蜡烛，虽然细弱，但有一分热，发一分光，照亮了别人，耗尽了自己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403280" y="2924280"/>
            <a:ext cx="66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这无私的奉献，令人永志不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4103640" cy="114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3"/>
          <a:stretch/>
        </p:blipFill>
        <p:spPr>
          <a:xfrm>
            <a:off x="2195640" y="476280"/>
            <a:ext cx="15890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02:13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