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2.png" ContentType="image/png"/>
  <Override PartName="/ppt/media/image24.png" ContentType="image/png"/>
  <Override PartName="/ppt/media/image11.jpeg" ContentType="image/jpeg"/>
  <Override PartName="/ppt/media/image21.gif" ContentType="image/gif"/>
  <Override PartName="/ppt/media/image10.jpeg" ContentType="image/jpeg"/>
  <Override PartName="/ppt/media/image20.jpeg" ContentType="image/jpeg"/>
  <Override PartName="/ppt/media/image19.png" ContentType="image/png"/>
  <Override PartName="/ppt/media/image17.jpeg" ContentType="image/jpeg"/>
  <Override PartName="/ppt/media/image16.jpeg" ContentType="image/jpeg"/>
  <Override PartName="/ppt/media/image27.jpeg" ContentType="image/jpeg"/>
  <Override PartName="/ppt/media/image33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4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23.png" ContentType="image/pn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6216-BFFE-42B4-8F6A-E938F1294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D9C2-6F8B-4210-8CA5-210250C19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EEA4-3DBB-4A05-B8AE-54506C9EE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D918-0097-49C0-A464-2F0EB8FF1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DFDBE-BAA1-4027-82AA-46C8913CF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325F3-B69C-4428-AC62-951F75AC0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8166C-D783-4CA5-90DD-D6D989078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BEF0A-830F-41E5-8824-CA51409DF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1FF1A-BB20-4510-AED0-EDABBCCD6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AE74A-3566-4F6D-83CE-864393A08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48B1C-C156-4E35-BE3B-25217D17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35BB-1FB4-4087-BC1B-224A4AE8E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4348A-51C1-480C-BC33-AF925D5E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32081-D1F1-475A-A890-4F274C99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8C913-4D98-4D3E-8BD3-7FC22FC97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1B66F-1B47-474C-B746-E38EA37B7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699B6-C156-4DD1-A3C5-968FA75AB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34CA-A32D-4CB4-9003-83F2D771D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0516-B752-4AEA-9A34-9D83CF006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54A1-5F52-464F-8D0F-93191E320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3180-B192-4F58-B643-57C2B50BA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94FD-724A-49B9-937E-278454C3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3347-F570-488B-9B6A-C259CB6E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CB0B-9B37-4FE6-A189-1B2221D1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BA7EE-4CCB-43F2-A9D9-014319918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3AF55-853B-46A3-B953-84B0ACC5C79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1B422-485D-445B-B01D-AB928992FE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jiaoan/" TargetMode="External"/><Relationship Id="rId17" Type="http://schemas.openxmlformats.org/officeDocument/2006/relationships/image" Target="../media/image3.jpeg"/><Relationship Id="rId1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gif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9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2" descr=""/>
          <p:cNvPicPr/>
          <p:nvPr/>
        </p:nvPicPr>
        <p:blipFill>
          <a:blip r:embed="rId2"/>
          <a:srcRect l="0" t="0" r="16398" b="0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WordArt 4"/>
          <p:cNvSpPr txBox="1"/>
          <p:nvPr/>
        </p:nvSpPr>
        <p:spPr>
          <a:xfrm>
            <a:off x="990720" y="914400"/>
            <a:ext cx="7704000" cy="188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华文行楷"/>
              </a:rPr>
              <a:t>故宫博物院</a:t>
            </a:r>
            <a:endParaRPr b="0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11"/>
          <p:cNvPicPr/>
          <p:nvPr/>
        </p:nvPicPr>
        <p:blipFill>
          <a:blip r:embed="rId2"/>
          <a:stretch/>
        </p:blipFill>
        <p:spPr>
          <a:xfrm>
            <a:off x="0" y="0"/>
            <a:ext cx="8532720" cy="675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12"/>
          <p:cNvPicPr/>
          <p:nvPr/>
        </p:nvPicPr>
        <p:blipFill>
          <a:blip r:embed="rId2"/>
          <a:stretch/>
        </p:blipFill>
        <p:spPr>
          <a:xfrm>
            <a:off x="0" y="0"/>
            <a:ext cx="9468000" cy="66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middlehall"/>
          <p:cNvPicPr/>
          <p:nvPr/>
        </p:nvPicPr>
        <p:blipFill>
          <a:blip r:embed="rId2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18" name="WordArt 4"/>
          <p:cNvSpPr txBox="1"/>
          <p:nvPr/>
        </p:nvSpPr>
        <p:spPr>
          <a:xfrm>
            <a:off x="468360" y="333360"/>
            <a:ext cx="23749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中和殿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prot"/>
          <p:cNvPicPr/>
          <p:nvPr/>
        </p:nvPicPr>
        <p:blipFill>
          <a:blip r:embed="rId2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22" name="WordArt 4"/>
          <p:cNvSpPr txBox="1"/>
          <p:nvPr/>
        </p:nvSpPr>
        <p:spPr>
          <a:xfrm>
            <a:off x="395280" y="476280"/>
            <a:ext cx="2341440" cy="10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保和殿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200303250306_45607"/>
          <p:cNvPicPr/>
          <p:nvPr/>
        </p:nvPicPr>
        <p:blipFill>
          <a:blip r:embed="rId2"/>
          <a:stretch/>
        </p:blipFill>
        <p:spPr>
          <a:xfrm>
            <a:off x="0" y="3168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126" name="WordArt 4"/>
          <p:cNvSpPr txBox="1"/>
          <p:nvPr/>
        </p:nvSpPr>
        <p:spPr>
          <a:xfrm>
            <a:off x="6877080" y="765000"/>
            <a:ext cx="2054160" cy="94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隶书"/>
              </a:rPr>
              <a:t>保和殿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cpur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WordArt 4"/>
          <p:cNvSpPr txBox="1"/>
          <p:nvPr/>
        </p:nvSpPr>
        <p:spPr>
          <a:xfrm>
            <a:off x="6300720" y="333360"/>
            <a:ext cx="2414520" cy="10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乾清宫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" descr="hunion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WordArt 4"/>
          <p:cNvSpPr txBox="1"/>
          <p:nvPr/>
        </p:nvSpPr>
        <p:spPr>
          <a:xfrm>
            <a:off x="6516720" y="404640"/>
            <a:ext cx="2198520" cy="94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交泰殿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179280" y="1084320"/>
            <a:ext cx="107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aramond"/>
              </a:rPr>
              <a:t>清 代 放 置 寶 璽 的 地 方。 這 里 收 藏 著 二 十 五 方 代 表 皇 權 的 印 璽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Garamond"/>
              </a:rPr>
              <a:t>用 金 盒 盛 裝， 黃 綢 覆 蓋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WordArt 6"/>
          <p:cNvSpPr txBox="1"/>
          <p:nvPr/>
        </p:nvSpPr>
        <p:spPr>
          <a:xfrm>
            <a:off x="1042920" y="6021360"/>
            <a:ext cx="7315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清 代 放 置 寶 璽 的 地 方。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tranquil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WordArt 4"/>
          <p:cNvSpPr txBox="1"/>
          <p:nvPr/>
        </p:nvSpPr>
        <p:spPr>
          <a:xfrm>
            <a:off x="6873840" y="765000"/>
            <a:ext cx="2270160" cy="94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坤宁宫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250920" y="1229040"/>
            <a:ext cx="143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aramond"/>
              </a:rPr>
              <a:t>皇 后 的 寢 宮。 圖 為 坤 寧 宮 東 側 室， 是 皇 帝 大 婚 時 的 洞 房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aramond"/>
              </a:rPr>
              <a:t>大 婚 時 皇 后 只 在 此 居 住 三 日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Garamond"/>
              </a:rPr>
              <a:t>然 后 回 到 各 自 所 住 的 宮 內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" descr="garden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WordArt 4"/>
          <p:cNvSpPr txBox="1"/>
          <p:nvPr/>
        </p:nvSpPr>
        <p:spPr>
          <a:xfrm>
            <a:off x="324000" y="549360"/>
            <a:ext cx="2414520" cy="10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御花园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northgate"/>
          <p:cNvPicPr/>
          <p:nvPr/>
        </p:nvPicPr>
        <p:blipFill>
          <a:blip r:embed="rId2"/>
          <a:stretch/>
        </p:blipFill>
        <p:spPr>
          <a:xfrm>
            <a:off x="0" y="0"/>
            <a:ext cx="9144000" cy="6808680"/>
          </a:xfrm>
          <a:prstGeom prst="rect">
            <a:avLst/>
          </a:prstGeom>
          <a:ln w="0">
            <a:noFill/>
          </a:ln>
        </p:spPr>
      </p:pic>
      <p:sp>
        <p:nvSpPr>
          <p:cNvPr id="149" name="WordArt 4"/>
          <p:cNvSpPr txBox="1"/>
          <p:nvPr/>
        </p:nvSpPr>
        <p:spPr>
          <a:xfrm>
            <a:off x="324000" y="476280"/>
            <a:ext cx="2414520" cy="101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神武门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6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01"/>
          <p:cNvPicPr/>
          <p:nvPr/>
        </p:nvPicPr>
        <p:blipFill>
          <a:blip r:embed="rId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153" name="WordArt 4"/>
          <p:cNvSpPr txBox="1"/>
          <p:nvPr/>
        </p:nvSpPr>
        <p:spPr>
          <a:xfrm>
            <a:off x="6588000" y="981000"/>
            <a:ext cx="1825920" cy="8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隶书"/>
              </a:rPr>
              <a:t>景山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80640" y="762120"/>
            <a:ext cx="8163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Arial"/>
                <a:ea typeface="黑体"/>
              </a:rPr>
              <a:t>思考</a:t>
            </a:r>
            <a:r>
              <a:rPr b="0" lang="en-US" sz="4400" spc="-1" strike="noStrike">
                <a:solidFill>
                  <a:srgbClr val="cc0000"/>
                </a:solidFill>
                <a:latin typeface="Arial"/>
                <a:ea typeface="黑体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848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本文从哪些方面介绍了故宫？故宫有什么特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本文主要按什么顺序介绍故宫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1.</a:t>
            </a:r>
            <a:r>
              <a:rPr b="1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故宫概况（位置、历史、价值），全貌，建筑布局（三大殿、后三宫、御花园）；特点：规模宏大、形体壮丽、建筑精美、布局统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2.</a:t>
            </a:r>
            <a:r>
              <a:rPr b="1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空间顺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11111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3"/>
          <p:cNvSpPr/>
          <p:nvPr/>
        </p:nvSpPr>
        <p:spPr>
          <a:xfrm>
            <a:off x="304920" y="228600"/>
            <a:ext cx="4647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ff99"/>
                </a:solidFill>
                <a:latin typeface="Times New Roman"/>
                <a:ea typeface="创艺简细圆"/>
              </a:rPr>
              <a:t>说明顺序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228600" y="1676520"/>
            <a:ext cx="868680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6600ff"/>
                </a:solidFill>
                <a:latin typeface="创艺简细圆"/>
                <a:ea typeface="创艺简细圆"/>
              </a:rPr>
              <a:t>        </a:t>
            </a:r>
            <a:r>
              <a:rPr b="1" lang="zh-CN" sz="4200" spc="-1" strike="noStrike">
                <a:solidFill>
                  <a:srgbClr val="6600ff"/>
                </a:solidFill>
                <a:latin typeface="创艺简细圆"/>
                <a:ea typeface="创艺简细圆"/>
              </a:rPr>
              <a:t>本文的说明顺序是按照故宫的空间顺序来安排说明顺序的。也就是说作者的参观路线，是按照故宫的建筑顺序来参观的，故宫的建筑顺序是由南向北，作者的参观路线基本上也是沿着由南向北的中轴线前进的。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girl_h"/>
          <p:cNvPicPr/>
          <p:nvPr/>
        </p:nvPicPr>
        <p:blipFill>
          <a:blip r:embed="rId3"/>
          <a:stretch/>
        </p:blipFill>
        <p:spPr>
          <a:xfrm>
            <a:off x="4267080" y="228600"/>
            <a:ext cx="46483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文章结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部分：概括说明故宫的称属、历史及现状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二部分：是全文的重点，概括了故宫博物院的历史、现状、规模、布局特色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2—1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文章结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简介故宫总体布局及建筑特色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紫禁城正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午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内外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安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端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午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五凤楼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庭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金水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汉白玉石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太和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大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紫禁城中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外观、规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太和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◆外形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景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位置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途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和殿： 概貌、用途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保和殿：用途   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段）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前朝”“内廷”通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界地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 (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1763640" y="2133720"/>
            <a:ext cx="441360" cy="3743280"/>
          </a:xfrm>
          <a:custGeom>
            <a:avLst/>
            <a:gdLst>
              <a:gd name="textAreaLeft" fmla="*/ 281880 w 441360"/>
              <a:gd name="textAreaRight" fmla="*/ 441720 w 441360"/>
              <a:gd name="textAreaTop" fmla="*/ 97560 h 3743280"/>
              <a:gd name="textAreaBottom" fmla="*/ 3645720 h 374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WordArt 5"/>
          <p:cNvSpPr txBox="1"/>
          <p:nvPr/>
        </p:nvSpPr>
        <p:spPr>
          <a:xfrm>
            <a:off x="611280" y="378936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隶书"/>
              </a:rPr>
              <a:t>前朝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8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6" dur="20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乾清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用途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后三宫      交泰殿：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坤宁宫：用途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前三殿比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写后三宫特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御花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园林特色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              (1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从景山鸟瞰故宫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4284720" y="1700280"/>
            <a:ext cx="142920" cy="1584360"/>
          </a:xfrm>
          <a:custGeom>
            <a:avLst/>
            <a:gdLst>
              <a:gd name="textAreaLeft" fmla="*/ 91440 w 142920"/>
              <a:gd name="textAreaRight" fmla="*/ 143280 w 14292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5"/>
          <p:cNvSpPr/>
          <p:nvPr/>
        </p:nvSpPr>
        <p:spPr>
          <a:xfrm>
            <a:off x="2050920" y="1628640"/>
            <a:ext cx="144720" cy="2952720"/>
          </a:xfrm>
          <a:custGeom>
            <a:avLst/>
            <a:gdLst>
              <a:gd name="textAreaLeft" fmla="*/ 92520 w 144720"/>
              <a:gd name="textAreaRight" fmla="*/ 145080 w 14472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WordArt 6"/>
          <p:cNvSpPr txBox="1"/>
          <p:nvPr/>
        </p:nvSpPr>
        <p:spPr>
          <a:xfrm>
            <a:off x="971640" y="285264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隶书"/>
              </a:rPr>
              <a:t>内廷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4" dur="2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" dur="2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9" dur="2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“前朝”中作者重点介绍了哪个大殿，为什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太和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三大殿的中心，皇帝的宝座在此，是显示皇威的地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故宫建筑群的中心，最全面最突出地体现了故宫的本质特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“内廷”中作者重点介绍了哪个宫，为什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乾清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皇帝处理日常政务，批阅奏章的地方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在介绍太和殿时，立足点是什么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?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按什么顺序介绍的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?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在书上圈点出方位词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立足点是正中的朱漆方台和雕金蟠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按空间顺序介绍的，按空间顺序写的文字，要有一个立足点，离开立足点，就无法确立方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ggD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太和殿为什么要设在中轴线上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?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其内景的主要特点是什么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?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为什么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?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了强调皇权这个中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其内景的主要特点是彩绘了众多的龙的图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因为皇帝自命为真龙天子，这是皇权的象征，所以用龙来突出皇帝的尊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后三宫”的图案和前三殿有什么不同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?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后三宫”彩绘中凤凰逐渐增加，出现了双凤朝阳、龙风呈祥、飞凤、舞凤、凤凰牡丹等图案。和前三殿相比庄严肃穆的气氛减少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结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故宫从明永乐四年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(1406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开始修建，永乐十八年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(1420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基本建成，至今已有近六百年的历史了。它集中体现了我国古代建筑艺术的优秀传统和独特风格。在当时社会条件下，能建筑这样高大雄伟的建筑群，充分反映了我国古代劳动人民的智慧和创造才能，在建筑史上具有十分重要的地位，是祖国珍贵的文化遗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2" descr="bjgg2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背景27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WordArt 3"/>
          <p:cNvSpPr txBox="1"/>
          <p:nvPr/>
        </p:nvSpPr>
        <p:spPr>
          <a:xfrm>
            <a:off x="1332000" y="1773360"/>
            <a:ext cx="7010280" cy="35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图片欣赏</a:t>
            </a:r>
            <a:endParaRPr b="1" lang="en-US" sz="44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02" name="Picture 4" descr="signature"/>
          <p:cNvPicPr/>
          <p:nvPr/>
        </p:nvPicPr>
        <p:blipFill>
          <a:blip r:embed="rId5"/>
          <a:stretch/>
        </p:blipFill>
        <p:spPr>
          <a:xfrm>
            <a:off x="0" y="468360"/>
            <a:ext cx="9144000" cy="252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signature"/>
          <p:cNvPicPr/>
          <p:nvPr/>
        </p:nvPicPr>
        <p:blipFill>
          <a:blip r:embed="rId6"/>
          <a:stretch/>
        </p:blipFill>
        <p:spPr>
          <a:xfrm>
            <a:off x="0" y="6308640"/>
            <a:ext cx="9144000" cy="252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signature"/>
          <p:cNvPicPr/>
          <p:nvPr/>
        </p:nvPicPr>
        <p:blipFill>
          <a:blip r:embed="rId7"/>
          <a:stretch/>
        </p:blipFill>
        <p:spPr>
          <a:xfrm>
            <a:off x="468360" y="0"/>
            <a:ext cx="209520" cy="76057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signature"/>
          <p:cNvPicPr/>
          <p:nvPr/>
        </p:nvPicPr>
        <p:blipFill>
          <a:blip r:embed="rId8"/>
          <a:stretch/>
        </p:blipFill>
        <p:spPr>
          <a:xfrm>
            <a:off x="8459640" y="-2286000"/>
            <a:ext cx="25272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" descr="bjgg3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2" descr="bjgg3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" descr="bjgg3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" descr="bjgg3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bjgg3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读一篇说明文应掌握的基本程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确定说明对象的特点；（最核心的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确定说明事物的内容；（详略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确定说明的顺序及结构；（空间；总分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运用恰当的说明方法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注意说明语言的准确性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" descr="bjgg4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bjgg3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bjggtu1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拓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口头介绍本校觉有特色的一个建筑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2" descr="bjggtu3"/>
          <p:cNvPicPr/>
          <p:nvPr/>
        </p:nvPicPr>
        <p:blipFill>
          <a:blip r:embed="rId2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" descr="gugong3l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2" descr="gugong4l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P481"/>
          <p:cNvPicPr/>
          <p:nvPr/>
        </p:nvPicPr>
        <p:blipFill>
          <a:blip r:embed="rId2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2" descr="bjggtu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600200" y="761760"/>
            <a:ext cx="6858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矗立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高耸的直立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迥然不同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形容差别很大。迥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远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差得远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鳌头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指皇宫大殿前石阶上刻的鳌的头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考上状元的人可以踏上。独占鳌头比喻取得第一名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23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1523880" y="533520"/>
            <a:ext cx="723924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磬   攒   鳌头   琉璃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藻井   蟠龙   金銮殿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额枋   鎏金   矗立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迥然不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736560" y="2491560"/>
            <a:ext cx="599868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金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luán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殿 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páan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龙 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liú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金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玉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xǐ)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妃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Pín)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湛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zhàn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蓝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上谕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yù)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傀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kuǐ lěi)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yì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坤宫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修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shàn)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击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qìng)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zhào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书</a:t>
            </a:r>
            <a:br>
              <a:rPr sz="3200"/>
            </a:b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4"/>
          <p:cNvSpPr txBox="1"/>
          <p:nvPr/>
        </p:nvSpPr>
        <p:spPr>
          <a:xfrm>
            <a:off x="684360" y="765000"/>
            <a:ext cx="1514160" cy="77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9000"/>
                    </a:srgbClr>
                  </a:outerShdw>
                </a:effectLst>
                <a:latin typeface="宋体"/>
              </a:rPr>
              <a:t>生字词</a:t>
            </a:r>
            <a:endParaRPr b="0" i="1" lang="en-US" sz="40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meridian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WordArt 4"/>
          <p:cNvSpPr txBox="1"/>
          <p:nvPr/>
        </p:nvSpPr>
        <p:spPr>
          <a:xfrm>
            <a:off x="2195640" y="260280"/>
            <a:ext cx="4176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隶书"/>
              </a:rPr>
              <a:t>午门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gharmon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WordArt 4"/>
          <p:cNvSpPr txBox="1"/>
          <p:nvPr/>
        </p:nvSpPr>
        <p:spPr>
          <a:xfrm>
            <a:off x="2627280" y="260280"/>
            <a:ext cx="3816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隶书"/>
              </a:rPr>
              <a:t>太和门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0T13:47:33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3:47:33Z</dcterms:modified>
  <cp:revision>2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  <property fmtid="{D5CDD505-2E9C-101B-9397-08002B2CF9AE}" pid="3" name="Version">
    <vt:r8>1</vt:r8>
  </property>
</Properties>
</file>