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794-E5D2-4B32-A484-EC667FC9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545-8CCB-4BE1-A49E-C03D1F1D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ED3-FFA1-43D3-93CB-38D22696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19D-9EDD-486F-AB98-71D45015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B10-CF00-41E6-8E30-5C34808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2E8-CB73-4C66-BBAB-595662A0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CBF-9AD9-4AE4-9A6A-3EA0EE1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67E-8BEF-4165-AEE5-3F804D9B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0EE-82CC-4D1F-8ABB-E649F5F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B47-7B4F-40D1-A230-3055894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EA0-E205-4947-AEE9-F84931F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10C-A923-4801-8B94-641D94B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234677-9F74-42F4-A8CA-0B374B78AD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395280" y="843120"/>
            <a:ext cx="8280360" cy="2684880"/>
            <a:chOff x="395280" y="843120"/>
            <a:chExt cx="8280360" cy="2684880"/>
          </a:xfrm>
        </p:grpSpPr>
        <p:sp>
          <p:nvSpPr>
            <p:cNvPr id="42" name="Text Box 2"/>
            <p:cNvSpPr/>
            <p:nvPr/>
          </p:nvSpPr>
          <p:spPr>
            <a:xfrm>
              <a:off x="395280" y="200916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定位提案 </a:t>
              </a:r>
              <a:r>
                <a:rPr b="0" lang="en-US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&amp; </a:t>
              </a:r>
              <a:r>
                <a:rPr b="0" lang="zh-CN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广告推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931680" y="2946600"/>
              <a:ext cx="724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Positioning proposal &amp; advertisin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>
              <a:off x="2866320" y="843120"/>
              <a:ext cx="33379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【</a:t>
              </a: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xxxx</a:t>
              </a: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】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矩形 1"/>
          <p:cNvSpPr/>
          <p:nvPr/>
        </p:nvSpPr>
        <p:spPr>
          <a:xfrm>
            <a:off x="24840" y="98280"/>
            <a:ext cx="1034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500" spc="-1" strike="noStrike">
                <a:solidFill>
                  <a:srgbClr val="c00000"/>
                </a:solidFill>
                <a:latin typeface="Calibri"/>
              </a:rPr>
              <a:t>下载：</a:t>
            </a:r>
            <a:r>
              <a:rPr b="0" lang="en-US" sz="500" spc="-1" strike="noStrike">
                <a:solidFill>
                  <a:srgbClr val="c00000"/>
                </a:solidFill>
                <a:latin typeface="Calibri"/>
              </a:rPr>
              <a:t>www.1ppt.com/xiazai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佳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品质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81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9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90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完美配套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9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0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超高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性价比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17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26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3"/>
          <p:cNvSpPr/>
          <p:nvPr/>
        </p:nvSpPr>
        <p:spPr>
          <a:xfrm>
            <a:off x="469800" y="1781280"/>
            <a:ext cx="561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升值潜力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35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3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44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9"/>
          <p:cNvSpPr/>
          <p:nvPr/>
        </p:nvSpPr>
        <p:spPr>
          <a:xfrm>
            <a:off x="0" y="2556000"/>
            <a:ext cx="9144000" cy="82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6"/>
          <p:cNvSpPr/>
          <p:nvPr/>
        </p:nvSpPr>
        <p:spPr>
          <a:xfrm>
            <a:off x="1995840" y="25704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找出</a:t>
            </a: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的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3697200" y="98748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核心价值</a:t>
            </a:r>
            <a:r>
              <a:rPr b="0" lang="zh-CN" sz="2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（</a:t>
            </a: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VELUE</a:t>
            </a:r>
            <a:r>
              <a:rPr b="0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389320" y="2706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兰亭特黑_GBK"/>
                <a:ea typeface="方正兰亭特黑_GBK"/>
              </a:rPr>
              <a:t>满足客户根本需求，才能掌握核心价值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3780000" y="156384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5"/>
          <p:cNvSpPr/>
          <p:nvPr/>
        </p:nvSpPr>
        <p:spPr>
          <a:xfrm>
            <a:off x="718560" y="933480"/>
            <a:ext cx="21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客户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2065320" y="3244680"/>
            <a:ext cx="51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CLI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21"/>
          <p:cNvSpPr/>
          <p:nvPr/>
        </p:nvSpPr>
        <p:spPr>
          <a:xfrm>
            <a:off x="201600" y="2273400"/>
            <a:ext cx="8748720" cy="2065320"/>
          </a:xfrm>
          <a:prstGeom prst="roundRect">
            <a:avLst>
              <a:gd name="adj" fmla="val 2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6"/>
          <p:cNvSpPr/>
          <p:nvPr/>
        </p:nvSpPr>
        <p:spPr>
          <a:xfrm>
            <a:off x="1358640" y="2570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购房理由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254160" y="1924200"/>
            <a:ext cx="8638920" cy="56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2868120" y="771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问卷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90520" y="2300400"/>
          <a:ext cx="8575560" cy="1890720"/>
        </p:xfrm>
        <a:graphic>
          <a:graphicData uri="http://schemas.openxmlformats.org/drawingml/2006/table">
            <a:tbl>
              <a:tblPr/>
              <a:tblGrid>
                <a:gridCol w="606600"/>
                <a:gridCol w="804600"/>
                <a:gridCol w="733680"/>
                <a:gridCol w="741240"/>
                <a:gridCol w="722160"/>
                <a:gridCol w="1413000"/>
                <a:gridCol w="882720"/>
                <a:gridCol w="639720"/>
                <a:gridCol w="677880"/>
                <a:gridCol w="655560"/>
                <a:gridCol w="698400"/>
              </a:tblGrid>
              <a:tr h="519120">
                <a:tc grid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问题买房自住，主要是出于什么考虑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扩大住房面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子女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父母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自己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自然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生活配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上班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孩子上学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周末过去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所占比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6"/>
          <p:cNvSpPr/>
          <p:nvPr/>
        </p:nvSpPr>
        <p:spPr>
          <a:xfrm>
            <a:off x="1413360" y="25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说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3745080" y="185112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792360" y="700200"/>
            <a:ext cx="23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听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在说话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3924360" y="55548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对乡镇人群人性最根本的诉求追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当初为何想买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组合 1"/>
          <p:cNvGrpSpPr/>
          <p:nvPr/>
        </p:nvGrpSpPr>
        <p:grpSpPr>
          <a:xfrm>
            <a:off x="4510080" y="2689200"/>
            <a:ext cx="5027760" cy="1312920"/>
            <a:chOff x="4510080" y="2689200"/>
            <a:chExt cx="5027760" cy="1312920"/>
          </a:xfrm>
        </p:grpSpPr>
        <p:sp>
          <p:nvSpPr>
            <p:cNvPr id="270" name="剪去单角的矩形 15"/>
            <p:cNvSpPr/>
            <p:nvPr/>
          </p:nvSpPr>
          <p:spPr>
            <a:xfrm flipH="1">
              <a:off x="5436360" y="2733480"/>
              <a:ext cx="3706920" cy="1257480"/>
            </a:xfrm>
            <a:custGeom>
              <a:avLst/>
              <a:gdLst/>
              <a:ahLst/>
              <a:rect l="l" t="t" r="r" b="b"/>
              <a:pathLst>
                <a:path w="3706813" h="1258299">
                  <a:moveTo>
                    <a:pt x="0" y="0"/>
                  </a:moveTo>
                  <a:lnTo>
                    <a:pt x="3407413" y="0"/>
                  </a:lnTo>
                  <a:lnTo>
                    <a:pt x="3706813" y="299400"/>
                  </a:lnTo>
                  <a:lnTo>
                    <a:pt x="3706813" y="1258299"/>
                  </a:lnTo>
                  <a:lnTo>
                    <a:pt x="0" y="1258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4510080" y="2689200"/>
              <a:ext cx="502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客户不是单一的群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必须抓住所有群体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共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矩形 12"/>
          <p:cNvSpPr/>
          <p:nvPr/>
        </p:nvSpPr>
        <p:spPr>
          <a:xfrm>
            <a:off x="471600" y="710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在严重同质化的市场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我们必须给客户解答一个问题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4" descr=""/>
          <p:cNvPicPr/>
          <p:nvPr/>
        </p:nvPicPr>
        <p:blipFill>
          <a:blip r:embed="rId1"/>
          <a:stretch/>
        </p:blipFill>
        <p:spPr>
          <a:xfrm>
            <a:off x="230040" y="2287440"/>
            <a:ext cx="5154840" cy="266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2"/>
          <p:cNvSpPr/>
          <p:nvPr/>
        </p:nvSpPr>
        <p:spPr>
          <a:xfrm>
            <a:off x="1619280" y="1914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客户渴望加入他们，找到组织，加入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的生活符号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1631520" y="879480"/>
            <a:ext cx="43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这就是被归纳概括的</a:t>
            </a:r>
            <a:r>
              <a:rPr b="1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幸福的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5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6"/>
          <p:cNvSpPr/>
          <p:nvPr/>
        </p:nvSpPr>
        <p:spPr>
          <a:xfrm>
            <a:off x="18388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定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"/>
          <p:cNvSpPr/>
          <p:nvPr/>
        </p:nvSpPr>
        <p:spPr>
          <a:xfrm>
            <a:off x="1578600" y="2868480"/>
            <a:ext cx="54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新</a:t>
            </a:r>
            <a:r>
              <a:rPr b="1" lang="en-US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xxxxxxx</a:t>
            </a: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社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412920" y="2500200"/>
            <a:ext cx="799272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9"/>
          <p:cNvSpPr/>
          <p:nvPr/>
        </p:nvSpPr>
        <p:spPr>
          <a:xfrm>
            <a:off x="423720" y="4192560"/>
            <a:ext cx="799308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"/>
          <p:cNvSpPr/>
          <p:nvPr/>
        </p:nvSpPr>
        <p:spPr>
          <a:xfrm>
            <a:off x="204120" y="4875120"/>
            <a:ext cx="1034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5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500" spc="-1" strike="noStrike">
                <a:solidFill>
                  <a:srgbClr val="eeece1"/>
                </a:solidFill>
                <a:latin typeface="Calibri"/>
              </a:rPr>
              <a:t>www.1ppt.com/xiazai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推广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1"/>
          <p:cNvSpPr/>
          <p:nvPr/>
        </p:nvSpPr>
        <p:spPr>
          <a:xfrm>
            <a:off x="600120" y="3305160"/>
            <a:ext cx="79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SPREA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市场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2065320" y="324468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1130760" y="843120"/>
            <a:ext cx="663156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一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你</a:t>
            </a:r>
            <a:r>
              <a:rPr b="1" lang="en-US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</a:t>
            </a: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1045800" y="700200"/>
            <a:ext cx="544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二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5"/>
          <p:cNvSpPr/>
          <p:nvPr/>
        </p:nvSpPr>
        <p:spPr>
          <a:xfrm>
            <a:off x="1122480" y="700200"/>
            <a:ext cx="590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三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1298880" y="2570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区位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组合 34"/>
          <p:cNvGrpSpPr/>
          <p:nvPr/>
        </p:nvGrpSpPr>
        <p:grpSpPr>
          <a:xfrm>
            <a:off x="1817640" y="700200"/>
            <a:ext cx="5256360" cy="3946320"/>
            <a:chOff x="1817640" y="700200"/>
            <a:chExt cx="5256360" cy="3946320"/>
          </a:xfrm>
        </p:grpSpPr>
        <p:pic>
          <p:nvPicPr>
            <p:cNvPr id="52" name="Picture 24" descr="夹江卫星地图"/>
            <p:cNvPicPr/>
            <p:nvPr/>
          </p:nvPicPr>
          <p:blipFill>
            <a:blip r:embed="rId1"/>
            <a:stretch/>
          </p:blipFill>
          <p:spPr>
            <a:xfrm>
              <a:off x="1817640" y="734040"/>
              <a:ext cx="5256360" cy="391248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53" name="椭圆 2"/>
            <p:cNvSpPr/>
            <p:nvPr/>
          </p:nvSpPr>
          <p:spPr>
            <a:xfrm>
              <a:off x="3159720" y="2165760"/>
              <a:ext cx="956520" cy="956160"/>
            </a:xfrm>
            <a:prstGeom prst="ellipse">
              <a:avLst/>
            </a:prstGeom>
            <a:solidFill>
              <a:srgbClr val="c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3"/>
            <p:cNvSpPr/>
            <p:nvPr/>
          </p:nvSpPr>
          <p:spPr>
            <a:xfrm>
              <a:off x="3174480" y="2428560"/>
              <a:ext cx="122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商业生活区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老城区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五角星 4"/>
            <p:cNvSpPr/>
            <p:nvPr/>
          </p:nvSpPr>
          <p:spPr>
            <a:xfrm>
              <a:off x="3506760" y="2846520"/>
              <a:ext cx="255600" cy="253800"/>
            </a:xfrm>
            <a:custGeom>
              <a:avLst/>
              <a:gdLst/>
              <a:ahLst/>
              <a:rect l="l" t="t" r="r" b="b"/>
              <a:pathLst>
                <a:path w="255605" h="254026">
                  <a:moveTo>
                    <a:pt x="0" y="97029"/>
                  </a:moveTo>
                  <a:lnTo>
                    <a:pt x="97633" y="97030"/>
                  </a:lnTo>
                  <a:lnTo>
                    <a:pt x="127803" y="0"/>
                  </a:lnTo>
                  <a:lnTo>
                    <a:pt x="157972" y="97030"/>
                  </a:lnTo>
                  <a:lnTo>
                    <a:pt x="255605" y="97029"/>
                  </a:lnTo>
                  <a:lnTo>
                    <a:pt x="176618" y="156996"/>
                  </a:lnTo>
                  <a:lnTo>
                    <a:pt x="206789" y="254025"/>
                  </a:lnTo>
                  <a:lnTo>
                    <a:pt x="127803" y="194057"/>
                  </a:lnTo>
                  <a:lnTo>
                    <a:pt x="48816" y="254025"/>
                  </a:lnTo>
                  <a:lnTo>
                    <a:pt x="78987" y="156996"/>
                  </a:lnTo>
                  <a:lnTo>
                    <a:pt x="0" y="97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25"/>
            <p:cNvSpPr/>
            <p:nvPr/>
          </p:nvSpPr>
          <p:spPr>
            <a:xfrm>
              <a:off x="2792160" y="3061440"/>
              <a:ext cx="1530000" cy="1530000"/>
            </a:xfrm>
            <a:prstGeom prst="ellipse">
              <a:avLst/>
            </a:pr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26"/>
            <p:cNvSpPr/>
            <p:nvPr/>
          </p:nvSpPr>
          <p:spPr>
            <a:xfrm>
              <a:off x="4594320" y="2439720"/>
              <a:ext cx="1083240" cy="108288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27"/>
            <p:cNvSpPr/>
            <p:nvPr/>
          </p:nvSpPr>
          <p:spPr>
            <a:xfrm>
              <a:off x="5202000" y="2922840"/>
              <a:ext cx="1440000" cy="14400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28"/>
            <p:cNvSpPr/>
            <p:nvPr/>
          </p:nvSpPr>
          <p:spPr>
            <a:xfrm>
              <a:off x="4464720" y="1093320"/>
              <a:ext cx="1123920" cy="112392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29"/>
            <p:cNvSpPr/>
            <p:nvPr/>
          </p:nvSpPr>
          <p:spPr>
            <a:xfrm>
              <a:off x="5513400" y="700200"/>
              <a:ext cx="1041840" cy="104184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泪滴形 8"/>
            <p:cNvSpPr/>
            <p:nvPr/>
          </p:nvSpPr>
          <p:spPr>
            <a:xfrm rot="7954800">
              <a:off x="4045320" y="197388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1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7" y="0"/>
                    <a:pt x="151663" y="-16765"/>
                    <a:pt x="192169" y="-50296"/>
                  </a:cubicBezTo>
                  <a:cubicBezTo>
                    <a:pt x="158257" y="-10245"/>
                    <a:pt x="141301" y="29805"/>
                    <a:pt x="141301" y="69855"/>
                  </a:cubicBezTo>
                  <a:cubicBezTo>
                    <a:pt x="141301" y="108435"/>
                    <a:pt x="109669" y="139710"/>
                    <a:pt x="70650" y="139710"/>
                  </a:cubicBezTo>
                  <a:cubicBezTo>
                    <a:pt x="31631" y="139710"/>
                    <a:pt x="-1" y="108435"/>
                    <a:pt x="-1" y="69855"/>
                  </a:cubicBezTo>
                  <a:lnTo>
                    <a:pt x="0" y="698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泪滴形 30"/>
            <p:cNvSpPr/>
            <p:nvPr/>
          </p:nvSpPr>
          <p:spPr>
            <a:xfrm rot="7954800">
              <a:off x="4260960" y="35715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泪滴形 31"/>
            <p:cNvSpPr/>
            <p:nvPr/>
          </p:nvSpPr>
          <p:spPr>
            <a:xfrm rot="7954800">
              <a:off x="4413240" y="30873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1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7" y="0"/>
                    <a:pt x="151663" y="-16956"/>
                    <a:pt x="192169" y="-50867"/>
                  </a:cubicBezTo>
                  <a:cubicBezTo>
                    <a:pt x="158257" y="-10362"/>
                    <a:pt x="141301" y="30144"/>
                    <a:pt x="141301" y="70649"/>
                  </a:cubicBezTo>
                  <a:cubicBezTo>
                    <a:pt x="141301" y="109667"/>
                    <a:pt x="109669" y="141298"/>
                    <a:pt x="70650" y="141298"/>
                  </a:cubicBezTo>
                  <a:cubicBezTo>
                    <a:pt x="31631" y="141298"/>
                    <a:pt x="-1" y="109667"/>
                    <a:pt x="-1" y="70649"/>
                  </a:cubicBezTo>
                  <a:lnTo>
                    <a:pt x="0" y="70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泪滴形 32"/>
            <p:cNvSpPr/>
            <p:nvPr/>
          </p:nvSpPr>
          <p:spPr>
            <a:xfrm rot="7954800">
              <a:off x="3463920" y="429228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泪滴形 33"/>
            <p:cNvSpPr/>
            <p:nvPr/>
          </p:nvSpPr>
          <p:spPr>
            <a:xfrm rot="7954800">
              <a:off x="4739400" y="264852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2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8" y="0"/>
                    <a:pt x="151664" y="-16765"/>
                    <a:pt x="192171" y="-50296"/>
                  </a:cubicBezTo>
                  <a:cubicBezTo>
                    <a:pt x="158258" y="-10245"/>
                    <a:pt x="141302" y="29805"/>
                    <a:pt x="141302" y="69855"/>
                  </a:cubicBezTo>
                  <a:cubicBezTo>
                    <a:pt x="141302" y="108435"/>
                    <a:pt x="109670" y="139710"/>
                    <a:pt x="70651" y="139710"/>
                  </a:cubicBezTo>
                  <a:cubicBezTo>
                    <a:pt x="31632" y="139710"/>
                    <a:pt x="0" y="108435"/>
                    <a:pt x="0" y="69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9"/>
          <p:cNvSpPr/>
          <p:nvPr/>
        </p:nvSpPr>
        <p:spPr>
          <a:xfrm>
            <a:off x="-23760" y="2860560"/>
            <a:ext cx="9167760" cy="1079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133704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愿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309600" y="302436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打造“不走寻常路”的品牌风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700200" y="1203480"/>
            <a:ext cx="850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   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们需要的是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什么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31720" y="3506760"/>
            <a:ext cx="5985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684360" y="3003480"/>
            <a:ext cx="4270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93840" y="1919160"/>
            <a:ext cx="43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感染力、号召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崭新推广语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触动人心的感性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思维的导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5219640" y="2066760"/>
            <a:ext cx="4125960" cy="1930680"/>
            <a:chOff x="5219640" y="2066760"/>
            <a:chExt cx="4125960" cy="1930680"/>
          </a:xfrm>
        </p:grpSpPr>
        <p:grpSp>
          <p:nvGrpSpPr>
            <p:cNvPr id="82" name="组合 32"/>
            <p:cNvGrpSpPr/>
            <p:nvPr/>
          </p:nvGrpSpPr>
          <p:grpSpPr>
            <a:xfrm>
              <a:off x="5724360" y="2153160"/>
              <a:ext cx="3621240" cy="1676880"/>
              <a:chOff x="5724360" y="2153160"/>
              <a:chExt cx="3621240" cy="1676880"/>
            </a:xfrm>
          </p:grpSpPr>
          <p:sp>
            <p:nvSpPr>
              <p:cNvPr id="83" name="剪去单角的矩形 29"/>
              <p:cNvSpPr/>
              <p:nvPr/>
            </p:nvSpPr>
            <p:spPr>
              <a:xfrm>
                <a:off x="5724360" y="2153160"/>
                <a:ext cx="3240360" cy="1676880"/>
              </a:xfrm>
              <a:custGeom>
                <a:avLst/>
                <a:gdLst/>
                <a:ahLst/>
                <a:rect l="l" t="t" r="r" b="b"/>
                <a:pathLst>
                  <a:path w="3241107" h="1677083">
                    <a:moveTo>
                      <a:pt x="0" y="0"/>
                    </a:moveTo>
                    <a:lnTo>
                      <a:pt x="2758375" y="0"/>
                    </a:lnTo>
                    <a:lnTo>
                      <a:pt x="3241107" y="482732"/>
                    </a:lnTo>
                    <a:lnTo>
                      <a:pt x="3241107" y="1677083"/>
                    </a:lnTo>
                    <a:lnTo>
                      <a:pt x="0" y="16770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4"/>
              <p:cNvSpPr/>
              <p:nvPr/>
            </p:nvSpPr>
            <p:spPr>
              <a:xfrm>
                <a:off x="5925600" y="2329200"/>
                <a:ext cx="3420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不走寻常路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  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品牌风格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直接连接符 26"/>
            <p:cNvSpPr/>
            <p:nvPr/>
          </p:nvSpPr>
          <p:spPr>
            <a:xfrm>
              <a:off x="5219640" y="2066760"/>
              <a:ext cx="0" cy="193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http://img.ea3w.com/165_500x375/164103.jpg"/>
          <p:cNvPicPr/>
          <p:nvPr/>
        </p:nvPicPr>
        <p:blipFill>
          <a:blip r:embed="rId1"/>
          <a:stretch/>
        </p:blipFill>
        <p:spPr>
          <a:xfrm>
            <a:off x="6084720" y="2021040"/>
            <a:ext cx="2533680" cy="1900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3" name="Picture 17" descr="http://i1.cvimage.cn/c/thump/2010/06/24/9b2f8af42363e4df466a9eb69e4fc811_3__337_100.jpg"/>
          <p:cNvPicPr/>
          <p:nvPr/>
        </p:nvPicPr>
        <p:blipFill>
          <a:blip r:embed="rId2"/>
          <a:srcRect l="-729" t="0" r="740" b="22086"/>
          <a:stretch/>
        </p:blipFill>
        <p:spPr>
          <a:xfrm>
            <a:off x="252360" y="1995480"/>
            <a:ext cx="2340000" cy="19368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4" name="Picture 2" descr="http://www.cuec.net.cn/uploadfiles/201022714142594878.jpg"/>
          <p:cNvPicPr/>
          <p:nvPr/>
        </p:nvPicPr>
        <p:blipFill>
          <a:blip r:embed="rId3"/>
          <a:stretch/>
        </p:blipFill>
        <p:spPr>
          <a:xfrm>
            <a:off x="3059280" y="2009880"/>
            <a:ext cx="2535120" cy="1922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2"/>
          <p:cNvSpPr/>
          <p:nvPr/>
        </p:nvSpPr>
        <p:spPr>
          <a:xfrm>
            <a:off x="-36360" y="1695600"/>
            <a:ext cx="532908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"/>
          <p:cNvSpPr/>
          <p:nvPr/>
        </p:nvSpPr>
        <p:spPr>
          <a:xfrm>
            <a:off x="1954080" y="2570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如何打造“不走寻常路”的品牌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539640" y="949320"/>
            <a:ext cx="850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How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to do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5619240" y="4842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465960" y="1695600"/>
            <a:ext cx="27144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-11160" y="2054160"/>
            <a:ext cx="8753400" cy="3240000"/>
            <a:chOff x="-11160" y="2054160"/>
            <a:chExt cx="8753400" cy="3240000"/>
          </a:xfrm>
        </p:grpSpPr>
        <p:sp>
          <p:nvSpPr>
            <p:cNvPr id="103" name="矩形 7"/>
            <p:cNvSpPr/>
            <p:nvPr/>
          </p:nvSpPr>
          <p:spPr>
            <a:xfrm>
              <a:off x="393120" y="3456000"/>
              <a:ext cx="4459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8"/>
            <p:cNvSpPr/>
            <p:nvPr/>
          </p:nvSpPr>
          <p:spPr>
            <a:xfrm>
              <a:off x="506880" y="3149640"/>
              <a:ext cx="3182040" cy="7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1"/>
            <p:cNvGrpSpPr/>
            <p:nvPr/>
          </p:nvGrpSpPr>
          <p:grpSpPr>
            <a:xfrm>
              <a:off x="-11160" y="2440080"/>
              <a:ext cx="5665320" cy="2653560"/>
              <a:chOff x="-11160" y="2440080"/>
              <a:chExt cx="5665320" cy="2653560"/>
            </a:xfrm>
          </p:grpSpPr>
          <p:sp>
            <p:nvSpPr>
              <p:cNvPr id="106" name="矩形 15"/>
              <p:cNvSpPr/>
              <p:nvPr/>
            </p:nvSpPr>
            <p:spPr>
              <a:xfrm>
                <a:off x="-11160" y="2523960"/>
                <a:ext cx="5469120" cy="1518840"/>
              </a:xfrm>
              <a:custGeom>
                <a:avLst/>
                <a:gdLst/>
                <a:ahLst/>
                <a:rect l="l" t="t" r="r" b="b"/>
                <a:pathLst>
                  <a:path w="7339012" h="2267556">
                    <a:moveTo>
                      <a:pt x="0" y="12700"/>
                    </a:moveTo>
                    <a:lnTo>
                      <a:pt x="5967412" y="0"/>
                    </a:lnTo>
                    <a:lnTo>
                      <a:pt x="7339012" y="2267556"/>
                    </a:lnTo>
                    <a:lnTo>
                      <a:pt x="0" y="2267556"/>
                    </a:lnTo>
                    <a:lnTo>
                      <a:pt x="0" y="127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矩形 10"/>
              <p:cNvSpPr/>
              <p:nvPr/>
            </p:nvSpPr>
            <p:spPr>
              <a:xfrm>
                <a:off x="77400" y="2440080"/>
                <a:ext cx="557676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品牌核心价值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VELU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句核心传播语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SLOGEN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具延展性的画面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IMAG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" name="矩形 16" descr=""/>
            <p:cNvPicPr/>
            <p:nvPr/>
          </p:nvPicPr>
          <p:blipFill>
            <a:blip r:embed="rId1"/>
            <a:stretch/>
          </p:blipFill>
          <p:spPr>
            <a:xfrm>
              <a:off x="4590000" y="2054160"/>
              <a:ext cx="415224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6"/>
          <p:cNvSpPr/>
          <p:nvPr/>
        </p:nvSpPr>
        <p:spPr>
          <a:xfrm>
            <a:off x="2121480" y="2570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核心价值在哪里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4"/>
          <p:cNvGrpSpPr/>
          <p:nvPr/>
        </p:nvGrpSpPr>
        <p:grpSpPr>
          <a:xfrm>
            <a:off x="1212840" y="874800"/>
            <a:ext cx="1359000" cy="1301760"/>
            <a:chOff x="1212840" y="874800"/>
            <a:chExt cx="1359000" cy="1301760"/>
          </a:xfrm>
        </p:grpSpPr>
        <p:sp>
          <p:nvSpPr>
            <p:cNvPr id="113" name="椭圆 13"/>
            <p:cNvSpPr/>
            <p:nvPr/>
          </p:nvSpPr>
          <p:spPr>
            <a:xfrm>
              <a:off x="1232640" y="8748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9"/>
            <p:cNvSpPr/>
            <p:nvPr/>
          </p:nvSpPr>
          <p:spPr>
            <a:xfrm>
              <a:off x="1212840" y="1090080"/>
              <a:ext cx="135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高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差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2047"/>
          <p:cNvGrpSpPr/>
          <p:nvPr/>
        </p:nvGrpSpPr>
        <p:grpSpPr>
          <a:xfrm>
            <a:off x="4834080" y="871560"/>
            <a:ext cx="1301760" cy="1300320"/>
            <a:chOff x="4834080" y="871560"/>
            <a:chExt cx="1301760" cy="1300320"/>
          </a:xfrm>
        </p:grpSpPr>
        <p:sp>
          <p:nvSpPr>
            <p:cNvPr id="116" name="椭圆 27"/>
            <p:cNvSpPr/>
            <p:nvPr/>
          </p:nvSpPr>
          <p:spPr>
            <a:xfrm>
              <a:off x="4834080" y="871560"/>
              <a:ext cx="1301760" cy="130032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"/>
            <p:cNvSpPr/>
            <p:nvPr/>
          </p:nvSpPr>
          <p:spPr>
            <a:xfrm>
              <a:off x="5019480" y="10774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广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15"/>
          <p:cNvGrpSpPr/>
          <p:nvPr/>
        </p:nvGrpSpPr>
        <p:grpSpPr>
          <a:xfrm>
            <a:off x="6597720" y="900000"/>
            <a:ext cx="1301760" cy="1301760"/>
            <a:chOff x="6597720" y="900000"/>
            <a:chExt cx="1301760" cy="1301760"/>
          </a:xfrm>
        </p:grpSpPr>
        <p:sp>
          <p:nvSpPr>
            <p:cNvPr id="119" name="椭圆 30"/>
            <p:cNvSpPr/>
            <p:nvPr/>
          </p:nvSpPr>
          <p:spPr>
            <a:xfrm>
              <a:off x="6597720" y="9000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7"/>
            <p:cNvSpPr/>
            <p:nvPr/>
          </p:nvSpPr>
          <p:spPr>
            <a:xfrm>
              <a:off x="6786000" y="1084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强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感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048"/>
          <p:cNvGrpSpPr/>
          <p:nvPr/>
        </p:nvGrpSpPr>
        <p:grpSpPr>
          <a:xfrm>
            <a:off x="3019320" y="868320"/>
            <a:ext cx="1301760" cy="1301760"/>
            <a:chOff x="3019320" y="868320"/>
            <a:chExt cx="1301760" cy="1301760"/>
          </a:xfrm>
        </p:grpSpPr>
        <p:sp>
          <p:nvSpPr>
            <p:cNvPr id="122" name="椭圆 28"/>
            <p:cNvSpPr/>
            <p:nvPr/>
          </p:nvSpPr>
          <p:spPr>
            <a:xfrm>
              <a:off x="3019320" y="86832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5"/>
            <p:cNvSpPr/>
            <p:nvPr/>
          </p:nvSpPr>
          <p:spPr>
            <a:xfrm>
              <a:off x="3228480" y="1085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产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匹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空心弧 2049"/>
          <p:cNvGrpSpPr/>
          <p:nvPr/>
        </p:nvGrpSpPr>
        <p:grpSpPr>
          <a:xfrm>
            <a:off x="2859120" y="2955960"/>
            <a:ext cx="3413160" cy="1744560"/>
            <a:chOff x="2859120" y="2955960"/>
            <a:chExt cx="3413160" cy="1744560"/>
          </a:xfrm>
        </p:grpSpPr>
        <p:pic>
          <p:nvPicPr>
            <p:cNvPr id="125" name="空心弧 2049" descr=""/>
            <p:cNvPicPr/>
            <p:nvPr/>
          </p:nvPicPr>
          <p:blipFill>
            <a:blip r:embed="rId1"/>
            <a:stretch/>
          </p:blipFill>
          <p:spPr>
            <a:xfrm>
              <a:off x="2859120" y="2955960"/>
              <a:ext cx="34131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86120" y="2989440"/>
              <a:ext cx="335592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2055"/>
          <p:cNvGrpSpPr/>
          <p:nvPr/>
        </p:nvGrpSpPr>
        <p:grpSpPr>
          <a:xfrm>
            <a:off x="2771640" y="3922560"/>
            <a:ext cx="449280" cy="449280"/>
            <a:chOff x="2771640" y="3922560"/>
            <a:chExt cx="449280" cy="449280"/>
          </a:xfrm>
        </p:grpSpPr>
        <p:grpSp>
          <p:nvGrpSpPr>
            <p:cNvPr id="128" name="组合 2053"/>
            <p:cNvGrpSpPr/>
            <p:nvPr/>
          </p:nvGrpSpPr>
          <p:grpSpPr>
            <a:xfrm>
              <a:off x="2771640" y="3922560"/>
              <a:ext cx="449280" cy="449280"/>
              <a:chOff x="2771640" y="3922560"/>
              <a:chExt cx="449280" cy="449280"/>
            </a:xfrm>
          </p:grpSpPr>
          <p:sp>
            <p:nvSpPr>
              <p:cNvPr id="129" name="椭圆 2052"/>
              <p:cNvSpPr/>
              <p:nvPr/>
            </p:nvSpPr>
            <p:spPr>
              <a:xfrm>
                <a:off x="2784960" y="3944880"/>
                <a:ext cx="422280" cy="42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同心圆 2051"/>
              <p:cNvSpPr/>
              <p:nvPr/>
            </p:nvSpPr>
            <p:spPr>
              <a:xfrm>
                <a:off x="2771640" y="392256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" name="TextBox 2054"/>
            <p:cNvSpPr/>
            <p:nvPr/>
          </p:nvSpPr>
          <p:spPr>
            <a:xfrm>
              <a:off x="2820960" y="39816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41"/>
          <p:cNvGrpSpPr/>
          <p:nvPr/>
        </p:nvGrpSpPr>
        <p:grpSpPr>
          <a:xfrm>
            <a:off x="3736800" y="2903400"/>
            <a:ext cx="449280" cy="451080"/>
            <a:chOff x="3736800" y="2903400"/>
            <a:chExt cx="449280" cy="451080"/>
          </a:xfrm>
        </p:grpSpPr>
        <p:grpSp>
          <p:nvGrpSpPr>
            <p:cNvPr id="133" name="组合 42"/>
            <p:cNvGrpSpPr/>
            <p:nvPr/>
          </p:nvGrpSpPr>
          <p:grpSpPr>
            <a:xfrm>
              <a:off x="3736800" y="2903400"/>
              <a:ext cx="449280" cy="451080"/>
              <a:chOff x="3736800" y="2903400"/>
              <a:chExt cx="449280" cy="451080"/>
            </a:xfrm>
          </p:grpSpPr>
          <p:sp>
            <p:nvSpPr>
              <p:cNvPr id="134" name="椭圆 44"/>
              <p:cNvSpPr/>
              <p:nvPr/>
            </p:nvSpPr>
            <p:spPr>
              <a:xfrm>
                <a:off x="3750120" y="2921040"/>
                <a:ext cx="42228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同心圆 45"/>
              <p:cNvSpPr/>
              <p:nvPr/>
            </p:nvSpPr>
            <p:spPr>
              <a:xfrm>
                <a:off x="3736800" y="290340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Box 43"/>
            <p:cNvSpPr/>
            <p:nvPr/>
          </p:nvSpPr>
          <p:spPr>
            <a:xfrm>
              <a:off x="3786120" y="29628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46"/>
          <p:cNvGrpSpPr/>
          <p:nvPr/>
        </p:nvGrpSpPr>
        <p:grpSpPr>
          <a:xfrm>
            <a:off x="5000760" y="2903400"/>
            <a:ext cx="450720" cy="451080"/>
            <a:chOff x="5000760" y="2903400"/>
            <a:chExt cx="450720" cy="451080"/>
          </a:xfrm>
        </p:grpSpPr>
        <p:grpSp>
          <p:nvGrpSpPr>
            <p:cNvPr id="138" name="组合 47"/>
            <p:cNvGrpSpPr/>
            <p:nvPr/>
          </p:nvGrpSpPr>
          <p:grpSpPr>
            <a:xfrm>
              <a:off x="5000760" y="2903400"/>
              <a:ext cx="450720" cy="451080"/>
              <a:chOff x="5000760" y="2903400"/>
              <a:chExt cx="450720" cy="451080"/>
            </a:xfrm>
          </p:grpSpPr>
          <p:sp>
            <p:nvSpPr>
              <p:cNvPr id="139" name="椭圆 49"/>
              <p:cNvSpPr/>
              <p:nvPr/>
            </p:nvSpPr>
            <p:spPr>
              <a:xfrm>
                <a:off x="5014080" y="2921040"/>
                <a:ext cx="42372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同心圆 50"/>
              <p:cNvSpPr/>
              <p:nvPr/>
            </p:nvSpPr>
            <p:spPr>
              <a:xfrm>
                <a:off x="5000760" y="2903400"/>
                <a:ext cx="45072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48"/>
            <p:cNvSpPr/>
            <p:nvPr/>
          </p:nvSpPr>
          <p:spPr>
            <a:xfrm>
              <a:off x="5039280" y="296280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5878440" y="3878280"/>
            <a:ext cx="451080" cy="450720"/>
            <a:chOff x="5878440" y="3878280"/>
            <a:chExt cx="451080" cy="450720"/>
          </a:xfrm>
        </p:grpSpPr>
        <p:grpSp>
          <p:nvGrpSpPr>
            <p:cNvPr id="143" name="组合 52"/>
            <p:cNvGrpSpPr/>
            <p:nvPr/>
          </p:nvGrpSpPr>
          <p:grpSpPr>
            <a:xfrm>
              <a:off x="5878440" y="3878280"/>
              <a:ext cx="451080" cy="450720"/>
              <a:chOff x="5878440" y="3878280"/>
              <a:chExt cx="451080" cy="450720"/>
            </a:xfrm>
          </p:grpSpPr>
          <p:sp>
            <p:nvSpPr>
              <p:cNvPr id="144" name="椭圆 54"/>
              <p:cNvSpPr/>
              <p:nvPr/>
            </p:nvSpPr>
            <p:spPr>
              <a:xfrm>
                <a:off x="5885640" y="3894480"/>
                <a:ext cx="424080" cy="423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同心圆 55"/>
              <p:cNvSpPr/>
              <p:nvPr/>
            </p:nvSpPr>
            <p:spPr>
              <a:xfrm>
                <a:off x="5878440" y="3878280"/>
                <a:ext cx="451080" cy="45072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TextBox 53"/>
            <p:cNvSpPr/>
            <p:nvPr/>
          </p:nvSpPr>
          <p:spPr>
            <a:xfrm>
              <a:off x="5916960" y="393768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直接连接符 2058"/>
          <p:cNvSpPr/>
          <p:nvPr/>
        </p:nvSpPr>
        <p:spPr>
          <a:xfrm>
            <a:off x="1874880" y="23018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接连接符 60"/>
          <p:cNvSpPr/>
          <p:nvPr/>
        </p:nvSpPr>
        <p:spPr>
          <a:xfrm>
            <a:off x="3699000" y="2293920"/>
            <a:ext cx="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64"/>
          <p:cNvSpPr/>
          <p:nvPr/>
        </p:nvSpPr>
        <p:spPr>
          <a:xfrm>
            <a:off x="5477040" y="2293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接连接符 66"/>
          <p:cNvSpPr/>
          <p:nvPr/>
        </p:nvSpPr>
        <p:spPr>
          <a:xfrm>
            <a:off x="7257960" y="229392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67"/>
          <p:cNvSpPr/>
          <p:nvPr/>
        </p:nvSpPr>
        <p:spPr>
          <a:xfrm>
            <a:off x="1870200" y="3367080"/>
            <a:ext cx="825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接连接符 69"/>
          <p:cNvSpPr/>
          <p:nvPr/>
        </p:nvSpPr>
        <p:spPr>
          <a:xfrm flipH="1">
            <a:off x="6443640" y="3368520"/>
            <a:ext cx="81432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接连接符 80"/>
          <p:cNvSpPr/>
          <p:nvPr/>
        </p:nvSpPr>
        <p:spPr>
          <a:xfrm>
            <a:off x="3699000" y="2637000"/>
            <a:ext cx="263520" cy="19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接连接符 83"/>
          <p:cNvSpPr/>
          <p:nvPr/>
        </p:nvSpPr>
        <p:spPr>
          <a:xfrm flipH="1">
            <a:off x="5230440" y="2635200"/>
            <a:ext cx="2509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5"/>
          <p:cNvSpPr/>
          <p:nvPr/>
        </p:nvSpPr>
        <p:spPr>
          <a:xfrm>
            <a:off x="3925080" y="38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规模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63" name="椭圆 14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圆角矩形 15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圆角矩形 16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圆角矩形 17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圆角矩形 18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圆角矩形 19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等腰三角形 21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4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1:44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7:08Z</dcterms:modified>
  <cp:revision>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