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gif" ContentType="image/gif"/>
  <Override PartName="/ppt/media/image9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383E-7BCA-40B9-A6E2-59DD1BED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BFE2-563A-4B30-83AC-6EEBEDFC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A6A-6E6D-4042-B404-347457115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0AAD-5E03-471E-B8C9-A80EE061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C3CC-B733-4D1D-A8A8-4B8B3CA9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F342-CF24-47CD-855F-105E4A8B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FB3A-07F9-4866-8E41-BB9DEA1B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99DE-3741-4B13-9DFA-4E1E7DE5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3490-8845-43C8-A472-E12EC29E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51B6-6809-4D11-BA27-7BDCF9B2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BC64-A4C2-459B-87EA-A3B56DB5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0F39-A304-45CF-83E6-FD6E36E8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1213-8C74-4773-86AC-25334B7A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7762-BF46-44DF-B529-5E3B7105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0DE5-2E97-401D-919B-D21DE3CE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6547-AEF1-4C78-9CDC-859AB98B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B532-0078-4F8D-8F26-DD708786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B819-7E18-4875-940A-CC4C2A11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8A8-5032-4605-8308-17C3DA9B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5155-9434-4C92-A723-D16EFDAA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F48-605B-42D9-A977-5CC3E878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6613-EDF7-4952-8F40-C0E84280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4E87-3CB9-46A2-A4AF-7DED5AD3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C816-D5B9-4D5B-B242-DDE00E5D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026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8"/>
              </a:gs>
              <a:gs pos="100000">
                <a:srgbClr val="0088e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1027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1028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1029"/>
            <p:cNvGrpSpPr/>
            <p:nvPr/>
          </p:nvGrpSpPr>
          <p:grpSpPr>
            <a:xfrm>
              <a:off x="5600880" y="5897520"/>
              <a:ext cx="1256760" cy="826920"/>
              <a:chOff x="5600880" y="5897520"/>
              <a:chExt cx="1256760" cy="826920"/>
            </a:xfrm>
          </p:grpSpPr>
          <p:sp>
            <p:nvSpPr>
              <p:cNvPr id="4" name="Oval 1030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1031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1032"/>
              <p:cNvSpPr/>
              <p:nvPr/>
            </p:nvSpPr>
            <p:spPr>
              <a:xfrm>
                <a:off x="600516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1033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34"/>
              <p:cNvSpPr/>
              <p:nvPr/>
            </p:nvSpPr>
            <p:spPr>
              <a:xfrm>
                <a:off x="6122880" y="6226200"/>
                <a:ext cx="30420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>
                <a:off x="5867280" y="661968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>
                <a:off x="5600880" y="6200640"/>
                <a:ext cx="14076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>
                <a:off x="6410160" y="5906880"/>
                <a:ext cx="15192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040"/>
              <p:cNvSpPr/>
              <p:nvPr/>
            </p:nvSpPr>
            <p:spPr>
              <a:xfrm>
                <a:off x="6208560" y="6267240"/>
                <a:ext cx="132840" cy="842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041"/>
            <p:cNvGrpSpPr/>
            <p:nvPr/>
          </p:nvGrpSpPr>
          <p:grpSpPr>
            <a:xfrm>
              <a:off x="2819520" y="5763960"/>
              <a:ext cx="2581200" cy="1084320"/>
              <a:chOff x="2819520" y="5763960"/>
              <a:chExt cx="2581200" cy="1084320"/>
            </a:xfrm>
          </p:grpSpPr>
          <p:sp>
            <p:nvSpPr>
              <p:cNvPr id="16" name="Oval 1042"/>
              <p:cNvSpPr/>
              <p:nvPr/>
            </p:nvSpPr>
            <p:spPr>
              <a:xfrm>
                <a:off x="3600720" y="6244920"/>
                <a:ext cx="10126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043"/>
              <p:cNvSpPr/>
              <p:nvPr/>
            </p:nvSpPr>
            <p:spPr>
              <a:xfrm>
                <a:off x="3673440" y="628308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1044"/>
              <p:cNvSpPr/>
              <p:nvPr/>
            </p:nvSpPr>
            <p:spPr>
              <a:xfrm>
                <a:off x="3716280" y="6316560"/>
                <a:ext cx="795600" cy="474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Oval 1045"/>
              <p:cNvSpPr/>
              <p:nvPr/>
            </p:nvSpPr>
            <p:spPr>
              <a:xfrm>
                <a:off x="3759480" y="6345000"/>
                <a:ext cx="7045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Oval 1046"/>
              <p:cNvSpPr/>
              <p:nvPr/>
            </p:nvSpPr>
            <p:spPr>
              <a:xfrm>
                <a:off x="3786480" y="6357600"/>
                <a:ext cx="655560" cy="3812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Oval 1047"/>
              <p:cNvSpPr/>
              <p:nvPr/>
            </p:nvSpPr>
            <p:spPr>
              <a:xfrm>
                <a:off x="3868920" y="6391080"/>
                <a:ext cx="485640" cy="3049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Oval 1048"/>
              <p:cNvSpPr/>
              <p:nvPr/>
            </p:nvSpPr>
            <p:spPr>
              <a:xfrm>
                <a:off x="3930840" y="643860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Oval 1049"/>
              <p:cNvSpPr/>
              <p:nvPr/>
            </p:nvSpPr>
            <p:spPr>
              <a:xfrm>
                <a:off x="4035600" y="6503760"/>
                <a:ext cx="142920" cy="954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1050"/>
              <p:cNvSpPr/>
              <p:nvPr/>
            </p:nvSpPr>
            <p:spPr>
              <a:xfrm>
                <a:off x="4103640" y="606708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1051"/>
              <p:cNvSpPr/>
              <p:nvPr/>
            </p:nvSpPr>
            <p:spPr>
              <a:xfrm>
                <a:off x="3400560" y="6114960"/>
                <a:ext cx="1415880" cy="733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1052"/>
              <p:cNvSpPr/>
              <p:nvPr/>
            </p:nvSpPr>
            <p:spPr>
              <a:xfrm>
                <a:off x="3305160" y="6076800"/>
                <a:ext cx="646200" cy="771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1053"/>
              <p:cNvSpPr/>
              <p:nvPr/>
            </p:nvSpPr>
            <p:spPr>
              <a:xfrm>
                <a:off x="4741920" y="641952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1054"/>
              <p:cNvSpPr/>
              <p:nvPr/>
            </p:nvSpPr>
            <p:spPr>
              <a:xfrm>
                <a:off x="3283200" y="5849640"/>
                <a:ext cx="1325520" cy="238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1055"/>
              <p:cNvSpPr/>
              <p:nvPr/>
            </p:nvSpPr>
            <p:spPr>
              <a:xfrm>
                <a:off x="2963880" y="611640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1056"/>
              <p:cNvSpPr/>
              <p:nvPr/>
            </p:nvSpPr>
            <p:spPr>
              <a:xfrm>
                <a:off x="4684680" y="595440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1057"/>
              <p:cNvSpPr/>
              <p:nvPr/>
            </p:nvSpPr>
            <p:spPr>
              <a:xfrm>
                <a:off x="3679920" y="5763960"/>
                <a:ext cx="171144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1058"/>
              <p:cNvSpPr/>
              <p:nvPr/>
            </p:nvSpPr>
            <p:spPr>
              <a:xfrm>
                <a:off x="5245200" y="647676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1059"/>
              <p:cNvSpPr/>
              <p:nvPr/>
            </p:nvSpPr>
            <p:spPr>
              <a:xfrm>
                <a:off x="2819520" y="583056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1060"/>
            <p:cNvGrpSpPr/>
            <p:nvPr/>
          </p:nvGrpSpPr>
          <p:grpSpPr>
            <a:xfrm>
              <a:off x="6553440" y="5333760"/>
              <a:ext cx="2144160" cy="1303200"/>
              <a:chOff x="6553440" y="5333760"/>
              <a:chExt cx="2144160" cy="1303200"/>
            </a:xfrm>
          </p:grpSpPr>
          <p:sp>
            <p:nvSpPr>
              <p:cNvPr id="35" name="Freeform 1061"/>
              <p:cNvSpPr/>
              <p:nvPr/>
            </p:nvSpPr>
            <p:spPr>
              <a:xfrm>
                <a:off x="6667560" y="5400360"/>
                <a:ext cx="1906200" cy="1160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1062"/>
              <p:cNvSpPr/>
              <p:nvPr/>
            </p:nvSpPr>
            <p:spPr>
              <a:xfrm>
                <a:off x="6553440" y="534312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1063"/>
              <p:cNvSpPr/>
              <p:nvPr/>
            </p:nvSpPr>
            <p:spPr>
              <a:xfrm>
                <a:off x="7607160" y="533376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1064"/>
              <p:cNvSpPr/>
              <p:nvPr/>
            </p:nvSpPr>
            <p:spPr>
              <a:xfrm>
                <a:off x="8327880" y="63608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1065"/>
              <p:cNvSpPr/>
              <p:nvPr/>
            </p:nvSpPr>
            <p:spPr>
              <a:xfrm>
                <a:off x="7151400" y="646560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1066"/>
              <p:cNvSpPr/>
              <p:nvPr/>
            </p:nvSpPr>
            <p:spPr>
              <a:xfrm>
                <a:off x="8470800" y="580032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1067"/>
              <p:cNvSpPr/>
              <p:nvPr/>
            </p:nvSpPr>
            <p:spPr>
              <a:xfrm>
                <a:off x="8034120" y="575280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1068"/>
              <p:cNvSpPr/>
              <p:nvPr/>
            </p:nvSpPr>
            <p:spPr>
              <a:xfrm>
                <a:off x="7056360" y="5638680"/>
                <a:ext cx="1137960" cy="6840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1069"/>
              <p:cNvSpPr/>
              <p:nvPr/>
            </p:nvSpPr>
            <p:spPr>
              <a:xfrm>
                <a:off x="6904080" y="557172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1070"/>
              <p:cNvSpPr/>
              <p:nvPr/>
            </p:nvSpPr>
            <p:spPr>
              <a:xfrm>
                <a:off x="7245360" y="5543280"/>
                <a:ext cx="57888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1071"/>
              <p:cNvSpPr/>
              <p:nvPr/>
            </p:nvSpPr>
            <p:spPr>
              <a:xfrm>
                <a:off x="7084800" y="5648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Oval 1072"/>
              <p:cNvSpPr/>
              <p:nvPr/>
            </p:nvSpPr>
            <p:spPr>
              <a:xfrm>
                <a:off x="7216560" y="5727600"/>
                <a:ext cx="82224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Oval 1073"/>
              <p:cNvSpPr/>
              <p:nvPr/>
            </p:nvSpPr>
            <p:spPr>
              <a:xfrm>
                <a:off x="726732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Oval 1074"/>
              <p:cNvSpPr/>
              <p:nvPr/>
            </p:nvSpPr>
            <p:spPr>
              <a:xfrm>
                <a:off x="7318080" y="5794200"/>
                <a:ext cx="612720" cy="369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Oval 1075"/>
              <p:cNvSpPr/>
              <p:nvPr/>
            </p:nvSpPr>
            <p:spPr>
              <a:xfrm>
                <a:off x="7388280" y="5838480"/>
                <a:ext cx="472680" cy="2811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Oval 1076"/>
              <p:cNvSpPr/>
              <p:nvPr/>
            </p:nvSpPr>
            <p:spPr>
              <a:xfrm>
                <a:off x="7445160" y="587016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1077"/>
              <p:cNvSpPr/>
              <p:nvPr/>
            </p:nvSpPr>
            <p:spPr>
              <a:xfrm>
                <a:off x="7521480" y="591804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1078"/>
            <p:cNvGrpSpPr/>
            <p:nvPr/>
          </p:nvGrpSpPr>
          <p:grpSpPr>
            <a:xfrm>
              <a:off x="8382240" y="4800600"/>
              <a:ext cx="674640" cy="408960"/>
              <a:chOff x="8382240" y="4800600"/>
              <a:chExt cx="674640" cy="408960"/>
            </a:xfrm>
          </p:grpSpPr>
          <p:sp>
            <p:nvSpPr>
              <p:cNvPr id="53" name="Freeform 1079"/>
              <p:cNvSpPr/>
              <p:nvPr/>
            </p:nvSpPr>
            <p:spPr>
              <a:xfrm>
                <a:off x="8382240" y="5057280"/>
                <a:ext cx="608040" cy="1522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1080"/>
              <p:cNvSpPr/>
              <p:nvPr/>
            </p:nvSpPr>
            <p:spPr>
              <a:xfrm>
                <a:off x="8437680" y="4800600"/>
                <a:ext cx="409680" cy="85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1081"/>
              <p:cNvSpPr/>
              <p:nvPr/>
            </p:nvSpPr>
            <p:spPr>
              <a:xfrm>
                <a:off x="8961840" y="4866840"/>
                <a:ext cx="95040" cy="2473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1082"/>
              <p:cNvSpPr/>
              <p:nvPr/>
            </p:nvSpPr>
            <p:spPr>
              <a:xfrm>
                <a:off x="8533080" y="5152680"/>
                <a:ext cx="30492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1083"/>
              <p:cNvSpPr/>
              <p:nvPr/>
            </p:nvSpPr>
            <p:spPr>
              <a:xfrm>
                <a:off x="8420400" y="4828680"/>
                <a:ext cx="255600" cy="2952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1084"/>
              <p:cNvSpPr/>
              <p:nvPr/>
            </p:nvSpPr>
            <p:spPr>
              <a:xfrm>
                <a:off x="8714160" y="4828680"/>
                <a:ext cx="295200" cy="3330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1085"/>
              <p:cNvSpPr/>
              <p:nvPr/>
            </p:nvSpPr>
            <p:spPr>
              <a:xfrm>
                <a:off x="8485560" y="4854240"/>
                <a:ext cx="474480" cy="29484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1086"/>
              <p:cNvGrpSpPr/>
              <p:nvPr/>
            </p:nvGrpSpPr>
            <p:grpSpPr>
              <a:xfrm>
                <a:off x="8542440" y="4897080"/>
                <a:ext cx="360360" cy="209160"/>
                <a:chOff x="8542440" y="4897080"/>
                <a:chExt cx="360360" cy="209160"/>
              </a:xfrm>
            </p:grpSpPr>
            <p:sp>
              <p:nvSpPr>
                <p:cNvPr id="61" name="Oval 1087"/>
                <p:cNvSpPr/>
                <p:nvPr/>
              </p:nvSpPr>
              <p:spPr>
                <a:xfrm>
                  <a:off x="8542440" y="4897080"/>
                  <a:ext cx="360360" cy="20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1088"/>
                <p:cNvSpPr/>
                <p:nvPr/>
              </p:nvSpPr>
              <p:spPr>
                <a:xfrm>
                  <a:off x="8577360" y="4919040"/>
                  <a:ext cx="289080" cy="1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1089"/>
                <p:cNvSpPr/>
                <p:nvPr/>
              </p:nvSpPr>
              <p:spPr>
                <a:xfrm>
                  <a:off x="8621640" y="4934880"/>
                  <a:ext cx="198720" cy="12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1090"/>
                <p:cNvSpPr/>
                <p:nvPr/>
              </p:nvSpPr>
              <p:spPr>
                <a:xfrm>
                  <a:off x="8664840" y="4960080"/>
                  <a:ext cx="11556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F89D-86E8-4D4C-8C22-2B2E00B4A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6920"/>
              <a:chOff x="5600880" y="5897520"/>
              <a:chExt cx="1256760" cy="82692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16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20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1968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076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6880"/>
                <a:ext cx="151920" cy="4788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240"/>
                <a:ext cx="132840" cy="842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3960"/>
              <a:ext cx="2581200" cy="1084320"/>
              <a:chOff x="2819520" y="576396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720" y="6244920"/>
                <a:ext cx="1012680" cy="59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08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600" cy="4744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480" y="6345000"/>
                <a:ext cx="704520" cy="40968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480" y="6357600"/>
                <a:ext cx="655560" cy="38124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920" y="6391080"/>
                <a:ext cx="485640" cy="3049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840" y="643860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3760"/>
                <a:ext cx="142920" cy="9540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08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32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48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52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3200" y="5849640"/>
                <a:ext cx="1325520" cy="238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40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40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3960"/>
                <a:ext cx="171144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676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56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440" y="5333760"/>
              <a:ext cx="2144160" cy="1303200"/>
              <a:chOff x="6553440" y="5333760"/>
              <a:chExt cx="214416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360"/>
                <a:ext cx="1906200" cy="11606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440" y="5343120"/>
                <a:ext cx="86328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3760"/>
                <a:ext cx="96660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0840"/>
                <a:ext cx="1141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400" y="6465600"/>
                <a:ext cx="111888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320"/>
                <a:ext cx="22680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120" y="5752800"/>
                <a:ext cx="13140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7960" cy="68400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1720"/>
                <a:ext cx="144252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88ce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280"/>
                <a:ext cx="57888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4800" y="5648040"/>
                <a:ext cx="104400" cy="76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560" y="5727600"/>
                <a:ext cx="822240" cy="50616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32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080" y="5794200"/>
                <a:ext cx="612720" cy="3697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480"/>
                <a:ext cx="472680" cy="28116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160" y="5870160"/>
                <a:ext cx="35208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199800" cy="12852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2240" y="4800600"/>
              <a:ext cx="674640" cy="408960"/>
              <a:chOff x="8382240" y="4800600"/>
              <a:chExt cx="674640" cy="40896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2240" y="5057280"/>
                <a:ext cx="608040" cy="15228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680" cy="8532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840" y="4866840"/>
                <a:ext cx="95040" cy="24732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3080" y="5152680"/>
                <a:ext cx="304920" cy="2808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400" y="4828680"/>
                <a:ext cx="255600" cy="29520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4160" y="4828680"/>
                <a:ext cx="295200" cy="33300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560" y="4854240"/>
                <a:ext cx="474480" cy="29484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080"/>
                <a:ext cx="360360" cy="209160"/>
                <a:chOff x="8542440" y="4897080"/>
                <a:chExt cx="360360" cy="20916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080"/>
                  <a:ext cx="360360" cy="20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040"/>
                  <a:ext cx="289080" cy="161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4880"/>
                  <a:ext cx="198720" cy="129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840" y="4960080"/>
                  <a:ext cx="115560" cy="7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9242-77B8-4FAC-A3D4-C57B145C61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&#32838;&#21548;&#32463;&#20856;%5C&#24402;&#21435;&#26469;&#20846;&#36766;3.rm&#35270;&#39057;&#26391;&#35835;.rm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陶渊明像 3"/>
          <p:cNvPicPr/>
          <p:nvPr/>
        </p:nvPicPr>
        <p:blipFill>
          <a:blip r:embed="rId1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6328080" y="71640"/>
            <a:ext cx="237456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归去来兮辞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陶渊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3224160" y="457200"/>
            <a:ext cx="2695320" cy="109944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  <a:ea typeface="隶书"/>
              </a:rPr>
              <a:t>归去来兮辞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767320" y="220968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一、弃官归田的决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2691000" y="373392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二、愉悦恬静的生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4071960" y="518148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三、乐天安命的情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7832880" y="2230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7527960" y="23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7451640" y="230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7375680" y="390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7527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20"/>
          <p:cNvSpPr/>
          <p:nvPr/>
        </p:nvSpPr>
        <p:spPr>
          <a:xfrm>
            <a:off x="1203480" y="2382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89080" y="4552920"/>
            <a:ext cx="712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古诗写意7的副本"/>
          <p:cNvPicPr/>
          <p:nvPr/>
        </p:nvPicPr>
        <p:blipFill>
          <a:blip r:embed="rId1"/>
          <a:stretch/>
        </p:blipFill>
        <p:spPr>
          <a:xfrm>
            <a:off x="2819520" y="-304920"/>
            <a:ext cx="6610320" cy="741060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0" y="-685800"/>
            <a:ext cx="4648320" cy="7467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8" name="归去来兮辞朗读.wav" descr=""/>
          <p:cNvPicPr/>
          <p:nvPr/>
        </p:nvPicPr>
        <p:blipFill>
          <a:blip r:embed="rId2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8"/>
          <p:cNvSpPr/>
          <p:nvPr/>
        </p:nvSpPr>
        <p:spPr>
          <a:xfrm>
            <a:off x="1332720" y="31240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方正姚体"/>
              </a:rPr>
              <a:t>作者感情线索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324000" y="44164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悔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1187280" y="4952880"/>
            <a:ext cx="648000" cy="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1979640" y="44877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2781360" y="4952880"/>
            <a:ext cx="647640" cy="0"/>
          </a:xfrm>
          <a:prstGeom prst="line">
            <a:avLst/>
          </a:prstGeom>
          <a:ln w="381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Rectangle 15"/>
          <p:cNvSpPr/>
          <p:nvPr/>
        </p:nvSpPr>
        <p:spPr>
          <a:xfrm>
            <a:off x="3564000" y="456084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cc"/>
                </a:solidFill>
                <a:latin typeface="Arial"/>
                <a:ea typeface="黑体"/>
              </a:rPr>
              <a:t>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196779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04920" y="533520"/>
            <a:ext cx="86868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归去来兮辞序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家贫，耕植不足以自给。幼稚盈室，瓶无储粟，生生所资，未见其术。亲故多劝余为长吏，脱然有怀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求之靡途。会有四方之事，诸侯以惠爱为德，家叔以余贫苦，遂见用于小邑，于时风波未静，心惮远役，彭泽去家百里，公田之利，足以为酒，故便求之。及少日，眷然有归欤之情。何则？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质性自然，非矫励所得。饥冻虽切，违己交病。尝从人事，皆口腹自役。于是怅然慷慨，深愧平生之志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犹望一稔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当敛裳宵逝。寻程氏妹丧于武昌，情在骏奔，自免去职。仲秋至冬，在官八十余日。因事顺心，命篇曰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归去来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乙巳岁十一月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>
            <a:hlinkClick r:id="rId1"/>
          </p:cNvPr>
          <p:cNvSpPr/>
          <p:nvPr/>
        </p:nvSpPr>
        <p:spPr>
          <a:xfrm>
            <a:off x="2649600" y="125244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理清本文叙事线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684360" y="2793960"/>
            <a:ext cx="44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决意辞归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1728720" y="3041640"/>
            <a:ext cx="53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黑体"/>
              </a:rPr>
              <a:t>归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2701800" y="3041640"/>
            <a:ext cx="57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黑体"/>
              </a:rPr>
              <a:t>抵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3822840" y="2637000"/>
            <a:ext cx="67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黑体"/>
              </a:rPr>
              <a:t>室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黑体"/>
              </a:rPr>
              <a:t>生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4649760" y="3041640"/>
            <a:ext cx="55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黑体"/>
              </a:rPr>
              <a:t>涉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5621400" y="3041640"/>
            <a:ext cx="60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黑体"/>
              </a:rPr>
              <a:t>出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6745320" y="2919240"/>
            <a:ext cx="56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黑体"/>
              </a:rPr>
              <a:t>纵情山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13"/>
          <p:cNvSpPr/>
          <p:nvPr/>
        </p:nvSpPr>
        <p:spPr>
          <a:xfrm>
            <a:off x="7867800" y="2421000"/>
            <a:ext cx="66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黑体"/>
              </a:rPr>
              <a:t>如何安度余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1279440" y="3478320"/>
            <a:ext cx="44784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Line 15"/>
          <p:cNvSpPr/>
          <p:nvPr/>
        </p:nvSpPr>
        <p:spPr>
          <a:xfrm>
            <a:off x="2252520" y="3478320"/>
            <a:ext cx="44928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Line 16"/>
          <p:cNvSpPr/>
          <p:nvPr/>
        </p:nvSpPr>
        <p:spPr>
          <a:xfrm>
            <a:off x="3300480" y="3478320"/>
            <a:ext cx="44928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4275000" y="3478320"/>
            <a:ext cx="44928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Line 18"/>
          <p:cNvSpPr/>
          <p:nvPr/>
        </p:nvSpPr>
        <p:spPr>
          <a:xfrm>
            <a:off x="5172120" y="3478320"/>
            <a:ext cx="44928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Line 19"/>
          <p:cNvSpPr/>
          <p:nvPr/>
        </p:nvSpPr>
        <p:spPr>
          <a:xfrm>
            <a:off x="6146640" y="3478320"/>
            <a:ext cx="44928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Line 20"/>
          <p:cNvSpPr/>
          <p:nvPr/>
        </p:nvSpPr>
        <p:spPr>
          <a:xfrm>
            <a:off x="7345440" y="3502080"/>
            <a:ext cx="447480" cy="0"/>
          </a:xfrm>
          <a:prstGeom prst="line">
            <a:avLst/>
          </a:prstGeom>
          <a:ln w="9360">
            <a:solidFill>
              <a:srgbClr val="33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2"/>
          <p:cNvSpPr/>
          <p:nvPr/>
        </p:nvSpPr>
        <p:spPr>
          <a:xfrm>
            <a:off x="6248520" y="1447920"/>
            <a:ext cx="2286000" cy="3962160"/>
          </a:xfrm>
          <a:prstGeom prst="upArrowCallout">
            <a:avLst>
              <a:gd name="adj1" fmla="val 9242"/>
              <a:gd name="adj2" fmla="val 15208"/>
              <a:gd name="adj3" fmla="val 33236"/>
              <a:gd name="adj4" fmla="val 55371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3"/>
          <p:cNvSpPr/>
          <p:nvPr/>
        </p:nvSpPr>
        <p:spPr>
          <a:xfrm>
            <a:off x="3429000" y="1447920"/>
            <a:ext cx="2286000" cy="3962160"/>
          </a:xfrm>
          <a:prstGeom prst="upArrowCallout">
            <a:avLst>
              <a:gd name="adj1" fmla="val 9242"/>
              <a:gd name="adj2" fmla="val 15208"/>
              <a:gd name="adj3" fmla="val 33236"/>
              <a:gd name="adj4" fmla="val 55371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AutoShape 4"/>
          <p:cNvSpPr/>
          <p:nvPr/>
        </p:nvSpPr>
        <p:spPr>
          <a:xfrm>
            <a:off x="468360" y="1557360"/>
            <a:ext cx="2286000" cy="3809880"/>
          </a:xfrm>
          <a:prstGeom prst="upArrowCallout">
            <a:avLst>
              <a:gd name="adj1" fmla="val 9242"/>
              <a:gd name="adj2" fmla="val 15208"/>
              <a:gd name="adj3" fmla="val 31959"/>
              <a:gd name="adj4" fmla="val 55371"/>
            </a:avLst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380880" y="2666880"/>
            <a:ext cx="275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归心似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380880" y="3429000"/>
            <a:ext cx="267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抵家之欢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457200" y="4343400"/>
            <a:ext cx="267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家中景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3352680" y="2666880"/>
            <a:ext cx="265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饮酒自娱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352680" y="3657600"/>
            <a:ext cx="265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涉园成趣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3352680" y="4572000"/>
            <a:ext cx="265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方正舒体"/>
              </a:rPr>
              <a:t>观景忘返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6248520" y="2727360"/>
            <a:ext cx="257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重审心志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6248520" y="3429000"/>
            <a:ext cx="264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结交乡故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3"/>
          <p:cNvSpPr/>
          <p:nvPr/>
        </p:nvSpPr>
        <p:spPr>
          <a:xfrm>
            <a:off x="6248520" y="403848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出游方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6324480" y="4648320"/>
            <a:ext cx="24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所见所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1027440" y="609480"/>
            <a:ext cx="118656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归家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6742440" y="609480"/>
            <a:ext cx="118656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出游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992760" y="609480"/>
            <a:ext cx="118656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日常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2727360" y="604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9" name="Picture 19" descr="36"/>
          <p:cNvPicPr/>
          <p:nvPr/>
        </p:nvPicPr>
        <p:blipFill>
          <a:blip r:embed="rId1"/>
          <a:stretch/>
        </p:blipFill>
        <p:spPr>
          <a:xfrm>
            <a:off x="914400" y="5791320"/>
            <a:ext cx="6858000" cy="7318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20"/>
          <p:cNvSpPr/>
          <p:nvPr/>
        </p:nvSpPr>
        <p:spPr>
          <a:xfrm>
            <a:off x="8442360" y="604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21"/>
          <p:cNvSpPr/>
          <p:nvPr/>
        </p:nvSpPr>
        <p:spPr>
          <a:xfrm>
            <a:off x="8290080" y="596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22"/>
          <p:cNvSpPr/>
          <p:nvPr/>
        </p:nvSpPr>
        <p:spPr>
          <a:xfrm>
            <a:off x="8213760" y="6040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26"/>
          <p:cNvSpPr/>
          <p:nvPr/>
        </p:nvSpPr>
        <p:spPr>
          <a:xfrm>
            <a:off x="8213760" y="6116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AutoShape 28"/>
          <p:cNvSpPr/>
          <p:nvPr/>
        </p:nvSpPr>
        <p:spPr>
          <a:xfrm>
            <a:off x="2590920" y="76212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AutoShape 29"/>
          <p:cNvSpPr/>
          <p:nvPr/>
        </p:nvSpPr>
        <p:spPr>
          <a:xfrm>
            <a:off x="5410080" y="76212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2604600" y="457200"/>
            <a:ext cx="400752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自责自悲   自恕自乐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1620360" y="2057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往之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620360" y="50292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昨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6878160" y="2057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来者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6801840" y="4952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今是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5119200" y="3266640"/>
            <a:ext cx="729000" cy="1341000"/>
          </a:xfrm>
          <a:prstGeom prst="rect">
            <a:avLst/>
          </a:prstGeom>
          <a:solidFill>
            <a:srgbClr val="0099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归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3290400" y="3260160"/>
            <a:ext cx="729000" cy="1341000"/>
          </a:xfrm>
          <a:prstGeom prst="rect">
            <a:avLst/>
          </a:prstGeom>
          <a:solidFill>
            <a:srgbClr val="0099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出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3124080" y="2362320"/>
            <a:ext cx="3353040" cy="129960"/>
          </a:xfrm>
          <a:prstGeom prst="rightArrow">
            <a:avLst>
              <a:gd name="adj1" fmla="val 50000"/>
              <a:gd name="adj2" fmla="val 645014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AutoShape 10"/>
          <p:cNvSpPr/>
          <p:nvPr/>
        </p:nvSpPr>
        <p:spPr>
          <a:xfrm>
            <a:off x="3124080" y="5257800"/>
            <a:ext cx="3353040" cy="69840"/>
          </a:xfrm>
          <a:prstGeom prst="rightArrow">
            <a:avLst>
              <a:gd name="adj1" fmla="val 50000"/>
              <a:gd name="adj2" fmla="val 1200258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AutoShape 11"/>
          <p:cNvSpPr/>
          <p:nvPr/>
        </p:nvSpPr>
        <p:spPr>
          <a:xfrm>
            <a:off x="1905120" y="2971800"/>
            <a:ext cx="218880" cy="2209680"/>
          </a:xfrm>
          <a:prstGeom prst="downArrow">
            <a:avLst>
              <a:gd name="adj1" fmla="val 50000"/>
              <a:gd name="adj2" fmla="val 252385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AutoShape 12"/>
          <p:cNvSpPr/>
          <p:nvPr/>
        </p:nvSpPr>
        <p:spPr>
          <a:xfrm>
            <a:off x="7162920" y="3048120"/>
            <a:ext cx="145800" cy="2209680"/>
          </a:xfrm>
          <a:prstGeom prst="downArrow">
            <a:avLst>
              <a:gd name="adj1" fmla="val 50000"/>
              <a:gd name="adj2" fmla="val 378889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20"/>
          <p:cNvSpPr/>
          <p:nvPr/>
        </p:nvSpPr>
        <p:spPr>
          <a:xfrm>
            <a:off x="8213760" y="596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24"/>
          <p:cNvSpPr/>
          <p:nvPr/>
        </p:nvSpPr>
        <p:spPr>
          <a:xfrm>
            <a:off x="8442360" y="596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539640" y="1214280"/>
            <a:ext cx="17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黑体"/>
                <a:ea typeface="方正舒体"/>
              </a:rPr>
              <a:t>三读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1187280" y="2852640"/>
            <a:ext cx="7417080" cy="20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第一段：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自责自慰，有悔恨之情，也有庆幸之意，应读得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“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气中声哽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”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第二、第三段：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自安自乐，有喜悦之情，也是自得之意，基调是静谧而愉悦的，应读得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“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气满声高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Arial"/>
                <a:ea typeface="黑体"/>
              </a:rPr>
              <a:t>”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第四段：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乐天安命，有达观之情，读得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旷达、悠然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1" name="Group 6"/>
          <p:cNvGrpSpPr/>
          <p:nvPr/>
        </p:nvGrpSpPr>
        <p:grpSpPr>
          <a:xfrm>
            <a:off x="1042920" y="1120680"/>
            <a:ext cx="7416720" cy="1498680"/>
            <a:chOff x="1042920" y="1120680"/>
            <a:chExt cx="7416720" cy="1498680"/>
          </a:xfrm>
        </p:grpSpPr>
        <p:sp>
          <p:nvSpPr>
            <p:cNvPr id="352" name="Text Box 7"/>
            <p:cNvSpPr/>
            <p:nvPr/>
          </p:nvSpPr>
          <p:spPr>
            <a:xfrm>
              <a:off x="1042920" y="1120680"/>
              <a:ext cx="741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00"/>
                  </a:solidFill>
                  <a:latin typeface="Arial"/>
                  <a:ea typeface="华文隶书"/>
                </a:rPr>
                <a:t>       </a:t>
              </a:r>
              <a:r>
                <a:rPr b="0" lang="zh-CN" sz="4000" spc="-1" strike="noStrike">
                  <a:solidFill>
                    <a:srgbClr val="ffff00"/>
                  </a:solidFill>
                  <a:latin typeface="Arial"/>
                  <a:ea typeface="华文新魏"/>
                </a:rPr>
                <a:t>根据“情”的需要，有感情的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Text Box 8"/>
            <p:cNvSpPr/>
            <p:nvPr/>
          </p:nvSpPr>
          <p:spPr>
            <a:xfrm>
              <a:off x="2195280" y="1915920"/>
              <a:ext cx="338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00"/>
                  </a:solidFill>
                  <a:latin typeface="Arial"/>
                  <a:ea typeface="华文新魏"/>
                </a:rPr>
                <a:t>朗读课文。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4" name="Rectangle 9"/>
          <p:cNvSpPr/>
          <p:nvPr/>
        </p:nvSpPr>
        <p:spPr>
          <a:xfrm>
            <a:off x="468360" y="3389400"/>
            <a:ext cx="5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朗诵指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ml82"/>
          <p:cNvPicPr/>
          <p:nvPr/>
        </p:nvPicPr>
        <p:blipFill>
          <a:blip r:embed="rId1"/>
          <a:stretch/>
        </p:blipFill>
        <p:spPr>
          <a:xfrm>
            <a:off x="6553080" y="609480"/>
            <a:ext cx="2286000" cy="2360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ml85"/>
          <p:cNvPicPr/>
          <p:nvPr/>
        </p:nvPicPr>
        <p:blipFill>
          <a:blip r:embed="rId2"/>
          <a:stretch/>
        </p:blipFill>
        <p:spPr>
          <a:xfrm>
            <a:off x="0" y="3860640"/>
            <a:ext cx="2309760" cy="266724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31640" y="1483920"/>
            <a:ext cx="489564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全文主旨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268000" y="2852640"/>
            <a:ext cx="5897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归去来兮辞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华文行楷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行楷"/>
              </a:rPr>
              <a:t>是陶渊明辞官归隐之际与上流社会公开决裂的政治宣言。文章以绝大篇幅写了他脱离官场的无限喜悦，想家归隐田园的无限乐趣，表现了作者对大自然和隐居生活的向往和热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1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6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2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5"/>
          <p:cNvSpPr/>
          <p:nvPr/>
        </p:nvSpPr>
        <p:spPr>
          <a:xfrm>
            <a:off x="0" y="1557360"/>
            <a:ext cx="4788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饮  酒（其五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结庐在人境，而无车马喧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问君何能尔？心远地自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采菊东篱下，悠然见南山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山气日夕佳，飞鸟相与还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此中有真意，欲辩已忘言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4680000" y="1557360"/>
            <a:ext cx="4716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归园田居（其三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种豆南山下，草盛豆苗稀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晨兴理荒秽，带月荷锄归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道狭草木长，夕露沾我衣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衣沾不足惜，但使愿无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4" dur="20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6" dur="20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3000"/>
                            </p:stCondLst>
                            <p:childTnLst>
                              <p:par>
                                <p:cTn id="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1" dur="2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002"/>
          <p:cNvPicPr/>
          <p:nvPr/>
        </p:nvPicPr>
        <p:blipFill>
          <a:blip r:embed="rId1"/>
          <a:stretch/>
        </p:blipFill>
        <p:spPr>
          <a:xfrm>
            <a:off x="3808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092720" y="961920"/>
            <a:ext cx="18097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归园田居</a:t>
            </a:r>
            <a:br>
              <a:rPr sz="4400"/>
            </a:br>
            <a:r>
              <a:rPr b="1" lang="en-US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陶渊明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8920" y="1177920"/>
            <a:ext cx="685188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少无适俗韵，性本爱丘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误落尘网中，一去三十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羁鸟恋旧林，池鱼思故渊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开荒南野际，守拙归园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方宅十余亩，草屋八九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榆柳荫后檐，桃李罗堂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暧暧远人村，依依墟里烟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狗吠深巷中，鸡鸣桑树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户庭无尘杂，虚室有余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久在樊笼里，复得返自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" descr="2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8" dur="1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8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10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3" dur="10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8" dur="1000"/>
                                        <p:tgtEl>
                                          <p:spTgt spid="3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3" dur="1000"/>
                                        <p:tgtEl>
                                          <p:spTgt spid="3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838080" y="2057400"/>
            <a:ext cx="7391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陶渊明（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5—427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），东晋诗人。一名潜，字元亮，浔阳柴桑人。世称“靖节先生” 又自称作“五柳先生”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401840" y="561960"/>
            <a:ext cx="14000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80d6f"/>
                </a:solidFill>
                <a:latin typeface="Times New Roman"/>
                <a:ea typeface="楷体_GB2312"/>
              </a:rPr>
              <a:t>作者简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ff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1704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ecff"/>
                </a:solidFill>
                <a:latin typeface="Arial"/>
              </a:rPr>
              <a:t>陶渊明出任要事：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9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岁：任江州祭酒，不久辞归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6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岁：任桓玄（军阀）幕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7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岁：因母丧还家。居丧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4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岁：出任刘裕参军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41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岁</a:t>
            </a:r>
            <a:r>
              <a:rPr b="0" lang="zh-CN" sz="3200" spc="-1" strike="noStrike">
                <a:solidFill>
                  <a:srgbClr val="afe1ff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出为彭泽令，在官八十余日，解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辞归，作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归去来兮辞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，终生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再出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4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"/>
          <p:cNvSpPr/>
          <p:nvPr/>
        </p:nvSpPr>
        <p:spPr>
          <a:xfrm>
            <a:off x="1258920" y="162864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的一天，担任彭泽县令的陶渊明听说郡里派了督邮来县巡视。县吏劝他穿戴整齐的官服去迎见督邮。陶渊明生平最恨那些狐假虎威，以督邮为名敲诈勒索的官员，气愤地说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决不能为五斗米（指俸禄）折腰，去迎奉伺候这种乡里小人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2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21" name="WordArt 6"/>
          <p:cNvSpPr txBox="1"/>
          <p:nvPr/>
        </p:nvSpPr>
        <p:spPr>
          <a:xfrm>
            <a:off x="395280" y="1484280"/>
            <a:ext cx="503280" cy="41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五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斗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米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的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故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舒体"/>
              </a:rPr>
              <a:t>事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900" spc="-1" strike="noStrike">
                <a:solidFill>
                  <a:srgbClr val="ffffff"/>
                </a:solidFill>
                <a:latin typeface="Arial"/>
                <a:ea typeface="华文新魏"/>
              </a:rPr>
              <a:t>辞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辞是战国后期楚国诗人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_______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创造出来的一种新诗体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特点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, 2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四句为一小节，两句为一组；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以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_____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字句为主，每句三拍，多用语气词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兮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。如</a:t>
            </a:r>
            <a:r>
              <a:rPr b="0" lang="zh-CN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路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漫漫（其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修远（兮），吾将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上下（而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求索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、押韵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5638680" y="68580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屈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295280" y="25146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形式自由，句式散文化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781680" y="29718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六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舟遥遥]"/>
          <p:cNvPicPr/>
          <p:nvPr/>
        </p:nvPicPr>
        <p:blipFill>
          <a:blip r:embed="rId1"/>
          <a:stretch/>
        </p:blipFill>
        <p:spPr>
          <a:xfrm>
            <a:off x="533520" y="1752480"/>
            <a:ext cx="8610480" cy="51055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533520" y="0"/>
            <a:ext cx="331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一读课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742400" y="838080"/>
            <a:ext cx="549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要求：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读准字音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了解词义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读好句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AutoShape 8">
            <a:hlinkClick r:id="rId2"/>
          </p:cNvPr>
          <p:cNvSpPr/>
          <p:nvPr/>
        </p:nvSpPr>
        <p:spPr>
          <a:xfrm>
            <a:off x="8305920" y="304920"/>
            <a:ext cx="433440" cy="357120"/>
          </a:xfrm>
          <a:custGeom>
            <a:avLst/>
            <a:gdLst>
              <a:gd name="textAreaLeft" fmla="*/ 22320 w 433440"/>
              <a:gd name="textAreaRight" fmla="*/ 411120 w 433440"/>
              <a:gd name="textAreaTop" fmla="*/ 22320 h 357120"/>
              <a:gd name="textAreaBottom" fmla="*/ 334800 h 357120"/>
            </a:gdLst>
            <a:ahLst/>
            <a:rect l="textAreaLeft" t="textAreaTop" r="textAreaRight" b="textAreaBottom"/>
            <a:pathLst>
              <a:path w="26211" h="21600">
                <a:moveTo>
                  <a:pt x="0" y="0"/>
                </a:moveTo>
                <a:lnTo>
                  <a:pt x="26211" y="0"/>
                </a:lnTo>
                <a:lnTo>
                  <a:pt x="26211" y="21600"/>
                </a:lnTo>
                <a:lnTo>
                  <a:pt x="0" y="21600"/>
                </a:lnTo>
                <a:close/>
              </a:path>
              <a:path fill="lightenLess" w="26211" h="21600">
                <a:moveTo>
                  <a:pt x="0" y="0"/>
                </a:moveTo>
                <a:lnTo>
                  <a:pt x="26211" y="0"/>
                </a:lnTo>
                <a:lnTo>
                  <a:pt x="24861" y="1350"/>
                </a:lnTo>
                <a:lnTo>
                  <a:pt x="1350" y="1350"/>
                </a:lnTo>
                <a:close/>
              </a:path>
              <a:path fill="darken" w="26211" h="21600">
                <a:moveTo>
                  <a:pt x="26211" y="0"/>
                </a:moveTo>
                <a:lnTo>
                  <a:pt x="26211" y="21600"/>
                </a:lnTo>
                <a:lnTo>
                  <a:pt x="24861" y="20250"/>
                </a:lnTo>
                <a:lnTo>
                  <a:pt x="24861" y="1350"/>
                </a:lnTo>
                <a:close/>
              </a:path>
              <a:path fill="darkenLess" w="26211" h="21600">
                <a:moveTo>
                  <a:pt x="2621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861" y="20250"/>
                </a:lnTo>
                <a:close/>
              </a:path>
              <a:path fill="lighten" w="2621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6211" h="21600">
                <a:moveTo>
                  <a:pt x="6062" y="8394"/>
                </a:moveTo>
                <a:lnTo>
                  <a:pt x="10516" y="8394"/>
                </a:lnTo>
                <a:lnTo>
                  <a:pt x="14961" y="3756"/>
                </a:lnTo>
                <a:lnTo>
                  <a:pt x="14961" y="17844"/>
                </a:lnTo>
                <a:lnTo>
                  <a:pt x="10516" y="13206"/>
                </a:lnTo>
                <a:lnTo>
                  <a:pt x="6062" y="13206"/>
                </a:lnTo>
                <a:close/>
              </a:path>
              <a:path fill="darken" w="26211" h="21600">
                <a:moveTo>
                  <a:pt x="16623" y="10800"/>
                </a:moveTo>
                <a:lnTo>
                  <a:pt x="20149" y="10800"/>
                </a:lnTo>
              </a:path>
              <a:path fill="darken" w="26211" h="21600">
                <a:moveTo>
                  <a:pt x="16623" y="8394"/>
                </a:moveTo>
                <a:lnTo>
                  <a:pt x="20149" y="5611"/>
                </a:lnTo>
              </a:path>
              <a:path fill="darken" w="26211" h="21600">
                <a:moveTo>
                  <a:pt x="16623" y="13206"/>
                </a:moveTo>
                <a:lnTo>
                  <a:pt x="20149" y="15989"/>
                </a:lnTo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07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075" descr="2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076"/>
          <p:cNvSpPr/>
          <p:nvPr/>
        </p:nvSpPr>
        <p:spPr>
          <a:xfrm>
            <a:off x="1762920" y="2009880"/>
            <a:ext cx="23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óuchà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3077"/>
          <p:cNvSpPr/>
          <p:nvPr/>
        </p:nvSpPr>
        <p:spPr>
          <a:xfrm>
            <a:off x="4860000" y="2009880"/>
            <a:ext cx="11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á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3079"/>
          <p:cNvSpPr/>
          <p:nvPr/>
        </p:nvSpPr>
        <p:spPr>
          <a:xfrm>
            <a:off x="1332000" y="2852640"/>
            <a:ext cx="9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ū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3080"/>
          <p:cNvSpPr/>
          <p:nvPr/>
        </p:nvSpPr>
        <p:spPr>
          <a:xfrm>
            <a:off x="3059280" y="284940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ā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081"/>
          <p:cNvSpPr/>
          <p:nvPr/>
        </p:nvSpPr>
        <p:spPr>
          <a:xfrm>
            <a:off x="5219640" y="28494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ǎ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3082"/>
          <p:cNvSpPr/>
          <p:nvPr/>
        </p:nvSpPr>
        <p:spPr>
          <a:xfrm>
            <a:off x="1332000" y="37130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iǎ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3083"/>
          <p:cNvSpPr/>
          <p:nvPr/>
        </p:nvSpPr>
        <p:spPr>
          <a:xfrm>
            <a:off x="3060360" y="3645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i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3084"/>
          <p:cNvSpPr/>
          <p:nvPr/>
        </p:nvSpPr>
        <p:spPr>
          <a:xfrm>
            <a:off x="5005080" y="364176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3085"/>
          <p:cNvSpPr/>
          <p:nvPr/>
        </p:nvSpPr>
        <p:spPr>
          <a:xfrm>
            <a:off x="6948720" y="364176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3086"/>
          <p:cNvSpPr/>
          <p:nvPr/>
        </p:nvSpPr>
        <p:spPr>
          <a:xfrm>
            <a:off x="3276720" y="4508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ǎotiǎ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3087"/>
          <p:cNvSpPr/>
          <p:nvPr/>
        </p:nvSpPr>
        <p:spPr>
          <a:xfrm>
            <a:off x="5724360" y="45086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á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3088"/>
          <p:cNvSpPr/>
          <p:nvPr/>
        </p:nvSpPr>
        <p:spPr>
          <a:xfrm>
            <a:off x="7524720" y="45054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ā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3089"/>
          <p:cNvSpPr/>
          <p:nvPr/>
        </p:nvSpPr>
        <p:spPr>
          <a:xfrm>
            <a:off x="1259280" y="45086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hà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3090"/>
          <p:cNvSpPr/>
          <p:nvPr/>
        </p:nvSpPr>
        <p:spPr>
          <a:xfrm>
            <a:off x="7227000" y="278136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3091"/>
          <p:cNvSpPr/>
          <p:nvPr/>
        </p:nvSpPr>
        <p:spPr>
          <a:xfrm>
            <a:off x="684360" y="108252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正音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3094"/>
          <p:cNvSpPr/>
          <p:nvPr/>
        </p:nvSpPr>
        <p:spPr>
          <a:xfrm>
            <a:off x="7524720" y="200988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9" name="Group 3107"/>
          <p:cNvGrpSpPr/>
          <p:nvPr/>
        </p:nvGrpSpPr>
        <p:grpSpPr>
          <a:xfrm>
            <a:off x="763560" y="2009880"/>
            <a:ext cx="8129520" cy="3080160"/>
            <a:chOff x="763560" y="2009880"/>
            <a:chExt cx="8129520" cy="3080160"/>
          </a:xfrm>
        </p:grpSpPr>
        <p:sp>
          <p:nvSpPr>
            <p:cNvPr id="250" name="Rectangle 3078"/>
            <p:cNvSpPr/>
            <p:nvPr/>
          </p:nvSpPr>
          <p:spPr>
            <a:xfrm>
              <a:off x="6300720" y="2057400"/>
              <a:ext cx="12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熹</a:t>
              </a: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微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Rectangle 3092"/>
            <p:cNvSpPr/>
            <p:nvPr/>
          </p:nvSpPr>
          <p:spPr>
            <a:xfrm>
              <a:off x="763560" y="2009880"/>
              <a:ext cx="143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惆怅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Rectangle 3093"/>
            <p:cNvSpPr/>
            <p:nvPr/>
          </p:nvSpPr>
          <p:spPr>
            <a:xfrm>
              <a:off x="4368600" y="20098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飏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Rectangle 3095"/>
            <p:cNvSpPr/>
            <p:nvPr/>
          </p:nvSpPr>
          <p:spPr>
            <a:xfrm>
              <a:off x="839520" y="28497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樽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Rectangle 3096"/>
            <p:cNvSpPr/>
            <p:nvPr/>
          </p:nvSpPr>
          <p:spPr>
            <a:xfrm>
              <a:off x="2495160" y="28497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觞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Rectangle 3097"/>
            <p:cNvSpPr/>
            <p:nvPr/>
          </p:nvSpPr>
          <p:spPr>
            <a:xfrm>
              <a:off x="4727160" y="28497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眄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Rectangle 3098"/>
            <p:cNvSpPr/>
            <p:nvPr/>
          </p:nvSpPr>
          <p:spPr>
            <a:xfrm>
              <a:off x="6588000" y="278136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庭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Rectangle 3099"/>
            <p:cNvSpPr/>
            <p:nvPr/>
          </p:nvSpPr>
          <p:spPr>
            <a:xfrm>
              <a:off x="839520" y="37162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矫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Rectangle 3100"/>
            <p:cNvSpPr/>
            <p:nvPr/>
          </p:nvSpPr>
          <p:spPr>
            <a:xfrm>
              <a:off x="2495160" y="36417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岫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Rectangle 3101"/>
            <p:cNvSpPr/>
            <p:nvPr/>
          </p:nvSpPr>
          <p:spPr>
            <a:xfrm>
              <a:off x="4368600" y="3645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翳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Rectangle 3102"/>
            <p:cNvSpPr/>
            <p:nvPr/>
          </p:nvSpPr>
          <p:spPr>
            <a:xfrm>
              <a:off x="6084720" y="3645000"/>
              <a:ext cx="28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盘</a:t>
              </a:r>
              <a:r>
                <a:rPr b="1" lang="zh-CN" sz="3200" spc="-1" strike="noStrike">
                  <a:solidFill>
                    <a:srgbClr val="ff3300"/>
                  </a:solidFill>
                  <a:latin typeface="Arial"/>
                </a:rPr>
                <a:t>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Rectangle 3103"/>
            <p:cNvSpPr/>
            <p:nvPr/>
          </p:nvSpPr>
          <p:spPr>
            <a:xfrm>
              <a:off x="839520" y="45086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棹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Rectangle 3104"/>
            <p:cNvSpPr/>
            <p:nvPr/>
          </p:nvSpPr>
          <p:spPr>
            <a:xfrm>
              <a:off x="2340000" y="4508640"/>
              <a:ext cx="194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窈窕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Rectangle 3105"/>
            <p:cNvSpPr/>
            <p:nvPr/>
          </p:nvSpPr>
          <p:spPr>
            <a:xfrm>
              <a:off x="4788000" y="45054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遑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Rectangle 3106"/>
            <p:cNvSpPr/>
            <p:nvPr/>
          </p:nvSpPr>
          <p:spPr>
            <a:xfrm>
              <a:off x="7176600" y="450864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</a:rPr>
                <a:t>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pull dir="r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2"/>
          <p:cNvPicPr/>
          <p:nvPr/>
        </p:nvPicPr>
        <p:blipFill>
          <a:blip r:embed="rId2"/>
          <a:stretch/>
        </p:blipFill>
        <p:spPr>
          <a:xfrm>
            <a:off x="0" y="586728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4"/>
          <p:cNvSpPr/>
          <p:nvPr/>
        </p:nvSpPr>
        <p:spPr>
          <a:xfrm>
            <a:off x="3156480" y="10112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黑体"/>
              </a:rPr>
              <a:t>文中的韵脚字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34920" y="1992240"/>
            <a:ext cx="936144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第一节：押</a:t>
            </a:r>
            <a:r>
              <a:rPr b="1" lang="en-US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uì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韵  韵脚字</a:t>
            </a:r>
            <a:r>
              <a:rPr b="1" lang="zh-CN" sz="2400" spc="-1" strike="noStrike">
                <a:solidFill>
                  <a:srgbClr val="ff3300"/>
                </a:solidFill>
                <a:latin typeface="华文细黑"/>
                <a:ea typeface="华文细黑"/>
              </a:rPr>
              <a:t>“归”、“悲”、“追”、“非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第二节：押三个韵：①</a:t>
            </a:r>
            <a:r>
              <a:rPr b="1" lang="en-US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ì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、</a:t>
            </a:r>
            <a:r>
              <a:rPr b="1" lang="en-US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uì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韵脚是“</a:t>
            </a:r>
            <a:r>
              <a:rPr b="1" lang="zh-CN" sz="2400" spc="-1" strike="noStrike">
                <a:solidFill>
                  <a:srgbClr val="ff3300"/>
                </a:solidFill>
                <a:latin typeface="华文细黑"/>
                <a:ea typeface="华文细黑"/>
              </a:rPr>
              <a:t>熹、微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                           ②</a:t>
            </a:r>
            <a:r>
              <a:rPr b="1" lang="en-US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un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韵</a:t>
            </a:r>
            <a:r>
              <a:rPr b="1" lang="en-US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……“</a:t>
            </a:r>
            <a:r>
              <a:rPr b="1" lang="zh-CN" sz="2400" spc="-1" strike="noStrike">
                <a:solidFill>
                  <a:srgbClr val="ff3300"/>
                </a:solidFill>
                <a:latin typeface="华文细黑"/>
                <a:ea typeface="华文细黑"/>
              </a:rPr>
              <a:t>奔”“门”“存”“樽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                           ③</a:t>
            </a:r>
            <a:r>
              <a:rPr b="1" lang="en-US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an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韵</a:t>
            </a:r>
            <a:r>
              <a:rPr b="1" lang="en-US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……“</a:t>
            </a:r>
            <a:r>
              <a:rPr b="1" lang="zh-CN" sz="2400" spc="-1" strike="noStrike">
                <a:solidFill>
                  <a:srgbClr val="ff3300"/>
                </a:solidFill>
                <a:latin typeface="华文细黑"/>
                <a:ea typeface="华文细黑"/>
              </a:rPr>
              <a:t>颜”“安”“关”“还”“桓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第三节：押一个韵</a:t>
            </a:r>
            <a:r>
              <a:rPr b="1" lang="en-US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ou 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韵脚</a:t>
            </a:r>
            <a:r>
              <a:rPr b="1" lang="zh-CN" sz="2400" spc="-1" strike="noStrike">
                <a:solidFill>
                  <a:srgbClr val="ff3300"/>
                </a:solidFill>
                <a:latin typeface="华文细黑"/>
                <a:ea typeface="华文细黑"/>
              </a:rPr>
              <a:t>“游”“求”“优”“畴”“舟”“丘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细黑"/>
                <a:ea typeface="华文细黑"/>
              </a:rPr>
              <a:t>                                          “</a:t>
            </a:r>
            <a:r>
              <a:rPr b="1" lang="zh-CN" sz="2400" spc="-1" strike="noStrike">
                <a:solidFill>
                  <a:srgbClr val="ff3300"/>
                </a:solidFill>
                <a:latin typeface="华文细黑"/>
                <a:ea typeface="华文细黑"/>
              </a:rPr>
              <a:t>流”“休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第四节：除“曷不委心任去留”以上几句，其余押</a:t>
            </a:r>
            <a:r>
              <a:rPr b="1" lang="en-US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i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韵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      </a:t>
            </a:r>
            <a:r>
              <a:rPr b="1" lang="zh-CN" sz="2400" spc="-1" strike="noStrike">
                <a:solidFill>
                  <a:srgbClr val="ffff00"/>
                </a:solidFill>
                <a:latin typeface="华文细黑"/>
                <a:ea typeface="华文细黑"/>
              </a:rPr>
              <a:t>韵脚有 </a:t>
            </a:r>
            <a:r>
              <a:rPr b="1" lang="zh-CN" sz="2400" spc="-1" strike="noStrike">
                <a:solidFill>
                  <a:srgbClr val="ff3300"/>
                </a:solidFill>
                <a:latin typeface="华文细黑"/>
                <a:ea typeface="华文细黑"/>
              </a:rPr>
              <a:t>“之”“期”“籽”“诗”“疑”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6" descr="ZW_020"/>
          <p:cNvPicPr/>
          <p:nvPr/>
        </p:nvPicPr>
        <p:blipFill>
          <a:blip r:embed="rId3"/>
          <a:stretch/>
        </p:blipFill>
        <p:spPr>
          <a:xfrm>
            <a:off x="7885080" y="5373720"/>
            <a:ext cx="657360" cy="5904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古诗写意6"/>
          <p:cNvPicPr/>
          <p:nvPr/>
        </p:nvPicPr>
        <p:blipFill>
          <a:blip r:embed="rId1"/>
          <a:stretch/>
        </p:blipFill>
        <p:spPr>
          <a:xfrm>
            <a:off x="2743200" y="-304920"/>
            <a:ext cx="6667560" cy="7410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-304920"/>
            <a:ext cx="4572000" cy="74678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c0001"/>
                </a:solidFill>
                <a:latin typeface="Times New Roman"/>
              </a:rPr>
              <a:t>方法：按照辞的体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c0001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c0001"/>
                </a:solidFill>
                <a:latin typeface="Times New Roman"/>
              </a:rPr>
              <a:t>特点朗读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212760" y="-55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380880" y="380880"/>
            <a:ext cx="36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Times New Roman"/>
              </a:rPr>
              <a:t>二  读  课 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归去来兮辞朗读.wav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96779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2T14:09:45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08:28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