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D1B-74B2-4374-861A-3DB82E10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031-47F3-4759-8DA5-45F69E16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0C6-4B7A-4AD6-A394-2B6AC7FB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686-3FF7-47EF-BF24-10B2ADB7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BE4-C687-4A9C-A19D-47A41832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28D-8F83-47DC-82E4-5BF520B7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D05-3D73-433B-9589-76F4CCA6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679-FF9F-44D6-8A9C-DED2EEBB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03D-9CEA-449A-9D51-4DB0DCBF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92A-B53D-4F80-809D-2BA5FD99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586-82D6-4D80-8D5F-6F415201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923-A197-4753-AB09-B1F1E57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8DD1-EC74-4AC5-996A-34C5C6AEEE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44"/>
            </a:gs>
            <a:gs pos="100000">
              <a:srgbClr val="bde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梯形 3"/>
          <p:cNvSpPr/>
          <p:nvPr/>
        </p:nvSpPr>
        <p:spPr>
          <a:xfrm flipV="1">
            <a:off x="2365200" y="2735640"/>
            <a:ext cx="4211640" cy="360360"/>
          </a:xfrm>
          <a:custGeom>
            <a:avLst/>
            <a:gdLst/>
            <a:ahLst/>
            <a:rect l="l" t="t" r="r" b="b"/>
            <a:pathLst>
              <a:path w="4211638" h="360363">
                <a:moveTo>
                  <a:pt x="0" y="360363"/>
                </a:moveTo>
                <a:lnTo>
                  <a:pt x="239155" y="0"/>
                </a:lnTo>
                <a:lnTo>
                  <a:pt x="3972483" y="0"/>
                </a:lnTo>
                <a:lnTo>
                  <a:pt x="4211638" y="360363"/>
                </a:lnTo>
                <a:lnTo>
                  <a:pt x="0" y="360363"/>
                </a:lnTo>
                <a:close/>
              </a:path>
            </a:pathLst>
          </a:custGeom>
          <a:solidFill>
            <a:srgbClr val="aaea25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梯形 4"/>
          <p:cNvSpPr/>
          <p:nvPr/>
        </p:nvSpPr>
        <p:spPr>
          <a:xfrm>
            <a:off x="2346480" y="1959120"/>
            <a:ext cx="4248000" cy="8017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简介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709720" y="27766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D PPT DES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://ekko.ekkomediagroup.com/~custom/wheels_images/AF128/1224012188-AF128ChromeWheel.png"/>
          <p:cNvPicPr/>
          <p:nvPr/>
        </p:nvPicPr>
        <p:blipFill>
          <a:blip r:embed="rId1"/>
          <a:srcRect l="0" t="0" r="0" b="64663"/>
          <a:stretch/>
        </p:blipFill>
        <p:spPr>
          <a:xfrm>
            <a:off x="2674800" y="5589720"/>
            <a:ext cx="35895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梯形 4"/>
          <p:cNvSpPr/>
          <p:nvPr/>
        </p:nvSpPr>
        <p:spPr>
          <a:xfrm rot="16200000">
            <a:off x="6468120" y="4539240"/>
            <a:ext cx="1536480" cy="1871640"/>
          </a:xfrm>
          <a:custGeom>
            <a:avLst/>
            <a:gdLst/>
            <a:ahLst/>
            <a:rect l="l" t="t" r="r" b="b"/>
            <a:pathLst>
              <a:path w="1536700" h="1871662">
                <a:moveTo>
                  <a:pt x="0" y="1871662"/>
                </a:moveTo>
                <a:lnTo>
                  <a:pt x="365120" y="0"/>
                </a:lnTo>
                <a:lnTo>
                  <a:pt x="1171580" y="0"/>
                </a:lnTo>
                <a:lnTo>
                  <a:pt x="1536700" y="1871662"/>
                </a:lnTo>
                <a:lnTo>
                  <a:pt x="0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梯形 5"/>
          <p:cNvSpPr/>
          <p:nvPr/>
        </p:nvSpPr>
        <p:spPr>
          <a:xfrm rot="16200000">
            <a:off x="6379920" y="772920"/>
            <a:ext cx="1712880" cy="1871640"/>
          </a:xfrm>
          <a:custGeom>
            <a:avLst/>
            <a:gdLst/>
            <a:ahLst/>
            <a:rect l="l" t="t" r="r" b="b"/>
            <a:pathLst>
              <a:path w="1712912" h="1871662">
                <a:moveTo>
                  <a:pt x="0" y="1871662"/>
                </a:moveTo>
                <a:lnTo>
                  <a:pt x="428228" y="0"/>
                </a:lnTo>
                <a:lnTo>
                  <a:pt x="1284684" y="0"/>
                </a:lnTo>
                <a:lnTo>
                  <a:pt x="1712912" y="1871662"/>
                </a:lnTo>
                <a:lnTo>
                  <a:pt x="0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梯形 6"/>
          <p:cNvSpPr/>
          <p:nvPr/>
        </p:nvSpPr>
        <p:spPr>
          <a:xfrm flipH="1" rot="5400000">
            <a:off x="674280" y="2624040"/>
            <a:ext cx="3740400" cy="1749600"/>
          </a:xfrm>
          <a:custGeom>
            <a:avLst/>
            <a:gdLst/>
            <a:ahLst/>
            <a:rect l="l" t="t" r="r" b="b"/>
            <a:pathLst>
              <a:path w="3740150" h="1749425">
                <a:moveTo>
                  <a:pt x="0" y="1749425"/>
                </a:moveTo>
                <a:lnTo>
                  <a:pt x="475459" y="0"/>
                </a:lnTo>
                <a:lnTo>
                  <a:pt x="3264691" y="0"/>
                </a:lnTo>
                <a:lnTo>
                  <a:pt x="3740150" y="1749425"/>
                </a:lnTo>
                <a:lnTo>
                  <a:pt x="0" y="174942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-795240" y="28526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f7f7f"/>
                </a:solidFill>
                <a:latin typeface="Haettenschweiler"/>
              </a:rPr>
              <a:t>CONT</a:t>
            </a:r>
            <a:r>
              <a:rPr b="0" lang="en-US" sz="7200" spc="-1" strike="noStrike">
                <a:solidFill>
                  <a:srgbClr val="ffffff"/>
                </a:solidFill>
                <a:latin typeface="Haettenschweiler"/>
              </a:rPr>
              <a:t>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236040" y="10508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2d050"/>
                </a:solidFill>
                <a:latin typeface="Haettenschweiler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4159080" y="28526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Haettenschweiler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3303360" y="47070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c600"/>
                </a:solidFill>
                <a:latin typeface="Haettenschweiler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4693680" y="1465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企业简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547960" y="3279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4693680" y="508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c600"/>
                </a:solidFill>
                <a:latin typeface="微软雅黑"/>
                <a:ea typeface="微软雅黑"/>
              </a:rPr>
              <a:t>销售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406760" y="1908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5261400" y="37227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4407840" y="55926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c600"/>
                </a:solidFill>
                <a:latin typeface="Arial"/>
                <a:ea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234360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梯形 6"/>
          <p:cNvSpPr/>
          <p:nvPr/>
        </p:nvSpPr>
        <p:spPr>
          <a:xfrm flipV="1" rot="5400000">
            <a:off x="4524840" y="2918880"/>
            <a:ext cx="4248360" cy="2183040"/>
          </a:xfrm>
          <a:custGeom>
            <a:avLst/>
            <a:gdLst/>
            <a:ahLst/>
            <a:rect l="l" t="t" r="r" b="b"/>
            <a:pathLst>
              <a:path w="4248150" h="2182812">
                <a:moveTo>
                  <a:pt x="0" y="2182812"/>
                </a:moveTo>
                <a:lnTo>
                  <a:pt x="983728" y="0"/>
                </a:lnTo>
                <a:lnTo>
                  <a:pt x="3264422" y="0"/>
                </a:lnTo>
                <a:lnTo>
                  <a:pt x="4248150" y="2182812"/>
                </a:lnTo>
                <a:lnTo>
                  <a:pt x="0" y="21828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梯形 5"/>
          <p:cNvSpPr/>
          <p:nvPr/>
        </p:nvSpPr>
        <p:spPr>
          <a:xfrm rot="5400000">
            <a:off x="1583280" y="2486520"/>
            <a:ext cx="4248360" cy="2160720"/>
          </a:xfrm>
          <a:custGeom>
            <a:avLst/>
            <a:gdLst/>
            <a:ahLst/>
            <a:rect l="l" t="t" r="r" b="b"/>
            <a:pathLst>
              <a:path w="4248150" h="2160587">
                <a:moveTo>
                  <a:pt x="0" y="2160587"/>
                </a:moveTo>
                <a:lnTo>
                  <a:pt x="724877" y="0"/>
                </a:lnTo>
                <a:lnTo>
                  <a:pt x="3523273" y="0"/>
                </a:lnTo>
                <a:lnTo>
                  <a:pt x="42481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梯形 3"/>
          <p:cNvSpPr/>
          <p:nvPr/>
        </p:nvSpPr>
        <p:spPr>
          <a:xfrm rot="5400000">
            <a:off x="1258560" y="2852640"/>
            <a:ext cx="4465440" cy="2160720"/>
          </a:xfrm>
          <a:custGeom>
            <a:avLst/>
            <a:gdLst/>
            <a:ahLst/>
            <a:rect l="l" t="t" r="r" b="b"/>
            <a:pathLst>
              <a:path w="4465637" h="2160587">
                <a:moveTo>
                  <a:pt x="0" y="2160587"/>
                </a:moveTo>
                <a:lnTo>
                  <a:pt x="782024" y="0"/>
                </a:lnTo>
                <a:lnTo>
                  <a:pt x="3683613" y="0"/>
                </a:lnTo>
                <a:lnTo>
                  <a:pt x="4465637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梯形 4"/>
          <p:cNvSpPr/>
          <p:nvPr/>
        </p:nvSpPr>
        <p:spPr>
          <a:xfrm rot="16200000">
            <a:off x="4212360" y="220428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072240" y="252252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97024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2846880" y="38894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579960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梯形 3"/>
          <p:cNvSpPr/>
          <p:nvPr/>
        </p:nvSpPr>
        <p:spPr>
          <a:xfrm flipV="1" rot="5400000">
            <a:off x="3996360" y="2030040"/>
            <a:ext cx="4248360" cy="3960720"/>
          </a:xfrm>
          <a:custGeom>
            <a:avLst/>
            <a:gdLst/>
            <a:ahLst/>
            <a:rect l="l" t="t" r="r" b="b"/>
            <a:pathLst>
              <a:path w="4248150" h="3960813">
                <a:moveTo>
                  <a:pt x="0" y="3960813"/>
                </a:moveTo>
                <a:lnTo>
                  <a:pt x="1571255" y="0"/>
                </a:lnTo>
                <a:lnTo>
                  <a:pt x="2676895" y="0"/>
                </a:lnTo>
                <a:lnTo>
                  <a:pt x="4248150" y="3960813"/>
                </a:lnTo>
                <a:lnTo>
                  <a:pt x="0" y="39608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梯形 4"/>
          <p:cNvSpPr/>
          <p:nvPr/>
        </p:nvSpPr>
        <p:spPr>
          <a:xfrm rot="16200000">
            <a:off x="4572720" y="2204280"/>
            <a:ext cx="4464000" cy="216072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33060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15924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梯形 7"/>
          <p:cNvSpPr/>
          <p:nvPr/>
        </p:nvSpPr>
        <p:spPr>
          <a:xfrm rot="16200000">
            <a:off x="2316960" y="273924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076280" y="24224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3904200" y="36846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梯形 10"/>
          <p:cNvSpPr/>
          <p:nvPr/>
        </p:nvSpPr>
        <p:spPr>
          <a:xfrm rot="5400000">
            <a:off x="143640" y="2456640"/>
            <a:ext cx="4248000" cy="2160720"/>
          </a:xfrm>
          <a:custGeom>
            <a:avLst/>
            <a:gdLst/>
            <a:ahLst/>
            <a:rect l="l" t="t" r="r" b="b"/>
            <a:pathLst>
              <a:path w="4248150" h="2160588">
                <a:moveTo>
                  <a:pt x="0" y="2160588"/>
                </a:moveTo>
                <a:lnTo>
                  <a:pt x="724877" y="0"/>
                </a:lnTo>
                <a:lnTo>
                  <a:pt x="3523273" y="0"/>
                </a:lnTo>
                <a:lnTo>
                  <a:pt x="42481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梯形 11"/>
          <p:cNvSpPr/>
          <p:nvPr/>
        </p:nvSpPr>
        <p:spPr>
          <a:xfrm rot="5400000">
            <a:off x="-180720" y="2823480"/>
            <a:ext cx="4464360" cy="216036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782025" y="0"/>
                </a:lnTo>
                <a:lnTo>
                  <a:pt x="3682025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1631520" y="2492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1406880" y="38592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梯形 3"/>
          <p:cNvSpPr/>
          <p:nvPr/>
        </p:nvSpPr>
        <p:spPr>
          <a:xfrm flipV="1" rot="5400000">
            <a:off x="4923720" y="2800080"/>
            <a:ext cx="3917880" cy="2462040"/>
          </a:xfrm>
          <a:custGeom>
            <a:avLst/>
            <a:gdLst/>
            <a:ahLst/>
            <a:rect l="l" t="t" r="r" b="b"/>
            <a:pathLst>
              <a:path w="3917950" h="2462213">
                <a:moveTo>
                  <a:pt x="0" y="2462213"/>
                </a:moveTo>
                <a:lnTo>
                  <a:pt x="398952" y="0"/>
                </a:lnTo>
                <a:lnTo>
                  <a:pt x="3518998" y="0"/>
                </a:lnTo>
                <a:lnTo>
                  <a:pt x="3917950" y="2462213"/>
                </a:lnTo>
                <a:lnTo>
                  <a:pt x="0" y="24622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梯形 4"/>
          <p:cNvSpPr/>
          <p:nvPr/>
        </p:nvSpPr>
        <p:spPr>
          <a:xfrm rot="16200000">
            <a:off x="5352120" y="2307240"/>
            <a:ext cx="4465440" cy="2327400"/>
          </a:xfrm>
          <a:custGeom>
            <a:avLst/>
            <a:gdLst/>
            <a:ahLst/>
            <a:rect l="l" t="t" r="r" b="b"/>
            <a:pathLst>
              <a:path w="4465638" h="2327275">
                <a:moveTo>
                  <a:pt x="0" y="2327275"/>
                </a:moveTo>
                <a:lnTo>
                  <a:pt x="450770" y="0"/>
                </a:lnTo>
                <a:lnTo>
                  <a:pt x="4014868" y="0"/>
                </a:lnTo>
                <a:lnTo>
                  <a:pt x="4465638" y="2327275"/>
                </a:lnTo>
                <a:lnTo>
                  <a:pt x="0" y="23272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7194240" y="20750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659640" y="3335400"/>
            <a:ext cx="1938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梯形 7"/>
          <p:cNvSpPr/>
          <p:nvPr/>
        </p:nvSpPr>
        <p:spPr>
          <a:xfrm rot="16200000">
            <a:off x="2699640" y="2925000"/>
            <a:ext cx="4464000" cy="216072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590683" y="0"/>
                </a:lnTo>
                <a:lnTo>
                  <a:pt x="3873367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458960" y="26082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287600" y="387036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表 14" descr=""/>
          <p:cNvPicPr/>
          <p:nvPr/>
        </p:nvPicPr>
        <p:blipFill>
          <a:blip r:embed="rId1"/>
          <a:stretch/>
        </p:blipFill>
        <p:spPr>
          <a:xfrm>
            <a:off x="284040" y="2577960"/>
            <a:ext cx="3089520" cy="2459160"/>
          </a:xfrm>
          <a:prstGeom prst="rect">
            <a:avLst/>
          </a:prstGeom>
          <a:ln w="0">
            <a:noFill/>
          </a:ln>
        </p:spPr>
      </p:pic>
      <p:sp>
        <p:nvSpPr>
          <p:cNvPr id="88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"/>
          <p:cNvPicPr/>
          <p:nvPr/>
        </p:nvPicPr>
        <p:blipFill>
          <a:blip r:embed="rId1"/>
          <a:stretch/>
        </p:blipFill>
        <p:spPr>
          <a:xfrm>
            <a:off x="3176640" y="1627200"/>
            <a:ext cx="2071800" cy="7918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" descr=""/>
          <p:cNvPicPr/>
          <p:nvPr/>
        </p:nvPicPr>
        <p:blipFill>
          <a:blip r:embed="rId2"/>
          <a:stretch/>
        </p:blipFill>
        <p:spPr>
          <a:xfrm>
            <a:off x="463680" y="1663560"/>
            <a:ext cx="2346120" cy="7613640"/>
          </a:xfrm>
          <a:prstGeom prst="rect">
            <a:avLst/>
          </a:prstGeom>
          <a:ln w="0">
            <a:noFill/>
          </a:ln>
        </p:spPr>
      </p:pic>
      <p:sp>
        <p:nvSpPr>
          <p:cNvPr id="91" name="梯形 9"/>
          <p:cNvSpPr/>
          <p:nvPr/>
        </p:nvSpPr>
        <p:spPr>
          <a:xfrm flipV="1" rot="5400000">
            <a:off x="4983840" y="3128040"/>
            <a:ext cx="4248000" cy="2182680"/>
          </a:xfrm>
          <a:custGeom>
            <a:avLst/>
            <a:gdLst/>
            <a:ahLst/>
            <a:rect l="l" t="t" r="r" b="b"/>
            <a:pathLst>
              <a:path w="4248150" h="2182813">
                <a:moveTo>
                  <a:pt x="0" y="2182813"/>
                </a:moveTo>
                <a:lnTo>
                  <a:pt x="716945" y="0"/>
                </a:lnTo>
                <a:lnTo>
                  <a:pt x="3531205" y="0"/>
                </a:lnTo>
                <a:lnTo>
                  <a:pt x="4248150" y="2182813"/>
                </a:lnTo>
                <a:lnTo>
                  <a:pt x="0" y="21828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梯形 10"/>
          <p:cNvSpPr/>
          <p:nvPr/>
        </p:nvSpPr>
        <p:spPr>
          <a:xfrm rot="16200000">
            <a:off x="4539240" y="2599560"/>
            <a:ext cx="4464000" cy="216036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609739" y="0"/>
                </a:lnTo>
                <a:lnTo>
                  <a:pt x="3854311" y="0"/>
                </a:lnTo>
                <a:lnTo>
                  <a:pt x="44640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6298920" y="228456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127560" y="35449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梯形 7"/>
          <p:cNvSpPr/>
          <p:nvPr/>
        </p:nvSpPr>
        <p:spPr>
          <a:xfrm rot="5400000">
            <a:off x="1434240" y="1632600"/>
            <a:ext cx="4249800" cy="3743280"/>
          </a:xfrm>
          <a:custGeom>
            <a:avLst/>
            <a:gdLst/>
            <a:ahLst/>
            <a:rect l="l" t="t" r="r" b="b"/>
            <a:pathLst>
              <a:path w="4249737" h="3743325">
                <a:moveTo>
                  <a:pt x="0" y="3743325"/>
                </a:moveTo>
                <a:lnTo>
                  <a:pt x="1255886" y="0"/>
                </a:lnTo>
                <a:lnTo>
                  <a:pt x="2993851" y="0"/>
                </a:lnTo>
                <a:lnTo>
                  <a:pt x="4249737" y="3743325"/>
                </a:lnTo>
                <a:lnTo>
                  <a:pt x="0" y="3743325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梯形 8"/>
          <p:cNvSpPr/>
          <p:nvPr/>
        </p:nvSpPr>
        <p:spPr>
          <a:xfrm rot="5400000">
            <a:off x="4086720" y="2656440"/>
            <a:ext cx="4464360" cy="216072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782025" y="0"/>
                </a:lnTo>
                <a:lnTo>
                  <a:pt x="3682025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900400" y="23256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5674320" y="36925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梯形 11"/>
          <p:cNvSpPr/>
          <p:nvPr/>
        </p:nvSpPr>
        <p:spPr>
          <a:xfrm rot="5400000">
            <a:off x="786960" y="1919160"/>
            <a:ext cx="4464000" cy="3816360"/>
          </a:xfrm>
          <a:custGeom>
            <a:avLst/>
            <a:gdLst/>
            <a:ahLst/>
            <a:rect l="l" t="t" r="r" b="b"/>
            <a:pathLst>
              <a:path w="4464050" h="3816350">
                <a:moveTo>
                  <a:pt x="0" y="3816350"/>
                </a:moveTo>
                <a:lnTo>
                  <a:pt x="1076516" y="0"/>
                </a:lnTo>
                <a:lnTo>
                  <a:pt x="3387534" y="0"/>
                </a:lnTo>
                <a:lnTo>
                  <a:pt x="4464050" y="3816350"/>
                </a:lnTo>
                <a:lnTo>
                  <a:pt x="0" y="381635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438200" y="2481120"/>
            <a:ext cx="2809800" cy="36385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4"/>
          <p:cNvSpPr/>
          <p:nvPr/>
        </p:nvSpPr>
        <p:spPr>
          <a:xfrm>
            <a:off x="2009880" y="2544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数据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梯形 9"/>
          <p:cNvSpPr/>
          <p:nvPr/>
        </p:nvSpPr>
        <p:spPr>
          <a:xfrm flipV="1" rot="5400000">
            <a:off x="2795760" y="1662480"/>
            <a:ext cx="3678120" cy="3475080"/>
          </a:xfrm>
          <a:custGeom>
            <a:avLst/>
            <a:gdLst/>
            <a:ahLst/>
            <a:rect l="l" t="t" r="r" b="b"/>
            <a:pathLst>
              <a:path w="3678238" h="3475037">
                <a:moveTo>
                  <a:pt x="0" y="3475037"/>
                </a:moveTo>
                <a:lnTo>
                  <a:pt x="978953" y="0"/>
                </a:lnTo>
                <a:lnTo>
                  <a:pt x="2699285" y="0"/>
                </a:lnTo>
                <a:lnTo>
                  <a:pt x="3678238" y="3475037"/>
                </a:lnTo>
                <a:lnTo>
                  <a:pt x="0" y="347503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梯形 3"/>
          <p:cNvSpPr/>
          <p:nvPr/>
        </p:nvSpPr>
        <p:spPr>
          <a:xfrm flipV="1" rot="5400000">
            <a:off x="2746080" y="1412640"/>
            <a:ext cx="3291120" cy="3529080"/>
          </a:xfrm>
          <a:custGeom>
            <a:avLst/>
            <a:gdLst/>
            <a:ahLst/>
            <a:rect l="l" t="t" r="r" b="b"/>
            <a:pathLst>
              <a:path w="3290887" h="3529012">
                <a:moveTo>
                  <a:pt x="0" y="3529012"/>
                </a:moveTo>
                <a:lnTo>
                  <a:pt x="906870" y="0"/>
                </a:lnTo>
                <a:lnTo>
                  <a:pt x="2384017" y="0"/>
                </a:lnTo>
                <a:lnTo>
                  <a:pt x="3290887" y="3529012"/>
                </a:lnTo>
                <a:lnTo>
                  <a:pt x="0" y="3529012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712240" y="275436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e883"/>
                </a:solidFill>
                <a:latin typeface="Haettenschweiler"/>
              </a:rPr>
              <a:t>ONE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同侧圆角矩形 10"/>
          <p:cNvSpPr/>
          <p:nvPr/>
        </p:nvSpPr>
        <p:spPr>
          <a:xfrm>
            <a:off x="4861080" y="2906640"/>
            <a:ext cx="811080" cy="406440"/>
          </a:xfrm>
          <a:custGeom>
            <a:avLst/>
            <a:gdLst/>
            <a:ahLst/>
            <a:rect l="l" t="t" r="r" b="b"/>
            <a:pathLst>
              <a:path w="1008112" h="504056">
                <a:moveTo>
                  <a:pt x="297916" y="0"/>
                </a:moveTo>
                <a:lnTo>
                  <a:pt x="413473" y="0"/>
                </a:lnTo>
                <a:cubicBezTo>
                  <a:pt x="395124" y="19992"/>
                  <a:pt x="380823" y="47352"/>
                  <a:pt x="371503" y="78619"/>
                </a:cubicBezTo>
                <a:cubicBezTo>
                  <a:pt x="346705" y="161807"/>
                  <a:pt x="366554" y="241155"/>
                  <a:pt x="415835" y="255845"/>
                </a:cubicBezTo>
                <a:cubicBezTo>
                  <a:pt x="398348" y="211914"/>
                  <a:pt x="398453" y="151182"/>
                  <a:pt x="416119" y="91918"/>
                </a:cubicBezTo>
                <a:cubicBezTo>
                  <a:pt x="426458" y="57231"/>
                  <a:pt x="442107" y="25417"/>
                  <a:pt x="461688" y="0"/>
                </a:cubicBezTo>
                <a:lnTo>
                  <a:pt x="551488" y="0"/>
                </a:lnTo>
                <a:cubicBezTo>
                  <a:pt x="533139" y="19992"/>
                  <a:pt x="518838" y="47352"/>
                  <a:pt x="509518" y="78619"/>
                </a:cubicBezTo>
                <a:cubicBezTo>
                  <a:pt x="484720" y="161807"/>
                  <a:pt x="504569" y="241155"/>
                  <a:pt x="553850" y="255845"/>
                </a:cubicBezTo>
                <a:cubicBezTo>
                  <a:pt x="536363" y="211914"/>
                  <a:pt x="536468" y="151182"/>
                  <a:pt x="554134" y="91918"/>
                </a:cubicBezTo>
                <a:cubicBezTo>
                  <a:pt x="564473" y="57231"/>
                  <a:pt x="580122" y="25417"/>
                  <a:pt x="599703" y="0"/>
                </a:cubicBezTo>
                <a:lnTo>
                  <a:pt x="671045" y="0"/>
                </a:lnTo>
                <a:cubicBezTo>
                  <a:pt x="656870" y="18370"/>
                  <a:pt x="645856" y="41413"/>
                  <a:pt x="638202" y="67092"/>
                </a:cubicBezTo>
                <a:cubicBezTo>
                  <a:pt x="613404" y="150280"/>
                  <a:pt x="633253" y="229628"/>
                  <a:pt x="682534" y="244318"/>
                </a:cubicBezTo>
                <a:cubicBezTo>
                  <a:pt x="665047" y="200387"/>
                  <a:pt x="665152" y="139655"/>
                  <a:pt x="682818" y="80391"/>
                </a:cubicBezTo>
                <a:cubicBezTo>
                  <a:pt x="691616" y="50875"/>
                  <a:pt x="704259" y="23438"/>
                  <a:pt x="719555" y="0"/>
                </a:cubicBezTo>
                <a:lnTo>
                  <a:pt x="756084" y="0"/>
                </a:lnTo>
                <a:cubicBezTo>
                  <a:pt x="780542" y="0"/>
                  <a:pt x="804185" y="3484"/>
                  <a:pt x="826214" y="11123"/>
                </a:cubicBezTo>
                <a:lnTo>
                  <a:pt x="801973" y="67092"/>
                </a:lnTo>
                <a:cubicBezTo>
                  <a:pt x="777175" y="150280"/>
                  <a:pt x="797024" y="229628"/>
                  <a:pt x="846305" y="244318"/>
                </a:cubicBezTo>
                <a:cubicBezTo>
                  <a:pt x="828818" y="200387"/>
                  <a:pt x="828923" y="139655"/>
                  <a:pt x="846589" y="80391"/>
                </a:cubicBezTo>
                <a:cubicBezTo>
                  <a:pt x="852169" y="61669"/>
                  <a:pt x="859297" y="43784"/>
                  <a:pt x="870282" y="28543"/>
                </a:cubicBezTo>
                <a:cubicBezTo>
                  <a:pt x="952313" y="69297"/>
                  <a:pt x="1008112" y="154146"/>
                  <a:pt x="1008112" y="252028"/>
                </a:cubicBezTo>
                <a:lnTo>
                  <a:pt x="1008112" y="504056"/>
                </a:lnTo>
                <a:lnTo>
                  <a:pt x="0" y="504056"/>
                </a:lnTo>
                <a:lnTo>
                  <a:pt x="0" y="252028"/>
                </a:lnTo>
                <a:cubicBezTo>
                  <a:pt x="0" y="113682"/>
                  <a:pt x="111472" y="1371"/>
                  <a:pt x="249499" y="255"/>
                </a:cubicBezTo>
                <a:cubicBezTo>
                  <a:pt x="231237" y="20213"/>
                  <a:pt x="217014" y="47478"/>
                  <a:pt x="207731" y="78619"/>
                </a:cubicBezTo>
                <a:cubicBezTo>
                  <a:pt x="182934" y="161807"/>
                  <a:pt x="202782" y="241155"/>
                  <a:pt x="252063" y="255845"/>
                </a:cubicBezTo>
                <a:cubicBezTo>
                  <a:pt x="234576" y="211914"/>
                  <a:pt x="234681" y="151182"/>
                  <a:pt x="252347" y="91918"/>
                </a:cubicBezTo>
                <a:cubicBezTo>
                  <a:pt x="262687" y="57231"/>
                  <a:pt x="278336" y="25417"/>
                  <a:pt x="2979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602680" y="27766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1:18:2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6:22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