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A477-1080-4BC2-87F8-79B28B65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D6C0-7B52-43AE-9A23-CA55C789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C8EC-A1C4-48DD-9FC9-F0BEE292B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B8C3-402C-4F26-A1E2-5B8D5FBA7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C217-F66A-48A0-A23E-883192B6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EF01-4A3A-48E7-BEED-B707350B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B208-10AC-4BCD-8133-EE5FC5732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806F-A69A-40EA-83EB-B63F1514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3F80-263C-459F-B04B-43FB7372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BA94-784D-41B8-9551-9CFD6CAA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C391-4093-4E35-B373-B2FEAA2C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6ECE-18A6-4E40-A709-07650488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5690-6653-4E3E-A6F9-77F52F2A39D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11" descr=""/>
          <p:cNvPicPr/>
          <p:nvPr/>
        </p:nvPicPr>
        <p:blipFill>
          <a:blip r:embed="rId2"/>
          <a:stretch/>
        </p:blipFill>
        <p:spPr>
          <a:xfrm>
            <a:off x="1322280" y="2908440"/>
            <a:ext cx="7724880" cy="15843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8710560" y="646128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3"/>
          <p:cNvSpPr/>
          <p:nvPr/>
        </p:nvSpPr>
        <p:spPr>
          <a:xfrm>
            <a:off x="611280" y="4724280"/>
            <a:ext cx="90723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       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世纪，</a:t>
            </a:r>
            <a:r>
              <a:rPr b="1" lang="zh-CN" sz="3600" spc="-1" strike="noStrike" u="sng">
                <a:solidFill>
                  <a:srgbClr val="cc0000"/>
                </a:solidFill>
                <a:uFillTx/>
                <a:latin typeface="Arial"/>
                <a:ea typeface="楷体_GB2312"/>
              </a:rPr>
              <a:t>                              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，  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世纪</a:t>
            </a:r>
            <a:r>
              <a:rPr b="1" lang="zh-CN" sz="3600" spc="-1" strike="noStrike" u="sng">
                <a:solidFill>
                  <a:srgbClr val="cc0000"/>
                </a:solidFill>
                <a:uFillTx/>
                <a:latin typeface="Arial"/>
                <a:ea typeface="楷体_GB2312"/>
              </a:rPr>
              <a:t>                    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, 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Arial"/>
                <a:ea typeface="楷体_GB2312"/>
              </a:rPr>
              <a:t>               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。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755640" y="404640"/>
            <a:ext cx="784872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世纪，人类登上月球，潜入深海，洞察百亿光年外的天体，探索原子核世界的奥秘；</a:t>
            </a:r>
            <a:r>
              <a:rPr b="1" lang="en-US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世纪，电视、程控电话、因特网以及民航飞机、高速火车、远洋船舶等，日益把人类居住的星球变成联系紧密的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地球村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。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0" descr="图片1"/>
          <p:cNvPicPr/>
          <p:nvPr/>
        </p:nvPicPr>
        <p:blipFill>
          <a:blip r:embed="rId2"/>
          <a:stretch/>
        </p:blipFill>
        <p:spPr>
          <a:xfrm>
            <a:off x="2987640" y="836640"/>
            <a:ext cx="5688000" cy="55450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1"/>
          <p:cNvSpPr/>
          <p:nvPr/>
        </p:nvSpPr>
        <p:spPr>
          <a:xfrm>
            <a:off x="380160" y="1125360"/>
            <a:ext cx="225504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33"/>
                </a:solidFill>
                <a:latin typeface="Arial"/>
                <a:ea typeface="楷体_GB2312"/>
              </a:rPr>
              <a:t>忽如一夜春风来，</a:t>
            </a:r>
            <a:endParaRPr b="1" lang="en-US" sz="5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33"/>
                </a:solidFill>
                <a:latin typeface="Arial"/>
                <a:ea typeface="楷体_GB2312"/>
              </a:rPr>
              <a:t>千树万树梨花开。</a:t>
            </a:r>
            <a:endParaRPr b="1" lang="en-US" sz="5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0" y="1557360"/>
            <a:ext cx="10260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</a:t>
            </a:r>
            <a:r>
              <a:rPr b="1" lang="zh-CN" sz="5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世纪是一个呼风唤雨的世纪。</a:t>
            </a:r>
            <a:endParaRPr b="1" lang="en-US" sz="5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0" y="1557360"/>
            <a:ext cx="10260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20</a:t>
            </a:r>
            <a:r>
              <a:rPr b="1" lang="zh-CN" sz="5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世纪是一个呼风唤雨的世纪。</a:t>
            </a:r>
            <a:endParaRPr b="1" lang="en-US" sz="5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0" y="3429000"/>
            <a:ext cx="10260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20</a:t>
            </a:r>
            <a:r>
              <a:rPr b="1" lang="zh-CN" sz="5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世纪是一个</a:t>
            </a:r>
            <a:r>
              <a:rPr b="1" lang="zh-CN" sz="5200" spc="-1" strike="noStrike" u="sng">
                <a:solidFill>
                  <a:srgbClr val="000099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5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的世纪。</a:t>
            </a:r>
            <a:endParaRPr b="1" lang="en-US" sz="5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0" name="colorofwind.mp3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270208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huabianxiangkuang2_249"/>
          <p:cNvPicPr/>
          <p:nvPr/>
        </p:nvPicPr>
        <p:blipFill>
          <a:blip r:embed="rId1"/>
          <a:stretch/>
        </p:blipFill>
        <p:spPr>
          <a:xfrm>
            <a:off x="0" y="0"/>
            <a:ext cx="9144000" cy="70405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611280" y="1628640"/>
            <a:ext cx="835344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抄写课后第三题的句子。     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把你想象中的未来生活写下来，题目自拟。感兴趣的同学可以给你的文章配一幅画。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围绕科技发展做一份剪贴报或手抄报，全班展评。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WordArt 8"/>
          <p:cNvSpPr txBox="1"/>
          <p:nvPr/>
        </p:nvSpPr>
        <p:spPr>
          <a:xfrm>
            <a:off x="4140360" y="0"/>
            <a:ext cx="3744720" cy="15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66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808080">
                      <a:alpha val="78000"/>
                    </a:srgbClr>
                  </a:outerShdw>
                </a:effectLst>
                <a:latin typeface="楷体_GB2312"/>
              </a:rPr>
              <a:t>作业超市</a:t>
            </a:r>
            <a:endParaRPr b="1" lang="en-US" sz="2400" spc="1" strike="noStrike">
              <a:ln w="12600">
                <a:solidFill>
                  <a:srgbClr val="000066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808080">
                    <a:alpha val="78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85" name="colorofwind.mp3" descr=""/>
          <p:cNvPicPr/>
          <p:nvPr/>
        </p:nvPicPr>
        <p:blipFill>
          <a:blip r:embed="rId2"/>
          <a:stretch/>
        </p:blipFill>
        <p:spPr>
          <a:xfrm>
            <a:off x="838836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270208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6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2050920" y="5445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0" y="476280"/>
            <a:ext cx="9144000" cy="57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幻 想    联 系   依 赖</a:t>
            </a:r>
            <a:endParaRPr b="1" lang="en-US" sz="5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程 度    改 观   寄 托 </a:t>
            </a:r>
            <a:endParaRPr b="1" lang="en-US" sz="5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原子核    哲学家   因特网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呼风唤雨      腾云驾雾</a:t>
            </a:r>
            <a:endParaRPr b="1" lang="en-US" sz="5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农耕社会      归根到底</a:t>
            </a:r>
            <a:endParaRPr b="1" lang="en-US" sz="5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程控电话      出乎意料</a:t>
            </a:r>
            <a:endParaRPr b="1" lang="en-US" sz="5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AutoShape 12">
            <a:hlinkClick r:id="" action="ppaction://hlinkshowjump?jump=firstslide"/>
          </p:cNvPr>
          <p:cNvSpPr/>
          <p:nvPr/>
        </p:nvSpPr>
        <p:spPr>
          <a:xfrm rot="16200000">
            <a:off x="8568360" y="6201360"/>
            <a:ext cx="432000" cy="360360"/>
          </a:xfrm>
          <a:custGeom>
            <a:avLst/>
            <a:gdLst>
              <a:gd name="textAreaLeft" fmla="*/ 22320 w 432000"/>
              <a:gd name="textAreaRight" fmla="*/ 409680 w 43200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540" y="1350"/>
                </a:lnTo>
                <a:lnTo>
                  <a:pt x="1350" y="135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540" y="20250"/>
                </a:lnTo>
                <a:lnTo>
                  <a:pt x="24540" y="135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540" y="2025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890" h="21600">
                <a:moveTo>
                  <a:pt x="16462" y="10800"/>
                </a:moveTo>
                <a:lnTo>
                  <a:pt x="5901" y="17844"/>
                </a:lnTo>
                <a:lnTo>
                  <a:pt x="5901" y="3756"/>
                </a:lnTo>
                <a:close/>
              </a:path>
              <a:path fill="darken" w="25890" h="21600">
                <a:moveTo>
                  <a:pt x="18317" y="3756"/>
                </a:moveTo>
                <a:lnTo>
                  <a:pt x="18317" y="17844"/>
                </a:lnTo>
                <a:lnTo>
                  <a:pt x="19989" y="17844"/>
                </a:lnTo>
                <a:lnTo>
                  <a:pt x="19989" y="37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8"/>
          <p:cNvSpPr/>
          <p:nvPr/>
        </p:nvSpPr>
        <p:spPr>
          <a:xfrm>
            <a:off x="0" y="2708280"/>
            <a:ext cx="101170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20</a:t>
            </a:r>
            <a:r>
              <a:rPr b="1" lang="zh-CN" sz="53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世纪是一个呼风唤雨的世纪。</a:t>
            </a:r>
            <a:endParaRPr b="1" lang="en-US" sz="5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250920" y="2708280"/>
            <a:ext cx="979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0</a:t>
            </a:r>
            <a:r>
              <a:rPr b="1" lang="zh-CN" sz="5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世纪是一个呼风唤雨的世纪。</a:t>
            </a:r>
            <a:endParaRPr b="1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AutoShape 7">
            <a:hlinkClick r:id="" action="ppaction://hlinkshowjump?jump=firstslide"/>
          </p:cNvPr>
          <p:cNvSpPr/>
          <p:nvPr/>
        </p:nvSpPr>
        <p:spPr>
          <a:xfrm rot="16200000">
            <a:off x="8568360" y="5841000"/>
            <a:ext cx="432000" cy="360360"/>
          </a:xfrm>
          <a:custGeom>
            <a:avLst/>
            <a:gdLst>
              <a:gd name="textAreaLeft" fmla="*/ 22320 w 432000"/>
              <a:gd name="textAreaRight" fmla="*/ 409680 w 43200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540" y="1350"/>
                </a:lnTo>
                <a:lnTo>
                  <a:pt x="1350" y="135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540" y="20250"/>
                </a:lnTo>
                <a:lnTo>
                  <a:pt x="24540" y="135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540" y="2025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890" h="21600">
                <a:moveTo>
                  <a:pt x="16462" y="10800"/>
                </a:moveTo>
                <a:lnTo>
                  <a:pt x="5901" y="17844"/>
                </a:lnTo>
                <a:lnTo>
                  <a:pt x="5901" y="3756"/>
                </a:lnTo>
                <a:close/>
              </a:path>
              <a:path fill="darken" w="25890" h="21600">
                <a:moveTo>
                  <a:pt x="18317" y="3756"/>
                </a:moveTo>
                <a:lnTo>
                  <a:pt x="18317" y="17844"/>
                </a:lnTo>
                <a:lnTo>
                  <a:pt x="19989" y="17844"/>
                </a:lnTo>
                <a:lnTo>
                  <a:pt x="19989" y="375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1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144360" y="549360"/>
            <a:ext cx="89996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是谁来呼风唤雨呢？当然是人类；靠什么呼风唤雨呢？靠的是现代科学技术。在</a:t>
            </a:r>
            <a:r>
              <a:rPr b="1" lang="en-US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20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世纪一百年的时间里，人类利用现代科学技术获得那么多奇迹般的、出乎意料的发现和发明。正是这些发现和发明，使人类的生活大大改观，其改变的程度超过了人类历史上百万年的总和。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116000" y="476280"/>
            <a:ext cx="7129440" cy="14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r>
              <a:rPr b="1" lang="zh-CN" sz="37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在</a:t>
            </a:r>
            <a:r>
              <a:rPr b="1" lang="en-US" sz="37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20</a:t>
            </a:r>
            <a:r>
              <a:rPr b="1" lang="zh-CN" sz="37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世纪       的时间里，人类利用现代科学技术获得那么多奇迹般的、出乎意料的发现和发明。正是这些发现和发明，使人类的生活大大改观，其改变的程度超过了人类历史        的总和。</a:t>
            </a:r>
            <a:endParaRPr b="1" lang="en-US" sz="3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708360" y="4797360"/>
            <a:ext cx="5111640" cy="1368360"/>
          </a:xfrm>
          <a:prstGeom prst="cloudCallout">
            <a:avLst>
              <a:gd name="adj1" fmla="val -35157"/>
              <a:gd name="adj2" fmla="val -629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   “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楷体_GB2312"/>
              </a:rPr>
              <a:t>发现”与“发明”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  <a:ea typeface="楷体_GB2312"/>
              </a:rPr>
              <a:t>有什么区别呢？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4140360" y="620640"/>
            <a:ext cx="208728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Arial"/>
                <a:ea typeface="楷体_GB2312"/>
              </a:rPr>
              <a:t>一百年 </a:t>
            </a:r>
            <a:endParaRPr b="1" lang="en-US" sz="3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995640" y="54936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一百年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5364000" y="4005360"/>
            <a:ext cx="207036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Arial"/>
                <a:ea typeface="楷体_GB2312"/>
              </a:rPr>
              <a:t>上百万年</a:t>
            </a:r>
            <a:endParaRPr b="1" lang="en-US" sz="3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5703840" y="39337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上百万年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3">
            <a:hlinkClick r:id="" action="ppaction://hlinkshowjump?jump=firstslide"/>
          </p:cNvPr>
          <p:cNvSpPr/>
          <p:nvPr/>
        </p:nvSpPr>
        <p:spPr>
          <a:xfrm>
            <a:off x="8820000" y="6597720"/>
            <a:ext cx="324000" cy="260280"/>
          </a:xfrm>
          <a:custGeom>
            <a:avLst/>
            <a:gdLst>
              <a:gd name="textAreaLeft" fmla="*/ 16200 w 324000"/>
              <a:gd name="textAreaRight" fmla="*/ 307800 w 324000"/>
              <a:gd name="textAreaTop" fmla="*/ 16200 h 260280"/>
              <a:gd name="textAreaBottom" fmla="*/ 244080 h 260280"/>
            </a:gdLst>
            <a:ahLst/>
            <a:rect l="textAreaLeft" t="textAreaTop" r="textAreaRight" b="textAreaBottom"/>
            <a:pathLst>
              <a:path w="26881" h="21600">
                <a:moveTo>
                  <a:pt x="0" y="0"/>
                </a:moveTo>
                <a:lnTo>
                  <a:pt x="26881" y="0"/>
                </a:lnTo>
                <a:lnTo>
                  <a:pt x="26881" y="21600"/>
                </a:lnTo>
                <a:lnTo>
                  <a:pt x="0" y="21600"/>
                </a:lnTo>
                <a:close/>
              </a:path>
              <a:path fill="lightenLess" w="26881" h="21600">
                <a:moveTo>
                  <a:pt x="0" y="0"/>
                </a:moveTo>
                <a:lnTo>
                  <a:pt x="26881" y="0"/>
                </a:lnTo>
                <a:lnTo>
                  <a:pt x="25531" y="1350"/>
                </a:lnTo>
                <a:lnTo>
                  <a:pt x="1350" y="1350"/>
                </a:lnTo>
                <a:close/>
              </a:path>
              <a:path fill="darken" w="26881" h="21600">
                <a:moveTo>
                  <a:pt x="26881" y="0"/>
                </a:moveTo>
                <a:lnTo>
                  <a:pt x="26881" y="21600"/>
                </a:lnTo>
                <a:lnTo>
                  <a:pt x="25531" y="20250"/>
                </a:lnTo>
                <a:lnTo>
                  <a:pt x="25531" y="1350"/>
                </a:lnTo>
                <a:close/>
              </a:path>
              <a:path fill="darkenLess" w="26881" h="21600">
                <a:moveTo>
                  <a:pt x="2688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531" y="20250"/>
                </a:lnTo>
                <a:close/>
              </a:path>
              <a:path fill="lighten" w="2688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6881" h="21600">
                <a:moveTo>
                  <a:pt x="9923" y="10800"/>
                </a:moveTo>
                <a:lnTo>
                  <a:pt x="20484" y="3756"/>
                </a:lnTo>
                <a:lnTo>
                  <a:pt x="20484" y="17844"/>
                </a:lnTo>
                <a:close/>
              </a:path>
              <a:path fill="darken" w="26881" h="21600">
                <a:moveTo>
                  <a:pt x="6397" y="3756"/>
                </a:moveTo>
                <a:lnTo>
                  <a:pt x="8068" y="3756"/>
                </a:lnTo>
                <a:lnTo>
                  <a:pt x="8068" y="17844"/>
                </a:lnTo>
                <a:lnTo>
                  <a:pt x="6397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8920" y="764640"/>
            <a:ext cx="882036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 </a:t>
            </a:r>
            <a:r>
              <a:rPr b="1" lang="zh-CN" sz="44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读读画画</a:t>
            </a:r>
            <a:r>
              <a:rPr b="1" lang="zh-CN" sz="4400" spc="-1" strike="noStrike">
                <a:solidFill>
                  <a:srgbClr val="cc0000"/>
                </a:solidFill>
                <a:latin typeface="楷体_GB2312"/>
                <a:ea typeface="仿宋_GB2312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默读课文，用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 u="sng">
                <a:solidFill>
                  <a:srgbClr val="000066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画出描写人类在上百万年历史中生活状态的语句，用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楷体_GB2312"/>
              </a:rPr>
              <a:t>“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～～～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画出描写</a:t>
            </a:r>
            <a:r>
              <a:rPr b="1" lang="en-US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20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世纪人类科学技术发展成就的语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68360" y="4005360"/>
            <a:ext cx="8424720" cy="22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用心想想：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课文是用什么方法向我们介绍</a:t>
            </a:r>
            <a:r>
              <a:rPr b="1" lang="en-US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20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世纪人类科学技术成就的？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8"/>
          <p:cNvSpPr/>
          <p:nvPr/>
        </p:nvSpPr>
        <p:spPr>
          <a:xfrm>
            <a:off x="611280" y="549360"/>
            <a:ext cx="799308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人类在上百万年的历史中，一直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生活在一个依赖自然的农耕社会。那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时    电灯，    电视，    收音机，    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汽车。人们只能在神话中用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千里眼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”“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顺风耳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和腾云驾雾的神仙，来寄托自己的美好愿望。  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0" name="Group 25"/>
          <p:cNvGrpSpPr/>
          <p:nvPr/>
        </p:nvGrpSpPr>
        <p:grpSpPr>
          <a:xfrm>
            <a:off x="815760" y="1916280"/>
            <a:ext cx="5607360" cy="1218960"/>
            <a:chOff x="815760" y="1916280"/>
            <a:chExt cx="5607360" cy="1218960"/>
          </a:xfrm>
        </p:grpSpPr>
        <p:sp>
          <p:nvSpPr>
            <p:cNvPr id="61" name="Rectangle 21"/>
            <p:cNvSpPr/>
            <p:nvPr/>
          </p:nvSpPr>
          <p:spPr>
            <a:xfrm>
              <a:off x="815760" y="24926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66"/>
                  </a:solidFill>
                  <a:latin typeface="Arial"/>
                  <a:ea typeface="楷体_GB2312"/>
                </a:rPr>
                <a:t>也没有</a:t>
              </a:r>
              <a:endParaRPr b="1" lang="en-US" sz="3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" name="Rectangle 22"/>
            <p:cNvSpPr/>
            <p:nvPr/>
          </p:nvSpPr>
          <p:spPr>
            <a:xfrm>
              <a:off x="5693760" y="19162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66"/>
                  </a:solidFill>
                  <a:latin typeface="Arial"/>
                  <a:ea typeface="楷体_GB2312"/>
                </a:rPr>
                <a:t>没有</a:t>
              </a:r>
              <a:endParaRPr b="1" lang="en-US" sz="3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" name="Rectangle 23"/>
            <p:cNvSpPr/>
            <p:nvPr/>
          </p:nvSpPr>
          <p:spPr>
            <a:xfrm>
              <a:off x="3388680" y="19162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66"/>
                  </a:solidFill>
                  <a:latin typeface="Arial"/>
                  <a:ea typeface="楷体_GB2312"/>
                </a:rPr>
                <a:t>没有</a:t>
              </a:r>
              <a:endParaRPr b="1" lang="en-US" sz="3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" name="Rectangle 24"/>
            <p:cNvSpPr/>
            <p:nvPr/>
          </p:nvSpPr>
          <p:spPr>
            <a:xfrm>
              <a:off x="971280" y="1916280"/>
              <a:ext cx="112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66"/>
                  </a:solidFill>
                  <a:latin typeface="Arial"/>
                  <a:ea typeface="楷体_GB2312"/>
                </a:rPr>
                <a:t>没有</a:t>
              </a:r>
              <a:endParaRPr b="1" lang="en-US" sz="3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5" name="Group 39"/>
          <p:cNvGrpSpPr/>
          <p:nvPr/>
        </p:nvGrpSpPr>
        <p:grpSpPr>
          <a:xfrm>
            <a:off x="846000" y="1844640"/>
            <a:ext cx="5657400" cy="1279800"/>
            <a:chOff x="846000" y="1844640"/>
            <a:chExt cx="5657400" cy="1279800"/>
          </a:xfrm>
        </p:grpSpPr>
        <p:sp>
          <p:nvSpPr>
            <p:cNvPr id="66" name="Rectangle 40"/>
            <p:cNvSpPr/>
            <p:nvPr/>
          </p:nvSpPr>
          <p:spPr>
            <a:xfrm>
              <a:off x="846000" y="2421000"/>
              <a:ext cx="1095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cc0000"/>
                  </a:solidFill>
                  <a:latin typeface="Arial"/>
                  <a:ea typeface="楷体_GB2312"/>
                </a:rPr>
                <a:t>也没有</a:t>
              </a:r>
              <a:endParaRPr b="1" lang="en-US" sz="4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" name="Rectangle 41"/>
            <p:cNvSpPr/>
            <p:nvPr/>
          </p:nvSpPr>
          <p:spPr>
            <a:xfrm>
              <a:off x="5713200" y="184464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cc0000"/>
                  </a:solidFill>
                  <a:latin typeface="Arial"/>
                  <a:ea typeface="楷体_GB2312"/>
                </a:rPr>
                <a:t>没有</a:t>
              </a:r>
              <a:endParaRPr b="1" lang="en-US" sz="4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" name="Rectangle 42"/>
            <p:cNvSpPr/>
            <p:nvPr/>
          </p:nvSpPr>
          <p:spPr>
            <a:xfrm>
              <a:off x="3408480" y="184464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cc0000"/>
                  </a:solidFill>
                  <a:latin typeface="Arial"/>
                  <a:ea typeface="楷体_GB2312"/>
                </a:rPr>
                <a:t>没有</a:t>
              </a:r>
              <a:endParaRPr b="1" lang="en-US" sz="4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" name="Rectangle 43"/>
            <p:cNvSpPr/>
            <p:nvPr/>
          </p:nvSpPr>
          <p:spPr>
            <a:xfrm>
              <a:off x="971280" y="1897200"/>
              <a:ext cx="151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cc0000"/>
                  </a:solidFill>
                  <a:latin typeface="Arial"/>
                  <a:ea typeface="楷体_GB2312"/>
                </a:rPr>
                <a:t>没有</a:t>
              </a:r>
              <a:endParaRPr b="1" lang="en-US" sz="4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0" name="Text Box 6"/>
          <p:cNvSpPr/>
          <p:nvPr/>
        </p:nvSpPr>
        <p:spPr>
          <a:xfrm>
            <a:off x="468360" y="4508640"/>
            <a:ext cx="9685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在农耕社会，没有</a:t>
            </a:r>
            <a:r>
              <a:rPr b="1" lang="zh-CN" sz="36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没有</a:t>
            </a:r>
            <a:r>
              <a:rPr b="1" lang="zh-CN" sz="36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没有</a:t>
            </a:r>
            <a:r>
              <a:rPr b="1" lang="zh-CN" sz="36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也没有</a:t>
            </a:r>
            <a:r>
              <a:rPr b="1" lang="zh-CN" sz="3600" spc="-1" strike="noStrike" u="sng">
                <a:solidFill>
                  <a:srgbClr val="cc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。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684360" y="549360"/>
            <a:ext cx="78483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r>
              <a:rPr b="1" lang="en-US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20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世纪，人类登上月球，潜入   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深海</a:t>
            </a:r>
            <a:r>
              <a:rPr b="1" lang="en-US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洞察百亿光年外的天体，探索原子核世界的奥秘；</a:t>
            </a:r>
            <a:r>
              <a:rPr b="1" lang="en-US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20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世纪，电视、程控电话、因特网以及民航飞机、高速火车、远洋船舶等，日益把人类居住的星球变成联系紧密的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地球村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。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剪辑1.wmv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7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3T11:54:40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12:17Z</dcterms:modified>
  <cp:revision>20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