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coin.wav" ContentType="audio/x-wav"/>
  <Override PartName="/ppt/media/image13.jpeg" ContentType="image/jpeg"/>
  <Override PartName="/ppt/media/push.wav" ContentType="audio/x-wav"/>
  <Override PartName="/ppt/media/image2.jpeg" ContentType="image/jpeg"/>
  <Override PartName="/ppt/media/type.wav" ContentType="audio/x-wav"/>
  <Override PartName="/ppt/media/hammer.wav" ContentType="audio/x-wav"/>
  <Override PartName="/ppt/media/image12.jpeg" ContentType="image/jpeg"/>
  <Override PartName="/ppt/media/image5.jpeg" ContentType="image/jpeg"/>
  <Override PartName="/ppt/media/breeze.wav" ContentType="audio/x-wav"/>
  <Override PartName="/ppt/media/image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1.jpeg" ContentType="image/jpeg"/>
  <Override PartName="/ppt/media/chimes.wav" ContentType="audio/x-wav"/>
  <Override PartName="/ppt/media/image10.jpeg" ContentType="image/jpeg"/>
  <Override PartName="/ppt/media/image8.jpeg" ContentType="image/jpeg"/>
  <Override PartName="/ppt/media/image7.jpeg" ContentType="image/jpeg"/>
  <Override PartName="/ppt/media/camera.wav" ContentType="audio/x-wav"/>
  <Override PartName="/ppt/media/image1.jpeg" ContentType="image/jpeg"/>
  <Override PartName="/ppt/media/image3.png" ContentType="image/png"/>
  <Override PartName="/ppt/media/suction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7BA-CA57-44ED-A055-F1C74EAB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2DA-1DED-4DB6-90C3-1E7DCDF3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569-7187-4C3A-92E1-8136E94E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C8F-B818-4F2A-8306-C0399B32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C9BE-A500-4A7D-8E75-7E1E91D4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A544-4738-4AE1-AEEE-AE0F8F60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B219-FDF4-42C0-935E-194AFB9D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392B-0C1F-4B22-80B7-4F4CF97E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EC47-03E6-4707-83A1-A42955CF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888D-B16B-47B6-B384-282CCF5A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7977-0458-46E2-A549-73A053D5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317-A308-4DA5-B24F-381EEB26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FCC1-3E4A-4BE3-9D8D-D88C04AA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F22A-962F-43D0-9CDC-87142AC3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BF41-E892-4895-BDEC-EAC2F714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832F-3178-4C76-B24D-27C30D5B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0E9A-47EF-42CD-9E35-5DF75F3B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97D4-FA03-4BD7-8051-2CE6C301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937A4-AF29-4D5D-A434-0A5AA4C6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CB2D-E9C1-4F3E-ABC3-51B9D1AD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A7A5-E15F-4D49-B773-5CAB078C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2777-86E4-4683-9D66-0C86F454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2B4-AF1A-48BA-BC4D-C859C0F0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8F88-F9D9-4548-BFD9-BDD81093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5B18-3DE1-4C2E-B026-0C39B91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2253A-6F44-4257-8CEC-84D31042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0AC83-E349-40DE-A295-280453F5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819C-7079-426C-8D33-A6C7B1D3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CE2E-E275-4866-916F-DCEE894C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563C-C320-4153-9089-735BC3E0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9C30D-6737-471C-96BC-8BA2C32D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9563-BF93-4661-AC27-5CAAF80F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316E9-5F1E-4A45-9802-6C79CB8D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993-C58D-4CBC-BA2C-5A50387D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D3FE-D8CB-4473-AAF2-32FED0A3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11BE-808A-43E4-BB3E-B42C0DD5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E92A0-7DD4-4233-9745-E37E9E98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2F32E-94F0-4C73-BAC6-9A668ADB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6C91F-BFD2-4CB8-B355-2DC5F825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AF2FF-1DF0-4F33-9015-F364BFC3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C2AB8-F8A3-4022-9236-8F4C8FBC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6E8F-0EEE-4DF9-B1B5-E0B40CC1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1820-5438-4970-A0BA-015EC874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A2D11-02A0-4C06-BA6C-28E9CDB1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8B2-7B7F-43D6-9535-A074EE9E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6CAD1-593F-4628-90A8-9D1B3713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5CA35-7A4A-4A81-9C60-F6B45305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01D42-FE56-4EFA-B6E4-FFB1848C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09F63-08B3-43F8-AB9B-2641E0BA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EDC96-ACEF-4266-AF8D-5B84E433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0150F-3B62-4C2B-B6AC-E30BFD69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E11C7-6B6A-4202-821A-38AF4D27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CAAED-6634-465C-9E3B-8D24A978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8E180-801B-4EB3-B4E4-04D84A2A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20B53-E865-4166-B008-BD6B8C71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06E-8174-4FFD-9606-DF843052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A5513-0E15-433F-9E22-2C8206F1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C2248-FA9F-44F6-B652-81E02E95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2AFA1-7D59-4197-880B-A2FA8308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0ECA0-392A-4FC7-8363-966B22CF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2F12-142C-4CEF-9CEC-02D929EB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2DFDC-86EC-4BD8-B0D0-28D021C9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0065E-10D2-45E7-845E-6F576E6B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50D0B-720E-41F6-926B-CFF9B3A1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0FEC7-664D-4571-B43F-776D2F56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133BA-2A8C-4FF1-A251-9D5500C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A23-A3A0-462D-A6F7-99E3B564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CA523-FB9E-49AD-8C91-13344875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E819C-0100-42E2-B939-9DC7DF06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7B762-1374-4AE8-8AAE-C3B6F1C2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597-8D81-4782-BA0C-87B4FC4D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A21-D171-4887-8AB5-7701B367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F086-7B7C-4D87-8A0E-3164DF80C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83AC-718B-4E1F-B980-9C2E5201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5048-356D-49B9-A468-DE6BDF1FB0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6" name="Freeform 3"/>
            <p:cNvSpPr/>
            <p:nvPr/>
          </p:nvSpPr>
          <p:spPr>
            <a:xfrm>
              <a:off x="0" y="3981240"/>
              <a:ext cx="3400560" cy="28641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4341600"/>
              <a:ext cx="2770200" cy="25038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93B7-6D0F-414E-89DB-9CF2757926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6754-C23A-4A5F-A2A1-D932C47DA1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4070-6411-4DD4-9DBA-1A1D010706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3329-8756-4A65-9253-4F68B7CD1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1357200" y="1052640"/>
            <a:ext cx="667080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黄河之水天上来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5796000" y="3716280"/>
            <a:ext cx="2057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刘白羽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4073760" y="37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43212"/>
                </a:solidFill>
                <a:latin typeface="Arial"/>
                <a:ea typeface="华文新魏"/>
              </a:rPr>
              <a:t>重难点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250920" y="2485080"/>
            <a:ext cx="86230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300"/>
              </a:lnSpc>
              <a:buClr>
                <a:srgbClr val="ec2302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一次是“霁雨初晴，西北高原阳光格外灿烂。也许是延安生活在我心中的再现，我总觉得空中响着牧羊人的嘹亮歌声”，表现了作者对延安生活的怀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1785240" y="141300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中两次写了牧羊人的歌声，寄寓了作者怎样的情感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24000" y="357336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buClr>
                <a:srgbClr val="0000f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第二次是这样描写的，“这时，那一曲牧羊人的歌声又嘹亮地响起，不过，这一次它不是在空中，是从我心中飞出，飞下长天，飞下黄河，随着惊涛骇浪而飞扬，而回荡。”这是作者在领略母亲河的雄伟壮观、祖国上空洁白闪烁的白色云团后发自于内心的幸福快乐的感受。这歌声，从他的心里淌出，他要把对母亲河的赞美，对祖国母亲的赞美唱给这个世界，唱给每一个人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coin.wav"/>
      </p:stSnd>
    </p:sndAc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79280" y="4236120"/>
            <a:ext cx="8496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198"/>
              </a:lnSpc>
              <a:buClr>
                <a:srgbClr val="ff0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比喻是能够使所描绘的事物生动形象的修辞方法。作者在描绘黄河状态时多用比喻，收到了较好的效果。如描写黄河之水从溢洪道喷射而出的情景时，用了“如乌云乱卷，如怒火，如狂飙”“如浓墨，如淡墨，像核爆炸时的蘑菇云”，这几个比喻有形、有声、有色、有势，使人如临其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929400" y="181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43212"/>
                </a:solidFill>
                <a:latin typeface="Arial"/>
                <a:ea typeface="华文彩云"/>
              </a:rPr>
              <a:t>鉴赏与写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997920" y="1071720"/>
            <a:ext cx="17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语言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2854440" y="184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文语言生动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1022760" y="105264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写作技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2314080" y="184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多角度写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611280" y="3898080"/>
            <a:ext cx="7705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198"/>
              </a:lnSpc>
              <a:buClr>
                <a:srgbClr val="0000ff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2302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c2302"/>
                </a:solidFill>
                <a:latin typeface="Arial"/>
                <a:ea typeface="楷体_GB2312"/>
              </a:rPr>
              <a:t>在课文第四自然段中，作者对刘家峡的黄河水做了多角度的观察与描写。如远望刘家峡，大坝底下近观，再举首仰望，最后于坝顶俯视。观察角度不同，黄河所显现的形态状貌与气势都有差异，使读者对黄河有了更加深刻而全面的认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  <p:sndAc>
      <p:stSnd>
        <p:snd r:embed="rId1" name="camera.wav"/>
      </p:stSnd>
    </p:sndAc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7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79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7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兰州黄河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白塔山下的黄河大铁桥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5"/>
          <p:cNvSpPr/>
          <p:nvPr/>
        </p:nvSpPr>
        <p:spPr>
          <a:xfrm>
            <a:off x="5165640" y="6211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2302"/>
                </a:solidFill>
                <a:latin typeface="Arial"/>
                <a:ea typeface="隶书"/>
              </a:rPr>
              <a:t>兰州黄河大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camera.wav"/>
      </p:stSnd>
    </p:sndAc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刘家峡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刘家峡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6"/>
          <p:cNvSpPr/>
          <p:nvPr/>
        </p:nvSpPr>
        <p:spPr>
          <a:xfrm>
            <a:off x="7176240" y="260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43212"/>
                </a:solidFill>
                <a:latin typeface="Arial"/>
                <a:ea typeface="楷体_GB2312"/>
              </a:rPr>
              <a:t>刘家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3" name="type.wav"/>
      </p:stSnd>
    </p:sndAc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2007112010507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2007112010497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图片1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64" name="WordArt 8"/>
          <p:cNvSpPr txBox="1"/>
          <p:nvPr/>
        </p:nvSpPr>
        <p:spPr>
          <a:xfrm>
            <a:off x="2124000" y="2349360"/>
            <a:ext cx="4103640" cy="136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华文行楷"/>
              </a:rPr>
              <a:t>谢谢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</p:spTree>
  </p:cSld>
  <p:transition>
    <p:wheel/>
    <p:sndAc>
      <p:stSnd>
        <p:snd r:embed="rId4" name="camera.wav"/>
      </p:stSnd>
    </p:sndAc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54"/>
          <p:cNvSpPr/>
          <p:nvPr/>
        </p:nvSpPr>
        <p:spPr>
          <a:xfrm>
            <a:off x="3772080" y="39211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665400" y="5733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璎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276720" y="47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2302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099800" y="1268280"/>
            <a:ext cx="24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易读错写错的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964440" y="20606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皋兰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4110840" y="20415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幅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6665400" y="2041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滂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964440" y="2873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怔住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4001760" y="2852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狂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6665400" y="2852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浓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977400" y="380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闸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4001760" y="3789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峻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6665400" y="3789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977400" y="479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咆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7"/>
          <p:cNvSpPr/>
          <p:nvPr/>
        </p:nvSpPr>
        <p:spPr>
          <a:xfrm>
            <a:off x="4001760" y="4797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骤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6665400" y="4776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舷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977400" y="5734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逝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0"/>
          <p:cNvSpPr/>
          <p:nvPr/>
        </p:nvSpPr>
        <p:spPr>
          <a:xfrm>
            <a:off x="4001760" y="5715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哺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1712880" y="20606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g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4856400" y="206064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6987600" y="206064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pāngtu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1618200" y="285264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zh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4551840" y="2852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bi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7292160" y="285264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m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1585440" y="37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zh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8"/>
          <p:cNvSpPr/>
          <p:nvPr/>
        </p:nvSpPr>
        <p:spPr>
          <a:xfrm>
            <a:off x="7282440" y="378936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r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/>
          <p:cNvSpPr/>
          <p:nvPr/>
        </p:nvSpPr>
        <p:spPr>
          <a:xfrm>
            <a:off x="1339200" y="479736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páoxi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0"/>
          <p:cNvSpPr/>
          <p:nvPr/>
        </p:nvSpPr>
        <p:spPr>
          <a:xfrm>
            <a:off x="4441680" y="4797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zh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1"/>
          <p:cNvSpPr/>
          <p:nvPr/>
        </p:nvSpPr>
        <p:spPr>
          <a:xfrm>
            <a:off x="7238520" y="47973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xu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2"/>
          <p:cNvSpPr/>
          <p:nvPr/>
        </p:nvSpPr>
        <p:spPr>
          <a:xfrm>
            <a:off x="7062840" y="573408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yīngl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3"/>
          <p:cNvSpPr/>
          <p:nvPr/>
        </p:nvSpPr>
        <p:spPr>
          <a:xfrm>
            <a:off x="4818600" y="57340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b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4"/>
          <p:cNvSpPr/>
          <p:nvPr/>
        </p:nvSpPr>
        <p:spPr>
          <a:xfrm>
            <a:off x="1630080" y="573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5"/>
          <p:cNvSpPr/>
          <p:nvPr/>
        </p:nvSpPr>
        <p:spPr>
          <a:xfrm>
            <a:off x="4597200" y="37893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宋体"/>
              </a:rPr>
              <a:t>y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7"/>
          <p:cNvSpPr/>
          <p:nvPr/>
        </p:nvSpPr>
        <p:spPr>
          <a:xfrm>
            <a:off x="755640" y="249228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8"/>
          <p:cNvSpPr/>
          <p:nvPr/>
        </p:nvSpPr>
        <p:spPr>
          <a:xfrm>
            <a:off x="4067280" y="249228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9"/>
          <p:cNvSpPr/>
          <p:nvPr/>
        </p:nvSpPr>
        <p:spPr>
          <a:xfrm>
            <a:off x="6443640" y="2492280"/>
            <a:ext cx="7164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0"/>
          <p:cNvSpPr/>
          <p:nvPr/>
        </p:nvSpPr>
        <p:spPr>
          <a:xfrm>
            <a:off x="6804000" y="2492280"/>
            <a:ext cx="7164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1"/>
          <p:cNvSpPr/>
          <p:nvPr/>
        </p:nvSpPr>
        <p:spPr>
          <a:xfrm>
            <a:off x="755640" y="3357720"/>
            <a:ext cx="71280" cy="7272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2"/>
          <p:cNvSpPr/>
          <p:nvPr/>
        </p:nvSpPr>
        <p:spPr>
          <a:xfrm>
            <a:off x="4140360" y="328464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3"/>
          <p:cNvSpPr/>
          <p:nvPr/>
        </p:nvSpPr>
        <p:spPr>
          <a:xfrm>
            <a:off x="6732720" y="328464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4"/>
          <p:cNvSpPr/>
          <p:nvPr/>
        </p:nvSpPr>
        <p:spPr>
          <a:xfrm>
            <a:off x="755640" y="422100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5"/>
          <p:cNvSpPr/>
          <p:nvPr/>
        </p:nvSpPr>
        <p:spPr>
          <a:xfrm>
            <a:off x="4140360" y="422100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6"/>
          <p:cNvSpPr/>
          <p:nvPr/>
        </p:nvSpPr>
        <p:spPr>
          <a:xfrm>
            <a:off x="6732720" y="422100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7"/>
          <p:cNvSpPr/>
          <p:nvPr/>
        </p:nvSpPr>
        <p:spPr>
          <a:xfrm>
            <a:off x="826920" y="5229360"/>
            <a:ext cx="71640" cy="7272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8"/>
          <p:cNvSpPr/>
          <p:nvPr/>
        </p:nvSpPr>
        <p:spPr>
          <a:xfrm>
            <a:off x="1042920" y="5229360"/>
            <a:ext cx="71640" cy="7272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9"/>
          <p:cNvSpPr/>
          <p:nvPr/>
        </p:nvSpPr>
        <p:spPr>
          <a:xfrm>
            <a:off x="3780000" y="5229360"/>
            <a:ext cx="71280" cy="7272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0"/>
          <p:cNvSpPr/>
          <p:nvPr/>
        </p:nvSpPr>
        <p:spPr>
          <a:xfrm>
            <a:off x="6443640" y="5229360"/>
            <a:ext cx="71640" cy="7272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1"/>
          <p:cNvSpPr/>
          <p:nvPr/>
        </p:nvSpPr>
        <p:spPr>
          <a:xfrm>
            <a:off x="755640" y="616572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2"/>
          <p:cNvSpPr/>
          <p:nvPr/>
        </p:nvSpPr>
        <p:spPr>
          <a:xfrm>
            <a:off x="6443640" y="6165720"/>
            <a:ext cx="7164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3"/>
          <p:cNvSpPr/>
          <p:nvPr/>
        </p:nvSpPr>
        <p:spPr>
          <a:xfrm>
            <a:off x="3780000" y="6165720"/>
            <a:ext cx="7128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5"/>
          <p:cNvSpPr/>
          <p:nvPr/>
        </p:nvSpPr>
        <p:spPr>
          <a:xfrm>
            <a:off x="6804000" y="6165720"/>
            <a:ext cx="71640" cy="730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935280" y="11970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音多义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767880" y="22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1860480" y="191628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mán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1932120" y="26370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mái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5016240" y="22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6172920" y="191628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chàn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6178320" y="263700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zhàn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767880" y="429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1911960" y="393372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xuán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1911960" y="465300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3212"/>
                </a:solidFill>
                <a:latin typeface="宋体"/>
              </a:rPr>
              <a:t>xuàn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3132000" y="18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6"/>
          <p:cNvSpPr/>
          <p:nvPr/>
        </p:nvSpPr>
        <p:spPr>
          <a:xfrm>
            <a:off x="1403280" y="220500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2792880" y="19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埋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2792880" y="26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埋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7258680" y="19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颤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7258680" y="26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颤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008880" y="39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旋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3008880" y="465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旋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3"/>
          <p:cNvSpPr/>
          <p:nvPr/>
        </p:nvSpPr>
        <p:spPr>
          <a:xfrm>
            <a:off x="1403280" y="422100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4"/>
          <p:cNvSpPr/>
          <p:nvPr/>
        </p:nvSpPr>
        <p:spPr>
          <a:xfrm>
            <a:off x="5651640" y="2205000"/>
            <a:ext cx="215640" cy="863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breeze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5671800" y="357444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燎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132000" y="404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2302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1009440" y="1052640"/>
            <a:ext cx="24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00cc00"/>
                </a:solidFill>
                <a:latin typeface="隶书"/>
                <a:ea typeface="隶书"/>
              </a:rPr>
              <a:t>形近字辨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594800" y="184464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碎 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594800" y="242100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粹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1594800" y="299736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淬 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1594800" y="357336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悴 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1594800" y="443700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咆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1594800" y="501336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跑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1594800" y="566100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泡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5670360" y="184644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嘹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5670360" y="242244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潦    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5843160" y="29988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缭</a:t>
            </a:r>
            <a:r>
              <a:rPr b="1" lang="zh-CN" sz="2800" spc="-1" strike="noStrike">
                <a:solidFill>
                  <a:srgbClr val="ec2302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2629800" y="184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砸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262980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纯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2629800" y="29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淬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2629800" y="357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憔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2629800" y="44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咆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2629800" y="501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跑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2629800" y="566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水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4"/>
          <p:cNvSpPr/>
          <p:nvPr/>
        </p:nvSpPr>
        <p:spPr>
          <a:xfrm>
            <a:off x="6805080" y="1846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嘹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5"/>
          <p:cNvSpPr/>
          <p:nvPr/>
        </p:nvSpPr>
        <p:spPr>
          <a:xfrm>
            <a:off x="6805080" y="2422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潦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6948720" y="299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眼花缭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7"/>
          <p:cNvSpPr/>
          <p:nvPr/>
        </p:nvSpPr>
        <p:spPr>
          <a:xfrm>
            <a:off x="6805080" y="357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燎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8"/>
          <p:cNvSpPr/>
          <p:nvPr/>
        </p:nvSpPr>
        <p:spPr>
          <a:xfrm>
            <a:off x="755640" y="198900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9"/>
          <p:cNvSpPr/>
          <p:nvPr/>
        </p:nvSpPr>
        <p:spPr>
          <a:xfrm>
            <a:off x="755640" y="458136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30"/>
          <p:cNvSpPr/>
          <p:nvPr/>
        </p:nvSpPr>
        <p:spPr>
          <a:xfrm>
            <a:off x="4788000" y="1990800"/>
            <a:ext cx="288720" cy="2016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1"/>
          <p:cNvSpPr/>
          <p:nvPr/>
        </p:nvSpPr>
        <p:spPr>
          <a:xfrm>
            <a:off x="1556280" y="184464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c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2"/>
          <p:cNvSpPr/>
          <p:nvPr/>
        </p:nvSpPr>
        <p:spPr>
          <a:xfrm>
            <a:off x="1556280" y="242100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c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3"/>
          <p:cNvSpPr/>
          <p:nvPr/>
        </p:nvSpPr>
        <p:spPr>
          <a:xfrm>
            <a:off x="1547640" y="29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cxu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4"/>
          <p:cNvSpPr/>
          <p:nvPr/>
        </p:nvSpPr>
        <p:spPr>
          <a:xfrm>
            <a:off x="1599480" y="357336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cu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5"/>
          <p:cNvSpPr/>
          <p:nvPr/>
        </p:nvSpPr>
        <p:spPr>
          <a:xfrm>
            <a:off x="1560960" y="436572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p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6"/>
          <p:cNvSpPr/>
          <p:nvPr/>
        </p:nvSpPr>
        <p:spPr>
          <a:xfrm>
            <a:off x="1560960" y="501336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p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7"/>
          <p:cNvSpPr/>
          <p:nvPr/>
        </p:nvSpPr>
        <p:spPr>
          <a:xfrm>
            <a:off x="1560960" y="558972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p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8"/>
          <p:cNvSpPr/>
          <p:nvPr/>
        </p:nvSpPr>
        <p:spPr>
          <a:xfrm>
            <a:off x="5686560" y="177336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l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9"/>
          <p:cNvSpPr/>
          <p:nvPr/>
        </p:nvSpPr>
        <p:spPr>
          <a:xfrm>
            <a:off x="5686560" y="2421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l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0"/>
          <p:cNvSpPr/>
          <p:nvPr/>
        </p:nvSpPr>
        <p:spPr>
          <a:xfrm>
            <a:off x="5686560" y="299736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l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1"/>
          <p:cNvSpPr/>
          <p:nvPr/>
        </p:nvSpPr>
        <p:spPr>
          <a:xfrm>
            <a:off x="5686560" y="357336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302"/>
                </a:solidFill>
                <a:latin typeface="宋体"/>
              </a:rPr>
              <a:t>l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hammer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1403280" y="58759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栗子皮的颜色。如：褐铁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629280" y="119700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隶书"/>
                <a:ea typeface="隶书"/>
              </a:rPr>
              <a:t>4.</a:t>
            </a:r>
            <a:r>
              <a:rPr b="0" lang="zh-CN" sz="3600" spc="-1" strike="noStrike">
                <a:solidFill>
                  <a:srgbClr val="990099"/>
                </a:solidFill>
                <a:latin typeface="隶书"/>
                <a:ea typeface="隶书"/>
              </a:rPr>
              <a:t>本课生字词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433800" y="2060640"/>
            <a:ext cx="12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131280" y="206064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密生的草。如：草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5628600" y="206064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7526160" y="206064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2825280" y="249228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鲁莽。如：莽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433800" y="2997360"/>
            <a:ext cx="12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1763640" y="3068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放纵．行为不检点。如：放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3132000" y="350028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水湖。如：黄天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396360" y="4149720"/>
            <a:ext cx="12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3068280" y="4149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曲折，绕弯。如：迂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6804720" y="41497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迂腐。如：这人迂得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322560" y="479736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9"/>
          <p:cNvSpPr/>
          <p:nvPr/>
        </p:nvSpPr>
        <p:spPr>
          <a:xfrm>
            <a:off x="1403280" y="4797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充满而流出来。如．洋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0"/>
          <p:cNvSpPr/>
          <p:nvPr/>
        </p:nvSpPr>
        <p:spPr>
          <a:xfrm>
            <a:off x="6786360" y="479736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分。如：溢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322560" y="544500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2"/>
          <p:cNvSpPr/>
          <p:nvPr/>
        </p:nvSpPr>
        <p:spPr>
          <a:xfrm>
            <a:off x="1403280" y="5445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①</a:t>
            </a: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书</a:t>
            </a: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粗布或粗布衣服。如：短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3132000" y="333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2302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555840" y="206064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mǎ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608400" y="29973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d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724680" y="41497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y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8"/>
          <p:cNvSpPr/>
          <p:nvPr/>
        </p:nvSpPr>
        <p:spPr>
          <a:xfrm>
            <a:off x="633600" y="479736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y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577440" y="544500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宋体"/>
              </a:rPr>
              <a:t>h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type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361320" y="56599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凶猛而使人害怕的波涛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038600" y="1125360"/>
            <a:ext cx="23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重要词语释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37760" y="198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咆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578600" y="196992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猛兽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怒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1187280" y="242100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形容水流的奔腾轰鸣，也形容人的暴怒喊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437760" y="306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沸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1187280" y="3068640"/>
            <a:ext cx="78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液体达到一定温度时急剧转化为气体产生大量气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1187280" y="350028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ec2302"/>
                </a:solidFill>
                <a:latin typeface="楷体_GB2312"/>
                <a:ea typeface="楷体_GB2312"/>
              </a:rPr>
              <a:t>比喻情绪高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1187280" y="3933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比喻喧嚣嘈杂。惊心动魄：形容使人感受很深，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动很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866160" y="49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望无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1835280" y="494172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眼看不到边，形容辽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561240" y="5661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惊涛骇浪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3492360" y="333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2302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suction.wav"/>
      </p:stSnd>
    </p:sndAc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45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863160" y="412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2302"/>
                </a:solidFill>
                <a:latin typeface="Arial"/>
                <a:ea typeface="幼圆"/>
              </a:rPr>
              <a:t>走近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95280" y="248076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SzPct val="125000"/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刘白羽，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1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生，北京人。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文学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刊上发表短篇小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冰天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始走上文学道路。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3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出版短篇小说集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草原上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抗战期间投身敌后战场，写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五台山下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太阳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幸福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小说。解放战争时期转战东北，写有小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无敌三勇士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政治委员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报告文学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光明照耀着沈阳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。新中国成立后，在担任文化领导工作的同时，发表了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长江三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大量散文通讯。晚年笔耕不辍，写有四部长篇报告文学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大海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朱德的前半生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小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二个太阳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风风雨雨太平洋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回忆录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心灵的历程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suction.wav"/>
      </p:stSnd>
    </p:sndAc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826920" y="2915280"/>
            <a:ext cx="7775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5998"/>
              </a:lnSpc>
              <a:buClr>
                <a:srgbClr val="0000ff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2302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ec2302"/>
                </a:solidFill>
                <a:latin typeface="Arial"/>
              </a:rPr>
              <a:t>本文以古诗句“黄河之水天上来”为题，满腔热忱地描述了黄河的雄伟和壮观，表达厂对黄河的由衷赞美和对祖国的热爱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3692880" y="428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Arial"/>
                <a:ea typeface="华文新魏"/>
              </a:rPr>
              <a:t>文题阐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push.wav"/>
      </p:stSnd>
    </p:sndAc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415044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幼圆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327600" y="1446480"/>
            <a:ext cx="66780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河之水天上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1499400" y="21337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兰州的黄河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1488240" y="43657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刘家峡的黄河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1488240" y="328464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飞机上看黄河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468400" y="38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直抒胸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7251840" y="2997360"/>
            <a:ext cx="13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黄河的赞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祖国的热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2"/>
          <p:cNvSpPr/>
          <p:nvPr/>
        </p:nvSpPr>
        <p:spPr>
          <a:xfrm>
            <a:off x="973080" y="2205000"/>
            <a:ext cx="216000" cy="244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4802760" y="2133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2302"/>
                </a:solidFill>
                <a:latin typeface="Arial"/>
              </a:rPr>
              <a:t>安逸平静、欲扬先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3885840" y="32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2302"/>
                </a:solidFill>
                <a:latin typeface="Arial"/>
              </a:rPr>
              <a:t>云海怒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3885840" y="43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c2302"/>
                </a:solidFill>
                <a:latin typeface="Arial"/>
              </a:rPr>
              <a:t>奔腾浩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8"/>
          <p:cNvSpPr/>
          <p:nvPr/>
        </p:nvSpPr>
        <p:spPr>
          <a:xfrm flipH="1">
            <a:off x="5002920" y="3500280"/>
            <a:ext cx="217800" cy="1224000"/>
          </a:xfrm>
          <a:custGeom>
            <a:avLst/>
            <a:gdLst>
              <a:gd name="textAreaLeft" fmla="*/ 139320 w 217800"/>
              <a:gd name="textAreaRight" fmla="*/ 218160 w 2178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9"/>
          <p:cNvSpPr/>
          <p:nvPr/>
        </p:nvSpPr>
        <p:spPr>
          <a:xfrm flipH="1">
            <a:off x="6587280" y="2205000"/>
            <a:ext cx="289080" cy="2448000"/>
          </a:xfrm>
          <a:custGeom>
            <a:avLst/>
            <a:gdLst>
              <a:gd name="textAreaLeft" fmla="*/ 184320 w 289080"/>
              <a:gd name="textAreaRight" fmla="*/ 288720 w 2890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coin.wav"/>
      </p:stSnd>
    </p:sndAc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1:06:5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3:07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