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gif" ContentType="image/gif"/>
  <Override PartName="/ppt/media/image9.jpeg" ContentType="image/jpeg"/>
  <Override PartName="/ppt/media/image11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A72-3799-4697-980D-C92BE0C2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B90-4103-44FE-9324-C3E36086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35A-6BBA-41D4-9744-0F2806C2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BEC-7C4F-4F50-856B-E45EE2E2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C314-1EBE-43CB-A9A7-026CF69D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187F-EEC5-4439-AD05-2D304C46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E616-B693-4E53-986D-D3436978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77B7-8352-4A1B-A6EF-0E1B370E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0B03-15D1-42C6-B836-E0185BFC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3980-53A8-4AA3-95CB-172117D9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AAC7-11D4-4E6D-9622-0D8B3548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EB59-FADC-45F5-9F03-3C6895E1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5A35-4063-41EE-9EFD-82C75F38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7E08-79FA-44A4-803E-5AEE8C0A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78E0-7079-47F1-B699-EB9906ED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F11C-BC9F-4141-A9F0-D167EFDA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CDB1-45B5-4EE8-AC0E-A5B044DC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B56F-A908-4C12-82AF-C96DB982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000-DF09-46A3-A1EA-A7A5AC81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D89-B053-4D68-87C2-10DC3F0A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BF5-C564-4ECE-AC12-54B26BF9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FAC2-6147-4B15-ADB5-2AE957EF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A701-AD9B-4CB0-879D-45929241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B815-3991-4BEC-BB05-6D37B14C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C199-AB14-462A-B93A-B99AADD6A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1BD4-2CAB-4E9E-B2A9-EBBF8AFF5AB5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9A58-C5E5-4C3C-9F67-8DEF9477681B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:\语文\封面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819520" y="43434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990720" y="4572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7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虎 门 销 烟</a:t>
            </a:r>
            <a:endParaRPr b="1" lang="en-US" sz="7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Text Box 15"/>
          <p:cNvSpPr/>
          <p:nvPr/>
        </p:nvSpPr>
        <p:spPr>
          <a:xfrm flipV="1">
            <a:off x="228600" y="525744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0" y="57150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执教：胥香   吴珏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76212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午后二时许，林则徐等人健步登上礼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时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礼炮轰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群情沸腾。随着林则徐一声令下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震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惊中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虎门销烟开始了。只见一群群光着脊梁、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赤着双脚的民工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向灌了水的销烟池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盐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缴来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鸦片抛入池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然后又把一担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担生石灰倒下去。顿时，销烟池里像开了锅一样，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咕嘟咕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冒泡，散发出股股难闻的气味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17" name="Picture 3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76212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午后二时许，林则徐等人健步登上礼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时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礼炮轰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群情沸腾。随着林则徐一声令下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震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惊中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虎门销烟开始了。只见一群群光着脊梁、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赤着双脚的民工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向灌了水的销烟池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盐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缴来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鸦片抛入池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然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担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担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生石灰倒下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顿时，销烟池里像开了锅一样，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咕嘟咕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冒泡，散发出股股难闻的气味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19" name="Picture 5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026"/>
          <p:cNvSpPr/>
          <p:nvPr/>
        </p:nvSpPr>
        <p:spPr>
          <a:xfrm>
            <a:off x="0" y="76212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午后二时许，林则徐等人健步登上礼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时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礼炮轰鸣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群情沸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随着林则徐一声令下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震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惊中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虎门销烟开始了。只见一群群光着脊梁、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赤着双脚的民工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向灌了水的销烟池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盐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缴来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鸦片抛入池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然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担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担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生石灰倒下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顿时，销烟池里像开了锅一样，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咕嘟咕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冒泡，散发出股股难闻的气味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1" name="Picture 1027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2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28600" y="1066680"/>
            <a:ext cx="86868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看到害人的鸦片被销毁了，成千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万的老百姓激动得跳哇、叫哇，欢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呼声响彻虎门上空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4" name="Picture 5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28600" y="1066680"/>
            <a:ext cx="86868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看到害人的鸦片被销毁了，成千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万的老百姓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激动得跳哇、叫哇，欢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呼声响彻虎门上空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6" name="Picture 5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1143000"/>
            <a:ext cx="89154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销烟整整持续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天，二百多万斤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鸦片化为烟渣，随着潮水被卷进了咆哮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大海之中。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8" name="Picture 5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1143000"/>
            <a:ext cx="89154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销烟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整整持续了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天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二百多万斤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鸦片化为烟渣，随着潮水被卷进了咆哮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大海之中。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30" name="Picture 5" descr="50.gif (2508 字节)"/>
          <p:cNvPicPr/>
          <p:nvPr/>
        </p:nvPicPr>
        <p:blipFill>
          <a:blip r:embed="rId2"/>
          <a:stretch/>
        </p:blipFill>
        <p:spPr>
          <a:xfrm>
            <a:off x="8153280" y="6248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129528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虎门销烟这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伟大壮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 沉重地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打击了外国侵略者的嚣张气焰，它向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全世界表明，中国人民是不可欺侮的！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32" name="Picture 5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4952880" y="685800"/>
            <a:ext cx="99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129528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虎门销烟这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伟大壮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 沉重地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打击了外国侵略者的嚣张气焰，它向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全世界表明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中国人民是不可欺侮的！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35" name="Picture 5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0" descr="F:\语文\封面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2819520" y="43434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82880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段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81952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段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88620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段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95288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四段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716292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六段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601992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五段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0" y="3351240"/>
            <a:ext cx="1981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代背景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品读      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训练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后作业           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96" name="Picture 16" descr="C:\Program Files\Common Files\Microsoft Shared\Clipart\themes1\Bullets\BD14578_.GIF"/>
          <p:cNvPicPr/>
          <p:nvPr/>
        </p:nvPicPr>
        <p:blipFill>
          <a:blip r:embed="rId2"/>
          <a:stretch/>
        </p:blipFill>
        <p:spPr>
          <a:xfrm>
            <a:off x="182880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C:\Program Files\Common Files\Microsoft Shared\Clipart\themes1\Bullets\BD14578_.GIF"/>
          <p:cNvPicPr/>
          <p:nvPr/>
        </p:nvPicPr>
        <p:blipFill>
          <a:blip r:embed="rId3"/>
          <a:stretch/>
        </p:blipFill>
        <p:spPr>
          <a:xfrm>
            <a:off x="1828800" y="34290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1"/>
          <p:cNvSpPr/>
          <p:nvPr/>
        </p:nvSpPr>
        <p:spPr>
          <a:xfrm>
            <a:off x="990720" y="4572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7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虎 门 销 烟</a:t>
            </a:r>
            <a:endParaRPr b="1" lang="en-US" sz="7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99" name="Picture 22" descr="C:\Program Files\Common Files\Microsoft Shared\Clipart\themes1\Bullets\BD14578_.GIF"/>
          <p:cNvPicPr/>
          <p:nvPr/>
        </p:nvPicPr>
        <p:blipFill>
          <a:blip r:embed="rId4"/>
          <a:stretch/>
        </p:blipFill>
        <p:spPr>
          <a:xfrm>
            <a:off x="1828800" y="2666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3" descr="C:\Program Files\Common Files\Microsoft Shared\Clipart\themes1\Bullets\BD14578_.GIF"/>
          <p:cNvPicPr/>
          <p:nvPr/>
        </p:nvPicPr>
        <p:blipFill>
          <a:blip r:embed="rId5"/>
          <a:stretch/>
        </p:blipFill>
        <p:spPr>
          <a:xfrm>
            <a:off x="1905120" y="56386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4" descr="C:\Program Files\Common Files\Microsoft Shared\Clipart\themes1\Bullets\BD14578_.GIF"/>
          <p:cNvPicPr/>
          <p:nvPr/>
        </p:nvPicPr>
        <p:blipFill>
          <a:blip r:embed="rId6"/>
          <a:stretch/>
        </p:blipFill>
        <p:spPr>
          <a:xfrm>
            <a:off x="8458200" y="42670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5"/>
          <p:cNvSpPr/>
          <p:nvPr/>
        </p:nvSpPr>
        <p:spPr>
          <a:xfrm>
            <a:off x="0" y="2590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外资料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04920" y="457200"/>
            <a:ext cx="8839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在字典中有三种解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：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健壮有力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伟大、有气魄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增加勇气或力量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认为“壮举”的“壮”的意思 应该选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择（             ）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133720" y="502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B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38" name="Picture 6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-22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英国向中国输入鸦片数量激增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Object 3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141" name="Line 4"/>
          <p:cNvSpPr/>
          <p:nvPr/>
        </p:nvSpPr>
        <p:spPr>
          <a:xfrm flipV="1">
            <a:off x="1752480" y="4190760"/>
            <a:ext cx="990720" cy="2286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048120" y="3733920"/>
            <a:ext cx="1143000" cy="4572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3" name="Line 6"/>
          <p:cNvSpPr/>
          <p:nvPr/>
        </p:nvSpPr>
        <p:spPr>
          <a:xfrm flipV="1">
            <a:off x="4191120" y="3124080"/>
            <a:ext cx="1143000" cy="60984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5334120" y="1980720"/>
            <a:ext cx="1143000" cy="11430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733920" y="1066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箱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8153280" y="4267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年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44792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66688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889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350532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576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44197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331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5410080" y="1523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445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6705720" y="1143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200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" name="Line 16"/>
          <p:cNvSpPr/>
          <p:nvPr/>
        </p:nvSpPr>
        <p:spPr>
          <a:xfrm flipV="1">
            <a:off x="6553080" y="1447560"/>
            <a:ext cx="1371600" cy="53316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0" y="53341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鸦片给中华民族带来的灾难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白银大量外流、人民负担加重、战斗力削弱、损害生产、政治腐败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1600200" y="10666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0—</a:t>
            </a:r>
            <a:r>
              <a:rPr b="1" lang="en-US" sz="2800" spc="-1" strike="noStrike">
                <a:solidFill>
                  <a:srgbClr val="ff0000"/>
                </a:solidFill>
                <a:latin typeface="汉鼎简楷体"/>
                <a:ea typeface="汉鼎简楷体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公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1371600" y="167652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吸毒人数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掠夺白银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—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里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75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09480" y="685800"/>
            <a:ext cx="7925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1447920"/>
            <a:ext cx="853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0000"/>
                </a:solidFill>
                <a:latin typeface="Times New Roman"/>
              </a:rPr>
              <a:t>中国人民是不可欺侮的！</a:t>
            </a:r>
            <a:endParaRPr b="1" lang="en-US" sz="12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9" name="Picture 4" descr="50.gif (2508 字节)"/>
          <p:cNvPicPr/>
          <p:nvPr/>
        </p:nvPicPr>
        <p:blipFill>
          <a:blip r:embed="rId2"/>
          <a:stretch/>
        </p:blipFill>
        <p:spPr>
          <a:xfrm>
            <a:off x="8305920" y="5943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Administrator\桌面\图片\2.jpg"/>
          <p:cNvPicPr/>
          <p:nvPr/>
        </p:nvPicPr>
        <p:blipFill>
          <a:blip r:embed="rId2"/>
          <a:stretch/>
        </p:blipFill>
        <p:spPr>
          <a:xfrm>
            <a:off x="0" y="3276720"/>
            <a:ext cx="3505320" cy="3581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H:\语文\00080771.jpg"/>
          <p:cNvPicPr/>
          <p:nvPr/>
        </p:nvPicPr>
        <p:blipFill>
          <a:blip r:embed="rId3"/>
          <a:stretch/>
        </p:blipFill>
        <p:spPr>
          <a:xfrm>
            <a:off x="0" y="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C:\Documents and Settings\Administrator\桌面\图片\4.jpg"/>
          <p:cNvPicPr/>
          <p:nvPr/>
        </p:nvPicPr>
        <p:blipFill>
          <a:blip r:embed="rId4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Administrator\桌面\图片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:\语文\5.jpg"/>
          <p:cNvPicPr/>
          <p:nvPr/>
        </p:nvPicPr>
        <p:blipFill>
          <a:blip r:embed="rId2"/>
          <a:stretch/>
        </p:blipFill>
        <p:spPr>
          <a:xfrm>
            <a:off x="160020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Documents and Settings\Administrator\桌面\未命名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Documents and Settings\Administrator\桌面\图片\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50.gif (2508 字节)"/>
          <p:cNvPicPr/>
          <p:nvPr/>
        </p:nvPicPr>
        <p:blipFill>
          <a:blip r:embed="rId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F:\语文\sca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"/>
          <p:cNvSpPr/>
          <p:nvPr/>
        </p:nvSpPr>
        <p:spPr>
          <a:xfrm>
            <a:off x="0" y="3108240"/>
            <a:ext cx="89154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死生命也，成败天也。</a:t>
            </a:r>
            <a:endParaRPr b="1" lang="en-US" sz="6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苟利社稷，敢不竭股肱以</a:t>
            </a:r>
            <a:endParaRPr b="1" lang="en-US" sz="6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为门墙辱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 ！</a:t>
            </a:r>
            <a:endParaRPr b="1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0" name="Picture 6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838080" y="533520"/>
            <a:ext cx="769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28600" y="533520"/>
            <a:ext cx="861048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作 业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设计一些禁毒宣传标语、口号。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将林则徐销烟的故事讲给你的家人和身边的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朋友听。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将自己学习这课后的心得体会记录下来。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80880" y="1219320"/>
            <a:ext cx="838224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39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日，是中国历史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上</a:t>
            </a: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值得纪念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的日子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04" name="Picture 4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pic>
          <p:nvPicPr>
            <p:cNvPr id="1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026"/>
          <p:cNvSpPr/>
          <p:nvPr/>
        </p:nvSpPr>
        <p:spPr>
          <a:xfrm>
            <a:off x="0" y="380880"/>
            <a:ext cx="914400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一天，天气晴朗，碧海、蓝天、绿树，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把古老的虎门寨装点得分外壮丽。一大早从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各地闻讯赶来的男男女女，老老少少把宽阔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海滩挤得水泄不通。新搭起的礼台上彩旗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林立；礼台下，一侧是身着朝服的文武官员，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另一侧是应邀前来观看的外国商人。</a:t>
            </a: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06" name="Picture 1029" descr="50.gif (2508 字节)"/>
          <p:cNvPicPr/>
          <p:nvPr/>
        </p:nvPicPr>
        <p:blipFill>
          <a:blip r:embed="rId2"/>
          <a:stretch/>
        </p:blipFill>
        <p:spPr>
          <a:xfrm>
            <a:off x="708660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380880"/>
            <a:ext cx="914400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一天，天气晴朗，碧海、蓝天、绿树，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把古老的虎门寨装点得分外壮丽。一大早从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各地闻讯赶来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男男女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老老少少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把宽阔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海滩挤得水泄不通。新搭起的礼台上彩旗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林立；礼台下，一侧是身着朝服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文武官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另一侧是应邀前来观看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外国商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08" name="Picture 5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1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380880"/>
            <a:ext cx="914400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一天，天气晴朗，碧海、蓝天、绿树，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把古老的虎门寨装点得分外壮丽。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一大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从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各地闻讯赶来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男男女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老老少少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把宽阔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海滩挤得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水泄不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新搭起的礼台上彩旗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林立；礼台下，一侧是身着朝服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文武官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另一侧是应邀前来观看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外国商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11" name="Picture 5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76212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午后二时许，林则徐等人健步登上礼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时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礼炮轰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群情沸腾。随着林则徐一声令下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震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惊中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虎门销烟开始了。只见一群群光着脊梁、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赤着双脚的民工，先向灌了水的销烟池里撒下盐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巴，再把收缴来的鸦片抛入池内，然后又把一担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担生石灰倒下去。顿时，销烟池里像开了锅一样，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咕嘟咕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冒泡，散发出股股难闻的气味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13" name="Picture 5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76212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午后二时许，林则徐等人健步登上礼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时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礼炮轰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群情沸腾。随着林则徐一声令下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震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惊中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虎门销烟开始了。只见一群群光着脊梁、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赤着双脚的民工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向灌了水的销烟池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盐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再把收缴来的鸦片抛入池内，然后又把一担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担生石灰倒下去。顿时，销烟池里像开了锅一样，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咕嘟咕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冒泡，散发出股股难闻的气味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15" name="Picture 3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05:03:35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1:43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