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gif" ContentType="image/gif"/>
  <Override PartName="/ppt/media/image11.gif" ContentType="image/gif"/>
  <Override PartName="/ppt/media/image9.gif" ContentType="image/gif"/>
  <Override PartName="/ppt/media/image7.jpeg" ContentType="image/jpeg"/>
  <Override PartName="/ppt/media/image15.gif" ContentType="image/gif"/>
  <Override PartName="/ppt/media/image20.png" ContentType="image/png"/>
  <Override PartName="/ppt/media/image6.wmf" ContentType="image/x-wmf"/>
  <Override PartName="/ppt/media/image10.gif" ContentType="image/gif"/>
  <Override PartName="/ppt/media/image5.gif" ContentType="image/gif"/>
  <Override PartName="/ppt/media/image22.jpeg" ContentType="image/jpeg"/>
  <Override PartName="/ppt/media/image17.jpeg" ContentType="image/jpeg"/>
  <Override PartName="/ppt/media/image14.gif" ContentType="image/gif"/>
  <Override PartName="/ppt/media/image21.gif" ContentType="image/gif"/>
  <Override PartName="/ppt/media/image19.gif" ContentType="image/gif"/>
  <Override PartName="/ppt/media/image1.png" ContentType="image/png"/>
  <Override PartName="/ppt/media/image23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18.jpeg" ContentType="image/jpeg"/>
  <Override PartName="/ppt/media/image8.gif" ContentType="image/gif"/>
  <Override PartName="/ppt/media/image13.gif" ContentType="image/gif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78DB-704E-4AD7-B63D-36B616FB6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4CA6-500C-4D2C-A1A1-80CB0975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BEED-E6DB-4B2C-85B9-5152383C9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EE95-3E0B-41B1-9BB1-14A12F44F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693D-A215-4468-8DD2-3E2A12E7E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33B4-5A4C-480E-9167-BF6E10FA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C64C-FBEF-4CF3-8C48-29EFACF04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A260-5A07-49D8-A710-E15A823B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33DA-D409-4050-BE94-8FF35834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C73E-8028-461A-A071-54DA834B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6DDE8-FA65-4EA7-B2BD-21EEAF81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E60C-D235-4586-AFAA-28A68BE6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D1847-DFC6-4379-8BBE-4CE30C29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A93B-2C31-4B96-BB88-19D51EFA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560A5-FD6F-4800-AE52-9F53A4A9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9373-09EF-4446-809B-AB3955831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A0BA-46B4-4E72-8F7F-876DB4A57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B08A2-C79B-4CA6-95C1-6D181278D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34A2E-C154-4B56-8965-EA09CCA4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EE20B-90BD-42F9-8137-CDC80067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8041D-6E5E-43F3-83B6-821A9B13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26F03-160C-4E19-A674-B9EF5DF7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22EF-C476-4E82-8113-11679E44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45D88-D286-4F0D-B9AF-017CD6A5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B2ADB-A63A-430E-9008-86F24C7D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BD951-EBA5-42FB-91CD-1DBA053A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8948B-8974-4771-B220-D3708525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D0122-31FD-4BA0-8092-A461989D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7EAFA-C46D-439F-B688-5D0EAC7B6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44B76-FA39-4955-873B-75BBE1EA6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6ACE9-61B2-468E-A5F0-6D4BDEAB8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F78F2-0466-4B4D-AA0B-55A60F12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F1430-A196-4CC1-85D0-3B94653E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0A3A-2DAD-4586-833F-9ADC42AD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E765A-0944-444C-A34C-615234D3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628FF-29B7-4500-9FAD-413BD1E4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E63B4-2795-40B3-A94E-41B8D6C6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E375C-CDFD-4856-BA10-74744A55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04F7B-0032-407C-8AD9-5510AF47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5331E-9CB2-4BEF-8AC1-F5C45628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EF0E4-7DCF-4F0C-92C6-2E9D9260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511B5-1C2D-4C9F-BF95-6273039A7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D08DC-2ED8-47D3-8BF4-F0C9F1C75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5D105-0585-448C-8187-C478FA0E8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9981-4554-47B9-BB29-ADC54887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67BA6-72B6-4488-9942-D703BF60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0CFE0-7D4E-443B-A5B4-1A4DC6A1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1FE0D-1E57-4B15-8430-F1D9D027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1A705-BAE2-4407-9B98-530B3783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62619-7CFF-4918-B2F1-438158A7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FDDBD-3E06-477F-B7B3-B9970B30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2E60C-D424-4F69-9F3C-270023BB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A488E-0F2E-4498-8CA7-71085CE6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B3F22-B0C1-40F1-BFA5-E79B4D94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0BCC5-54B3-4C2B-843F-53029D2B3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4843-1D85-4CD1-92D7-D84AF5CC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62D9E-E8A0-4B5B-BB89-DEF8DDE6A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8F85-A858-4B85-85E6-B7CFE945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4605-DDF6-448C-A2D9-A22ED90D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91EF-60AC-41AD-9EC6-DCB5DB68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DFEE-51CB-4A7A-AEA5-D61D4817E71C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6D42-BF28-4156-B58F-643AC581441C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98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B97F-BDCA-4193-9008-433314E0D112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146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91E4-1D36-4163-BA65-5134EC487BA1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88E5-FB02-47DA-8954-4F6ECD36168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9663-AA40-449D-9CEE-187037E161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image" Target="../media/image2.jpeg"/><Relationship Id="rId1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../../Administrator/My%2520Documents/kejian/unit3huo.ppt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5"/>
          <p:cNvSpPr/>
          <p:nvPr/>
        </p:nvSpPr>
        <p:spPr>
          <a:xfrm>
            <a:off x="108000" y="1700280"/>
            <a:ext cx="877392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9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c00000"/>
                </a:solidFill>
                <a:latin typeface="华文隶书"/>
                <a:ea typeface="华文隶书"/>
              </a:rPr>
              <a:t>离</a:t>
            </a:r>
            <a:r>
              <a:rPr b="0" lang="en-US" sz="8000" spc="-1" strike="noStrike">
                <a:solidFill>
                  <a:srgbClr val="c00000"/>
                </a:solidFill>
                <a:latin typeface="华文隶书"/>
                <a:ea typeface="华文隶书"/>
              </a:rPr>
              <a:t>2014</a:t>
            </a:r>
            <a:r>
              <a:rPr b="0" lang="zh-CN" sz="8000" spc="-1" strike="noStrike">
                <a:solidFill>
                  <a:srgbClr val="c00000"/>
                </a:solidFill>
                <a:latin typeface="华文隶书"/>
                <a:ea typeface="华文隶书"/>
              </a:rPr>
              <a:t>年高考仅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90000"/>
              </a:lnSpc>
              <a:spcBef>
                <a:spcPts val="5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华文隶书"/>
                <a:ea typeface="华文隶书"/>
              </a:rPr>
              <a:t>161</a:t>
            </a:r>
            <a:r>
              <a:rPr b="0" lang="zh-CN" sz="9600" spc="-1" strike="noStrike">
                <a:solidFill>
                  <a:srgbClr val="ff0000"/>
                </a:solidFill>
                <a:latin typeface="华文隶书"/>
                <a:ea typeface="华文隶书"/>
              </a:rPr>
              <a:t>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838080" y="83808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Times New Roman"/>
                <a:ea typeface="隶书"/>
              </a:rPr>
              <a:t>老师的教学理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143000" y="1905120"/>
            <a:ext cx="52578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关注班上每一个学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没有最好，只有更好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班级没有后进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不以一时成败论英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希望每个人都有好前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4"/>
          <p:cNvGrpSpPr/>
          <p:nvPr/>
        </p:nvGrpSpPr>
        <p:grpSpPr>
          <a:xfrm>
            <a:off x="762120" y="2133720"/>
            <a:ext cx="380880" cy="3581280"/>
            <a:chOff x="762120" y="2133720"/>
            <a:chExt cx="380880" cy="3581280"/>
          </a:xfrm>
        </p:grpSpPr>
        <p:sp>
          <p:nvSpPr>
            <p:cNvPr id="256" name="AutoShape 5"/>
            <p:cNvSpPr/>
            <p:nvPr/>
          </p:nvSpPr>
          <p:spPr>
            <a:xfrm>
              <a:off x="762120" y="2971800"/>
              <a:ext cx="380880" cy="304920"/>
            </a:xfrm>
            <a:custGeom>
              <a:avLst/>
              <a:gdLst>
                <a:gd name="textAreaLeft" fmla="*/ 88920 w 380880"/>
                <a:gd name="textAreaRight" fmla="*/ 291960 w 380880"/>
                <a:gd name="textAreaTop" fmla="*/ 31680 h 304920"/>
                <a:gd name="textAreaBottom" fmla="*/ 1936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6"/>
            <p:cNvSpPr/>
            <p:nvPr/>
          </p:nvSpPr>
          <p:spPr>
            <a:xfrm>
              <a:off x="762120" y="2133720"/>
              <a:ext cx="380880" cy="304920"/>
            </a:xfrm>
            <a:custGeom>
              <a:avLst/>
              <a:gdLst>
                <a:gd name="textAreaLeft" fmla="*/ 88920 w 380880"/>
                <a:gd name="textAreaRight" fmla="*/ 291960 w 380880"/>
                <a:gd name="textAreaTop" fmla="*/ 31680 h 304920"/>
                <a:gd name="textAreaBottom" fmla="*/ 1936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utoShape 7"/>
            <p:cNvSpPr/>
            <p:nvPr/>
          </p:nvSpPr>
          <p:spPr>
            <a:xfrm>
              <a:off x="762120" y="3733920"/>
              <a:ext cx="380880" cy="304920"/>
            </a:xfrm>
            <a:custGeom>
              <a:avLst/>
              <a:gdLst>
                <a:gd name="textAreaLeft" fmla="*/ 88920 w 380880"/>
                <a:gd name="textAreaRight" fmla="*/ 291960 w 380880"/>
                <a:gd name="textAreaTop" fmla="*/ 31680 h 304920"/>
                <a:gd name="textAreaBottom" fmla="*/ 1936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utoShape 8"/>
            <p:cNvSpPr/>
            <p:nvPr/>
          </p:nvSpPr>
          <p:spPr>
            <a:xfrm>
              <a:off x="762120" y="4572000"/>
              <a:ext cx="380880" cy="304920"/>
            </a:xfrm>
            <a:custGeom>
              <a:avLst/>
              <a:gdLst>
                <a:gd name="textAreaLeft" fmla="*/ 88920 w 380880"/>
                <a:gd name="textAreaRight" fmla="*/ 291960 w 380880"/>
                <a:gd name="textAreaTop" fmla="*/ 31680 h 304920"/>
                <a:gd name="textAreaBottom" fmla="*/ 1936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9"/>
            <p:cNvSpPr/>
            <p:nvPr/>
          </p:nvSpPr>
          <p:spPr>
            <a:xfrm>
              <a:off x="762120" y="5410440"/>
              <a:ext cx="380880" cy="304560"/>
            </a:xfrm>
            <a:custGeom>
              <a:avLst/>
              <a:gdLst>
                <a:gd name="textAreaLeft" fmla="*/ 88920 w 380880"/>
                <a:gd name="textAreaRight" fmla="*/ 291960 w 380880"/>
                <a:gd name="textAreaTop" fmla="*/ 31680 h 304560"/>
                <a:gd name="textAreaBottom" fmla="*/ 1936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1835280" y="819000"/>
            <a:ext cx="66294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培养有理想抱负的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培养良好的道德品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培养良好的心理素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培养良好的学习习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严格要求</a:t>
            </a:r>
            <a:r>
              <a:rPr b="0" lang="en-US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, </a:t>
            </a:r>
            <a:r>
              <a:rPr b="0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自主管理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让每一位学生都健康成功</a:t>
            </a:r>
            <a:r>
              <a:rPr b="0" lang="en-US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WordArt 3"/>
          <p:cNvSpPr txBox="1"/>
          <p:nvPr/>
        </p:nvSpPr>
        <p:spPr>
          <a:xfrm rot="5400000">
            <a:off x="-1477440" y="2553480"/>
            <a:ext cx="4795920" cy="1523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ln w="0">
                  <a:noFill/>
                </a:ln>
                <a:solidFill>
                  <a:srgbClr val="c00000"/>
                </a:solidFill>
                <a:effectLst>
                  <a:outerShdw dist="38183" dir="2700000" blurRad="0" rotWithShape="0">
                    <a:srgbClr val="000000">
                      <a:alpha val="43000"/>
                    </a:srgbClr>
                  </a:outerShdw>
                </a:effectLst>
                <a:latin typeface="华文新魏"/>
              </a:rPr>
              <a:t>班级管理理念</a:t>
            </a:r>
            <a:endParaRPr b="0" lang="en-US" sz="5400" spc="-1" strike="noStrike">
              <a:ln w="0">
                <a:noFill/>
              </a:ln>
              <a:solidFill>
                <a:srgbClr val="c00000"/>
              </a:solidFill>
              <a:effectLst>
                <a:outerShdw dist="38183" dir="2700000" blurRad="0" rotWithShape="0">
                  <a:srgbClr val="000000">
                    <a:alpha val="43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6"/>
          <p:cNvSpPr/>
          <p:nvPr/>
        </p:nvSpPr>
        <p:spPr>
          <a:xfrm>
            <a:off x="900000" y="1844640"/>
            <a:ext cx="7178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0000"/>
                </a:solidFill>
                <a:latin typeface="汉仪中宋简"/>
                <a:ea typeface="汉仪中宋简"/>
              </a:rPr>
              <a:t>  </a:t>
            </a:r>
            <a:r>
              <a:rPr b="0" lang="zh-CN" sz="8000" spc="-1" strike="noStrike">
                <a:solidFill>
                  <a:srgbClr val="c00000"/>
                </a:solidFill>
                <a:latin typeface="汉仪中宋简"/>
                <a:ea typeface="汉仪中宋简"/>
              </a:rPr>
              <a:t>高三（ ）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c00000"/>
                </a:solidFill>
                <a:latin typeface="汉仪中宋简"/>
                <a:ea typeface="汉仪中宋简"/>
              </a:rPr>
              <a:t>   </a:t>
            </a:r>
            <a:r>
              <a:rPr b="0" lang="zh-CN" sz="8000" spc="-1" strike="noStrike">
                <a:solidFill>
                  <a:srgbClr val="c00000"/>
                </a:solidFill>
                <a:latin typeface="汉仪中宋简"/>
                <a:ea typeface="汉仪中宋简"/>
              </a:rPr>
              <a:t>联考分析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3"/>
          <p:cNvSpPr/>
          <p:nvPr/>
        </p:nvSpPr>
        <p:spPr>
          <a:xfrm>
            <a:off x="3581280" y="26668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7400" y="2492280"/>
            <a:ext cx="6829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600" spc="-1" strike="noStrike">
                <a:solidFill>
                  <a:srgbClr val="c00000"/>
                </a:solidFill>
                <a:latin typeface="华文隶书"/>
                <a:ea typeface="华文隶书"/>
              </a:rPr>
              <a:t>一、汇报篇</a:t>
            </a:r>
            <a:endParaRPr b="0" lang="en-US" sz="8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2895480" y="60948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979640" y="220500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00000"/>
                </a:solidFill>
                <a:latin typeface="Candara"/>
                <a:ea typeface="华文新魏"/>
              </a:rPr>
              <a:t>成绩状况介绍</a:t>
            </a:r>
            <a:endParaRPr b="0" lang="en-US" sz="6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360000" y="1100160"/>
            <a:ext cx="84056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我班在这次联考中，继前三次月考后又一次取得稳中略有上升的成绩，其中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… …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处于生源班级领先位置，尤其是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…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学科取得了班均分 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…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的好成绩，其余的 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…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处于生源班级前  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…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名位置。但各科发展不平衡，尤其是中等学生的学科发展不平衡现象较严重，主要表现在 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…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等学科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7400" y="2492280"/>
            <a:ext cx="6829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600" spc="-1" strike="noStrike">
                <a:solidFill>
                  <a:srgbClr val="c00000"/>
                </a:solidFill>
                <a:latin typeface="华文隶书"/>
                <a:ea typeface="华文隶书"/>
              </a:rPr>
              <a:t>二、反思篇</a:t>
            </a:r>
            <a:endParaRPr b="0" lang="en-US" sz="8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108000" y="1413000"/>
            <a:ext cx="8928000" cy="30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反思一</a:t>
            </a:r>
            <a:r>
              <a:rPr b="1" lang="en-US" sz="33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endParaRPr b="0" lang="en-US" sz="33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73e87"/>
                </a:solidFill>
                <a:latin typeface="黑体"/>
                <a:ea typeface="黑体"/>
              </a:rPr>
              <a:t>、这次考试在个人名次上发生了一些明显的变化，原因为何？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73e87"/>
                </a:solidFill>
                <a:latin typeface="黑体"/>
                <a:ea typeface="黑体"/>
              </a:rPr>
              <a:t>、我们也有不少同学在考试前也投入了大量精力，但未收到如期效果。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73e87"/>
                </a:solidFill>
                <a:latin typeface="黑体"/>
                <a:ea typeface="黑体"/>
              </a:rPr>
              <a:t>、联考是冶炼，心态最重要。经历是最好的老师。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advTm="15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32400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73e87"/>
                </a:solidFill>
                <a:latin typeface="黑体"/>
                <a:ea typeface="黑体"/>
              </a:rPr>
              <a:t>在这次考后，我们发现有些同学的总分高不了，究其原因，偏科太厉害！尤其要引起重视的是英语</a:t>
            </a:r>
            <a:r>
              <a:rPr b="0" lang="en-US" sz="2800" spc="-1" strike="noStrike">
                <a:solidFill>
                  <a:srgbClr val="073e87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73e87"/>
                </a:solidFill>
                <a:latin typeface="黑体"/>
                <a:ea typeface="黑体"/>
              </a:rPr>
              <a:t>数学和地理</a:t>
            </a:r>
            <a:r>
              <a:rPr b="0" lang="en-US" sz="2800" spc="-1" strike="noStrike">
                <a:solidFill>
                  <a:srgbClr val="073e87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73e87"/>
                </a:solidFill>
                <a:latin typeface="黑体"/>
                <a:ea typeface="黑体"/>
              </a:rPr>
              <a:t>因为这三科拉的分数最多</a:t>
            </a:r>
            <a:r>
              <a:rPr b="0" lang="en-US" sz="2800" spc="-1" strike="noStrike">
                <a:solidFill>
                  <a:srgbClr val="073e87"/>
                </a:solidFill>
                <a:latin typeface="黑体"/>
                <a:ea typeface="黑体"/>
              </a:rPr>
              <a:t>. </a:t>
            </a:r>
            <a:r>
              <a:rPr b="0" lang="zh-CN" sz="2800" spc="-1" strike="noStrike">
                <a:solidFill>
                  <a:srgbClr val="073e87"/>
                </a:solidFill>
                <a:latin typeface="黑体"/>
                <a:ea typeface="黑体"/>
              </a:rPr>
              <a:t>但部分学生在语文、政治、历史等学科也存在较大问题由于各个方面的原因，很多同学都在这些科目中出现“瘸腿”现象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73e87"/>
                </a:solidFill>
                <a:latin typeface="黑体"/>
                <a:ea typeface="黑体"/>
              </a:rPr>
              <a:t>试卷答题过程中暴露出来的不规范性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73e87"/>
                </a:solidFill>
                <a:latin typeface="黑体"/>
                <a:ea typeface="黑体"/>
              </a:rPr>
              <a:t>基础掌握不扎实、知识漏洞多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ff0000"/>
                </a:solidFill>
                <a:latin typeface="黑体"/>
                <a:ea typeface="黑体"/>
              </a:rPr>
              <a:t>反思二</a:t>
            </a:r>
            <a:r>
              <a:rPr b="0" lang="zh-CN" sz="46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0" lang="zh-CN" sz="4600" spc="-1" strike="noStrike">
                <a:solidFill>
                  <a:srgbClr val="ff0000"/>
                </a:solidFill>
                <a:latin typeface="黑体"/>
                <a:ea typeface="黑体"/>
              </a:rPr>
              <a:t>一模显露出的问题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468360" y="1063800"/>
            <a:ext cx="8496360" cy="38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反思三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别学生目前存在的问题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学习目的不明确，甚至模糊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集体主义观念淡漠、自私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责任感较差，自我中心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学习方法需要调整，没有计划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心理素质，适应性需要加强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同学关系、师生关系需要改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4"/>
          <p:cNvSpPr/>
          <p:nvPr/>
        </p:nvSpPr>
        <p:spPr>
          <a:xfrm>
            <a:off x="417600" y="3213000"/>
            <a:ext cx="8286840" cy="24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9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0000"/>
                </a:solidFill>
                <a:latin typeface="宋体"/>
                <a:ea typeface="华康简综艺"/>
              </a:rPr>
              <a:t>XXX</a:t>
            </a:r>
            <a:r>
              <a:rPr b="0" lang="zh-CN" sz="6600" spc="-1" strike="noStrike">
                <a:solidFill>
                  <a:srgbClr val="c00000"/>
                </a:solidFill>
                <a:latin typeface="宋体"/>
                <a:ea typeface="华康简综艺"/>
              </a:rPr>
              <a:t>中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9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00000"/>
                </a:solidFill>
                <a:latin typeface="宋体"/>
                <a:ea typeface="华康简综艺"/>
              </a:rPr>
              <a:t>高三年级家长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WordArt 5" descr=""/>
          <p:cNvPicPr/>
          <p:nvPr/>
        </p:nvPicPr>
        <p:blipFill>
          <a:blip r:embed="rId1"/>
          <a:stretch/>
        </p:blipFill>
        <p:spPr>
          <a:xfrm>
            <a:off x="603360" y="768240"/>
            <a:ext cx="7943760" cy="3310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179280" y="-20880"/>
            <a:ext cx="5943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Candara"/>
                <a:ea typeface="华文彩云"/>
              </a:rPr>
              <a:t>三、展望篇</a:t>
            </a:r>
            <a:endParaRPr b="0" lang="en-US" sz="8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826920" y="12682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1.</a:t>
            </a:r>
            <a:r>
              <a:rPr b="0" lang="zh-CN" sz="2400" spc="-1" strike="noStrike">
                <a:solidFill>
                  <a:srgbClr val="073e87"/>
                </a:solidFill>
                <a:latin typeface="Candara"/>
              </a:rPr>
              <a:t>落实学生的成绩情况之后，寻找该生的薄弱科目，确定补</a:t>
            </a:r>
            <a:r>
              <a:rPr b="0" lang="zh-CN" sz="2400" spc="-1" strike="noStrike">
                <a:solidFill>
                  <a:srgbClr val="ff0000"/>
                </a:solidFill>
                <a:latin typeface="Candara"/>
              </a:rPr>
              <a:t>薄</a:t>
            </a:r>
            <a:r>
              <a:rPr b="0" lang="zh-CN" sz="2400" spc="-1" strike="noStrike">
                <a:solidFill>
                  <a:srgbClr val="073e87"/>
                </a:solidFill>
                <a:latin typeface="Candara"/>
              </a:rPr>
              <a:t>学生名单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2.</a:t>
            </a:r>
            <a:r>
              <a:rPr b="0" lang="zh-CN" sz="2400" spc="-1" strike="noStrike">
                <a:solidFill>
                  <a:srgbClr val="073e87"/>
                </a:solidFill>
                <a:latin typeface="Candara"/>
              </a:rPr>
              <a:t>通过班主任与各科任老师的联系，对补薄学生给予更多的关注，并通过学生补</a:t>
            </a:r>
            <a:r>
              <a:rPr b="0" lang="zh-CN" sz="2400" spc="-1" strike="noStrike">
                <a:solidFill>
                  <a:srgbClr val="0080ff"/>
                </a:solidFill>
                <a:latin typeface="Candara"/>
              </a:rPr>
              <a:t>薄</a:t>
            </a:r>
            <a:r>
              <a:rPr b="0" lang="zh-CN" sz="2400" spc="-1" strike="noStrike">
                <a:solidFill>
                  <a:srgbClr val="073e87"/>
                </a:solidFill>
                <a:latin typeface="Candara"/>
              </a:rPr>
              <a:t>记录单，时时跟踪，使学生在薄弱科上有所进步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andara"/>
              </a:rPr>
              <a:t>联考之后我们老师要做的：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395280" y="2492280"/>
            <a:ext cx="79819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73e87"/>
                </a:solidFill>
                <a:latin typeface="Arial"/>
              </a:rPr>
              <a:t>加强思想教育工作，增强学生的自信心和成才欲望，充分利用课堂及班会时间给同学们加油鼓劲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304920" y="990720"/>
            <a:ext cx="816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73e87"/>
                </a:solidFill>
                <a:latin typeface="Arial"/>
              </a:rPr>
              <a:t>通过与各科任老师的联系，对学生给予更多的关注，使学生在薄弱科上有所进步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380880" y="4495680"/>
            <a:ext cx="800100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73e87"/>
                </a:solidFill>
                <a:latin typeface="Arial"/>
              </a:rPr>
              <a:t>严格常规管理，严格请假制度，严格班规班纪，稳定学习秩序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324000" y="4653000"/>
            <a:ext cx="882000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Arial"/>
              </a:rPr>
              <a:t>10.</a:t>
            </a:r>
            <a:r>
              <a:rPr b="1" lang="zh-CN" sz="3200" spc="-1" strike="noStrike">
                <a:solidFill>
                  <a:srgbClr val="073e87"/>
                </a:solidFill>
                <a:latin typeface="Arial"/>
              </a:rPr>
              <a:t>老师们全力以赴，精心备课。和学生同甘共苦，关爱每一个学生，用真情激励学生奋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380880" y="378936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Arial"/>
              </a:rPr>
              <a:t>9.</a:t>
            </a:r>
            <a:r>
              <a:rPr b="1" lang="zh-CN" sz="3200" spc="-1" strike="noStrike">
                <a:solidFill>
                  <a:srgbClr val="073e87"/>
                </a:solidFill>
                <a:latin typeface="Arial"/>
              </a:rPr>
              <a:t>加强自习课余时间的整体辅导和个别辅导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395280" y="292428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Arial"/>
              </a:rPr>
              <a:t>8.</a:t>
            </a:r>
            <a:r>
              <a:rPr b="1" lang="zh-CN" sz="3200" spc="-1" strike="noStrike">
                <a:solidFill>
                  <a:srgbClr val="073e87"/>
                </a:solidFill>
                <a:latin typeface="Arial"/>
              </a:rPr>
              <a:t>增强学生时间观念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431640" y="1828800"/>
            <a:ext cx="93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Arial"/>
              </a:rPr>
              <a:t>7.</a:t>
            </a:r>
            <a:r>
              <a:rPr b="1" lang="zh-CN" sz="3200" spc="-1" strike="noStrike">
                <a:solidFill>
                  <a:srgbClr val="073e87"/>
                </a:solidFill>
                <a:latin typeface="Arial"/>
              </a:rPr>
              <a:t>向偏科现象较严重的同学介绍好的学习经验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457200" y="5335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e87"/>
                </a:solidFill>
                <a:latin typeface="Arial"/>
              </a:rPr>
              <a:t>6.</a:t>
            </a:r>
            <a:r>
              <a:rPr b="1" lang="zh-CN" sz="2800" spc="-1" strike="noStrike">
                <a:solidFill>
                  <a:srgbClr val="073e87"/>
                </a:solidFill>
                <a:latin typeface="Arial"/>
              </a:rPr>
              <a:t>通过谈话帮助学生分析成绩，找出原因，帮助学生确定目标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3" descr="Season171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7" name="WordArt 4"/>
          <p:cNvSpPr txBox="1"/>
          <p:nvPr/>
        </p:nvSpPr>
        <p:spPr>
          <a:xfrm>
            <a:off x="1835280" y="1341360"/>
            <a:ext cx="6095880" cy="17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4584d3"/>
                </a:solidFill>
                <a:latin typeface="宋体"/>
              </a:rPr>
              <a:t>家长如何看待孩子</a:t>
            </a:r>
            <a:endParaRPr b="0" lang="en-US" sz="4800" spc="-1" strike="noStrike">
              <a:ln w="9360">
                <a:solidFill>
                  <a:srgbClr val="cc0000"/>
                </a:solidFill>
                <a:miter/>
              </a:ln>
              <a:solidFill>
                <a:srgbClr val="4584d3"/>
              </a:solidFill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WordArt 4"/>
          <p:cNvSpPr txBox="1"/>
          <p:nvPr/>
        </p:nvSpPr>
        <p:spPr>
          <a:xfrm>
            <a:off x="1979640" y="689040"/>
            <a:ext cx="51814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如何看待成绩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89" name="WordArt 5"/>
          <p:cNvSpPr txBox="1"/>
          <p:nvPr/>
        </p:nvSpPr>
        <p:spPr>
          <a:xfrm>
            <a:off x="0" y="2565360"/>
            <a:ext cx="5616720" cy="15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5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肯定子女的每一滴收获</a:t>
            </a:r>
            <a:endParaRPr b="0" lang="en-US" sz="2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90" name="WordArt 6"/>
          <p:cNvSpPr txBox="1"/>
          <p:nvPr/>
        </p:nvSpPr>
        <p:spPr>
          <a:xfrm>
            <a:off x="2484360" y="4365720"/>
            <a:ext cx="6418440" cy="17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1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鼓励子女的每一点进步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990720" y="685800"/>
            <a:ext cx="690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3e87"/>
                </a:solidFill>
                <a:latin typeface="黑体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73e87"/>
                </a:solidFill>
                <a:latin typeface="黑体"/>
                <a:ea typeface="黑体"/>
              </a:rPr>
              <a:t>家长</a:t>
            </a: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适当的期望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116000" y="2922480"/>
            <a:ext cx="73152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73e87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73e87"/>
                </a:solidFill>
                <a:latin typeface="Times New Roman"/>
              </a:rPr>
              <a:t>孩子是家长的希望，教育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73e87"/>
                </a:solidFill>
                <a:latin typeface="Times New Roman"/>
              </a:rPr>
              <a:t>孩子是老师的希望。父母对孩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73e87"/>
                </a:solidFill>
                <a:latin typeface="Times New Roman"/>
              </a:rPr>
              <a:t>期望值的高低直接影响孩子将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73e87"/>
                </a:solidFill>
                <a:latin typeface="Times New Roman"/>
              </a:rPr>
              <a:t>所取得成就的大小。应该有一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73e87"/>
                </a:solidFill>
                <a:latin typeface="Times New Roman"/>
              </a:rPr>
              <a:t>的期望值，尽量要恰到好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73e87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WordArt 4"/>
          <p:cNvSpPr txBox="1"/>
          <p:nvPr/>
        </p:nvSpPr>
        <p:spPr>
          <a:xfrm>
            <a:off x="1908000" y="1557360"/>
            <a:ext cx="504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幼圆"/>
              </a:rPr>
              <a:t>给孩子一个能达到的目标</a:t>
            </a:r>
            <a:endParaRPr b="0" lang="en-US" sz="1800" spc="-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幼圆"/>
              <a:ea typeface="幼圆"/>
            </a:endParaRPr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611280" y="189000"/>
            <a:ext cx="7618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73e87"/>
                </a:solidFill>
                <a:latin typeface="Times New Roman"/>
              </a:rPr>
              <a:t>*    </a:t>
            </a:r>
            <a:r>
              <a:rPr b="1" lang="zh-CN" sz="3400" spc="-1" strike="noStrike">
                <a:solidFill>
                  <a:srgbClr val="073e87"/>
                </a:solidFill>
                <a:latin typeface="Times New Roman"/>
              </a:rPr>
              <a:t>期望值过高：孩子拼命按家长的意愿生活、学习，也许父母感到满足，但孩子生活得较为压抑，甚至影响心理健康。尽力后仍达不到家长的要求，双方均失望，可能导致孩子自暴自弃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685800" y="2971800"/>
            <a:ext cx="7543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73e87"/>
                </a:solidFill>
                <a:latin typeface="Times New Roman"/>
              </a:rPr>
              <a:t>*     </a:t>
            </a:r>
            <a:r>
              <a:rPr b="1" lang="zh-CN" sz="3400" spc="-1" strike="noStrike">
                <a:solidFill>
                  <a:srgbClr val="073e87"/>
                </a:solidFill>
                <a:latin typeface="Times New Roman"/>
              </a:rPr>
              <a:t>期望值过低或没有：尚不自觉的孩子缺少外在精神支持，认为不重视、无所谓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609480" y="472428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5050"/>
                </a:solidFill>
                <a:latin typeface="Times New Roman"/>
              </a:rPr>
              <a:t>*     </a:t>
            </a:r>
            <a:r>
              <a:rPr b="1" lang="zh-CN" sz="3400" spc="-1" strike="noStrike">
                <a:solidFill>
                  <a:srgbClr val="ff5050"/>
                </a:solidFill>
                <a:latin typeface="Times New Roman"/>
              </a:rPr>
              <a:t>适当的期望值：在原有基础上适当拔高，不操之过急，不高不可攀，否则可能大家都失望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250920" y="189000"/>
            <a:ext cx="487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ff"/>
                </a:solidFill>
                <a:latin typeface="Tahoma"/>
              </a:rPr>
              <a:t>高考倒计时</a:t>
            </a:r>
            <a:r>
              <a:rPr b="1" lang="en-US" sz="4000" spc="-1" strike="noStrike">
                <a:solidFill>
                  <a:srgbClr val="0080ff"/>
                </a:solidFill>
                <a:latin typeface="Tahoma"/>
              </a:rPr>
              <a:t>161</a:t>
            </a:r>
            <a:r>
              <a:rPr b="1" lang="zh-CN" sz="4000" spc="-1" strike="noStrike">
                <a:solidFill>
                  <a:srgbClr val="0080ff"/>
                </a:solidFill>
                <a:latin typeface="Tahoma"/>
              </a:rPr>
              <a:t>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3"/>
          <p:cNvSpPr/>
          <p:nvPr/>
        </p:nvSpPr>
        <p:spPr>
          <a:xfrm>
            <a:off x="4643280" y="549360"/>
            <a:ext cx="838440" cy="0"/>
          </a:xfrm>
          <a:prstGeom prst="line">
            <a:avLst/>
          </a:prstGeom>
          <a:ln w="9360">
            <a:solidFill>
              <a:srgbClr val="0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5562720" y="1890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ff"/>
                </a:solidFill>
                <a:latin typeface="Tahoma"/>
              </a:rPr>
              <a:t>了解高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324000" y="907920"/>
            <a:ext cx="845820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aeff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、高考实行</a:t>
            </a:r>
            <a:r>
              <a:rPr b="1" lang="zh-CN" sz="2800" spc="-1" strike="noStrike">
                <a:solidFill>
                  <a:srgbClr val="5eae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三</a:t>
            </a: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+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综合</a:t>
            </a:r>
            <a:r>
              <a:rPr b="1" lang="zh-CN" sz="2800" spc="-1" strike="noStrike">
                <a:solidFill>
                  <a:srgbClr val="5eaeff"/>
                </a:solidFill>
                <a:latin typeface="Times New Roman"/>
              </a:rPr>
              <a:t>”</a:t>
            </a: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满分：</a:t>
            </a: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750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分</a:t>
            </a: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三：语文、数学、外语（各</a:t>
            </a: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150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分），共</a:t>
            </a: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450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综合</a:t>
            </a: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: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历史</a:t>
            </a:r>
            <a:r>
              <a:rPr b="1" lang="zh-CN" sz="1800" spc="-1" strike="noStrike">
                <a:solidFill>
                  <a:srgbClr val="5eaeff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 地理</a:t>
            </a:r>
            <a:r>
              <a:rPr b="1" lang="zh-CN" sz="1800" spc="-1" strike="noStrike">
                <a:solidFill>
                  <a:srgbClr val="5eaeff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 政治计入高考成绩，共</a:t>
            </a: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300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12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月</a:t>
            </a: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日</a:t>
            </a:r>
            <a:r>
              <a:rPr b="1" lang="en-US" sz="2800" spc="-1" strike="noStrike">
                <a:solidFill>
                  <a:srgbClr val="5eaeff"/>
                </a:solidFill>
                <a:latin typeface="Times New Roman"/>
              </a:rPr>
              <a:t>—</a:t>
            </a: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7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日网上报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12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月</a:t>
            </a: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日陕西省联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2011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年</a:t>
            </a: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月中旬汉中市联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、下学期参加省、市联考、体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、考前心理调整。</a:t>
            </a: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月</a:t>
            </a: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7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8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日高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7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月</a:t>
            </a: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25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日公布成绩，网上填报志愿开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185760" y="838080"/>
            <a:ext cx="3733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3"/>
          <p:cNvSpPr/>
          <p:nvPr/>
        </p:nvSpPr>
        <p:spPr>
          <a:xfrm>
            <a:off x="3886200" y="1219320"/>
            <a:ext cx="914400" cy="0"/>
          </a:xfrm>
          <a:prstGeom prst="line">
            <a:avLst/>
          </a:prstGeom>
          <a:ln w="38160">
            <a:solidFill>
              <a:srgbClr val="0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4800600" y="7621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ff"/>
                </a:solidFill>
                <a:latin typeface="Tahoma"/>
              </a:rPr>
              <a:t>了解孩子一天的每段时间应该在做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380880" y="2209680"/>
            <a:ext cx="74678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Tahoma"/>
              </a:rPr>
              <a:t>关键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7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00         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英语朗读听力时间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\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语文早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00 -2:00        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提倡回班级看书休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1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00       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下晚自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周日             休息 </a:t>
            </a:r>
            <a:r>
              <a:rPr b="1" lang="zh-CN" sz="2800" spc="-1" strike="noStrike">
                <a:solidFill>
                  <a:srgbClr val="0080ff"/>
                </a:solidFill>
                <a:latin typeface="Tahoma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6"/>
          <p:cNvGrpSpPr/>
          <p:nvPr/>
        </p:nvGrpSpPr>
        <p:grpSpPr>
          <a:xfrm>
            <a:off x="971640" y="549360"/>
            <a:ext cx="4868640" cy="1493640"/>
            <a:chOff x="971640" y="549360"/>
            <a:chExt cx="4868640" cy="1493640"/>
          </a:xfrm>
        </p:grpSpPr>
        <p:sp>
          <p:nvSpPr>
            <p:cNvPr id="306" name="Rectangle 7"/>
            <p:cNvSpPr/>
            <p:nvPr/>
          </p:nvSpPr>
          <p:spPr>
            <a:xfrm>
              <a:off x="971640" y="549360"/>
              <a:ext cx="48686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Group 8"/>
            <p:cNvGrpSpPr/>
            <p:nvPr/>
          </p:nvGrpSpPr>
          <p:grpSpPr>
            <a:xfrm>
              <a:off x="971640" y="549360"/>
              <a:ext cx="1130760" cy="1493640"/>
              <a:chOff x="971640" y="549360"/>
              <a:chExt cx="1130760" cy="1493640"/>
            </a:xfrm>
          </p:grpSpPr>
          <p:sp>
            <p:nvSpPr>
              <p:cNvPr id="308" name="Rectangle 9"/>
              <p:cNvSpPr/>
              <p:nvPr/>
            </p:nvSpPr>
            <p:spPr>
              <a:xfrm>
                <a:off x="971640" y="549360"/>
                <a:ext cx="1130760" cy="1493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9" name="Group 10"/>
              <p:cNvGrpSpPr/>
              <p:nvPr/>
            </p:nvGrpSpPr>
            <p:grpSpPr>
              <a:xfrm>
                <a:off x="971640" y="549360"/>
                <a:ext cx="1130760" cy="1493640"/>
                <a:chOff x="971640" y="549360"/>
                <a:chExt cx="1130760" cy="1493640"/>
              </a:xfrm>
            </p:grpSpPr>
            <p:sp>
              <p:nvSpPr>
                <p:cNvPr id="310" name="Rectangle 11"/>
                <p:cNvSpPr/>
                <p:nvPr/>
              </p:nvSpPr>
              <p:spPr>
                <a:xfrm>
                  <a:off x="971640" y="549360"/>
                  <a:ext cx="1130760" cy="1493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1" name="Group 12"/>
                <p:cNvGrpSpPr/>
                <p:nvPr/>
              </p:nvGrpSpPr>
              <p:grpSpPr>
                <a:xfrm>
                  <a:off x="971640" y="549360"/>
                  <a:ext cx="1130760" cy="1493640"/>
                  <a:chOff x="971640" y="549360"/>
                  <a:chExt cx="1130760" cy="1493640"/>
                </a:xfrm>
              </p:grpSpPr>
              <p:sp>
                <p:nvSpPr>
                  <p:cNvPr id="312" name="Rectangle 13"/>
                  <p:cNvSpPr/>
                  <p:nvPr/>
                </p:nvSpPr>
                <p:spPr>
                  <a:xfrm>
                    <a:off x="971640" y="549360"/>
                    <a:ext cx="1130760" cy="14936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Rectangle 14"/>
                  <p:cNvSpPr/>
                  <p:nvPr/>
                </p:nvSpPr>
                <p:spPr>
                  <a:xfrm>
                    <a:off x="971640" y="549360"/>
                    <a:ext cx="1130760" cy="14936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</a:t>
                    </a:r>
                    <a:r>
                      <a:rPr b="0" lang="en-US" sz="9200" spc="-1" strike="noStrike">
                        <a:solidFill>
                          <a:srgbClr val="666666"/>
                        </a:solidFill>
                        <a:latin typeface="Times New Roman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Times New Roman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314" name="Picture 15" descr="47292"/>
          <p:cNvPicPr/>
          <p:nvPr/>
        </p:nvPicPr>
        <p:blipFill>
          <a:blip r:embed="rId1"/>
          <a:stretch/>
        </p:blipFill>
        <p:spPr>
          <a:xfrm>
            <a:off x="6934320" y="464832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5"/>
          <p:cNvSpPr/>
          <p:nvPr/>
        </p:nvSpPr>
        <p:spPr>
          <a:xfrm>
            <a:off x="395280" y="641520"/>
            <a:ext cx="482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黑体"/>
                <a:ea typeface="黑体"/>
              </a:rPr>
              <a:t>尊敬的各位家长</a:t>
            </a:r>
            <a:r>
              <a:rPr b="1" lang="en-US" sz="4400" spc="-1" strike="noStrike">
                <a:solidFill>
                  <a:srgbClr val="c00000"/>
                </a:solidFill>
                <a:latin typeface="黑体"/>
                <a:ea typeface="黑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971640" y="2421000"/>
            <a:ext cx="727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汉真广标"/>
                <a:ea typeface="汉真广标"/>
              </a:rPr>
              <a:t>欢迎您的到来</a:t>
            </a:r>
            <a:r>
              <a:rPr b="0" lang="en-US" sz="8800" spc="-1" strike="noStrike">
                <a:solidFill>
                  <a:srgbClr val="ffffff"/>
                </a:solidFill>
                <a:latin typeface="汉真广标"/>
                <a:ea typeface="汉真广标"/>
              </a:rPr>
              <a:t>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path" presetID="6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0"/>
                                  </p:iterate>
                                  <p:childTnLst>
                                    <p:animMotion origin="layout" path="M -0.05104 -0.01734 C -0.04931 0.00185 -0.04445 0.02937 -0.02622 0.02868 C 0.00034 0.02868 0.00225 -0.06244 0.03368 -0.06244 C 0.06198 -0.06244 0.04705 0.01712 0.07396 0.01665 C 0.10243 0.01665 0.08715 -0.04093 0.11771 -0.04093 C 0.14496 -0.04093 0.12968 -0.00208 0.15399 -0.00208 C 0.17743 -0.00208 0.16528 -0.03191 0.18646 -0.03191 C 0.19861 -0.03191 0.19948 -0.02382 0.20087 -0.01734 E">
                                      <p:cBhvr>
                                        <p:cTn id="6" dur="5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2"/>
          <p:cNvSpPr/>
          <p:nvPr/>
        </p:nvSpPr>
        <p:spPr>
          <a:xfrm>
            <a:off x="533520" y="2095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3"/>
          <p:cNvSpPr/>
          <p:nvPr/>
        </p:nvSpPr>
        <p:spPr>
          <a:xfrm>
            <a:off x="4114800" y="609480"/>
            <a:ext cx="914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5105520" y="228600"/>
            <a:ext cx="35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了解孩子可能存在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问题以及应对措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609480" y="1447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ff"/>
                </a:solidFill>
                <a:latin typeface="Tahoma"/>
              </a:rPr>
              <a:t>自习课说话、看小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3733920" y="1447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ff"/>
                </a:solidFill>
                <a:latin typeface="Tahoma"/>
              </a:rPr>
              <a:t>提醒</a:t>
            </a:r>
            <a:r>
              <a:rPr b="1" lang="en-US" sz="2400" spc="-1" strike="noStrike">
                <a:solidFill>
                  <a:srgbClr val="0080ff"/>
                </a:solidFill>
                <a:latin typeface="Tahoma"/>
              </a:rPr>
              <a:t>: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晚间在自己的房间在看什么书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736560" y="2158920"/>
            <a:ext cx="26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ff"/>
                </a:solidFill>
                <a:latin typeface="Tahoma"/>
              </a:rPr>
              <a:t>上课、自习课睡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8"/>
          <p:cNvSpPr/>
          <p:nvPr/>
        </p:nvSpPr>
        <p:spPr>
          <a:xfrm>
            <a:off x="3759120" y="2158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晚间不要太晚  不要疲劳战要效率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/>
          <p:cNvSpPr/>
          <p:nvPr/>
        </p:nvSpPr>
        <p:spPr>
          <a:xfrm>
            <a:off x="762120" y="28954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ff"/>
                </a:solidFill>
                <a:latin typeface="Tahoma"/>
              </a:rPr>
              <a:t>补课现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3733920" y="28195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是否必要   如必要  勤和补课老师沟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1"/>
          <p:cNvSpPr/>
          <p:nvPr/>
        </p:nvSpPr>
        <p:spPr>
          <a:xfrm>
            <a:off x="838080" y="3733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ff"/>
                </a:solidFill>
                <a:latin typeface="Tahoma"/>
              </a:rPr>
              <a:t>心理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2"/>
          <p:cNvSpPr/>
          <p:nvPr/>
        </p:nvSpPr>
        <p:spPr>
          <a:xfrm>
            <a:off x="3886200" y="3581280"/>
            <a:ext cx="52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控制自己情绪 ，多观察、  多交流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注意交流的内容、方式、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3"/>
          <p:cNvSpPr/>
          <p:nvPr/>
        </p:nvSpPr>
        <p:spPr>
          <a:xfrm>
            <a:off x="762120" y="47242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ff"/>
                </a:solidFill>
                <a:latin typeface="Tahoma"/>
              </a:rPr>
              <a:t>租房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3962520" y="4800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ff"/>
                </a:solidFill>
                <a:latin typeface="Tahoma"/>
              </a:rPr>
              <a:t>提醒：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每天晚自习以后，孩子在哪里，在做什么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5"/>
          <p:cNvSpPr/>
          <p:nvPr/>
        </p:nvSpPr>
        <p:spPr>
          <a:xfrm>
            <a:off x="914400" y="5867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早恋现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6"/>
          <p:cNvSpPr/>
          <p:nvPr/>
        </p:nvSpPr>
        <p:spPr>
          <a:xfrm>
            <a:off x="3962520" y="58672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eaeff"/>
                </a:solidFill>
                <a:latin typeface="Tahoma"/>
              </a:rPr>
              <a:t>您发现什么异样了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1600200" y="4572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80ff"/>
                </a:solidFill>
                <a:uFillTx/>
                <a:latin typeface="Tahoma"/>
              </a:rPr>
              <a:t>对您的几点参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1600200" y="40384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ahoma"/>
              </a:rPr>
              <a:t>4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积极配合老师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1600200" y="31240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作好后勤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1523880" y="22096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掩藏负面情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1447920" y="129528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以孩子为中心  不要过分唠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5029200" y="3124080"/>
            <a:ext cx="4114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ff"/>
                </a:solidFill>
                <a:latin typeface="Tahoma"/>
              </a:rPr>
              <a:t>饮食要有奶类、豆类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ff"/>
                </a:solidFill>
                <a:latin typeface="Tahoma"/>
              </a:rPr>
              <a:t>蔬菜、水果、谷类、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8" descr="PE03254_"/>
          <p:cNvPicPr/>
          <p:nvPr/>
        </p:nvPicPr>
        <p:blipFill>
          <a:blip r:embed="rId1"/>
          <a:stretch/>
        </p:blipFill>
        <p:spPr>
          <a:xfrm>
            <a:off x="6629400" y="4589640"/>
            <a:ext cx="2514600" cy="226836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9"/>
          <p:cNvSpPr/>
          <p:nvPr/>
        </p:nvSpPr>
        <p:spPr>
          <a:xfrm>
            <a:off x="990720" y="601992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0"/>
          <p:cNvSpPr/>
          <p:nvPr/>
        </p:nvSpPr>
        <p:spPr>
          <a:xfrm>
            <a:off x="3593880" y="5943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ff"/>
                </a:solidFill>
                <a:latin typeface="Tahoma"/>
              </a:rPr>
              <a:t>让孩子感觉这是一个温暖的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1896840" y="4876920"/>
            <a:ext cx="16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ahoma"/>
              </a:rPr>
              <a:t>5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广开渠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CANDLES"/>
          <p:cNvPicPr/>
          <p:nvPr/>
        </p:nvPicPr>
        <p:blipFill>
          <a:blip r:embed="rId1"/>
          <a:stretch/>
        </p:blipFill>
        <p:spPr>
          <a:xfrm>
            <a:off x="0" y="2438280"/>
            <a:ext cx="9144000" cy="441972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3"/>
          <p:cNvSpPr/>
          <p:nvPr/>
        </p:nvSpPr>
        <p:spPr>
          <a:xfrm>
            <a:off x="2124000" y="50781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孩子的健康成长，有赖您精心的呵护、正确的教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991440" y="260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寄语家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"/>
          <p:cNvSpPr/>
          <p:nvPr/>
        </p:nvSpPr>
        <p:spPr>
          <a:xfrm>
            <a:off x="1187280" y="1125720"/>
            <a:ext cx="7561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生的成功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40%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学生的自身努力）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30%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教师的力量）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30%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家长的推动力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"/>
          <p:cNvSpPr/>
          <p:nvPr/>
        </p:nvSpPr>
        <p:spPr>
          <a:xfrm>
            <a:off x="430200" y="1676520"/>
            <a:ext cx="871380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73e87"/>
                </a:solidFill>
                <a:latin typeface="宋体"/>
              </a:rPr>
              <a:t>在思想上，家长能够</a:t>
            </a:r>
            <a:r>
              <a:rPr b="1" lang="zh-CN" sz="3200" spc="-1" strike="noStrike" u="sng">
                <a:solidFill>
                  <a:srgbClr val="073e87"/>
                </a:solidFill>
                <a:uFillTx/>
                <a:latin typeface="宋体"/>
              </a:rPr>
              <a:t>多与子女沟通</a:t>
            </a:r>
            <a:r>
              <a:rPr b="1" lang="zh-CN" sz="3200" spc="-1" strike="noStrike">
                <a:solidFill>
                  <a:srgbClr val="073e87"/>
                </a:solidFill>
                <a:latin typeface="宋体"/>
              </a:rPr>
              <a:t>，及时了解和掌握自己子女的心理动向，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给其学习施加一定的压力</a:t>
            </a:r>
            <a:r>
              <a:rPr b="1" lang="zh-CN" sz="3200" spc="-1" strike="noStrike">
                <a:solidFill>
                  <a:srgbClr val="073e87"/>
                </a:solidFill>
                <a:latin typeface="宋体"/>
              </a:rPr>
              <a:t>注意对子女的教育方式方法，要</a:t>
            </a:r>
            <a:r>
              <a:rPr b="1" lang="zh-CN" sz="3200" spc="-1" strike="noStrike" u="sng">
                <a:solidFill>
                  <a:srgbClr val="073e87"/>
                </a:solidFill>
                <a:uFillTx/>
                <a:latin typeface="宋体"/>
              </a:rPr>
              <a:t>多鼓励少批评；</a:t>
            </a:r>
            <a:r>
              <a:rPr b="1" lang="zh-CN" sz="3200" spc="-1" strike="noStrike">
                <a:solidFill>
                  <a:srgbClr val="073e87"/>
                </a:solidFill>
                <a:latin typeface="宋体"/>
              </a:rPr>
              <a:t>对子女</a:t>
            </a:r>
            <a:r>
              <a:rPr b="1" lang="zh-CN" sz="3200" spc="-1" strike="noStrike" u="sng">
                <a:solidFill>
                  <a:srgbClr val="073e87"/>
                </a:solidFill>
                <a:uFillTx/>
                <a:latin typeface="宋体"/>
              </a:rPr>
              <a:t>要有一定的期望</a:t>
            </a:r>
            <a:r>
              <a:rPr b="1" lang="zh-CN" sz="3200" spc="-1" strike="noStrike">
                <a:solidFill>
                  <a:srgbClr val="073e87"/>
                </a:solidFill>
                <a:latin typeface="宋体"/>
              </a:rPr>
              <a:t>，但不能过高或过低，注意观察学生变化，及时发现并纠正其不良行为而切忌护短；</a:t>
            </a: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）、要教育孩子怎样做人，关心孩子的思想动态使孩子有正确的思想导向、明确的奋斗目标。</a:t>
            </a: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）。工作再忙也要抽点时间来多了解孩子在校的表现和学习成绩情况。因为孩子只有一个呀，我们的一切工作难道不是为了孩子将来的美好前途吗？</a:t>
            </a: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73e87"/>
                </a:solidFill>
                <a:latin typeface="Arial"/>
              </a:rPr>
              <a:t>要学会欣赏孩子，要善于发现他们的闪光点，及时给予鼓励，以增强他们的自信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1127160" y="38088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黑体"/>
              </a:rPr>
              <a:t>希望家长配合的工作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457200" y="22860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宋体"/>
              </a:rPr>
              <a:t>2. </a:t>
            </a:r>
            <a:r>
              <a:rPr b="1" lang="zh-CN" sz="3600" spc="-1" strike="noStrike">
                <a:solidFill>
                  <a:srgbClr val="073e87"/>
                </a:solidFill>
                <a:latin typeface="宋体"/>
              </a:rPr>
              <a:t>在生活上，家长能够合理安排饮食，注意补充营养关心照顾，身体是革命的本钱 。提醒孩子注意安全（交通安全、运动安全、饮食安全等），保证学生按时作息，不要因晚上学习时间过长或看电视无度、睡眠不足影响第二天学习；有特殊情况要请假；</a:t>
            </a:r>
            <a:r>
              <a:rPr b="1" lang="zh-CN" sz="3600" spc="-1" strike="noStrike">
                <a:solidFill>
                  <a:srgbClr val="073e87"/>
                </a:solidFill>
                <a:latin typeface="Arial"/>
              </a:rPr>
              <a:t>控制零花钱，引导孩子合理消费；抓好子女在家的行为习惯。如良好的休息、科学的安排学习、适量的家务劳动（劳动是教育人的较好方式，只有劳动，他才懂得来之不易，懂得珍惜）等。在孩子面前做好表率，身教重于言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3"/>
          <p:cNvSpPr/>
          <p:nvPr/>
        </p:nvSpPr>
        <p:spPr>
          <a:xfrm>
            <a:off x="574560" y="304920"/>
            <a:ext cx="856944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73e87"/>
                </a:solidFill>
                <a:latin typeface="宋体"/>
              </a:rPr>
              <a:t>在学习上，家长能够教育孩子在上课时专心听老师讲课，不懂就是不懂，要虚心请教。强调“认真”二字。少做最好不做与学习无关的事。多让他们在学习、精神等各方面得到父母的支持和鼓励，给孩子创造良好的学习环境（物质、文化、精神环境）；</a:t>
            </a:r>
            <a:r>
              <a:rPr b="1" lang="zh-CN" sz="2800" spc="-1" strike="noStrike">
                <a:solidFill>
                  <a:srgbClr val="073e87"/>
                </a:solidFill>
                <a:latin typeface="Arial"/>
              </a:rPr>
              <a:t>不以成绩论英雄，您的子女学习成绩好，并不意味着思想好、能力高，您的子女学习成绩落后，并不意味着思想差、能力低。现在的社会需要各种各样的人才。只要有能力，任何一个学生都能在社会上立足，并且成就一番事业。科学的分析子女的成绩档案。不与其他同学作比较，而是着眼于自身的比较。比较前后几次考试，看是否退步，原因是什么。比较各科之间的成绩，看哪科是弱项，多花些时间补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0" y="6094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73e87"/>
                </a:solidFill>
                <a:latin typeface="宋体"/>
              </a:rPr>
              <a:t>在教育方式上，要尊重学生人格，用科学方法教育、引导，切忌因简单、粗暴的武力压服而影响其身心健康，导致教育失败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0" y="2286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宋体"/>
              </a:rPr>
              <a:t>5. </a:t>
            </a:r>
            <a:r>
              <a:rPr b="1" lang="zh-CN" sz="3200" spc="-1" strike="noStrike">
                <a:solidFill>
                  <a:srgbClr val="073e87"/>
                </a:solidFill>
                <a:latin typeface="宋体"/>
              </a:rPr>
              <a:t>家长要</a:t>
            </a:r>
            <a:r>
              <a:rPr b="1" lang="zh-CN" sz="3200" spc="-1" strike="noStrike" u="sng">
                <a:solidFill>
                  <a:srgbClr val="073e87"/>
                </a:solidFill>
                <a:uFillTx/>
                <a:latin typeface="宋体"/>
              </a:rPr>
              <a:t>多和老师联系</a:t>
            </a:r>
            <a:r>
              <a:rPr b="1" lang="zh-CN" sz="3200" spc="-1" strike="noStrike">
                <a:solidFill>
                  <a:srgbClr val="073e87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支持班级工作，</a:t>
            </a:r>
            <a:r>
              <a:rPr b="1" lang="zh-CN" sz="3200" spc="-1" strike="noStrike">
                <a:solidFill>
                  <a:srgbClr val="073e87"/>
                </a:solidFill>
                <a:latin typeface="宋体"/>
              </a:rPr>
              <a:t>及时掌握子女在学校的学习情况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帮助学生树立人生或高考目标</a:t>
            </a:r>
            <a:r>
              <a:rPr b="1" lang="zh-CN" sz="3200" spc="-1" strike="noStrike">
                <a:solidFill>
                  <a:srgbClr val="073e87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"/>
          <p:cNvSpPr/>
          <p:nvPr/>
        </p:nvSpPr>
        <p:spPr>
          <a:xfrm>
            <a:off x="0" y="41148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总之，希望家长能以负责的态度，正确的方法，与教师共同塑造学生健康的心态，培养其良好行为习惯，激发其勇于创新、不懈努力的积极性的目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228600" y="1981080"/>
            <a:ext cx="8610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宋体"/>
                <a:ea typeface="黑体"/>
              </a:rPr>
              <a:t>我们重视学生的成长，而不仅仅是成功；我们重视学生的人格，而不仅仅是成绩；我们重视学生的创新，而不仅仅是接受；我们重视学生的终身，而不仅仅是现在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4419720" y="4952880"/>
            <a:ext cx="3809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1965240" y="40831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WordArt 5"/>
          <p:cNvSpPr txBox="1"/>
          <p:nvPr/>
        </p:nvSpPr>
        <p:spPr>
          <a:xfrm>
            <a:off x="380880" y="380880"/>
            <a:ext cx="2743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共勉：</a:t>
            </a:r>
            <a:endParaRPr b="1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</p:spTree>
  </p:cSld>
  <p:transition>
    <p:random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2"/>
          <p:cNvSpPr/>
          <p:nvPr/>
        </p:nvSpPr>
        <p:spPr>
          <a:xfrm>
            <a:off x="1143000" y="533520"/>
            <a:ext cx="769608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成功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=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智商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+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情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     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(20%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(80%</a:t>
            </a:r>
            <a:r>
              <a:rPr b="0" lang="zh-CN" sz="4800" spc="-1" strike="noStrike">
                <a:solidFill>
                  <a:srgbClr val="ff0000"/>
                </a:solidFill>
                <a:latin typeface="宋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3" descr="cartoon3"/>
          <p:cNvPicPr/>
          <p:nvPr/>
        </p:nvPicPr>
        <p:blipFill>
          <a:blip r:embed="rId1"/>
          <a:stretch/>
        </p:blipFill>
        <p:spPr>
          <a:xfrm>
            <a:off x="3886200" y="3297240"/>
            <a:ext cx="5257800" cy="3560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228600" y="0"/>
            <a:ext cx="85345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指責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怨天尤人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敵意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好斗逞勇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恐懼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畏首畏尾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憐憫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自怨自艾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嘲諷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消極退縮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嫉妒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勾心斗角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羞辱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心懷內疚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容忍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極富耐性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鼓勵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充滿自信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讚美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心存感恩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嘉許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愛人愛己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接納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心胸寬大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認同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掌握目標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分享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慷慨大方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誠實公平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必能維護正義真理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安定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信任自己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信任他人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友善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對世界多一份關懷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祥和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有和平的心境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3" descr="0000"/>
          <p:cNvPicPr/>
          <p:nvPr/>
        </p:nvPicPr>
        <p:blipFill>
          <a:blip r:embed="rId1"/>
          <a:stretch/>
        </p:blipFill>
        <p:spPr>
          <a:xfrm>
            <a:off x="6858000" y="18288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矩形 8"/>
          <p:cNvSpPr/>
          <p:nvPr/>
        </p:nvSpPr>
        <p:spPr>
          <a:xfrm>
            <a:off x="250920" y="1341360"/>
            <a:ext cx="208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400" spc="-1" strike="noStrike" u="sng">
                <a:solidFill>
                  <a:srgbClr val="008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8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8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400" spc="-1" strike="noStrike" u="sng">
                <a:solidFill>
                  <a:srgbClr val="008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400" spc="-1" strike="noStrike" u="sng">
                <a:solidFill>
                  <a:srgbClr val="008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400" spc="-1" strike="noStrike" u="sng">
                <a:solidFill>
                  <a:srgbClr val="008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400" spc="-1" strike="noStrike" u="sng">
                <a:solidFill>
                  <a:srgbClr val="008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 u="sng">
                <a:solidFill>
                  <a:srgbClr val="0080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 u="sng">
                <a:solidFill>
                  <a:srgbClr val="0080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400" spc="-1" strike="noStrike" u="sng">
                <a:solidFill>
                  <a:srgbClr val="0080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400" spc="-1" strike="noStrike" u="sng">
                <a:solidFill>
                  <a:srgbClr val="0080ff"/>
                </a:solidFill>
                <a:uFillTx/>
                <a:latin typeface="Calibri"/>
                <a:hlinkClick r:id="rId11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400" spc="-1" strike="noStrike" u="sng">
                <a:solidFill>
                  <a:srgbClr val="008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400" spc="-1" strike="noStrike" u="sng">
                <a:solidFill>
                  <a:srgbClr val="0080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41" name="Picture 4" descr="BJ3057"/>
          <p:cNvPicPr/>
          <p:nvPr/>
        </p:nvPicPr>
        <p:blipFill>
          <a:blip r:embed="rId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WordArt 5"/>
          <p:cNvSpPr txBox="1"/>
          <p:nvPr/>
        </p:nvSpPr>
        <p:spPr>
          <a:xfrm>
            <a:off x="1600200" y="1143000"/>
            <a:ext cx="56386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一切为了孩子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做好孩子的护航使者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2"/>
          <p:cNvSpPr/>
          <p:nvPr/>
        </p:nvSpPr>
        <p:spPr>
          <a:xfrm>
            <a:off x="457200" y="1143000"/>
            <a:ext cx="830592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5eaeff"/>
                </a:solidFill>
                <a:latin typeface="楷体_GB2312"/>
                <a:ea typeface="楷体_GB2312"/>
              </a:rPr>
              <a:t>  </a:t>
            </a:r>
            <a:r>
              <a:rPr b="1" i="1" lang="zh-CN" sz="4000" spc="-1" strike="noStrike">
                <a:solidFill>
                  <a:srgbClr val="5eaeff"/>
                </a:solidFill>
                <a:latin typeface="楷体_GB2312"/>
                <a:ea typeface="楷体_GB2312"/>
              </a:rPr>
              <a:t>孩子们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eaeff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5eaeff"/>
                </a:solidFill>
                <a:latin typeface="楷体_GB2312"/>
                <a:ea typeface="楷体_GB2312"/>
              </a:rPr>
              <a:t>爸爸、妈妈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eaeff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5eaeff"/>
                </a:solidFill>
                <a:latin typeface="楷体_GB2312"/>
                <a:ea typeface="楷体_GB2312"/>
              </a:rPr>
              <a:t>你们辛苦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eaeff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5eaeff"/>
                </a:solidFill>
                <a:latin typeface="楷体_GB2312"/>
                <a:ea typeface="楷体_GB2312"/>
              </a:rPr>
              <a:t>我们平时忙于学习，因此和你们交流得机会很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eaeff"/>
                </a:solidFill>
                <a:latin typeface="楷体_GB2312"/>
                <a:ea typeface="楷体_GB2312"/>
              </a:rPr>
              <a:t>但是作为你的儿女，我们深知你们很辛苦，也很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eaeff"/>
                </a:solidFill>
                <a:latin typeface="楷体_GB2312"/>
                <a:ea typeface="楷体_GB2312"/>
              </a:rPr>
              <a:t>我们回报您的唯一办法就是好好学习，不虚度光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eaeff"/>
                </a:solidFill>
                <a:latin typeface="楷体_GB2312"/>
                <a:ea typeface="楷体_GB2312"/>
              </a:rPr>
              <a:t>争取考取理想大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eae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5eaeff"/>
                </a:solidFill>
                <a:latin typeface="楷体_GB2312"/>
                <a:ea typeface="楷体_GB2312"/>
              </a:rPr>
              <a:t>爸爸妈妈你们千万要注意身体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eae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5eaeff"/>
                </a:solidFill>
                <a:latin typeface="楷体_GB2312"/>
                <a:ea typeface="楷体_GB2312"/>
              </a:rPr>
              <a:t>儿女在这里真诚地道一声：谢谢你们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181080" y="246204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刻苦努力，不断拼搏，是我们奋进的号角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坚忍顽强，超越自我，是我们追求的品格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克服困难，励志向前，是我们不改的信念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乌鸦反哺，回报父母，是我们不变的誓言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健康成长，创造辉煌，是我们共同的心愿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WordArt 3"/>
          <p:cNvSpPr txBox="1"/>
          <p:nvPr/>
        </p:nvSpPr>
        <p:spPr>
          <a:xfrm rot="513000">
            <a:off x="541080" y="371520"/>
            <a:ext cx="6557760" cy="187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350000"/>
                </a:gradFill>
                <a:latin typeface="宋体"/>
              </a:rPr>
              <a:t>说给爸爸妈妈的话</a:t>
            </a:r>
            <a:endParaRPr b="0" lang="en-US" sz="4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350000"/>
              </a:gradFill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2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363" name="Rectangle 3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Group 4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365" name="Rectangle 5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6" name="Group 6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367" name="Rectangle 7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8" name="Group 8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369" name="Rectangle 9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Rectangle 10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en-US" sz="9200" spc="-1" strike="noStrike">
                        <a:solidFill>
                          <a:srgbClr val="666666"/>
                        </a:solidFill>
                        <a:latin typeface="Times New Roman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Times New Roman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371" name="Picture 11" descr="19188"/>
          <p:cNvPicPr/>
          <p:nvPr/>
        </p:nvPicPr>
        <p:blipFill>
          <a:blip r:embed="rId1"/>
          <a:stretch/>
        </p:blipFill>
        <p:spPr>
          <a:xfrm>
            <a:off x="914400" y="609480"/>
            <a:ext cx="7238880" cy="428652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12"/>
          <p:cNvSpPr/>
          <p:nvPr/>
        </p:nvSpPr>
        <p:spPr>
          <a:xfrm>
            <a:off x="685800" y="50292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8080"/>
                </a:solidFill>
                <a:latin typeface="Tahoma"/>
                <a:ea typeface="华文行楷"/>
              </a:rPr>
              <a:t>雪莱说“冬天到了，春天还会远吗？”春天是万物复苏的季节，我们仍在快乐的播种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51777"/>
          <p:cNvPicPr/>
          <p:nvPr/>
        </p:nvPicPr>
        <p:blipFill>
          <a:blip r:embed="rId1"/>
          <a:stretch/>
        </p:blipFill>
        <p:spPr>
          <a:xfrm>
            <a:off x="1066680" y="533520"/>
            <a:ext cx="6934320" cy="426708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3"/>
          <p:cNvSpPr/>
          <p:nvPr/>
        </p:nvSpPr>
        <p:spPr>
          <a:xfrm>
            <a:off x="990720" y="481644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339933"/>
                </a:solidFill>
                <a:latin typeface="Tahoma"/>
                <a:ea typeface="华文行楷"/>
              </a:rPr>
              <a:t>迎接高考一路坎坷，我们已感受到夏雨的清凉。当今年的六月来临，我相信我们已经做好了准备。这应该是一条通向成功的道路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2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376" name="Rectangle 3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4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378" name="Rectangle 5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9" name="Group 6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380" name="Rectangle 7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1" name="Group 8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382" name="Rectangle 9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Rectangle 10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en-US" sz="9200" spc="-1" strike="noStrike">
                        <a:solidFill>
                          <a:srgbClr val="666666"/>
                        </a:solidFill>
                        <a:latin typeface="Times New Roman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Times New Roman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384" name="Picture 11" descr="64068"/>
          <p:cNvPicPr/>
          <p:nvPr/>
        </p:nvPicPr>
        <p:blipFill>
          <a:blip r:embed="rId1"/>
          <a:stretch/>
        </p:blipFill>
        <p:spPr>
          <a:xfrm>
            <a:off x="838080" y="609480"/>
            <a:ext cx="7391520" cy="444672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12"/>
          <p:cNvSpPr/>
          <p:nvPr/>
        </p:nvSpPr>
        <p:spPr>
          <a:xfrm>
            <a:off x="762120" y="51055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ff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cc3300"/>
                </a:solidFill>
                <a:latin typeface="Tahoma"/>
                <a:ea typeface="华文行楷"/>
              </a:rPr>
              <a:t>秋天是收获的季节，我们却在播种。道路可能很艰苦，但我们是朝着太阳的方向前进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2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387" name="Rectangle 3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Group 4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389" name="Rectangle 5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0" name="Group 6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391" name="Rectangle 7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92" name="Group 8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393" name="Rectangle 9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Rectangle 10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en-US" sz="9200" spc="-1" strike="noStrike">
                        <a:solidFill>
                          <a:srgbClr val="666666"/>
                        </a:solidFill>
                        <a:latin typeface="Times New Roman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Times New Roman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395" name="Text Box 11"/>
          <p:cNvSpPr/>
          <p:nvPr/>
        </p:nvSpPr>
        <p:spPr>
          <a:xfrm>
            <a:off x="1066680" y="510552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73e87"/>
                </a:solidFill>
                <a:latin typeface="Tahoma"/>
                <a:ea typeface="华文行楷"/>
              </a:rPr>
              <a:t>雪花儿飘起来了，我们舍弃了小屋的舒适，沿着这条路仍在艰难地跋涉</a:t>
            </a:r>
            <a:r>
              <a:rPr b="1" lang="en-US" sz="3200" spc="-1" strike="noStrike">
                <a:solidFill>
                  <a:srgbClr val="073e87"/>
                </a:solidFill>
                <a:latin typeface="Tahoma"/>
                <a:ea typeface="华文行楷"/>
              </a:rPr>
              <a:t>…</a:t>
            </a:r>
            <a:r>
              <a:rPr b="1" lang="en-US" sz="2800" spc="-1" strike="noStrike">
                <a:solidFill>
                  <a:srgbClr val="073e87"/>
                </a:solidFill>
                <a:latin typeface="Tahoma"/>
                <a:ea typeface="华文行楷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12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397" name="Rectangle 13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Group 14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399" name="Rectangle 15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0" name="Group 16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401" name="Rectangle 17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2" name="Group 18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403" name="Rectangle 19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Rectangle 20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en-US" sz="9200" spc="-1" strike="noStrike">
                        <a:solidFill>
                          <a:srgbClr val="666666"/>
                        </a:solidFill>
                        <a:latin typeface="Times New Roman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Times New Roman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405" name="Picture 21" descr="59773"/>
          <p:cNvPicPr/>
          <p:nvPr/>
        </p:nvPicPr>
        <p:blipFill>
          <a:blip r:embed="rId1"/>
          <a:stretch/>
        </p:blipFill>
        <p:spPr>
          <a:xfrm>
            <a:off x="914400" y="533520"/>
            <a:ext cx="7086600" cy="4486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2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407" name="Rectangle 3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8" name="Group 4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409" name="Rectangle 5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0" name="Group 6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411" name="Rectangle 7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12" name="Group 8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413" name="Rectangle 9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Rectangle 10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en-US" sz="9200" spc="-1" strike="noStrike">
                        <a:solidFill>
                          <a:srgbClr val="666666"/>
                        </a:solidFill>
                        <a:latin typeface="Times New Roman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Times New Roman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415" name="Picture 11" descr="19299"/>
          <p:cNvPicPr/>
          <p:nvPr/>
        </p:nvPicPr>
        <p:blipFill>
          <a:blip r:embed="rId1"/>
          <a:stretch/>
        </p:blipFill>
        <p:spPr>
          <a:xfrm>
            <a:off x="1066680" y="457200"/>
            <a:ext cx="6858000" cy="443556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12"/>
          <p:cNvSpPr/>
          <p:nvPr/>
        </p:nvSpPr>
        <p:spPr>
          <a:xfrm>
            <a:off x="838080" y="50292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ff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339933"/>
                </a:solidFill>
                <a:latin typeface="Tahoma"/>
                <a:ea typeface="华文行楷"/>
              </a:rPr>
              <a:t>走过春夏秋冬，走过风风雨雨</a:t>
            </a:r>
            <a:r>
              <a:rPr b="1" lang="en-US" sz="3200" spc="-1" strike="noStrike">
                <a:solidFill>
                  <a:srgbClr val="339933"/>
                </a:solidFill>
                <a:latin typeface="Tahoma"/>
                <a:ea typeface="华文行楷"/>
              </a:rPr>
              <a:t>……</a:t>
            </a:r>
            <a:r>
              <a:rPr b="1" lang="zh-CN" sz="3200" spc="-1" strike="noStrike">
                <a:solidFill>
                  <a:srgbClr val="339933"/>
                </a:solidFill>
                <a:latin typeface="Tahoma"/>
                <a:ea typeface="华文行楷"/>
              </a:rPr>
              <a:t>当我们如雄鹰展翅，所有的辛苦，所有的泪水，都会在一笑中淡然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3" descr="ZW_015"/>
          <p:cNvPicPr/>
          <p:nvPr/>
        </p:nvPicPr>
        <p:blipFill>
          <a:blip r:embed="rId1"/>
          <a:stretch/>
        </p:blipFill>
        <p:spPr>
          <a:xfrm>
            <a:off x="2050920" y="2852640"/>
            <a:ext cx="3745080" cy="317664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Candara"/>
              </a:rPr>
              <a:t>家长代表经验交流</a:t>
            </a:r>
            <a:endParaRPr b="0" lang="en-US" sz="7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228600" y="1981080"/>
            <a:ext cx="8610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宋体"/>
                <a:ea typeface="黑体"/>
              </a:rPr>
              <a:t>我们重视学生的成长，而不仅仅是成功；我们重视学生的人格，而不仅仅是成绩；我们重视学生的创新，而不仅仅是接受；我们重视学生的终身，而不仅仅是现在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"/>
          <p:cNvSpPr/>
          <p:nvPr/>
        </p:nvSpPr>
        <p:spPr>
          <a:xfrm>
            <a:off x="4419720" y="4952880"/>
            <a:ext cx="3809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1965240" y="40831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WordArt 5"/>
          <p:cNvSpPr txBox="1"/>
          <p:nvPr/>
        </p:nvSpPr>
        <p:spPr>
          <a:xfrm>
            <a:off x="380880" y="380880"/>
            <a:ext cx="2743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共勉：</a:t>
            </a:r>
            <a:endParaRPr b="1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</p:spTree>
  </p:cSld>
  <p:transition>
    <p:random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家长会13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380880" y="22096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首先感谢您在百忙之中抽空来参加家长会。关心、帮助、督促贵子女是我们共同的心愿！使您的孩子得到全面发展、提高是我们共同的目标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304920" y="685800"/>
            <a:ext cx="58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d028"/>
                </a:solidFill>
                <a:latin typeface="黑体"/>
                <a:ea typeface="黑体"/>
              </a:rPr>
              <a:t>尊敬的各位家长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BD06662_"/>
          <p:cNvPicPr/>
          <p:nvPr/>
        </p:nvPicPr>
        <p:blipFill>
          <a:blip r:embed="rId1"/>
          <a:stretch/>
        </p:blipFill>
        <p:spPr>
          <a:xfrm>
            <a:off x="6400800" y="0"/>
            <a:ext cx="2514600" cy="2224080"/>
          </a:xfrm>
          <a:prstGeom prst="rect">
            <a:avLst/>
          </a:prstGeom>
          <a:ln w="0">
            <a:noFill/>
          </a:ln>
        </p:spPr>
      </p:pic>
      <p:sp>
        <p:nvSpPr>
          <p:cNvPr id="246" name="WordArt 5"/>
          <p:cNvSpPr txBox="1"/>
          <p:nvPr/>
        </p:nvSpPr>
        <p:spPr>
          <a:xfrm>
            <a:off x="2195640" y="5624640"/>
            <a:ext cx="527508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我们需要共同努力！</a:t>
            </a:r>
            <a:endParaRPr b="1" lang="en-US" sz="4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200532382337zhangjunfe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5" name="WordArt 3"/>
          <p:cNvSpPr txBox="1"/>
          <p:nvPr/>
        </p:nvSpPr>
        <p:spPr>
          <a:xfrm>
            <a:off x="4067280" y="1125360"/>
            <a:ext cx="41148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欢 迎 监 督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26" name="WordArt 4"/>
          <p:cNvSpPr txBox="1"/>
          <p:nvPr/>
        </p:nvSpPr>
        <p:spPr>
          <a:xfrm>
            <a:off x="1547640" y="0"/>
            <a:ext cx="41911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感 谢 指 导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27" name="WordArt 6"/>
          <p:cNvSpPr txBox="1"/>
          <p:nvPr/>
        </p:nvSpPr>
        <p:spPr>
          <a:xfrm>
            <a:off x="609480" y="3200400"/>
            <a:ext cx="7994880" cy="16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祝各位家长：家庭幸福，事业顺利！</a:t>
            </a:r>
            <a:endParaRPr b="0" lang="en-US" sz="4800" spc="-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random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2" descr="BJ30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0" y="4952520"/>
            <a:ext cx="60372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Candara"/>
                <a:ea typeface="楷体_GB2312"/>
              </a:rPr>
              <a:t>让我们携起来，共创孩子的美好明天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30" name="Picture 5" descr="ZW_015"/>
          <p:cNvPicPr/>
          <p:nvPr/>
        </p:nvPicPr>
        <p:blipFill>
          <a:blip r:embed="rId2"/>
          <a:stretch/>
        </p:blipFill>
        <p:spPr>
          <a:xfrm>
            <a:off x="179280" y="3716280"/>
            <a:ext cx="2136960" cy="2819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1143000" y="914400"/>
            <a:ext cx="8001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成長只有一次</a:t>
            </a:r>
            <a:r>
              <a:rPr b="0" lang="en-US" sz="4400" spc="-1" strike="noStrike">
                <a:solidFill>
                  <a:srgbClr val="ff3300"/>
                </a:solidFill>
                <a:latin typeface="隶书"/>
                <a:ea typeface="隶书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陪孩子成長</a:t>
            </a:r>
            <a:r>
              <a:rPr b="0" lang="en-US" sz="4400" spc="-1" strike="noStrike">
                <a:solidFill>
                  <a:srgbClr val="ff3300"/>
                </a:solidFill>
                <a:latin typeface="隶书"/>
                <a:ea typeface="隶书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让我们共同托起明天的太阳！</a:t>
            </a: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3" descr="gam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3247920"/>
            <a:ext cx="4290840" cy="3386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3"/>
          <p:cNvSpPr/>
          <p:nvPr/>
        </p:nvSpPr>
        <p:spPr>
          <a:xfrm>
            <a:off x="3780000" y="4365720"/>
            <a:ext cx="133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rebuchet MS"/>
              </a:rPr>
              <a:t>再见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5" descr="face5"/>
          <p:cNvPicPr/>
          <p:nvPr/>
        </p:nvPicPr>
        <p:blipFill>
          <a:blip r:embed="rId1"/>
          <a:stretch/>
        </p:blipFill>
        <p:spPr>
          <a:xfrm>
            <a:off x="304920" y="4952880"/>
            <a:ext cx="1828800" cy="15242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6" descr="hfy2"/>
          <p:cNvPicPr/>
          <p:nvPr/>
        </p:nvPicPr>
        <p:blipFill>
          <a:blip r:embed="rId2"/>
          <a:stretch/>
        </p:blipFill>
        <p:spPr>
          <a:xfrm>
            <a:off x="0" y="0"/>
            <a:ext cx="2635200" cy="29718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7" descr="fw"/>
          <p:cNvPicPr/>
          <p:nvPr/>
        </p:nvPicPr>
        <p:blipFill>
          <a:blip r:embed="rId3"/>
          <a:stretch/>
        </p:blipFill>
        <p:spPr>
          <a:xfrm>
            <a:off x="6934320" y="380880"/>
            <a:ext cx="1904760" cy="1587600"/>
          </a:xfrm>
          <a:prstGeom prst="rect">
            <a:avLst/>
          </a:prstGeom>
          <a:ln w="0">
            <a:noFill/>
          </a:ln>
        </p:spPr>
      </p:pic>
      <p:sp>
        <p:nvSpPr>
          <p:cNvPr id="437" name="WordArt 2"/>
          <p:cNvSpPr txBox="1"/>
          <p:nvPr/>
        </p:nvSpPr>
        <p:spPr>
          <a:xfrm>
            <a:off x="1317600" y="3124080"/>
            <a:ext cx="6858000" cy="1524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1b6fd"/>
                </a:solidFill>
                <a:latin typeface="隶书"/>
              </a:rPr>
              <a:t>家长会到此结束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solidFill>
                <a:srgbClr val="31b6fd"/>
              </a:solidFill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1b6fd"/>
                </a:solidFill>
                <a:latin typeface="隶书"/>
              </a:rPr>
              <a:t>祝各位家长健康愉快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solidFill>
                <a:srgbClr val="31b6fd"/>
              </a:solidFill>
              <a:latin typeface="隶书"/>
              <a:ea typeface="隶书"/>
            </a:endParaRPr>
          </a:p>
        </p:txBody>
      </p:sp>
    </p:spTree>
  </p:cSld>
  <p:transition>
    <p:random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ndara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ndara"/>
              </a:rPr>
              <a:t>站点介绍：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ndara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ndara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ndara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ndara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ndara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ndara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ndara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ndara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ndara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ndara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ndara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ndara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ndar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ndara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ndar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ndar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ndara"/>
              </a:rPr>
              <a:t>特别说明：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ndar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ndar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ndara"/>
              </a:rPr>
              <a:t>栏目推荐：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44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0" y="0"/>
            <a:ext cx="9144000" cy="74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a5d028"/>
                </a:solidFill>
                <a:latin typeface="华文隶书"/>
                <a:ea typeface="华文隶书"/>
              </a:rPr>
              <a:t>知识改变命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a5d028"/>
                </a:solidFill>
                <a:latin typeface="华文隶书"/>
                <a:ea typeface="华文隶书"/>
              </a:rPr>
              <a:t>态度决定一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a5d028"/>
                </a:solidFill>
                <a:latin typeface="华文隶书"/>
                <a:ea typeface="华文隶书"/>
              </a:rPr>
              <a:t>刻苦完成学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a5d028"/>
                </a:solidFill>
                <a:latin typeface="华文隶书"/>
                <a:ea typeface="华文隶书"/>
              </a:rPr>
              <a:t>奋斗成就人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4"/>
          <p:cNvSpPr/>
          <p:nvPr/>
        </p:nvSpPr>
        <p:spPr>
          <a:xfrm>
            <a:off x="3602160" y="6922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家长会议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293760" y="1628640"/>
            <a:ext cx="838188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家长会召开的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班级基本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学生在校表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联考情况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存在的问题及下一阶段工作思路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需要家长配合的工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给家长的一些建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个别交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971640" y="1197000"/>
            <a:ext cx="75438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我们本次家长会的目的是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</a:t>
            </a:r>
            <a:r>
              <a:rPr b="0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促进交流与合作，达成教育共识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2843280" y="1700280"/>
            <a:ext cx="51847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家长积极配合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老师倾情教育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学生努力进步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3"/>
          <p:cNvSpPr/>
          <p:nvPr/>
        </p:nvSpPr>
        <p:spPr>
          <a:xfrm>
            <a:off x="0" y="333360"/>
            <a:ext cx="2987640" cy="2548080"/>
          </a:xfrm>
          <a:prstGeom prst="cloudCallout">
            <a:avLst>
              <a:gd name="adj1" fmla="val 29810"/>
              <a:gd name="adj2" fmla="val 7704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汉仪中圆简"/>
                <a:ea typeface="汉仪中圆简"/>
              </a:rPr>
              <a:t>我们的</a:t>
            </a:r>
            <a:r>
              <a:rPr b="1" lang="zh-CN" sz="6000" spc="-1" strike="noStrike">
                <a:solidFill>
                  <a:srgbClr val="ff0000"/>
                </a:solidFill>
                <a:latin typeface="汉仪中圆简"/>
                <a:ea typeface="汉仪中圆简"/>
              </a:rPr>
              <a:t>愿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10:43:50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46:31Z</dcterms:modified>
  <cp:revision>14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