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gif" ContentType="image/gif"/>
  <Override PartName="/ppt/media/image8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FFB-BB69-49C2-890F-C2788EFA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0B5-74D0-4F42-B814-94B4B1C0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47C-5FF8-497A-BD94-2F4563D7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5E8-1B58-4141-97B0-94F44033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35C6-691D-4AA8-8E36-7F6CC575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A17F-54B0-4B9C-B95D-0A263875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C675-39B5-4C55-9D52-0D2C07EF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D55F-CF8F-485E-90E6-E78DFC2D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D523-758F-4DBA-A319-FB8D93C2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8642-AEF2-475B-B148-FBD11672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DB95-FFF0-47E7-A3B7-BD7C25BC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970-0664-4EE9-A1DB-547A8D94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448D-4438-4C92-AEF5-DE75E394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37BB-2CCB-4605-830E-A01FA5A9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B13A-CDEC-4E7C-B450-E504BD6B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668E-89E4-4818-AA63-2B7929FB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7056-23DB-4D7F-B593-D879760D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A9E-BDAC-45DB-BD41-9F91E850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FE2-FD60-4DF2-8248-25E4FB1F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7A2-E086-4D4D-BF55-764B6D6A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192-FF4B-4132-B247-D42D1674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10B-E4DA-4F1B-A823-225B6E25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EC4-82F0-4EF1-B86C-E89EBE5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0D1-5BF4-4E69-852E-E2B64B68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D986-5B12-47E3-95BD-16A00F519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41B6-3098-4925-A812-7ED8A116187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FC0D-F899-47C3-9A14-1358472576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0,15,&#24187;&#28783;&#29255; 15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9"/>
          <p:cNvSpPr/>
          <p:nvPr/>
        </p:nvSpPr>
        <p:spPr>
          <a:xfrm>
            <a:off x="414360" y="26028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北师大版 三年级 语文 上册 第六单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85800" y="5257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具有某种技能，对某种工作或运动特别熟练的人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2590920" y="4235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伤口）长好。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85800" y="27716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领。课文中指不用箭就能把大雁射下来的本领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09480" y="1309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指处境或遭遇极其痛苦，令人伤心。本课指大雁发出的叫声很痛苦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124080" y="358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释下列词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388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悲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3880" y="2819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1523880" y="528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1" descr="LEFTFLAS"/>
          <p:cNvPicPr/>
          <p:nvPr/>
        </p:nvPicPr>
        <p:blipFill>
          <a:blip r:embed="rId2"/>
          <a:stretch/>
        </p:blipFill>
        <p:spPr>
          <a:xfrm>
            <a:off x="8420040" y="6176880"/>
            <a:ext cx="495360" cy="47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2"/>
          <p:cNvSpPr/>
          <p:nvPr/>
        </p:nvSpPr>
        <p:spPr>
          <a:xfrm>
            <a:off x="1523880" y="4267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愈合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85800" y="19051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篇课文讲述的是古时候有个射箭能手叫更羸。他观察了天上飞的一只大雁后，不用箭，只是拉了一下弓，就把这只大雁给射下来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LEFTFLAS"/>
          <p:cNvPicPr/>
          <p:nvPr/>
        </p:nvPicPr>
        <p:blipFill>
          <a:blip r:embed="rId2"/>
          <a:stretch/>
        </p:blipFill>
        <p:spPr>
          <a:xfrm>
            <a:off x="8420040" y="6176880"/>
            <a:ext cx="495360" cy="479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0" descr="A3_15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229440" y="54000"/>
            <a:ext cx="1466640" cy="1241280"/>
          </a:xfrm>
          <a:prstGeom prst="rect">
            <a:avLst/>
          </a:prstGeom>
          <a:ln w="0">
            <a:noFill/>
          </a:ln>
        </p:spPr>
      </p:pic>
      <p:pic>
        <p:nvPicPr>
          <p:cNvPr id="147" name="ss655.wav" descr=""/>
          <p:cNvPicPr/>
          <p:nvPr/>
        </p:nvPicPr>
        <p:blipFill>
          <a:blip r:embed="rId3"/>
          <a:stretch/>
        </p:blipFill>
        <p:spPr>
          <a:xfrm>
            <a:off x="8534520" y="228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5"/>
          <p:cNvSpPr/>
          <p:nvPr/>
        </p:nvSpPr>
        <p:spPr>
          <a:xfrm>
            <a:off x="762120" y="1600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你看见一只大雁从远处慢慢飞来，它边飞边鸣，你会怎样想？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771480" y="35053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羸观察到了大雁的什么？根据观察更羸是怎么分析的？他又是怎样判断出结果的呢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75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5800" y="1752480"/>
            <a:ext cx="7848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认真观察：看到，飞得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听到，叫得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析：受过伤、孤单失群、害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推断：不用箭就能射下大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76212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请你用自己的话讲述“惊弓之鸟”这个故事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62120" y="26193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常常用这个成语比喻什么人呢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3" descr="LEFTFLAS"/>
          <p:cNvPicPr/>
          <p:nvPr/>
        </p:nvPicPr>
        <p:blipFill>
          <a:blip r:embed="rId2"/>
          <a:stretch/>
        </p:blipFill>
        <p:spPr>
          <a:xfrm>
            <a:off x="8420040" y="6176880"/>
            <a:ext cx="495360" cy="479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76212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请你用自己的话讲述“惊弓之鸟”这个故事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62120" y="26193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常常用这个成语比喻什么人呢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762120" y="4295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比喻受过惊吓，见到一点儿动静就特别害怕的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2" descr="fga019"/>
          <p:cNvPicPr/>
          <p:nvPr/>
        </p:nvPicPr>
        <p:blipFill>
          <a:blip r:embed="rId2"/>
          <a:stretch/>
        </p:blipFill>
        <p:spPr>
          <a:xfrm>
            <a:off x="0" y="0"/>
            <a:ext cx="1704960" cy="1565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fga103"/>
          <p:cNvPicPr/>
          <p:nvPr/>
        </p:nvPicPr>
        <p:blipFill>
          <a:blip r:embed="rId3"/>
          <a:stretch/>
        </p:blipFill>
        <p:spPr>
          <a:xfrm>
            <a:off x="6381720" y="0"/>
            <a:ext cx="2762280" cy="25113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9"/>
          <p:cNvSpPr txBox="1"/>
          <p:nvPr/>
        </p:nvSpPr>
        <p:spPr>
          <a:xfrm>
            <a:off x="1908000" y="2133720"/>
            <a:ext cx="4751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再见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990720" y="134136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树上有十只鸟，被人射死了一只，树上还有几只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4" descr="Q_012"/>
          <p:cNvPicPr/>
          <p:nvPr/>
        </p:nvPicPr>
        <p:blipFill>
          <a:blip r:embed="rId2"/>
          <a:stretch/>
        </p:blipFill>
        <p:spPr>
          <a:xfrm>
            <a:off x="6019920" y="3649680"/>
            <a:ext cx="685800" cy="846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609480" y="19033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如果只给你一张“弓”，让你射下天空中正在飞翔的“大雁”，你能办的到吗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2987640" y="2185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1042920" y="1339920"/>
            <a:ext cx="6705720" cy="213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生字新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  <a:hlinkClick r:id="rId2"/>
              </a:rPr>
              <a:t>阅读思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3" descr="LEFTFLAS"/>
          <p:cNvPicPr/>
          <p:nvPr/>
        </p:nvPicPr>
        <p:blipFill>
          <a:blip r:embed="rId3"/>
          <a:stretch/>
        </p:blipFill>
        <p:spPr>
          <a:xfrm>
            <a:off x="8420040" y="6176880"/>
            <a:ext cx="495360" cy="4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57200" y="1447920"/>
            <a:ext cx="83818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魏国        射箭        打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雁        琴弦        痛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愈合      悲   惨      拼   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267080" y="762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ji4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705720" y="806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li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286000" y="2438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y4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343400" y="2438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xi2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019920" y="2438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t^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752480" y="4159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657600" y="4159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b5i c3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791320" y="41148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p9n m@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695960" y="806400"/>
            <a:ext cx="9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w8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3124080" y="380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释下列词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52388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悲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1523880" y="2819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1523880" y="528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523880" y="4267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愈合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09480" y="1309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指处境或遭遇极其痛苦，令人伤心。本课指大雁发出的叫声很痛苦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124080" y="380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释下列词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52388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悲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523880" y="2819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523880" y="528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523880" y="4267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愈合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85800" y="27716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领。课文中指不用箭就能把大雁射下来的本领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09480" y="1309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指处境或遭遇极其痛苦，令人伤心。本课指大雁发出的叫声很痛苦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124080" y="380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释下列词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52388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悲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1523880" y="2819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1523880" y="4267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愈合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523880" y="528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2590920" y="4235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伤口）长好。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85800" y="27716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领。课文中指不用箭就能把大雁射下来的本领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09480" y="1309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指处境或遭遇极其痛苦，令人伤心。本课指大雁发出的叫声很痛苦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3124080" y="380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释下列词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52388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悲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1523880" y="2819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523880" y="528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1523880" y="4267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愈合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09:43:0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7:22Z</dcterms:modified>
  <cp:revision>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